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7.gif" ContentType="image/gif"/>
  <Override PartName="/ppt/media/image5.jpeg" ContentType="image/jpeg"/>
  <Override PartName="/ppt/media/image4.jpeg" ContentType="image/jpeg"/>
  <Override PartName="/ppt/media/suction.wav" ContentType="audio/x-wav"/>
  <Override PartName="/ppt/media/image22.gif" ContentType="image/gif"/>
  <Override PartName="/ppt/media/image3.jpeg" ContentType="image/jpeg"/>
  <Override PartName="/ppt/media/image12.gif" ContentType="image/gif"/>
  <Override PartName="/ppt/media/image24.jpeg" ContentType="image/jpeg"/>
  <Override PartName="/ppt/media/image2.jpeg" ContentType="image/jpeg"/>
  <Override PartName="/ppt/media/image23.jpeg" ContentType="image/jpeg"/>
  <Override PartName="/ppt/media/image8.png" ContentType="image/png"/>
  <Override PartName="/ppt/media/image13.png" ContentType="image/png"/>
  <Override PartName="/ppt/media/image21.gif" ContentType="image/gif"/>
  <Override PartName="/ppt/media/image19.gif" ContentType="image/gif"/>
  <Override PartName="/ppt/media/image1.jpeg" ContentType="image/jpeg"/>
  <Override PartName="/ppt/media/image6.jpeg" ContentType="image/jpeg"/>
  <Override PartName="/ppt/media/image10.png" ContentType="image/pn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7C4-F8B0-4319-BE97-6E74E8BA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C4D-0137-4639-873F-3BCF8C84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835-1A82-409F-961E-36E6B4E6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6BA-5152-46C0-840D-9FC60BD7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55D-864A-4557-9DFF-9F95772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595-6648-473D-809B-C12F323B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A36-74C2-4981-BCA1-D7119D7E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A6D-2A9B-48C1-839A-6A038F38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F61-2558-4458-B140-D5BFD4D4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290-780D-46FF-A831-9C2FEB1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833-AA88-410D-9356-685240FA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0D0-38EC-4FF8-AC64-7A7E2C2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BF47-F2A4-47F0-BC5B-AE4E8A69D0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image" Target="../media/image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0070127233039503"/>
          <p:cNvPicPr/>
          <p:nvPr/>
        </p:nvPicPr>
        <p:blipFill>
          <a:blip r:embed="rId1">
            <a:lum contrast="-12000"/>
          </a:blip>
          <a:srcRect l="0" t="0" r="0" b="39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1187280" y="220500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可能性的大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95280" y="57456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义务教育课程标准实验教科书三年级上册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06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页</a:t>
            </a: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2313360" y="63086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6"/>
          <p:cNvPicPr/>
          <p:nvPr/>
        </p:nvPicPr>
        <p:blipFill>
          <a:blip r:embed="rId2"/>
          <a:stretch/>
        </p:blipFill>
        <p:spPr>
          <a:xfrm>
            <a:off x="4500720" y="3879720"/>
            <a:ext cx="2663640" cy="242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蝴2"/>
          <p:cNvPicPr/>
          <p:nvPr/>
        </p:nvPicPr>
        <p:blipFill>
          <a:blip r:embed="rId3"/>
          <a:stretch/>
        </p:blipFill>
        <p:spPr>
          <a:xfrm>
            <a:off x="5148360" y="1643040"/>
            <a:ext cx="2952720" cy="2793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蝴2"/>
          <p:cNvPicPr/>
          <p:nvPr/>
        </p:nvPicPr>
        <p:blipFill>
          <a:blip r:embed="rId4"/>
          <a:stretch/>
        </p:blipFill>
        <p:spPr>
          <a:xfrm>
            <a:off x="3851280" y="981000"/>
            <a:ext cx="2664000" cy="252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蝴2"/>
          <p:cNvPicPr/>
          <p:nvPr/>
        </p:nvPicPr>
        <p:blipFill>
          <a:blip r:embed="rId5"/>
          <a:stretch/>
        </p:blipFill>
        <p:spPr>
          <a:xfrm>
            <a:off x="2268360" y="3008160"/>
            <a:ext cx="2880000" cy="2725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4"/>
          <p:cNvSpPr/>
          <p:nvPr/>
        </p:nvSpPr>
        <p:spPr>
          <a:xfrm>
            <a:off x="4494240" y="692280"/>
            <a:ext cx="733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97" name="Picture 17" descr="06"/>
          <p:cNvPicPr/>
          <p:nvPr/>
        </p:nvPicPr>
        <p:blipFill>
          <a:blip r:embed="rId6"/>
          <a:stretch/>
        </p:blipFill>
        <p:spPr>
          <a:xfrm>
            <a:off x="3059280" y="1989000"/>
            <a:ext cx="3673440" cy="2235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69850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ff"/>
                </a:solidFill>
                <a:latin typeface="Arial"/>
                <a:ea typeface="华文隶书"/>
              </a:rPr>
              <a:t>小猫扑蝴蝶</a:t>
            </a:r>
            <a:br>
              <a:rPr sz="4000"/>
            </a:br>
            <a:r>
              <a:rPr b="0" lang="zh-CN" sz="4000" spc="-1" strike="noStrike">
                <a:solidFill>
                  <a:srgbClr val="cc00ff"/>
                </a:solidFill>
                <a:latin typeface="Arial"/>
                <a:ea typeface="华文隶书"/>
              </a:rPr>
              <a:t>扑到哪种蝴蝶的可能性大呢？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560520" y="485316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蝴1"/>
          <p:cNvPicPr/>
          <p:nvPr/>
        </p:nvPicPr>
        <p:blipFill>
          <a:blip r:embed="rId2"/>
          <a:stretch/>
        </p:blipFill>
        <p:spPr>
          <a:xfrm>
            <a:off x="2627280" y="4292640"/>
            <a:ext cx="476280" cy="1292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6"/>
          <p:cNvPicPr/>
          <p:nvPr/>
        </p:nvPicPr>
        <p:blipFill>
          <a:blip r:embed="rId3"/>
          <a:stretch/>
        </p:blipFill>
        <p:spPr>
          <a:xfrm>
            <a:off x="2627280" y="4076640"/>
            <a:ext cx="2664000" cy="2428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64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  <a:ea typeface="隶书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为什么小猫又抓到黄蝴蝶呢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蝴2"/>
          <p:cNvPicPr/>
          <p:nvPr/>
        </p:nvPicPr>
        <p:blipFill>
          <a:blip r:embed="rId4"/>
          <a:stretch/>
        </p:blipFill>
        <p:spPr>
          <a:xfrm>
            <a:off x="1116000" y="765000"/>
            <a:ext cx="2952720" cy="279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蝴2"/>
          <p:cNvPicPr/>
          <p:nvPr/>
        </p:nvPicPr>
        <p:blipFill>
          <a:blip r:embed="rId5"/>
          <a:stretch/>
        </p:blipFill>
        <p:spPr>
          <a:xfrm>
            <a:off x="5076720" y="1484280"/>
            <a:ext cx="2952720" cy="2793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02920" y="1268280"/>
            <a:ext cx="7056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怎样才能抓到更多的黄蝴蝶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1" descr="00001"/>
          <p:cNvPicPr/>
          <p:nvPr/>
        </p:nvPicPr>
        <p:blipFill>
          <a:blip r:embed="rId6"/>
          <a:stretch/>
        </p:blipFill>
        <p:spPr>
          <a:xfrm>
            <a:off x="5076720" y="3645000"/>
            <a:ext cx="1216080" cy="1388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3" descr="00001"/>
          <p:cNvPicPr/>
          <p:nvPr/>
        </p:nvPicPr>
        <p:blipFill>
          <a:blip r:embed="rId7"/>
          <a:stretch/>
        </p:blipFill>
        <p:spPr>
          <a:xfrm>
            <a:off x="6588000" y="4508640"/>
            <a:ext cx="1216080" cy="13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20070127233127552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259920"/>
            <a:ext cx="7859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请你和爸爸、妈妈一起来做一做这个掷硬币的小试验，自定试验次数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.(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建议次数多一点，这样试验结果才准确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并将硬币正、反面朝上的情况做好统计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1180931257442_320_240"/>
          <p:cNvPicPr/>
          <p:nvPr/>
        </p:nvPicPr>
        <p:blipFill>
          <a:blip r:embed="rId2"/>
          <a:stretch/>
        </p:blipFill>
        <p:spPr>
          <a:xfrm>
            <a:off x="3132000" y="3357720"/>
            <a:ext cx="4032360" cy="3238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689040" y="3167640"/>
            <a:ext cx="1185840" cy="35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掷硬币</a:t>
            </a:r>
            <a:endParaRPr b="1" lang="en-US" sz="6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DB9A-5ADB-4D04-9A56-9D648658BC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transition spd="slow" advTm="40000">
    <p:cover dir="l"/>
    <p:sndAc>
      <p:stSnd>
        <p:snd r:embed="rId18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39528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ff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ff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ff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ff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ff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ff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ff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ff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48" name="Picture 7" descr="g20060306234057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 rot="21360000">
            <a:off x="2894400" y="2364480"/>
            <a:ext cx="111456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一  激趣猜测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 action="ppaction://hlinksldjump"/>
              </a:rPr>
              <a:t> </a:t>
            </a:r>
            <a:endParaRPr b="1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 rot="21173400">
            <a:off x="3609360" y="2389320"/>
            <a:ext cx="135684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二  探究验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 action="ppaction://hlinksldjump"/>
              </a:rPr>
              <a:t> 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 rot="21197400">
            <a:off x="4749480" y="2252880"/>
            <a:ext cx="1286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华文隶书"/>
                <a:hlinkClick r:id="rId6" action="ppaction://hlinksldjump"/>
              </a:rPr>
              <a:t>三 应用拓展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隶书"/>
                <a:hlinkClick r:id="rId7" action="ppaction://hlinksldjump"/>
              </a:rPr>
              <a:t> </a:t>
            </a:r>
            <a:endParaRPr b="1" lang="en-US" sz="2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 rot="21322200">
            <a:off x="5644440" y="2158560"/>
            <a:ext cx="127764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隶书"/>
              </a:rPr>
              <a:t>四 总结延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小猴子下山1（1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小猴子下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小猴子下山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小猴子下山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435640" y="476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请同学们想一想，小猴子去追小兔子，结果会是怎样呢</a:t>
            </a:r>
            <a:r>
              <a:rPr b="0" lang="en-US" sz="2400" spc="-1" strike="noStrike">
                <a:solidFill>
                  <a:srgbClr val="ff0000"/>
                </a:solidFill>
                <a:latin typeface="华文彩云"/>
                <a:ea typeface="华文彩云"/>
              </a:rPr>
              <a:t>?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8" name="Picture 14" descr="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72360" y="6093000"/>
            <a:ext cx="720720" cy="45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 rot="586800">
            <a:off x="610920" y="549000"/>
            <a:ext cx="3678120" cy="2368440"/>
          </a:xfrm>
          <a:prstGeom prst="cloudCallout">
            <a:avLst>
              <a:gd name="adj1" fmla="val -20064"/>
              <a:gd name="adj2" fmla="val 91740"/>
            </a:avLst>
          </a:prstGeom>
          <a:solidFill>
            <a:srgbClr val="ffff66">
              <a:alpha val="8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00000" y="907920"/>
            <a:ext cx="324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请同学们进行摸球试验，摸球</a:t>
            </a: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바탕"/>
                <a:ea typeface="바탕"/>
              </a:rPr>
              <a:t>次，根据摸球的情况完成好摸球情况统计表和统计图 </a:t>
            </a: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?</a:t>
            </a:r>
            <a:r>
              <a:rPr b="0" lang="en-US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500720" y="981000"/>
            <a:ext cx="395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148360" y="119700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835280" y="3789360"/>
          <a:ext cx="4271760" cy="1960560"/>
        </p:xfrm>
        <a:graphic>
          <a:graphicData uri="http://schemas.openxmlformats.org/drawingml/2006/table">
            <a:tbl>
              <a:tblPr/>
              <a:tblGrid>
                <a:gridCol w="791640"/>
                <a:gridCol w="2519640"/>
                <a:gridCol w="96048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宋体"/>
                        </a:rPr>
                        <a:t>记录</a:t>
                      </a:r>
                      <a:endParaRPr b="1" lang="en-US" sz="28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66"/>
                          </a:solidFill>
                          <a:latin typeface="Arial"/>
                          <a:ea typeface="宋体"/>
                        </a:rPr>
                        <a:t>次数</a:t>
                      </a:r>
                      <a:endParaRPr b="1" lang="en-US" sz="28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5" name="AutoShape 31"/>
          <p:cNvSpPr/>
          <p:nvPr/>
        </p:nvSpPr>
        <p:spPr>
          <a:xfrm>
            <a:off x="2050920" y="4581360"/>
            <a:ext cx="360360" cy="432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AutoShape 32"/>
          <p:cNvSpPr/>
          <p:nvPr/>
        </p:nvSpPr>
        <p:spPr>
          <a:xfrm>
            <a:off x="2050920" y="5229360"/>
            <a:ext cx="360360" cy="43164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7" name="AutoShape 43"/>
          <p:cNvSpPr/>
          <p:nvPr/>
        </p:nvSpPr>
        <p:spPr>
          <a:xfrm rot="586800">
            <a:off x="4716000" y="981000"/>
            <a:ext cx="3678480" cy="2368800"/>
          </a:xfrm>
          <a:prstGeom prst="cloudCallout">
            <a:avLst>
              <a:gd name="adj1" fmla="val 31611"/>
              <a:gd name="adj2" fmla="val 82828"/>
            </a:avLst>
          </a:prstGeom>
          <a:solidFill>
            <a:srgbClr val="ffff66">
              <a:alpha val="8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Text Box 40"/>
          <p:cNvSpPr/>
          <p:nvPr/>
        </p:nvSpPr>
        <p:spPr>
          <a:xfrm rot="1035600">
            <a:off x="4851000" y="142236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舒体"/>
              </a:rPr>
              <a:t>  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方正舒体"/>
              </a:rPr>
              <a:t>摸球时不能用眼晴看，摸球试验结束后不要打开盒子哟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方正舒体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69" name="Picture 44" descr="ktmj071"/>
          <p:cNvPicPr/>
          <p:nvPr/>
        </p:nvPicPr>
        <p:blipFill>
          <a:blip r:embed="rId2"/>
          <a:stretch/>
        </p:blipFill>
        <p:spPr>
          <a:xfrm rot="213600">
            <a:off x="7451280" y="3933360"/>
            <a:ext cx="1271520" cy="22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1979640" y="692280"/>
            <a:ext cx="54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</a:rPr>
              <a:t>）摸到哪种颜色球的可能性大？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华文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</a:rPr>
              <a:t>）摸到哪种颜色球的可能性小？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72" name="Picture 6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5516640"/>
            <a:ext cx="720720" cy="45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ktmj071"/>
          <p:cNvPicPr/>
          <p:nvPr/>
        </p:nvPicPr>
        <p:blipFill>
          <a:blip r:embed="rId4"/>
          <a:stretch/>
        </p:blipFill>
        <p:spPr>
          <a:xfrm>
            <a:off x="7236000" y="3860640"/>
            <a:ext cx="1271520" cy="229716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2"/>
          <p:cNvSpPr/>
          <p:nvPr/>
        </p:nvSpPr>
        <p:spPr>
          <a:xfrm>
            <a:off x="2268360" y="1628640"/>
            <a:ext cx="4535640" cy="29527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1476360" y="386064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数量多       可能性大</a:t>
            </a:r>
            <a:endParaRPr b="1" lang="en-US" sz="4800" spc="-1" strike="noStrike">
              <a:solidFill>
                <a:srgbClr val="ff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数量少       可能性小</a:t>
            </a:r>
            <a:endParaRPr b="1" lang="en-US" sz="48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圆1"/>
          <p:cNvPicPr/>
          <p:nvPr/>
        </p:nvPicPr>
        <p:blipFill>
          <a:blip r:embed="rId2"/>
          <a:stretch/>
        </p:blipFill>
        <p:spPr>
          <a:xfrm>
            <a:off x="1042920" y="1700280"/>
            <a:ext cx="2087640" cy="2376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1780920" y="907200"/>
            <a:ext cx="8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华文隶书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</a:rPr>
              <a:t>、转转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348000" y="3438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你来选一种颜色格，如果你转到黄颜色格</a:t>
            </a:r>
            <a:r>
              <a:rPr b="0" lang="en-US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老师就送你一张图片，谁想来试试？ 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80" name="Picture 12" descr="11"/>
          <p:cNvPicPr/>
          <p:nvPr/>
        </p:nvPicPr>
        <p:blipFill>
          <a:blip r:embed="rId3"/>
          <a:stretch/>
        </p:blipFill>
        <p:spPr>
          <a:xfrm>
            <a:off x="7524720" y="620640"/>
            <a:ext cx="858960" cy="12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圆2"/>
          <p:cNvPicPr/>
          <p:nvPr/>
        </p:nvPicPr>
        <p:blipFill>
          <a:blip r:embed="rId2"/>
          <a:stretch/>
        </p:blipFill>
        <p:spPr>
          <a:xfrm>
            <a:off x="826920" y="83664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3635280" y="3511440"/>
            <a:ext cx="46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换个转盘，这次如果你还是转到黄色格的话，就送你一张更漂亮的图案，谁来转？ 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84" name="Picture 7" descr="11"/>
          <p:cNvPicPr/>
          <p:nvPr/>
        </p:nvPicPr>
        <p:blipFill>
          <a:blip r:embed="rId3"/>
          <a:stretch/>
        </p:blipFill>
        <p:spPr>
          <a:xfrm>
            <a:off x="7524720" y="620640"/>
            <a:ext cx="858960" cy="12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转盘"/>
          <p:cNvPicPr/>
          <p:nvPr/>
        </p:nvPicPr>
        <p:blipFill>
          <a:blip r:embed="rId2"/>
          <a:stretch/>
        </p:blipFill>
        <p:spPr>
          <a:xfrm>
            <a:off x="5796000" y="907920"/>
            <a:ext cx="2502000" cy="2803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684360" y="366336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舒体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方正舒体"/>
              </a:rPr>
              <a:t>商场为了吸引顾客购物，经常让顾客参与购物转奖的游戏。他们为什么把一等奖的部分这样设计呀？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g2006030623412942练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题目4"/>
          <p:cNvPicPr/>
          <p:nvPr/>
        </p:nvPicPr>
        <p:blipFill>
          <a:blip r:embed="rId2"/>
          <a:stretch/>
        </p:blipFill>
        <p:spPr>
          <a:xfrm>
            <a:off x="1547640" y="981000"/>
            <a:ext cx="6264360" cy="468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5640" y="5805360"/>
            <a:ext cx="865080" cy="54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5:05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5:25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