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6.jpeg" ContentType="image/jpeg"/>
  <Override PartName="/ppt/media/image10.png" ContentType="image/png"/>
  <Override PartName="/ppt/media/applause.wav" ContentType="audio/x-wav"/>
  <Override PartName="/ppt/media/image5.jpeg" ContentType="image/jpeg"/>
  <Override PartName="/ppt/media/image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382F0-B727-4A57-A53D-51B820EFFC6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58B48-B6D7-407F-8E1E-1E320DEE269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65F2-E90D-4586-BF2C-FE4520325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EDD0-FAD3-47EB-B6CE-8E2AB8DE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A78F-8FF9-416C-9658-652F96EFC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3188F-2A28-44E1-9DD7-53DE8521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7963-D6B6-4134-B4F9-07A609040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9508-ACE5-4A98-B44F-9AF174924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C929-FD65-4499-9B45-07F96DC10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E185-BBDD-4D3C-AE8E-B73EFE55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AFE2-DAB6-4341-A7BF-77C88C2B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D3E4-89EF-4198-B2A7-0ABF47D3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087-F7C2-4EB1-9624-04FDD10D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BFEE-1389-4294-98D7-DA168E1BF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FFA3-5258-499A-8AE6-B01ED6F151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468360" y="1936800"/>
            <a:ext cx="65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990033"/>
                </a:solidFill>
                <a:latin typeface="微软雅黑"/>
                <a:ea typeface="微软雅黑"/>
              </a:rPr>
              <a:t>空气占据空间吗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1314000" y="5445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33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990033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5"/>
          <p:cNvSpPr/>
          <p:nvPr/>
        </p:nvSpPr>
        <p:spPr>
          <a:xfrm>
            <a:off x="5940360" y="2852640"/>
            <a:ext cx="180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Arial"/>
                <a:ea typeface="黑体"/>
              </a:rPr>
              <a:t>空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4427640" y="2852640"/>
            <a:ext cx="2087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Arial"/>
                <a:ea typeface="黑体"/>
              </a:rPr>
              <a:t>占据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476360" y="2205000"/>
            <a:ext cx="48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液体、固体</a:t>
            </a:r>
            <a:r>
              <a:rPr b="1" lang="zh-CN" sz="4000" spc="-1" strike="noStrike">
                <a:solidFill>
                  <a:srgbClr val="009999"/>
                </a:solidFill>
                <a:latin typeface="Arial"/>
                <a:ea typeface="黑体"/>
              </a:rPr>
              <a:t>都能</a:t>
            </a:r>
            <a:r>
              <a:rPr b="0" lang="en-US" sz="4000" spc="-1" strike="noStrike">
                <a:solidFill>
                  <a:srgbClr val="009999"/>
                </a:solidFill>
                <a:latin typeface="Arial"/>
                <a:ea typeface="黑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2843280" y="4724280"/>
            <a:ext cx="47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9"/>
          <p:cNvSpPr/>
          <p:nvPr/>
        </p:nvSpPr>
        <p:spPr>
          <a:xfrm>
            <a:off x="2050920" y="2349360"/>
            <a:ext cx="66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黑体"/>
              </a:rPr>
              <a:t>空气</a:t>
            </a:r>
            <a:r>
              <a:rPr b="1" lang="zh-CN" sz="4800" spc="-1" strike="noStrike">
                <a:solidFill>
                  <a:srgbClr val="0000cc"/>
                </a:solidFill>
                <a:latin typeface="Arial"/>
                <a:ea typeface="黑体"/>
              </a:rPr>
              <a:t>占据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空间</a:t>
            </a:r>
            <a:r>
              <a:rPr b="1" lang="zh-CN" sz="4800" spc="-1" strike="noStrike">
                <a:solidFill>
                  <a:srgbClr val="ff33cc"/>
                </a:solidFill>
                <a:latin typeface="Arial"/>
                <a:ea typeface="黑体"/>
              </a:rPr>
              <a:t>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5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4" descr="~Y~10M{9{BJJ@N]`Z@~EO4U"/>
          <p:cNvPicPr/>
          <p:nvPr/>
        </p:nvPicPr>
        <p:blipFill>
          <a:blip r:embed="rId1"/>
          <a:stretch/>
        </p:blipFill>
        <p:spPr>
          <a:xfrm>
            <a:off x="0" y="907920"/>
            <a:ext cx="9144000" cy="50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3"/>
          <p:cNvSpPr/>
          <p:nvPr/>
        </p:nvSpPr>
        <p:spPr>
          <a:xfrm>
            <a:off x="826920" y="2492280"/>
            <a:ext cx="806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除了刚才的活动，你们还有什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 </a:t>
            </a:r>
            <a:r>
              <a:rPr b="1" lang="zh-CN" sz="3600" spc="-1" strike="noStrike">
                <a:solidFill>
                  <a:srgbClr val="333399"/>
                </a:solidFill>
                <a:latin typeface="华文隶书"/>
                <a:ea typeface="华文隶书"/>
              </a:rPr>
              <a:t>方法能证明空气也能占据空间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468000" y="2924280"/>
            <a:ext cx="777564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思    考</a:t>
            </a:r>
            <a:r>
              <a:rPr b="0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：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些现象说明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1258920" y="1989000"/>
            <a:ext cx="712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温馨提示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尽量不要把水洒到桌面上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WordArt 7"/>
          <p:cNvSpPr txBox="1"/>
          <p:nvPr/>
        </p:nvSpPr>
        <p:spPr>
          <a:xfrm>
            <a:off x="539640" y="404640"/>
            <a:ext cx="23338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597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0080"/>
                  </a:solidFill>
                  <a:round/>
                </a:ln>
                <a:solidFill>
                  <a:srgbClr val="000080"/>
                </a:solidFill>
                <a:latin typeface="华文新魏"/>
              </a:rPr>
              <a:t>我会动手做</a:t>
            </a:r>
            <a:endParaRPr b="1" lang="en-US" sz="2800" spc="1" strike="noStrike">
              <a:ln w="9360">
                <a:solidFill>
                  <a:srgbClr val="000080"/>
                </a:solidFill>
                <a:round/>
              </a:ln>
              <a:solidFill>
                <a:srgbClr val="000080"/>
              </a:solidFill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1835280" y="1628640"/>
            <a:ext cx="30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33"/>
                </a:solidFill>
                <a:latin typeface="Arial"/>
                <a:ea typeface="华文琥珀"/>
              </a:rPr>
              <a:t>结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2556000" y="3068640"/>
            <a:ext cx="4176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2124000" y="2852640"/>
            <a:ext cx="6213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  <a:ea typeface="黑体"/>
              </a:rPr>
              <a:t>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空气</a:t>
            </a:r>
            <a:r>
              <a:rPr b="1" lang="zh-CN" sz="4400" spc="-1" strike="noStrike">
                <a:solidFill>
                  <a:srgbClr val="0000cc"/>
                </a:solidFill>
                <a:latin typeface="Arial"/>
                <a:ea typeface="黑体"/>
              </a:rPr>
              <a:t>占据</a:t>
            </a:r>
            <a:r>
              <a:rPr b="1" lang="zh-CN" sz="4400" spc="-1" strike="noStrike">
                <a:solidFill>
                  <a:srgbClr val="ff33cc"/>
                </a:solidFill>
                <a:latin typeface="Arial"/>
                <a:ea typeface="黑体"/>
              </a:rPr>
              <a:t>空间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26560" y="1413000"/>
            <a:ext cx="79218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cc"/>
                </a:solidFill>
                <a:latin typeface="Arial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cc"/>
                </a:solidFill>
                <a:latin typeface="Arial"/>
                <a:ea typeface="黑体"/>
              </a:rPr>
              <a:t>既然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空气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都能占据空间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但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空气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和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比较，占据空间的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况有没有什么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不同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呢</a:t>
            </a:r>
            <a:r>
              <a:rPr b="1" lang="en-US" sz="4000" spc="-1" strike="noStrike">
                <a:solidFill>
                  <a:srgbClr val="0000cc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QQ截图2012101622535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14"/>
          <p:cNvPicPr/>
          <p:nvPr/>
        </p:nvPicPr>
        <p:blipFill>
          <a:blip r:embed="rId1"/>
          <a:stretch/>
        </p:blipFill>
        <p:spPr>
          <a:xfrm>
            <a:off x="2050920" y="0"/>
            <a:ext cx="2745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3"/>
          <p:cNvSpPr/>
          <p:nvPr/>
        </p:nvSpPr>
        <p:spPr>
          <a:xfrm>
            <a:off x="4932360" y="620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活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4932360" y="270828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针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932360" y="4292640"/>
            <a:ext cx="13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刻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1567440" y="404640"/>
            <a:ext cx="11552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注射器（针筒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395280" y="148428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1. 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准备两只针筒，分别抽入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相同体积</a:t>
            </a: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(10ml)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水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空气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WordArt 3"/>
          <p:cNvSpPr txBox="1"/>
          <p:nvPr/>
        </p:nvSpPr>
        <p:spPr>
          <a:xfrm>
            <a:off x="395280" y="333360"/>
            <a:ext cx="21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动手做</a:t>
            </a:r>
            <a:endParaRPr b="0" lang="en-US" sz="2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395280" y="5229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黑体"/>
                <a:ea typeface="黑体"/>
              </a:rPr>
              <a:t>2.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堵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住管口，用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相同的力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拉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活塞，记录两只针筒活塞的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位置</a:t>
            </a:r>
            <a:r>
              <a:rPr b="1" lang="zh-CN" sz="24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22-3"/>
          <p:cNvPicPr/>
          <p:nvPr/>
        </p:nvPicPr>
        <p:blipFill>
          <a:blip r:embed="rId1"/>
          <a:stretch/>
        </p:blipFill>
        <p:spPr>
          <a:xfrm>
            <a:off x="4643280" y="220500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2-4"/>
          <p:cNvPicPr/>
          <p:nvPr/>
        </p:nvPicPr>
        <p:blipFill>
          <a:blip r:embed="rId2"/>
          <a:stretch/>
        </p:blipFill>
        <p:spPr>
          <a:xfrm>
            <a:off x="971640" y="2205000"/>
            <a:ext cx="3529080" cy="27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材的地位和作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280" y="162828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气占据空间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教科版三年级上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水和空气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单元的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，本课力图让学生通过一系列活动，认识到空气和其它物质一样，能够占据空间以及空气既可以被压缩，也可以膨胀扩张。学生在本课的学习 通过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实验猜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展开实验、验证猜想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得出结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实验过程获取知识，这样能培养学生的创新精神与动手实践的能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WordArt 3"/>
          <p:cNvSpPr txBox="1"/>
          <p:nvPr/>
        </p:nvSpPr>
        <p:spPr>
          <a:xfrm>
            <a:off x="395280" y="549360"/>
            <a:ext cx="216072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动手做</a:t>
            </a:r>
            <a:endParaRPr b="0" lang="en-US" sz="28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324000" y="227664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黑体"/>
                <a:ea typeface="黑体"/>
              </a:rPr>
              <a:t>● 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实验关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2843280" y="2276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抽入水和空气的体积要相同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(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毫升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843280" y="2924280"/>
            <a:ext cx="439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推或拉活塞的力要相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1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空气和水占据空间的比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900000" y="1628640"/>
            <a:ext cx="4608720" cy="4248360"/>
          </a:xfrm>
          <a:prstGeom prst="ellipse">
            <a:avLst/>
          </a:prstGeom>
          <a:noFill/>
          <a:ln w="349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4"/>
          <p:cNvSpPr/>
          <p:nvPr/>
        </p:nvSpPr>
        <p:spPr>
          <a:xfrm>
            <a:off x="3708360" y="1628640"/>
            <a:ext cx="4680000" cy="4248360"/>
          </a:xfrm>
          <a:prstGeom prst="ellipse">
            <a:avLst/>
          </a:prstGeom>
          <a:noFill/>
          <a:ln w="3492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2515320" y="198900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Arial"/>
                <a:ea typeface="黑体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5724360" y="198900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空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971640" y="357336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占据空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不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5"/>
          <p:cNvSpPr/>
          <p:nvPr/>
        </p:nvSpPr>
        <p:spPr>
          <a:xfrm>
            <a:off x="5686560" y="3357720"/>
            <a:ext cx="345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占据空间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可以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变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（易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压缩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或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扩张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5"/>
          <p:cNvSpPr/>
          <p:nvPr/>
        </p:nvSpPr>
        <p:spPr>
          <a:xfrm>
            <a:off x="4067280" y="3789360"/>
            <a:ext cx="158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都能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据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4067280" y="270828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共同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2007071611254310728"/>
          <p:cNvPicPr/>
          <p:nvPr/>
        </p:nvPicPr>
        <p:blipFill>
          <a:blip r:embed="rId1"/>
          <a:stretch/>
        </p:blipFill>
        <p:spPr>
          <a:xfrm>
            <a:off x="6516720" y="189000"/>
            <a:ext cx="2627280" cy="6669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200601171021124375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照片-0021"/>
          <p:cNvPicPr/>
          <p:nvPr/>
        </p:nvPicPr>
        <p:blipFill>
          <a:blip r:embed="rId3">
            <a:lum bright="24000"/>
          </a:blip>
          <a:stretch/>
        </p:blipFill>
        <p:spPr>
          <a:xfrm>
            <a:off x="2843280" y="907920"/>
            <a:ext cx="362412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●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1116000" y="1844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■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节课我们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研究认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空气哪些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33cc"/>
                </a:solidFill>
                <a:latin typeface="黑体"/>
                <a:ea typeface="黑体"/>
              </a:rPr>
              <a:t>特性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1116000" y="278136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空气也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占据空间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6"/>
          <p:cNvSpPr/>
          <p:nvPr/>
        </p:nvSpPr>
        <p:spPr>
          <a:xfrm>
            <a:off x="1116000" y="342900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空气占据空间的多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改变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"/>
          <p:cNvSpPr/>
          <p:nvPr/>
        </p:nvSpPr>
        <p:spPr>
          <a:xfrm>
            <a:off x="514440" y="5575320"/>
            <a:ext cx="909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560520"/>
            <a:ext cx="8686800" cy="553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宋体"/>
              </a:rPr>
              <a:t>●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我最棒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■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明辨是非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蜡烛之所以能在水面之下继续燃烧是因为空气占据了空间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植物喷药水的喷壶，利用了压缩空气有弹性的原理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■</a:t>
            </a:r>
            <a:r>
              <a:rPr b="1" lang="zh-CN" sz="2000" spc="-1" strike="noStrike">
                <a:solidFill>
                  <a:srgbClr val="0000cc"/>
                </a:solidFill>
                <a:latin typeface="黑体"/>
                <a:ea typeface="黑体"/>
              </a:rPr>
              <a:t>精挑细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向气球中吹气，气球会越来越大，这说明空气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…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重量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占据空间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没有一定体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右图杯底的纸巾不会被浸湿的原因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空气占据空间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纸把水往下压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.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有一定体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7812000" y="141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812000" y="177336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7596360" y="3357720"/>
            <a:ext cx="5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6300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755280" y="1052640"/>
            <a:ext cx="604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99"/>
                </a:solidFill>
                <a:latin typeface="黑体"/>
                <a:ea typeface="黑体"/>
              </a:rPr>
              <a:t>课外拓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中还有很多空气占据空间的例子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请大家搜集并记录下来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下节课来汇报。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黑体"/>
                <a:ea typeface="黑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生活中还有哪些地方运用了空气可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被压缩的性质？请记下来，与同学分享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D505-F7E8-44B6-90DE-C88F3697257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教学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914400" y="15998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知识与技能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空气占据空间；空气占据空间的变化（压缩或扩张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过程与方法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用实验方法证实空气确实占据空间；用对比实验控制条件的方法，进行观察；在科学事实的基础上进行预测和解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9999"/>
                </a:solidFill>
                <a:latin typeface="Arial"/>
              </a:rPr>
              <a:t>情感、态度、价值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培养与他人合作的良好习惯，形成尊重事实、实事求是的科学态度，激发学习科学的好奇心和求知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981080" y="685080"/>
            <a:ext cx="40388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、创设情境，引入课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181480" y="2286000"/>
            <a:ext cx="3505320" cy="4597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过乌鸦喝水的故事及吹气球的活动，引出课题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Group 4"/>
          <p:cNvGrpSpPr/>
          <p:nvPr/>
        </p:nvGrpSpPr>
        <p:grpSpPr>
          <a:xfrm>
            <a:off x="611280" y="1341360"/>
            <a:ext cx="3885840" cy="4260600"/>
            <a:chOff x="611280" y="1341360"/>
            <a:chExt cx="3885840" cy="4260600"/>
          </a:xfrm>
        </p:grpSpPr>
        <p:pic>
          <p:nvPicPr>
            <p:cNvPr id="57" name="Picture 5" descr="wuyaheshui1"/>
            <p:cNvPicPr/>
            <p:nvPr/>
          </p:nvPicPr>
          <p:blipFill>
            <a:blip r:embed="rId1"/>
            <a:stretch/>
          </p:blipFill>
          <p:spPr>
            <a:xfrm>
              <a:off x="905400" y="1441440"/>
              <a:ext cx="3591720" cy="416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WordArt 6"/>
            <p:cNvSpPr txBox="1"/>
            <p:nvPr/>
          </p:nvSpPr>
          <p:spPr>
            <a:xfrm>
              <a:off x="611280" y="1341360"/>
              <a:ext cx="1436040" cy="830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57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黑体"/>
                </a:rPr>
                <a:t>乌鸦喝水</a:t>
              </a:r>
              <a:endParaRPr b="0" lang="en-US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  <p:sp>
        <p:nvSpPr>
          <p:cNvPr id="59" name="Text Box 7"/>
          <p:cNvSpPr/>
          <p:nvPr/>
        </p:nvSpPr>
        <p:spPr>
          <a:xfrm>
            <a:off x="4859280" y="3860640"/>
            <a:ext cx="273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空气占据空间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1392120" y="1125360"/>
            <a:ext cx="632484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</a:rPr>
              <a:t>通过实验证明：空气占据空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3"/>
          <p:cNvSpPr/>
          <p:nvPr/>
        </p:nvSpPr>
        <p:spPr>
          <a:xfrm>
            <a:off x="1908000" y="2062080"/>
            <a:ext cx="4191120" cy="157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学生自主完成教材中的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小喷壶实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“纸的奇遇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1547640" y="4005360"/>
            <a:ext cx="3810240" cy="1572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教师进行实验演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“运动的小球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“水火相容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1042920" y="2421000"/>
            <a:ext cx="7239240" cy="116928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学生通过对比实验证明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空气占据空间可以变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1928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四、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堂小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1116000" y="2276640"/>
            <a:ext cx="77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由学生总结本节课的收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1116000" y="314172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.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空气也能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占据空间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1116000" y="3789360"/>
            <a:ext cx="66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.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空气占据空间的多少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可以改变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创新之处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1295280" y="2658960"/>
            <a:ext cx="609624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变抽象为形象，增强了可信度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4049640" y="3504600"/>
            <a:ext cx="4366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二、变厌学为乐学，增强趣味性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3859200" y="4342680"/>
            <a:ext cx="610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7dfd3">
                <a:alpha val="8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三、提高实验效果，减少浪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4"/>
          <p:cNvGrpSpPr/>
          <p:nvPr/>
        </p:nvGrpSpPr>
        <p:grpSpPr>
          <a:xfrm>
            <a:off x="250920" y="333360"/>
            <a:ext cx="8569080" cy="6546960"/>
            <a:chOff x="250920" y="333360"/>
            <a:chExt cx="8569080" cy="6546960"/>
          </a:xfrm>
        </p:grpSpPr>
        <p:pic>
          <p:nvPicPr>
            <p:cNvPr id="73" name="Picture 5" descr="wuyaheshui1"/>
            <p:cNvPicPr/>
            <p:nvPr/>
          </p:nvPicPr>
          <p:blipFill>
            <a:blip r:embed="rId1"/>
            <a:stretch/>
          </p:blipFill>
          <p:spPr>
            <a:xfrm>
              <a:off x="900000" y="487440"/>
              <a:ext cx="7920000" cy="63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WordArt 6"/>
            <p:cNvSpPr txBox="1"/>
            <p:nvPr/>
          </p:nvSpPr>
          <p:spPr>
            <a:xfrm>
              <a:off x="250920" y="333360"/>
              <a:ext cx="3166920" cy="1276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5746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ln w="0">
                    <a:noFill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黑体"/>
                </a:rPr>
                <a:t>乌鸦喝水</a:t>
              </a:r>
              <a:endParaRPr b="0" lang="en-US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黑体"/>
                <a:ea typeface="黑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23:51:0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4:53Z</dcterms:modified>
  <cp:revision>3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