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D4C-E455-4C56-98B6-848DB6C5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5D9-AE3F-480B-8B7C-5B29AE73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E76-74EF-4DD8-86C3-58B58B97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635-37A2-49F5-87EC-D040696E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C27-4107-4353-B90D-36AF48A8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4F8-B3A0-476C-9BA4-7D018EDF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2C1-25AA-436A-B8B7-0E617176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25F-EADA-4CD2-9F76-766B0B59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A97-3766-4B21-8CB7-75446465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A13-4F2B-4347-8EBC-0FB6FE3B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8D5-2D1A-4555-822A-A40E7BDB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290-730D-4584-8DC3-E35DC4E9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72E4-6EA0-4EB1-A6B9-B5BD32524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4.xm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anqi.MP3" descr=""/>
          <p:cNvPicPr/>
          <p:nvPr/>
        </p:nvPicPr>
        <p:blipFill>
          <a:blip r:embed="rId1"/>
          <a:stretch/>
        </p:blipFill>
        <p:spPr>
          <a:xfrm>
            <a:off x="3048120" y="5257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luhua"/>
          <p:cNvPicPr/>
          <p:nvPr/>
        </p:nvPicPr>
        <p:blipFill>
          <a:blip r:embed="rId2"/>
          <a:stretch/>
        </p:blipFill>
        <p:spPr>
          <a:xfrm>
            <a:off x="108000" y="333360"/>
            <a:ext cx="4203720" cy="6191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"/>
          <p:cNvSpPr/>
          <p:nvPr/>
        </p:nvSpPr>
        <p:spPr>
          <a:xfrm>
            <a:off x="3780000" y="1413000"/>
            <a:ext cx="51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芦花荡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010280" y="357336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孙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56480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家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14600" y="1599840"/>
            <a:ext cx="6019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孙犁，现代小说家、散文家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出生于河北省安平县。代表作品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白洋淀纪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这部作品显示了作家成熟的独特的艺术风格，这就是：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淡雅疏朗的诗情画意与朴素清新的泥土气息的完美结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以他为代表的河北作家群被当代文坛誉为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白洋淀派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他的小说又被称为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诗体小说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sunli"/>
          <p:cNvPicPr/>
          <p:nvPr/>
        </p:nvPicPr>
        <p:blipFill>
          <a:blip r:embed="rId1"/>
          <a:stretch/>
        </p:blipFill>
        <p:spPr>
          <a:xfrm>
            <a:off x="457200" y="2286000"/>
            <a:ext cx="227952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文讲了一个什么故事？试用几句话进行概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文的主人公是谁？作者是用什么方法刻画人物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品味赏析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611280" y="2060640"/>
            <a:ext cx="806436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特别欣赏小说第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中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（语言、动作、神态、心理、外貌等），因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luhu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48520" y="1905120"/>
            <a:ext cx="2690640" cy="3962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质疑释疑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90476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芦花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的是残酷的战争环境中的人和事。但是我们读后并没有感到非常的凄惨，没有让人感到压抑，而是感到写得非常优美，给人一种积极向上的力量。这是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课外拓展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外阅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芦花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姊妹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荷花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比较两篇文章有何异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06"/>
          <p:cNvPicPr/>
          <p:nvPr/>
        </p:nvPicPr>
        <p:blipFill>
          <a:blip r:embed="rId1"/>
          <a:stretch/>
        </p:blipFill>
        <p:spPr>
          <a:xfrm>
            <a:off x="1066680" y="4419720"/>
            <a:ext cx="6820200" cy="2035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828800" y="914400"/>
            <a:ext cx="5791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自己的心灵去感悟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自己的语言去表达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自己的观点去判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自己的思维去创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277920" y="457200"/>
            <a:ext cx="77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7007-B42B-4C97-B788-02E6627CE9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5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01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02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5608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26" descr="03"/>
          <p:cNvPicPr/>
          <p:nvPr/>
        </p:nvPicPr>
        <p:blipFill>
          <a:blip r:embed="rId1"/>
          <a:stretch/>
        </p:blipFill>
        <p:spPr>
          <a:xfrm>
            <a:off x="380880" y="254160"/>
            <a:ext cx="8382240" cy="63496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04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7973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05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06"/>
          <p:cNvPicPr/>
          <p:nvPr/>
        </p:nvPicPr>
        <p:blipFill>
          <a:blip r:embed="rId1"/>
          <a:stretch/>
        </p:blipFill>
        <p:spPr>
          <a:xfrm>
            <a:off x="1371600" y="2514600"/>
            <a:ext cx="6515280" cy="25686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07"/>
          <p:cNvPicPr/>
          <p:nvPr/>
        </p:nvPicPr>
        <p:blipFill>
          <a:blip r:embed="rId1"/>
          <a:stretch/>
        </p:blipFill>
        <p:spPr>
          <a:xfrm>
            <a:off x="762120" y="914400"/>
            <a:ext cx="7562880" cy="50180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08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79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SY012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00960" y="6267600"/>
            <a:ext cx="743040" cy="59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5:49:30Z</dcterms:created>
  <dc:creator>绿色圃中小学教育网http://www.lspjy.com</dc:creator>
  <dc:description>第一PPT模板网-WWW.1PPT.COM</dc:description>
  <cp:keywords>绿色圃中小学教育网http://www.lspjy.com</cp:keywords>
  <dc:language>en-US</dc:language>
  <cp:lastModifiedBy>xinxing</cp:lastModifiedBy>
  <dcterms:modified xsi:type="dcterms:W3CDTF">2017-04-16T16:07:52Z</dcterms:modified>
  <cp:revision>26</cp:revision>
  <dc:subject/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