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A5C-08A3-4EA5-B16A-3F6009D2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DBA-95D5-48BF-A5AD-7AD8D6CC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456-64BB-4CB2-89E9-2589953E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222-5DED-4086-9AF1-2CFFD4D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41D-AB9C-4862-AE58-B183D5E3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B3F-FB45-4A19-B5D3-A8A0059B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A6EF-0D15-4777-95F7-94A60B07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81C-B424-4837-91E6-BBF8987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FA7C-E964-4480-BFB7-3F160524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5E4F-77A7-4A1A-B5E3-A1EE1083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AD9B-5804-4102-A331-544DD13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F535-3756-43C9-A0A8-C451832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17D7-C0CB-41E3-A9CA-8E36A4E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EDB-1D2C-4ED6-9032-39D7AEA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374-BD30-4483-89AF-F715B9E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141-3A04-4BF3-87A3-0FEF11A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6F1C-9A7C-4BF3-B275-98E0E73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2D0-BA68-472A-891A-F60F27B3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09B-E9A8-4A8D-8922-F9015DDE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0A50-059F-4EC3-AE9D-985C6F7D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942C-2809-46CB-AC88-4781657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2219-346B-42E7-A95E-BBA5890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B829-2A65-4DA8-AE18-9B6903A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48D9-3104-4A74-B2AD-26EBA96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658-E4F9-4EBB-821C-A83742EA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1BD1-A3CE-499F-9E54-006E3B5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CB08-EE28-4EF8-906D-963D9D4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399A-6DCF-410B-BC62-2E76D69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659D-06B4-48E8-B6ED-776BEC7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5AE5-2586-4F38-AB83-DF9F6C85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9ABC-4EDE-4981-88D9-7F502381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5D28-7CFE-471C-BF8D-752F981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29F-095B-4051-8F5B-CF174731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04C-FCE9-4F3C-A048-132F12BF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416-8E95-4AA6-A2E7-5498D5ED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F5A-3074-4AFC-BF6E-7FCF296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846-AEA6-4CAC-81E4-57F6AC8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B0B-9BF0-41FB-8353-7DE3909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2E75-9307-4D5B-A343-D97E355B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F33-6001-41ED-BE74-12D94F3688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DA1-5179-44A0-889E-209CA574CA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y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920880" y="1773360"/>
            <a:ext cx="73450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面积和面积单位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258920" y="35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2"/>
          <p:cNvSpPr/>
          <p:nvPr/>
        </p:nvSpPr>
        <p:spPr>
          <a:xfrm>
            <a:off x="2700360" y="6245280"/>
            <a:ext cx="61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花边13"/>
          <p:cNvPicPr/>
          <p:nvPr/>
        </p:nvPicPr>
        <p:blipFill>
          <a:blip r:embed="rId1"/>
          <a:stretch/>
        </p:blipFill>
        <p:spPr>
          <a:xfrm>
            <a:off x="8568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93" name="Text Box 3"/>
          <p:cNvSpPr/>
          <p:nvPr/>
        </p:nvSpPr>
        <p:spPr>
          <a:xfrm>
            <a:off x="1676520" y="2565360"/>
            <a:ext cx="746748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　　 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（ 　   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，叫做它们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797440" y="3570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789280" y="25653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物体的表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032520" y="2565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封闭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075280" y="25002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214200" y="54936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84360" y="11588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14200" y="206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面积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方分米的正方形边长是（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765440" y="26701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25280" y="3860640"/>
            <a:ext cx="819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边长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的正方形面积是（　　　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684360" y="44704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平方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"/>
          <p:cNvSpPr/>
          <p:nvPr/>
        </p:nvSpPr>
        <p:spPr>
          <a:xfrm>
            <a:off x="372960" y="6356520"/>
            <a:ext cx="51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419640" y="335772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403280" y="3068640"/>
            <a:ext cx="24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3348000" y="3519360"/>
            <a:ext cx="72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4427640" y="4443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3492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４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黑板的长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</a:t>
            </a:r>
            <a:r>
              <a:rPr b="1" lang="zh-CN" sz="3200" spc="-1" strike="noStrike">
                <a:solidFill>
                  <a:srgbClr val="6666ff"/>
                </a:solidFill>
                <a:latin typeface="新宋体"/>
                <a:ea typeface="新宋体"/>
              </a:rPr>
              <a:t>  　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571040" y="4505400"/>
            <a:ext cx="40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５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块手帕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34920" y="54421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６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一枚邮票的面积是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4500720" y="5380200"/>
            <a:ext cx="22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0" y="941400"/>
            <a:ext cx="10260000" cy="13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．小明的大拇指的指甲盖大约是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6840360" y="97776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平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920" y="1697040"/>
            <a:ext cx="82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数学课本的封面大约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4920" y="2633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３．一个学校的面积大约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5580000" y="16970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5867280" y="26337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25092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上适当的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28720" y="5516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上面的资料，说说你有什么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84360" y="1125360"/>
          <a:ext cx="7848360" cy="4021200"/>
        </p:xfrm>
        <a:graphic>
          <a:graphicData uri="http://schemas.openxmlformats.org/drawingml/2006/table">
            <a:tbl>
              <a:tblPr/>
              <a:tblGrid>
                <a:gridCol w="1800000"/>
                <a:gridCol w="1871640"/>
                <a:gridCol w="417672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国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首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均绿地面积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美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华盛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４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巴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２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德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柏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５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新宋体"/>
                          <a:ea typeface="新宋体"/>
                        </a:rPr>
                        <a:t>北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        ８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56"/>
          <p:cNvSpPr/>
          <p:nvPr/>
        </p:nvSpPr>
        <p:spPr>
          <a:xfrm>
            <a:off x="4382280" y="293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世界一些国家首都人均绿地面积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523880" y="2997360"/>
            <a:ext cx="708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763640" y="29862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250920" y="273528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小明的身高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米。　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卧室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花园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方米。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6729480" y="240192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7139160" y="3240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6993000" y="400536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431640" y="1341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判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884D-DFBE-4F8C-A9C5-346D95F9A3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25"/>
          <p:cNvSpPr/>
          <p:nvPr/>
        </p:nvSpPr>
        <p:spPr>
          <a:xfrm>
            <a:off x="793800" y="1549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814480" y="2840040"/>
            <a:ext cx="23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封闭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6696000" y="995400"/>
            <a:ext cx="1371600" cy="1355760"/>
          </a:xfrm>
          <a:prstGeom prst="ellipse">
            <a:avLst/>
          </a:prstGeom>
          <a:solidFill>
            <a:srgbClr val="ffff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468000" y="3541680"/>
            <a:ext cx="7275960" cy="1687320"/>
            <a:chOff x="468000" y="3541680"/>
            <a:chExt cx="7275960" cy="1687320"/>
          </a:xfrm>
        </p:grpSpPr>
        <p:grpSp>
          <p:nvGrpSpPr>
            <p:cNvPr id="145" name="Group 8"/>
            <p:cNvGrpSpPr/>
            <p:nvPr/>
          </p:nvGrpSpPr>
          <p:grpSpPr>
            <a:xfrm>
              <a:off x="6013080" y="3873240"/>
              <a:ext cx="1730880" cy="1355760"/>
              <a:chOff x="6013080" y="3873240"/>
              <a:chExt cx="1730880" cy="1355760"/>
            </a:xfrm>
          </p:grpSpPr>
          <p:sp>
            <p:nvSpPr>
              <p:cNvPr id="146" name="Line 9"/>
              <p:cNvSpPr/>
              <p:nvPr/>
            </p:nvSpPr>
            <p:spPr>
              <a:xfrm flipH="1">
                <a:off x="6013080" y="3873240"/>
                <a:ext cx="941400" cy="13557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0"/>
              <p:cNvSpPr/>
              <p:nvPr/>
            </p:nvSpPr>
            <p:spPr>
              <a:xfrm>
                <a:off x="6013440" y="5229000"/>
                <a:ext cx="1730520" cy="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>
                <a:off x="6954840" y="3873240"/>
                <a:ext cx="465480" cy="80784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2"/>
            <p:cNvGrpSpPr/>
            <p:nvPr/>
          </p:nvGrpSpPr>
          <p:grpSpPr>
            <a:xfrm>
              <a:off x="468000" y="3541680"/>
              <a:ext cx="1730520" cy="1686960"/>
              <a:chOff x="468000" y="3541680"/>
              <a:chExt cx="1730520" cy="1686960"/>
            </a:xfrm>
          </p:grpSpPr>
          <p:sp>
            <p:nvSpPr>
              <p:cNvPr id="150" name="Line 13"/>
              <p:cNvSpPr/>
              <p:nvPr/>
            </p:nvSpPr>
            <p:spPr>
              <a:xfrm flipH="1">
                <a:off x="468000" y="3541680"/>
                <a:ext cx="941400" cy="16869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468360" y="5228640"/>
                <a:ext cx="17301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3137040" y="3873240"/>
              <a:ext cx="1728720" cy="1355760"/>
              <a:chOff x="3137040" y="3873240"/>
              <a:chExt cx="1728720" cy="1355760"/>
            </a:xfrm>
          </p:grpSpPr>
          <p:sp>
            <p:nvSpPr>
              <p:cNvPr id="153" name="Line 16"/>
              <p:cNvSpPr/>
              <p:nvPr/>
            </p:nvSpPr>
            <p:spPr>
              <a:xfrm>
                <a:off x="3137040" y="5229000"/>
                <a:ext cx="1728720" cy="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7"/>
              <p:cNvSpPr/>
              <p:nvPr/>
            </p:nvSpPr>
            <p:spPr>
              <a:xfrm flipV="1">
                <a:off x="3137040" y="387324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8"/>
              <p:cNvSpPr/>
              <p:nvPr/>
            </p:nvSpPr>
            <p:spPr>
              <a:xfrm flipV="1">
                <a:off x="4865760" y="3873240"/>
                <a:ext cx="0" cy="1355760"/>
              </a:xfrm>
              <a:prstGeom prst="line">
                <a:avLst/>
              </a:prstGeom>
              <a:ln w="4140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Rectangle 19"/>
          <p:cNvSpPr/>
          <p:nvPr/>
        </p:nvSpPr>
        <p:spPr>
          <a:xfrm>
            <a:off x="179280" y="1052640"/>
            <a:ext cx="2232000" cy="1371600"/>
          </a:xfrm>
          <a:prstGeom prst="rect">
            <a:avLst/>
          </a:prstGeom>
          <a:solidFill>
            <a:srgbClr val="ff33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2843280" y="1125360"/>
            <a:ext cx="1158840" cy="1109880"/>
          </a:xfrm>
          <a:prstGeom prst="rect">
            <a:avLst/>
          </a:prstGeom>
          <a:solidFill>
            <a:srgbClr val="009900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4572000" y="1125360"/>
            <a:ext cx="1765440" cy="1109880"/>
          </a:xfrm>
          <a:prstGeom prst="flowChartExtract">
            <a:avLst/>
          </a:prstGeom>
          <a:solidFill>
            <a:srgbClr val="6666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2"/>
          <p:cNvSpPr/>
          <p:nvPr/>
        </p:nvSpPr>
        <p:spPr>
          <a:xfrm>
            <a:off x="6729480" y="993600"/>
            <a:ext cx="1371600" cy="1355760"/>
          </a:xfrm>
          <a:prstGeom prst="ellipse">
            <a:avLst/>
          </a:prstGeom>
          <a:solidFill>
            <a:srgbClr val="6600cc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295280" y="2971800"/>
            <a:ext cx="182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477040" y="2781360"/>
            <a:ext cx="2286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39640" y="1949400"/>
            <a:ext cx="4176720" cy="3124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59664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5092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72000" y="1890720"/>
            <a:ext cx="4032360" cy="254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39640" y="1916280"/>
            <a:ext cx="3311640" cy="2546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685800"/>
            <a:ext cx="692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下面哪个图形的面积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564160" y="50734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1686600" y="5029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33526E-006 L 0.44098 -4.33526E-006 E">
                                      <p:cBhvr>
                                        <p:cTn id="7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8 1.32948E-006 L -4.16667E-006 1.32948E-006 E">
                                      <p:cBhvr>
                                        <p:cTn id="8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916360" y="3573360"/>
            <a:ext cx="3273480" cy="609840"/>
            <a:chOff x="2916360" y="3573360"/>
            <a:chExt cx="3273480" cy="609840"/>
          </a:xfrm>
        </p:grpSpPr>
        <p:sp>
          <p:nvSpPr>
            <p:cNvPr id="177" name="Rectangle 4"/>
            <p:cNvSpPr/>
            <p:nvPr/>
          </p:nvSpPr>
          <p:spPr>
            <a:xfrm>
              <a:off x="5580000" y="3573360"/>
              <a:ext cx="609840" cy="60984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048200" y="3573360"/>
              <a:ext cx="1008000" cy="609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>
              <a:off x="2916360" y="3573360"/>
              <a:ext cx="609480" cy="609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78035E-007 L 0.4125 -5.78035E-007 E">
                                      <p:cBhvr>
                                        <p:cTn id="9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25 4.39306E-006 L 3.33333E-006 4.39306E-006 E">
                                      <p:cBhvr>
                                        <p:cTn id="10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4000" y="1273320"/>
            <a:ext cx="422892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24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9334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1542960" y="1273320"/>
            <a:ext cx="60984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21528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276228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6"/>
          <p:cNvSpPr/>
          <p:nvPr/>
        </p:nvSpPr>
        <p:spPr>
          <a:xfrm>
            <a:off x="394344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3348000" y="12733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324000" y="1882800"/>
            <a:ext cx="4228920" cy="609480"/>
            <a:chOff x="324000" y="1882800"/>
            <a:chExt cx="4228920" cy="609480"/>
          </a:xfrm>
        </p:grpSpPr>
        <p:sp>
          <p:nvSpPr>
            <p:cNvPr id="194" name="Oval 9"/>
            <p:cNvSpPr/>
            <p:nvPr/>
          </p:nvSpPr>
          <p:spPr>
            <a:xfrm>
              <a:off x="3240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1"/>
            <p:cNvSpPr/>
            <p:nvPr/>
          </p:nvSpPr>
          <p:spPr>
            <a:xfrm>
              <a:off x="9334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1542960" y="1882800"/>
              <a:ext cx="60984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21528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9"/>
            <p:cNvSpPr/>
            <p:nvPr/>
          </p:nvSpPr>
          <p:spPr>
            <a:xfrm>
              <a:off x="276228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"/>
            <p:cNvSpPr/>
            <p:nvPr/>
          </p:nvSpPr>
          <p:spPr>
            <a:xfrm>
              <a:off x="334800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1"/>
            <p:cNvSpPr/>
            <p:nvPr/>
          </p:nvSpPr>
          <p:spPr>
            <a:xfrm>
              <a:off x="3943440" y="1882800"/>
              <a:ext cx="60948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273320"/>
            <a:ext cx="4032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24000" y="12733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24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332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40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348000" y="1268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1332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2340000" y="187812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3348000" y="1882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6324480" y="190512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733284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24000" y="1273320"/>
            <a:ext cx="426708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40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334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39816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3240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9334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429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21528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276228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3371760" y="1882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981600" y="1882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1"/>
          <p:cNvSpPr/>
          <p:nvPr/>
        </p:nvSpPr>
        <p:spPr>
          <a:xfrm>
            <a:off x="2916360" y="357336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2927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52927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52754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59022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651204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7121520" y="68580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7731000" y="68580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5902200" y="1295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651204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7121520" y="1295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7731000" y="130644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59022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6512040" y="191628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"/>
          <p:cNvSpPr/>
          <p:nvPr/>
        </p:nvSpPr>
        <p:spPr>
          <a:xfrm>
            <a:off x="7121520" y="19051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"/>
          <p:cNvSpPr/>
          <p:nvPr/>
        </p:nvSpPr>
        <p:spPr>
          <a:xfrm>
            <a:off x="7731000" y="191628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8"/>
          <p:cNvSpPr/>
          <p:nvPr/>
        </p:nvSpPr>
        <p:spPr>
          <a:xfrm>
            <a:off x="6732720" y="27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292720" y="685800"/>
            <a:ext cx="3048120" cy="1828800"/>
          </a:xfrm>
          <a:prstGeom prst="rect">
            <a:avLst/>
          </a:prstGeom>
          <a:solidFill>
            <a:srgbClr val="00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24000" y="1273320"/>
            <a:ext cx="4248000" cy="12189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580000" y="357336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048200" y="357336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292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6300720" y="68580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308720" y="68580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292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300720" y="1295280"/>
            <a:ext cx="10080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7308720" y="1306440"/>
            <a:ext cx="100836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5292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6300720" y="1916280"/>
            <a:ext cx="10080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7308720" y="1916280"/>
            <a:ext cx="10083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2400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933480" y="1268280"/>
            <a:ext cx="60948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1542960" y="1273320"/>
            <a:ext cx="60984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21528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276228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371760" y="1268280"/>
            <a:ext cx="609840" cy="60984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3981600" y="1273320"/>
            <a:ext cx="609480" cy="609480"/>
          </a:xfrm>
          <a:prstGeom prst="rect">
            <a:avLst/>
          </a:prstGeom>
          <a:solidFill>
            <a:srgbClr val="ff66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6"/>
          <p:cNvGrpSpPr/>
          <p:nvPr/>
        </p:nvGrpSpPr>
        <p:grpSpPr>
          <a:xfrm>
            <a:off x="324000" y="1878120"/>
            <a:ext cx="4248000" cy="614160"/>
            <a:chOff x="324000" y="1878120"/>
            <a:chExt cx="4248000" cy="614160"/>
          </a:xfrm>
        </p:grpSpPr>
        <p:sp>
          <p:nvSpPr>
            <p:cNvPr id="283" name="Rectangle 29"/>
            <p:cNvSpPr/>
            <p:nvPr/>
          </p:nvSpPr>
          <p:spPr>
            <a:xfrm>
              <a:off x="32400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0"/>
            <p:cNvSpPr/>
            <p:nvPr/>
          </p:nvSpPr>
          <p:spPr>
            <a:xfrm>
              <a:off x="933480" y="187812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1"/>
            <p:cNvSpPr/>
            <p:nvPr/>
          </p:nvSpPr>
          <p:spPr>
            <a:xfrm>
              <a:off x="1542960" y="187812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2"/>
            <p:cNvSpPr/>
            <p:nvPr/>
          </p:nvSpPr>
          <p:spPr>
            <a:xfrm>
              <a:off x="2152800" y="187812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3"/>
            <p:cNvSpPr/>
            <p:nvPr/>
          </p:nvSpPr>
          <p:spPr>
            <a:xfrm>
              <a:off x="276228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4"/>
            <p:cNvSpPr/>
            <p:nvPr/>
          </p:nvSpPr>
          <p:spPr>
            <a:xfrm>
              <a:off x="3371760" y="1882800"/>
              <a:ext cx="60984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5"/>
            <p:cNvSpPr/>
            <p:nvPr/>
          </p:nvSpPr>
          <p:spPr>
            <a:xfrm>
              <a:off x="3962520" y="1882800"/>
              <a:ext cx="609480" cy="609480"/>
            </a:xfrm>
            <a:prstGeom prst="rect">
              <a:avLst/>
            </a:prstGeom>
            <a:solidFill>
              <a:srgbClr val="ff66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37"/>
          <p:cNvSpPr/>
          <p:nvPr/>
        </p:nvSpPr>
        <p:spPr>
          <a:xfrm>
            <a:off x="246240" y="4648320"/>
            <a:ext cx="8135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比较两个图形面积的大小，要用统一的面积单位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8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31Z</dcterms:modified>
  <cp:revision>2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