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77B6-E7F1-444C-838C-8FB723F0EB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7D35-DFF6-4C8B-8DD4-B874606136E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A20-388F-451C-BE41-3C4D374D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F13-0248-452F-A798-067ED33F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9ED-350F-4073-B651-65392973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74C-AF0A-49EB-AA12-E617397B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3AD5-F4F8-493C-B03E-50E0851B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1F94-BD40-4D9B-A48B-419E4DB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22C7-22E5-495D-8A70-24022F8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9307-2147-4B0F-AAEE-A167320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BAB8-A015-4872-B015-FCEE87CF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056C-8E25-4A9A-AD09-855D8490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10F5-418B-4296-855B-90BC270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E01-EF91-484F-A00B-A20E430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7848-10D4-4C3F-9094-43D894E7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6E60-817B-47ED-B28C-918AAFFE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F028-3A4D-4235-BC27-EBA6F689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C862-F9C3-4F08-A89A-7D8A4616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7D1-9FA1-48F2-88E6-4390BDDE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61E-750F-4B2A-81A6-D1EBF278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E19-53FE-4E5B-95BB-F71E2247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FA8-D095-4EBE-B1C3-CBDCD251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27D-8B78-49D1-A70A-9C466A04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713-B556-445E-9C5D-3B6BF0D0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954-7B5E-44B5-88B0-CE057A30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63D-0FB0-438A-AEB7-30EBE42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DD47-CF05-4BE8-8CE4-3DDB5FC8BC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E127-2FAB-4A66-8537-8B90195B50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C:\Documents and Settings\Administrator\&#26700;&#38754;\&#34434;&#34433;&#30340;&#36523;&#20307;&#32467;&#26500;.fl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nii.com.cn/20050104/ca276632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5&#34434;&#34433;&#30340;&#36523;&#20307;&#32467;&#26500;.fl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411280" y="549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  <a:ea typeface="黑体"/>
              </a:rPr>
              <a:t>蚂  蚁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3522240" y="60958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TW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图片 5" descr=""/>
          <p:cNvPicPr/>
          <p:nvPr/>
        </p:nvPicPr>
        <p:blipFill>
          <a:blip r:embed="rId1"/>
          <a:stretch/>
        </p:blipFill>
        <p:spPr>
          <a:xfrm>
            <a:off x="3133800" y="2657520"/>
            <a:ext cx="5256000" cy="321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324000" y="3333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蚂蚁的身体是怎样的？分成几个部分？每个部分长着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8" descr="蚂蚁图改"/>
          <p:cNvPicPr/>
          <p:nvPr/>
        </p:nvPicPr>
        <p:blipFill>
          <a:blip r:embed="rId1"/>
          <a:stretch/>
        </p:blipFill>
        <p:spPr>
          <a:xfrm>
            <a:off x="324000" y="2133720"/>
            <a:ext cx="8675640" cy="4535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rId2"/>
          </p:cNvPr>
          <p:cNvSpPr/>
          <p:nvPr/>
        </p:nvSpPr>
        <p:spPr>
          <a:xfrm>
            <a:off x="4284720" y="105264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5993" y="7301"/>
                </a:moveTo>
                <a:lnTo>
                  <a:pt x="6906" y="7301"/>
                </a:lnTo>
                <a:lnTo>
                  <a:pt x="7289" y="7667"/>
                </a:lnTo>
                <a:lnTo>
                  <a:pt x="16498" y="7667"/>
                </a:lnTo>
                <a:lnTo>
                  <a:pt x="17055" y="8224"/>
                </a:lnTo>
                <a:lnTo>
                  <a:pt x="17055" y="8772"/>
                </a:lnTo>
                <a:lnTo>
                  <a:pt x="18900" y="8772"/>
                </a:lnTo>
                <a:lnTo>
                  <a:pt x="19266" y="8224"/>
                </a:lnTo>
                <a:lnTo>
                  <a:pt x="20005" y="8224"/>
                </a:lnTo>
                <a:lnTo>
                  <a:pt x="20005" y="13376"/>
                </a:lnTo>
                <a:lnTo>
                  <a:pt x="19266" y="13376"/>
                </a:lnTo>
                <a:lnTo>
                  <a:pt x="18900" y="12828"/>
                </a:lnTo>
                <a:lnTo>
                  <a:pt x="17055" y="12828"/>
                </a:lnTo>
                <a:lnTo>
                  <a:pt x="17055" y="14107"/>
                </a:lnTo>
                <a:lnTo>
                  <a:pt x="7472" y="14107"/>
                </a:lnTo>
                <a:lnTo>
                  <a:pt x="7472" y="9877"/>
                </a:lnTo>
                <a:lnTo>
                  <a:pt x="7289" y="9877"/>
                </a:lnTo>
                <a:lnTo>
                  <a:pt x="6906" y="10243"/>
                </a:lnTo>
                <a:lnTo>
                  <a:pt x="5993" y="10243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wwbl20050111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5292720" y="1557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分成头部、胸部及腹部。头上有一对触角，感觉器官灵敏。胸上有有六只脚、两对翅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工蚁没有翅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)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，头部变化很多，通常较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64000" y="40464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身体构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839520" y="404640"/>
            <a:ext cx="1764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家庭成员：</a:t>
            </a:r>
            <a:r>
              <a:rPr b="0" lang="zh-CN" sz="1800" spc="-1" strike="noStrike">
                <a:solidFill>
                  <a:srgbClr val="99ff3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24000" y="1052640"/>
            <a:ext cx="861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在蚂蚁王国里阶级分明，有蚁后、雄蚁、工蚁和兵蚁 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蚁后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4294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蚂蚁的类型与分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有的蚁科都过社会性群体生活。一般在一个群体里有四种不同的蚁型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蚁后：有生殖能力的雌性，或称母蚁，在群体中体型最大，特别是腹部大，生殖器官发达，触角短，胸足小，有翅、脱翅或无翅。主要职责是产卵、繁殖后代和统管这个群体大家庭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雄蚁：或称父蚁。头圆小，上颚不发达，触角细长。有发达的生殖器官和外生殖器，主要职能是与蚁后交配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476280"/>
            <a:ext cx="5410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工蚁：又称职蚁。无翅，一般为群体中最小的个体，但数量最多。复眼小，单眼极微小或无。上颚、触角和三对胸足都很发达，善于步行奔走。工蚁是没有生殖能力的雌性。工蚁的主要职责是建造和扩大巢穴、采集食物、伺喂幼蚁及蚁后等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兵蚁：头大，上颚发达，可以粉碎坚硬食物，在保卫群体时即成为战斗的武器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工蚁1"/>
          <p:cNvPicPr/>
          <p:nvPr/>
        </p:nvPicPr>
        <p:blipFill>
          <a:blip r:embed="rId1"/>
          <a:stretch/>
        </p:blipFill>
        <p:spPr>
          <a:xfrm>
            <a:off x="5873760" y="549360"/>
            <a:ext cx="3270240" cy="3270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276720" cy="281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wwbl20050111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362600" y="836640"/>
            <a:ext cx="2678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分工合作的家庭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68360" y="177336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蚂蚁家里的工作分配得刚刚好，每个人都有事做，不会搞混。家里的房间也总是整理的干干净净、整整齐齐的，哪里该放食物，哪里可以睡觉，哪里又是哺育室，都是有规划的，所以说他们是最棒的建筑师、设计师一点也不为过。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">
            <a:hlinkClick r:id="" action="ppaction://hlinkshowjump?jump=lastslide"/>
          </p:cNvPr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进一步观察：蚂蚁会迷路吗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73280"/>
            <a:ext cx="807696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蚂蚁常会出来找寻食物，有时运气好，马上就找到了；有时运气差，走了好久还没找着，等要回去时，大半天的路，他们还认得出来吗？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371600" y="38862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ff"/>
                </a:solidFill>
                <a:latin typeface="Arial"/>
                <a:ea typeface="Arial"/>
              </a:rPr>
              <a:t>确实蚂蚁有时会在爬过的地方留下气味，但也有蚂蚁不留气味，而记住沿途的天然气味，然后找到回家的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>
            <a:hlinkClick r:id="" action="ppaction://hlinkshowjump?jump=lastslide"/>
          </p:cNvPr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另外，蚂蚁的视觉还非常灵敏，能利用陆上、天空的景致来认路。曾有人用圆筒状工具，遮住一群正要回巢的蚂蚁，让他们只能看到天空，结果他们仍能按照正确路线前进。后来，人们又用一块大板子，水平挡在蚂蚁的上方，并且尽量放低，让他们不能看到天空及周围的景物，于是发现，他们开始失去方向，并且胡乱爬行了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由此可知，不仅周围景致、太阳的位置，和蓝天上反射下来的日光，都可帮助蚂蚁辨认方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4">
            <a:hlinkClick r:id="" action="ppaction://hlinkshowjump?jump=lastslide"/>
          </p:cNvPr>
          <p:cNvSpPr/>
          <p:nvPr/>
        </p:nvSpPr>
        <p:spPr>
          <a:xfrm>
            <a:off x="8244000" y="6021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蚂蚁认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蚂蚁认路还靠算术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科学家一直没弄清楚蚂蚁是如何判断距离远近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德国的科学家为此做了个实验。他们在距蚂蚁洞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米远的地方放置了食物，然后将这些蚂蚁抓起来，并分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组，其中一组蚂蚁的腿锯的短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毫米，另一组蚂蚁的腿被接上支柱加长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毫米，第三组蚂蚁的腿则没有改变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5">
            <a:hlinkClick r:id="" action="ppaction://hlinkshowjump?jump=lastslide"/>
          </p:cNvPr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404640"/>
            <a:ext cx="80769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结果显示，那些被人为改变了腿的长度的蚂蚁错估了家的位置。长腿蚂蚁在多走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米后（即多走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米）才开始寻找自己的家；而短腿蚂蚁则相反，它们只走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米后就开始找家。这一发现显示这些蚂蚁是依靠步数的计算来估计距离的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xin_001105091341781418814"/>
          <p:cNvPicPr/>
          <p:nvPr/>
        </p:nvPicPr>
        <p:blipFill>
          <a:blip r:embed="rId1"/>
          <a:stretch/>
        </p:blipFill>
        <p:spPr>
          <a:xfrm>
            <a:off x="2124000" y="3500280"/>
            <a:ext cx="4457880" cy="27244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>
            <a:hlinkClick r:id="" action="ppaction://hlinkshowjump?jump=lastslide"/>
          </p:cNvPr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507162349044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为什么蚂蚁会乖乖排队行动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大家有没有注意到，蚂蚁的行动总是团结一致，像是个个都带了行动电话时时保持联络似的，他们到底有什么法宝呢？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5">
            <a:hlinkClick r:id="" action="ppaction://hlinkshowjump?jump=lastslide"/>
          </p:cNvPr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3640" y="404640"/>
            <a:ext cx="834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蚂蚁的确有自己的一套办法联络同伴。虽然他们四散到各处觅食，只要有谁发现了食物，除了赶紧衔一小块回巢去之外，沿途还会记得分泌出芳香讯号，紧急通知同伴前来支援。附近闻到香味的蚂蚁会一路嗅着这条芳香路线找到食物，一只一小块通力合作，将所有食物搬回窝巢。这些沿着香味移动的蚂蚁就形成了一排长长的队伍，有秩序的前行。 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24000" y="4437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蚂蚁分泌的这种芳香物质称为信息素，由于它的挥发性大，几分钟过后，食物都运回了窝巢，香味也就消失不见了，免得再有蚂蚁前来，结果扑了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6">
            <a:hlinkClick r:id="" action="ppaction://hlinkshowjump?jump=lastslide"/>
          </p:cNvPr>
          <p:cNvSpPr/>
          <p:nvPr/>
        </p:nvSpPr>
        <p:spPr>
          <a:xfrm>
            <a:off x="8459640" y="6164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为什么蚂蚁会打仗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夏天，在树林边，常常会看到许多大大小小的蚂蚁，爬来爬去，搬运着昆虫残体、泥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有时它们相遇以后，成群地咬杀起来，斗争得十分剧烈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为什么蚂蚁会打仗呢？有的昆虫学家对蚂蚁打仗，认为是争夺食物引起的，因而用种内斗争理论来解释。但较多的昆虫学家，认为不是什么种内斗争，而是一种化学强制反应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>
            <a:hlinkClick r:id="" action="ppaction://hlinkshowjump?jump=lastslide"/>
          </p:cNvPr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为了证明这个现象，他们做了以下实验：把不同窝的蚂蚁放在一起，它们的触角一碰，就立刻咬杀起来；相反，把同窝蚂蚁放在一起，它们相遇以后，不但不打不咬，还能互相喂食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>
            <a:hlinkClick r:id="" action="ppaction://hlinkshowjump?jump=lastslide"/>
          </p:cNvPr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95280" y="620640"/>
            <a:ext cx="81532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昆虫学家对以上事实这样解释：不同窝的蚂蚁，身上都有一种特殊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窝味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。这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窝味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又与窝的建筑材料、储藏的食物和本身分泌物的不同而不同。每一只蚂蚁都有辨别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窝味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的本领。一旦发现另外的蚂蚁不是自己家里的成员，就咬杀斗争起来，慢慢地形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大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。有趣的是，把正在咬杀斗争的蚂蚁，用水洗掉身上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窝味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，再把它们放在一起，它们相遇后，就安然无事地各自走开。如果在一只蚂蚁身上洒些香料，它就不能回窝，同窝的蚂蚁将误认它是敌害而被驱赶出来。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lastslide"/>
          </p:cNvPr>
          <p:cNvSpPr/>
          <p:nvPr/>
        </p:nvSpPr>
        <p:spPr>
          <a:xfrm>
            <a:off x="817236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wwbl20050111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250920" y="1413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蚂蚁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工蚁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是找寻食物的高手，牠们的嗅觉灵敏，很容易发现食物。当他们发现食物时，也会用特殊的方法召集其牠的同伴，合力把食物搬回家里去。小蚂蚁和蜜蜂一样爱吃甜食，蚂蚁也爱喝蜂蜜，只是蚂蚁并不挑食什么食物都能接受。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69040" y="33336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Arial"/>
                <a:ea typeface="楷体_GB2312"/>
              </a:rPr>
              <a:t>蚂蚁的食物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>
            <a:hlinkClick r:id="" action="ppaction://hlinkshowjump?jump=lastslide"/>
          </p:cNvPr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ictur3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210320" y="33804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蚂蚁的坟墓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39640" y="1268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　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蚂蚁会将死去的同伴搬到离蚁窝一段距离外，将尸体堆在一起，成为一个蚂蚁的坟墓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6">
            <a:hlinkClick r:id="" action="ppaction://hlinkshowjump?jump=lastslide"/>
          </p:cNvPr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309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95120" y="1958760"/>
            <a:ext cx="62132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你了解了蚂蚁的哪些知识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画一画你观察过的蚂蚁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1693800" y="5432400"/>
            <a:ext cx="50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034-926B-4378-A6A2-8E42F33742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8488657914403aa3b222f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wwbl20050111-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8208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蚂蚁是我们常见的小动物，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想一想怎样观察蚂蚁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24000" y="404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让我们带上放大镜，去观察这群有意思的小伙伴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492360" y="1844640"/>
            <a:ext cx="5688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一、蚂蚁的身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二、蚂蚁的类型和分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三、蚂蚁认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四、蚂蚁的食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39640" y="2852640"/>
            <a:ext cx="2952720" cy="2376720"/>
          </a:xfrm>
          <a:prstGeom prst="wedgeEllipseCallout">
            <a:avLst>
              <a:gd name="adj1" fmla="val -47689"/>
              <a:gd name="adj2" fmla="val 3724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60046"/>
                </a:solidFill>
                <a:latin typeface="Arial"/>
              </a:rPr>
              <a:t>爱护小动物，不伤害它们。</a:t>
            </a:r>
            <a:br>
              <a:rPr sz="1800"/>
            </a:br>
            <a:r>
              <a:rPr b="1" lang="zh-CN" sz="1800" spc="-1" strike="noStrike">
                <a:solidFill>
                  <a:srgbClr val="460046"/>
                </a:solidFill>
                <a:latin typeface="Arial"/>
              </a:rPr>
              <a:t>保持动物生活的家园，保护它们的生存环境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0" y="5229360"/>
            <a:ext cx="127476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认识蚂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9280" y="1197000"/>
            <a:ext cx="8077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蚂蚁是地球上最常见的昆虫，数量最多的昆虫种类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当年，它与恐龙为邻。蚂蚁是一种十分古老的昆虫，它的起源可追溯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亿年前，大约与恐龙同一时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蚂蚁不但常见而且种类繁多，目前世界上已知的蚂蚁约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0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种，估计全部种类应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000-1500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种，而中国至少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种以上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蚂蚁的寿命很长，工蚁可生存几星期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-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年，蚁后则可存活十几年或几十年。一蚁巢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个地方可生长年，甚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多年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>
            <a:hlinkClick r:id="rId1"/>
          </p:cNvPr>
          <p:cNvSpPr/>
          <p:nvPr/>
        </p:nvSpPr>
        <p:spPr>
          <a:xfrm>
            <a:off x="7956720" y="609300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4" h="21600">
                <a:moveTo>
                  <a:pt x="5576" y="7301"/>
                </a:moveTo>
                <a:lnTo>
                  <a:pt x="6489" y="7301"/>
                </a:lnTo>
                <a:lnTo>
                  <a:pt x="6872" y="7667"/>
                </a:lnTo>
                <a:lnTo>
                  <a:pt x="16081" y="7667"/>
                </a:lnTo>
                <a:lnTo>
                  <a:pt x="16638" y="8224"/>
                </a:lnTo>
                <a:lnTo>
                  <a:pt x="16638" y="8772"/>
                </a:lnTo>
                <a:lnTo>
                  <a:pt x="18483" y="8772"/>
                </a:lnTo>
                <a:lnTo>
                  <a:pt x="18849" y="8224"/>
                </a:lnTo>
                <a:lnTo>
                  <a:pt x="19588" y="8224"/>
                </a:lnTo>
                <a:lnTo>
                  <a:pt x="19588" y="13376"/>
                </a:lnTo>
                <a:lnTo>
                  <a:pt x="18849" y="13376"/>
                </a:lnTo>
                <a:lnTo>
                  <a:pt x="18483" y="12828"/>
                </a:lnTo>
                <a:lnTo>
                  <a:pt x="16638" y="12828"/>
                </a:lnTo>
                <a:lnTo>
                  <a:pt x="16638" y="14107"/>
                </a:lnTo>
                <a:lnTo>
                  <a:pt x="7055" y="14107"/>
                </a:lnTo>
                <a:lnTo>
                  <a:pt x="7055" y="9877"/>
                </a:lnTo>
                <a:lnTo>
                  <a:pt x="6872" y="9877"/>
                </a:lnTo>
                <a:lnTo>
                  <a:pt x="6489" y="10243"/>
                </a:lnTo>
                <a:lnTo>
                  <a:pt x="5576" y="10243"/>
                </a:lnTo>
                <a:close/>
              </a:path>
            </a:pathLst>
          </a:custGeom>
          <a:solidFill>
            <a:srgbClr val="8a9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wwbl20050111-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63480" y="1851120"/>
            <a:ext cx="77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蚂蚁通常把巢筑在土层里、石块下、树洞内或一些植物的根部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92200" y="50472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蚂蚁的巢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wwbl20050111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783080" y="5565600"/>
            <a:ext cx="57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蚁卵约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0.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毫米长，呈不规则的椭圆形，乳白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05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8:13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