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4D8-CA6C-426E-9F71-82F13BA6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E11-CB48-402E-9A63-14BE15D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CD7-CA8C-4CD9-9914-3746D7BB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89E-5D22-4EBF-B631-C19128CA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EBB-62F7-4E5C-9F91-296D7B5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DD3-9325-48DC-B7E9-EE68B903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7AA-97CC-4833-B519-871423B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16C-3843-4DA9-9F8B-D2985E0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D01-693D-431D-A782-21E82C38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A00-F3E6-4F0E-A601-E9DC5C5E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470-2384-47CB-947D-074D063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097-9A78-4EE3-A3DC-F5871A0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630-7FA0-47C2-A0FE-B8E82F113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26" descr="F:\边框图案\BK036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7"/>
          <p:cNvSpPr/>
          <p:nvPr/>
        </p:nvSpPr>
        <p:spPr>
          <a:xfrm>
            <a:off x="1066680" y="1066680"/>
            <a:ext cx="693432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   搭   间   这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   都   住   呢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   没   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28"/>
          <p:cNvSpPr/>
          <p:nvPr/>
        </p:nvSpPr>
        <p:spPr>
          <a:xfrm>
            <a:off x="106668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pín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29"/>
          <p:cNvSpPr/>
          <p:nvPr/>
        </p:nvSpPr>
        <p:spPr>
          <a:xfrm>
            <a:off x="2895480" y="57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30"/>
          <p:cNvSpPr/>
          <p:nvPr/>
        </p:nvSpPr>
        <p:spPr>
          <a:xfrm>
            <a:off x="4648320" y="6094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ji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1"/>
          <p:cNvSpPr/>
          <p:nvPr/>
        </p:nvSpPr>
        <p:spPr>
          <a:xfrm>
            <a:off x="6400800" y="654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z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1066680" y="2514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xi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2895480" y="2558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4"/>
          <p:cNvSpPr/>
          <p:nvPr/>
        </p:nvSpPr>
        <p:spPr>
          <a:xfrm>
            <a:off x="4648320" y="2558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zh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5"/>
          <p:cNvSpPr/>
          <p:nvPr/>
        </p:nvSpPr>
        <p:spPr>
          <a:xfrm>
            <a:off x="6553080" y="2558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6"/>
          <p:cNvSpPr/>
          <p:nvPr/>
        </p:nvSpPr>
        <p:spPr>
          <a:xfrm>
            <a:off x="1295280" y="42670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7"/>
          <p:cNvSpPr/>
          <p:nvPr/>
        </p:nvSpPr>
        <p:spPr>
          <a:xfrm>
            <a:off x="2819520" y="43876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mé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8"/>
          <p:cNvSpPr/>
          <p:nvPr/>
        </p:nvSpPr>
        <p:spPr>
          <a:xfrm>
            <a:off x="4648320" y="43876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hě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506520" y="6035760"/>
            <a:ext cx="47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2726-9F38-496A-97F2-C886E3707F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边框图案\BK2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990720" y="1690560"/>
            <a:ext cx="7086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积木  房子  四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这些  爷爷  奶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没有  很多  还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143000" y="1219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76720" y="1295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án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477120" y="1219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6668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zhè   xi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547440" y="292572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38680" y="30020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ǎ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066680" y="44956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éi   yǒ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352680" y="4525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ěn  du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715000" y="46022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边框图案\BK206.JPG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600200" y="160020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积木 房子 四间爷爷 爸爸 奶奶妈妈 没有 很多大家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:\animator\nature\z002.gif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895480" y="60480"/>
            <a:ext cx="624852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平平搭积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1673280"/>
            <a:ext cx="83818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平平搭积木，搭了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间房子。平平，平平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些房子都给谁住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223920" y="6041880"/>
            <a:ext cx="77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小学语文第一册\小学语文第一册\Image\02日月水火\hh4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1749600"/>
            <a:ext cx="89154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间给爷爷和他的书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间给奶奶和平平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间给爸爸妈妈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23438" t="25004" r="17188" b="1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57200" y="304920"/>
            <a:ext cx="8686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平平，平平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还有一间呢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还有一间啊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给没有房子的人住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3438" t="25781" r="17188" b="1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066680" y="1157400"/>
            <a:ext cx="6934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平平还要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很多很多的房子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给大家住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边框图案\BK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2666880" y="457200"/>
            <a:ext cx="5029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读读说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90720" y="1600200"/>
            <a:ext cx="70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很多很多的房子很高很高的山  很清很清的河水很绿很绿的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边框图案\BK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66680" y="76212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红很红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4572000" y="14479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066680" y="19810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大很大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572000" y="274320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143000" y="33526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   很   的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4038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581280" y="4038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143000" y="48006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   很   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90512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3657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5334120" y="5562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72000" y="838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苹果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太阳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西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648320" y="2057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天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752480" y="34592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长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505320" y="34592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长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057400" y="4876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3886200" y="4876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486400" y="4861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0:15:19Z</dcterms:created>
  <dc:creator/>
  <dc:description/>
  <cp:keywords/>
  <dc:language>en-US</dc:language>
  <cp:lastModifiedBy>xinxing</cp:lastModifiedBy>
  <dcterms:modified xsi:type="dcterms:W3CDTF">2017-04-16T15:50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