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8D02-EABE-4C51-B2D1-F3A494B8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C2DE-7506-4684-B1FC-FD092FF9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7C5D-45C6-4DAF-9E22-E7339CC9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488-20DE-465A-A046-BB99C955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C509-15FF-46B9-A40E-BE10C9F2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F0EF-E2E2-415C-B75C-823A110D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F45-814E-4D39-B7F4-6046C1EB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2A1-5EBC-4C22-B181-6F35B458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B90E-A7B1-4C18-8FD3-2171332C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A3CB-5671-4481-9F66-D114F50E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7630-220B-41FE-AF2E-33E64C3C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099-497D-46D8-BBD8-10E34A13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C2B1-BB23-4D7F-8F78-E96F1C478340}" type="slidenum"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1979640" y="3429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2470680" y="61657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Administrator\桌面\背景\小学语文(记叙文）06.gif"/>
          <p:cNvPicPr/>
          <p:nvPr/>
        </p:nvPicPr>
        <p:blipFill>
          <a:blip r:embed="rId1"/>
          <a:stretch/>
        </p:blipFill>
        <p:spPr>
          <a:xfrm>
            <a:off x="1219320" y="11732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1567800" y="1676520"/>
            <a:ext cx="1247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读读说说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grpSp>
        <p:nvGrpSpPr>
          <p:cNvPr id="82" name="Group 12"/>
          <p:cNvGrpSpPr/>
          <p:nvPr/>
        </p:nvGrpSpPr>
        <p:grpSpPr>
          <a:xfrm>
            <a:off x="1574280" y="2895480"/>
            <a:ext cx="7093800" cy="2226960"/>
            <a:chOff x="1574280" y="2895480"/>
            <a:chExt cx="7093800" cy="2226960"/>
          </a:xfrm>
        </p:grpSpPr>
        <p:sp>
          <p:nvSpPr>
            <p:cNvPr id="83" name="Text Box 9"/>
            <p:cNvSpPr/>
            <p:nvPr/>
          </p:nvSpPr>
          <p:spPr>
            <a:xfrm>
              <a:off x="1574280" y="2895480"/>
              <a:ext cx="709380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楷体_GB2312"/>
                  <a:ea typeface="楷体_GB2312"/>
                </a:rPr>
                <a:t>湖水像一面镜子。</a:t>
              </a:r>
              <a:endParaRPr b="0" lang="en-US" sz="28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楷体_GB2312"/>
                  <a:ea typeface="楷体_GB2312"/>
                </a:rPr>
                <a:t>山石像一只正要跳起的青蛙。</a:t>
              </a:r>
              <a:endParaRPr b="0" lang="en-US" sz="28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楷体_GB2312"/>
                  <a:ea typeface="楷体_GB2312"/>
                </a:rPr>
                <a:t>          </a:t>
              </a:r>
              <a:r>
                <a:rPr b="1" lang="zh-CN" sz="2800" spc="-1" strike="noStrike">
                  <a:solidFill>
                    <a:srgbClr val="800080"/>
                  </a:solidFill>
                  <a:latin typeface="楷体_GB2312"/>
                  <a:ea typeface="楷体_GB2312"/>
                </a:rPr>
                <a:t>像                   。 </a:t>
              </a:r>
              <a:endParaRPr b="0" lang="en-US" sz="28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84" name="Line 10"/>
            <p:cNvSpPr/>
            <p:nvPr/>
          </p:nvSpPr>
          <p:spPr>
            <a:xfrm flipH="1">
              <a:off x="2437920" y="5029200"/>
              <a:ext cx="1295640" cy="0"/>
            </a:xfrm>
            <a:prstGeom prst="line">
              <a:avLst/>
            </a:prstGeom>
            <a:ln w="284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85" name="Line 11"/>
            <p:cNvSpPr/>
            <p:nvPr/>
          </p:nvSpPr>
          <p:spPr>
            <a:xfrm>
              <a:off x="4343400" y="5029200"/>
              <a:ext cx="3200400" cy="0"/>
            </a:xfrm>
            <a:prstGeom prst="line">
              <a:avLst/>
            </a:prstGeom>
            <a:ln w="284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pic>
        <p:nvPicPr>
          <p:cNvPr id="86" name="Picture 13" descr="D:\logo.gif"/>
          <p:cNvPicPr/>
          <p:nvPr/>
        </p:nvPicPr>
        <p:blipFill>
          <a:blip r:embed="rId2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Administrator\桌面\背景\小学语文(记叙文）06.gif"/>
          <p:cNvPicPr/>
          <p:nvPr/>
        </p:nvPicPr>
        <p:blipFill>
          <a:blip r:embed="rId1"/>
          <a:stretch/>
        </p:blipFill>
        <p:spPr>
          <a:xfrm>
            <a:off x="1219320" y="11732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2449440" y="2025720"/>
            <a:ext cx="4533480" cy="1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大自然里</a:t>
            </a:r>
            <a:r>
              <a:rPr b="0" lang="zh-CN" sz="28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清澈的湖水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干净的草地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碧蓝的天空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葱绿的森林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，这么美丽的景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色是不是仍然有人在破坏？你能想到什么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好办法来保护吗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3331800" y="4844880"/>
            <a:ext cx="297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以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文明，只差那么一点点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为主题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开展一次讨论会。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4083120" y="4006800"/>
            <a:ext cx="1563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试写一句</a:t>
            </a:r>
            <a:r>
              <a:rPr b="0" lang="zh-CN" sz="28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保护自然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的公益广告词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91" name="Picture 11" descr="D:\logo.gif"/>
          <p:cNvPicPr/>
          <p:nvPr/>
        </p:nvPicPr>
        <p:blipFill>
          <a:blip r:embed="rId7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F:\语文\清澈的湖水\湖水7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:\语文\清澈的湖水\草地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F:\语文\清澈的湖水\碧蓝的天空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Administrator\My Documents\My Pictures\05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F:\语文\清澈的湖水\保护自然.jpg">
            <a:hlinkClick r:id="rId1" action="ppaction://hlinksldjump"/>
          </p:cNvPr>
          <p:cNvPicPr/>
          <p:nvPr/>
        </p:nvPicPr>
        <p:blipFill>
          <a:blip r:embed="rId2"/>
          <a:srcRect l="14882" t="11061" r="5780" b="0"/>
          <a:stretch/>
        </p:blipFill>
        <p:spPr>
          <a:xfrm>
            <a:off x="1332000" y="1125360"/>
            <a:ext cx="6019560" cy="5042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D:\logo.gif"/>
          <p:cNvPicPr/>
          <p:nvPr/>
        </p:nvPicPr>
        <p:blipFill>
          <a:blip r:embed="rId3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8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1425-97BA-4360-832E-5332A8FC88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F:\语文\清澈的湖水\湖水7.jpg"/>
          <p:cNvPicPr/>
          <p:nvPr/>
        </p:nvPicPr>
        <p:blipFill>
          <a:blip r:embed="rId1"/>
          <a:srcRect l="0" t="0" r="0" b="444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F:\语文\清澈的湖水\湖水6.jpg"/>
          <p:cNvPicPr/>
          <p:nvPr/>
        </p:nvPicPr>
        <p:blipFill>
          <a:blip r:embed="rId2"/>
          <a:stretch/>
        </p:blipFill>
        <p:spPr>
          <a:xfrm>
            <a:off x="0" y="-131760"/>
            <a:ext cx="9144000" cy="6989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Administrator\桌面\背景\小学语文(记叙文）01.gif"/>
          <p:cNvPicPr/>
          <p:nvPr/>
        </p:nvPicPr>
        <p:blipFill>
          <a:blip r:embed="rId3"/>
          <a:stretch/>
        </p:blipFill>
        <p:spPr>
          <a:xfrm>
            <a:off x="1219320" y="1116000"/>
            <a:ext cx="2079360" cy="560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F:\语文\清澈的湖水\湖水1.jpg"/>
          <p:cNvPicPr/>
          <p:nvPr/>
        </p:nvPicPr>
        <p:blipFill>
          <a:blip r:embed="rId4"/>
          <a:stretch/>
        </p:blipFill>
        <p:spPr>
          <a:xfrm>
            <a:off x="0" y="380880"/>
            <a:ext cx="9144000" cy="5999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F:\语文\清澈的湖水\湖水2.jpg"/>
          <p:cNvPicPr/>
          <p:nvPr/>
        </p:nvPicPr>
        <p:blipFill>
          <a:blip r:embed="rId5"/>
          <a:stretch/>
        </p:blipFill>
        <p:spPr>
          <a:xfrm>
            <a:off x="0" y="76320"/>
            <a:ext cx="9144000" cy="6675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F:\语文\清澈的湖水\湖水3.jpg"/>
          <p:cNvPicPr/>
          <p:nvPr/>
        </p:nvPicPr>
        <p:blipFill>
          <a:blip r:embed="rId6"/>
          <a:srcRect l="0" t="0" r="0" b="20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F:\语文\清澈的湖水\湖水4.jpg"/>
          <p:cNvPicPr/>
          <p:nvPr/>
        </p:nvPicPr>
        <p:blipFill>
          <a:blip r:embed="rId7"/>
          <a:srcRect l="0" t="0" r="0" b="40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3"/>
          <p:cNvSpPr/>
          <p:nvPr/>
        </p:nvSpPr>
        <p:spPr>
          <a:xfrm>
            <a:off x="2286000" y="2286000"/>
            <a:ext cx="4419720" cy="2133720"/>
          </a:xfrm>
          <a:prstGeom prst="cloudCallout">
            <a:avLst>
              <a:gd name="adj1" fmla="val -31324"/>
              <a:gd name="adj2" fmla="val 79166"/>
            </a:avLst>
          </a:prstGeom>
          <a:solidFill>
            <a:srgbClr val="ffffff"/>
          </a:solidFill>
          <a:ln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说说你看了这些图片有什么样的感觉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Administrator\桌面\背景\小学语文(记叙文）02.gif"/>
          <p:cNvPicPr/>
          <p:nvPr/>
        </p:nvPicPr>
        <p:blipFill>
          <a:blip r:embed="rId1"/>
          <a:stretch/>
        </p:blipFill>
        <p:spPr>
          <a:xfrm>
            <a:off x="1219320" y="11732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2710440" y="1733400"/>
            <a:ext cx="382752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自由读课文，生字先自己拼读，并想一想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课文中的湖水是什么样的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讲了一个什么故事。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3" name="Picture 6" descr="C:\Documents and Settings\Administrator\桌面\129.jpg"/>
          <p:cNvPicPr/>
          <p:nvPr/>
        </p:nvPicPr>
        <p:blipFill>
          <a:blip r:embed="rId2"/>
          <a:stretch/>
        </p:blipFill>
        <p:spPr>
          <a:xfrm>
            <a:off x="1905120" y="2895480"/>
            <a:ext cx="5562360" cy="3559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D:\logo.gif"/>
          <p:cNvPicPr/>
          <p:nvPr/>
        </p:nvPicPr>
        <p:blipFill>
          <a:blip r:embed="rId3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1"/>
          <p:cNvSpPr/>
          <p:nvPr/>
        </p:nvSpPr>
        <p:spPr>
          <a:xfrm>
            <a:off x="154080" y="6308640"/>
            <a:ext cx="80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1644120" y="19051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读读写写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7" name="Picture 4" descr="C:\Documents and Settings\Administrator\桌面\背景\小学语文(记叙文）02.gif"/>
          <p:cNvPicPr/>
          <p:nvPr/>
        </p:nvPicPr>
        <p:blipFill>
          <a:blip r:embed="rId1"/>
          <a:stretch/>
        </p:blipFill>
        <p:spPr>
          <a:xfrm>
            <a:off x="1219320" y="11732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6"/>
          <p:cNvSpPr/>
          <p:nvPr/>
        </p:nvSpPr>
        <p:spPr>
          <a:xfrm>
            <a:off x="1424520" y="2743200"/>
            <a:ext cx="6585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侧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cè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）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卷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ju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à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）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欣赏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800080"/>
                </a:solidFill>
                <a:latin typeface="宋体"/>
              </a:rPr>
              <a:t>ī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n sh</a:t>
            </a:r>
            <a:r>
              <a:rPr b="1" lang="en-US" sz="2800" spc="-1" strike="noStrike">
                <a:solidFill>
                  <a:srgbClr val="80008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龟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800080"/>
                </a:solidFill>
                <a:latin typeface="宋体"/>
              </a:rPr>
              <a:t>ī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）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镜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jìn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）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映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yìn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幻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hu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à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演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80008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焦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ji</a:t>
            </a:r>
            <a:r>
              <a:rPr b="1" lang="en-US" sz="2800" spc="-1" strike="noStrike">
                <a:solidFill>
                  <a:srgbClr val="800080"/>
                </a:solidFill>
                <a:latin typeface="宋体"/>
              </a:rPr>
              <a:t>ā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）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仍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800080"/>
                </a:solidFill>
                <a:latin typeface="宋体"/>
              </a:rPr>
              <a:t>ē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）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跨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ku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à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9" name="Picture 17" descr="D:\logo.gif"/>
          <p:cNvPicPr/>
          <p:nvPr/>
        </p:nvPicPr>
        <p:blipFill>
          <a:blip r:embed="rId2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:\Documents and Settings\Administrator\桌面\背景\小学语文(记叙文）02.gif"/>
          <p:cNvPicPr/>
          <p:nvPr/>
        </p:nvPicPr>
        <p:blipFill>
          <a:blip r:embed="rId1"/>
          <a:stretch/>
        </p:blipFill>
        <p:spPr>
          <a:xfrm>
            <a:off x="1219320" y="11732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2112480" y="18288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写一写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2493360" y="2666880"/>
            <a:ext cx="446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失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sh</a:t>
            </a:r>
            <a:r>
              <a:rPr b="1" lang="en-US" sz="2800" spc="-1" strike="noStrike">
                <a:solidFill>
                  <a:srgbClr val="800080"/>
                </a:solidFill>
                <a:latin typeface="宋体"/>
              </a:rPr>
              <a:t>ī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去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扔掉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i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à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o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眼睛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80008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n j</a:t>
            </a:r>
            <a:r>
              <a:rPr b="1" lang="en-US" sz="2800" spc="-1" strike="noStrike">
                <a:solidFill>
                  <a:srgbClr val="800080"/>
                </a:solidFill>
                <a:latin typeface="宋体"/>
              </a:rPr>
              <a:t>ī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纸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zh</a:t>
            </a:r>
            <a:r>
              <a:rPr b="1" lang="en-US" sz="2800" spc="-1" strike="noStrike">
                <a:solidFill>
                  <a:srgbClr val="800080"/>
                </a:solidFill>
                <a:latin typeface="宋体"/>
              </a:rPr>
              <a:t>ǐ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条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游船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chu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á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睡觉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ji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à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觉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jué</a:t>
            </a:r>
            <a:r>
              <a:rPr b="1" lang="zh-CN" sz="2800" spc="-1" strike="noStrike">
                <a:solidFill>
                  <a:srgbClr val="80008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得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3" name="Picture 13" descr="D:\logo.gif"/>
          <p:cNvPicPr/>
          <p:nvPr/>
        </p:nvPicPr>
        <p:blipFill>
          <a:blip r:embed="rId2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F:\背景\小学语文(记叙文）03.gif"/>
          <p:cNvPicPr/>
          <p:nvPr/>
        </p:nvPicPr>
        <p:blipFill>
          <a:blip r:embed="rId1"/>
          <a:stretch/>
        </p:blipFill>
        <p:spPr>
          <a:xfrm>
            <a:off x="1219320" y="1116000"/>
            <a:ext cx="2079360" cy="5605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3679920" y="190512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正确、流利地逐段朗读课文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676520" y="2666880"/>
            <a:ext cx="655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小洁坐在游船上都看到了什么风景？你最喜欢哪些？选择自己喜欢的，多读几遍。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7" name="Picture 5" descr="D:\logo.gif"/>
          <p:cNvPicPr/>
          <p:nvPr/>
        </p:nvPicPr>
        <p:blipFill>
          <a:blip r:embed="rId2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6"/>
          <p:cNvSpPr/>
          <p:nvPr/>
        </p:nvSpPr>
        <p:spPr>
          <a:xfrm>
            <a:off x="2526480" y="1752480"/>
            <a:ext cx="410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小洁刚想把面包纸丢进水里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为什么又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紧紧纂着面包纸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？你体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会到了什么？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145600" y="3321000"/>
            <a:ext cx="453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“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觉得自己像在天上飞，又像在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水里游”，这是怎么回事？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613240" y="4572000"/>
            <a:ext cx="380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小洁回过头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满地看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了他一眼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又用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企盼的目光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望着湖水。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”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他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指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的是谁？小洁心里在想些什么？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1" name="Picture 9" descr="F:\背景\小学语文(记叙文）03.gif"/>
          <p:cNvPicPr/>
          <p:nvPr/>
        </p:nvPicPr>
        <p:blipFill>
          <a:blip r:embed="rId1"/>
          <a:stretch/>
        </p:blipFill>
        <p:spPr>
          <a:xfrm>
            <a:off x="1219320" y="1116000"/>
            <a:ext cx="2079360" cy="560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D:\logo.gif"/>
          <p:cNvPicPr/>
          <p:nvPr/>
        </p:nvPicPr>
        <p:blipFill>
          <a:blip r:embed="rId2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:\背景\小学语文(记叙文）03.gif"/>
          <p:cNvPicPr/>
          <p:nvPr/>
        </p:nvPicPr>
        <p:blipFill>
          <a:blip r:embed="rId1"/>
          <a:stretch/>
        </p:blipFill>
        <p:spPr>
          <a:xfrm>
            <a:off x="1219320" y="1116000"/>
            <a:ext cx="2079360" cy="5605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3953520" y="215568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忽然，她眼睛一亮，飞快地往前跑去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683800" y="3733920"/>
            <a:ext cx="3466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●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讨论，这句话是什么意思？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6" name="Picture 5" descr="D:\logo.gif"/>
          <p:cNvPicPr/>
          <p:nvPr/>
        </p:nvPicPr>
        <p:blipFill>
          <a:blip r:embed="rId2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2810880" y="2286000"/>
            <a:ext cx="3807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如果你是湖面的游船、水中的小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鱼或是岸边的景物，你的感受会怎样？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发挥你的想象，帮他们说出自己的心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里话。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8" name="Picture 5" descr="小学语文(记叙文）04"/>
          <p:cNvPicPr/>
          <p:nvPr/>
        </p:nvPicPr>
        <p:blipFill>
          <a:blip r:embed="rId1"/>
          <a:stretch/>
        </p:blipFill>
        <p:spPr>
          <a:xfrm>
            <a:off x="1295280" y="1069920"/>
            <a:ext cx="2079720" cy="606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logo"/>
          <p:cNvPicPr/>
          <p:nvPr/>
        </p:nvPicPr>
        <p:blipFill>
          <a:blip r:embed="rId2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2:41:56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6:01:17Z</dcterms:modified>
  <cp:revision>57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