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4CE-3443-4022-8BE6-6D058FC62C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B04-84FB-4CA7-9A04-60751EE710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2AC-E927-4906-BC16-B0F458F6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8AE-4998-495A-A578-E7699904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FF2-75BF-41D9-8CAD-DF3D637B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2FD-8279-4F8F-88FC-7335ADC6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6EF-0317-4D56-9A32-CA952A7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585-D979-441E-9B81-C907034E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506-6838-4BDA-9EA3-C62BA72C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CBD-E04D-44C2-8B99-0C3435B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4E0-0F84-4BC6-910A-0D756F7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727-41D9-48D6-AE7F-987B616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37C-B8F4-49AC-B6EF-06286B6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2C3-23BF-44A8-8F71-66AA4CE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311-EF41-4E52-BC8D-38A121396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E%F7%B9%CF&#892;&#428;&amp;in=4657&amp;cl=2&amp;lm=-1&amp;pn=1&amp;rn=1&amp;di=38742008580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.baidu.com/i?ct=503316480&amp;z=&amp;tn=baiduimagedetail&amp;word=%CC%D2%D7%D3&#892;&#428;&amp;in=9439&amp;cl=2&amp;lm=-1&amp;pn=0&amp;rn=1&amp;di=68463291990&amp;ln=2000&amp;fr=ala0&amp;fmq=&amp;ic=0&amp;s=0&amp;se=1&amp;sme=0&amp;tab=&amp;width=&amp;height=&amp;face=0&amp;is=&amp;istype=2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.baidu.com/i?ct=503316480&amp;z=&amp;tn=baiduimagedetail&amp;word=%C2%F3%D7%D3&#892;&#428;&amp;in=25103&amp;cl=2&amp;lm=-1&amp;pn=2&amp;rn=1&amp;di=22111558605&amp;ln=2000&amp;fr=ala0&amp;fmq=&amp;ic=0&amp;s=0&amp;se=1&amp;sme=0&amp;tab=&amp;width=&amp;height=&amp;face=0&amp;is=&amp;istype=2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image.baidu.com/i?ct=503316480&amp;z=&amp;tn=baiduimagedetail&amp;word=%C0%F5%D7%D3&#892;&#428;&amp;in=13064&amp;cl=2&amp;lm=-1&amp;pn=1&amp;rn=1&amp;di=24784427085&amp;ln=2000&amp;fr=ala0&amp;fmq=&amp;ic=0&amp;s=0&amp;se=1&amp;sme=0&amp;tab=&amp;width=&amp;height=&amp;face=0&amp;is=&amp;istype=2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image.baidu.com/i?ct=503316480&amp;z=&amp;tn=baiduimagedetail&amp;word=&#10810;%EF%CC%D2&#892;&#428;&amp;in=9828&amp;cl=2&amp;lm=-1&amp;pn=0&amp;rn=1&amp;di=15503961120&amp;ln=2000&amp;fr=ala0&amp;fmq=&amp;ic=0&amp;s=0&amp;se=1&amp;sme=0&amp;tab=&amp;width=&amp;height=&amp;face=0&amp;is=&amp;istype=2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image.baidu.com/i?ct=503316480&amp;z=&amp;tn=baiduimagedetail&amp;word=%B4%BA%CB%F1&#892;&#428;&amp;in=13786&amp;cl=2&amp;lm=-1&amp;pn=3&amp;rn=1&amp;di=71411133120&amp;ln=2000&amp;fr=ala0&amp;fmq=&amp;ic=0&amp;s=0&amp;se=1&amp;sme=0&amp;tab=&amp;width=&amp;height=&amp;face=0&amp;is=&amp;istype=2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image.baidu.com/i?ct=503316480&amp;z=&amp;tn=baiduimagedetail&amp;word=%BB%A8%C9%FA&#892;&#428;&amp;in=659&amp;cl=2&amp;lm=-1&amp;pn=0&amp;rn=1&amp;di=38631505500&amp;ln=2000&amp;fr=&amp;fmq=&amp;ic=&amp;s=&amp;se=&amp;sme=0&amp;tab=&amp;width=&amp;height=&amp;face=&amp;is=&amp;istype=" TargetMode="External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F&#701;&#1785;%A3&#892;&#428;&amp;in=18091&amp;cl=2&amp;lm=-1&amp;pn=10&amp;rn=1&amp;di=64769295660&amp;ln=2000&amp;fr=ala0&amp;fmq=&amp;ic=0&amp;s=0&amp;se=1&amp;sme=0&amp;tab=&amp;width=&amp;height=&amp;face=0&amp;is=&amp;istype=2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.baidu.com/i?ct=503316480&amp;z=&amp;tn=baiduimagedetail&amp;word=%BA%CB%CC%D2&#892;&#428;&amp;in=16856&amp;cl=2&amp;lm=-1&amp;pn=0&amp;rn=1&amp;di=32781539325&amp;ln=2000&amp;fr=ala0&amp;fmq=&amp;ic=0&amp;s=0&amp;se=1&amp;sme=0&amp;tab=&amp;width=&amp;height=&amp;face=0&amp;is=&amp;istype=2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.baidu.com/i?ct=503316480&amp;z=&amp;tn=baiduimagedetail&amp;word=%D4%E6&#892;&#428;&amp;in=16888&amp;cl=2&amp;lm=-1&amp;pn=1&amp;rn=1&amp;di=43097548725&amp;ln=2000&amp;fr=ala0&amp;fmq=&amp;ic=0&amp;s=0&amp;se=1&amp;sme=0&amp;tab=&amp;width=&amp;height=&amp;face=0&amp;is=&amp;istype=2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.baidu.com/i?ct=503316480&amp;z=&amp;tn=baiduimagedetail&amp;word=%C2&#1842;%B7&#892;&#428;&amp;in=22984&amp;cl=2&amp;lm=-1&amp;pn=2&amp;rn=1&amp;di=41231907495&amp;ln=2000&amp;fr=ala0&amp;fmq=&amp;ic=0&amp;s=0&amp;se=1&amp;sme=0&amp;tab=&amp;width=&amp;height=&amp;face=0&amp;is=&amp;istype=2" TargetMode="External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hyperlink" Target="http://image.baidu.com/i?ct=503316480&amp;z=&amp;tn=baiduimagedetail&amp;word=%C0%F3&#1446;&#892;&#428;&amp;in=22447&amp;cl=2&amp;lm=-1&amp;pn=0&amp;rn=1&amp;di=65263966470&amp;ln=2000&amp;fr=ala0&amp;fmq=&amp;ic=0&amp;s=0&amp;se=1&amp;sme=0&amp;tab=&amp;width=&amp;height=&amp;face=0&amp;is=&amp;istype=2" TargetMode="External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440" y="441936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年级上册品德与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0932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图片1"/>
          <p:cNvPicPr/>
          <p:nvPr/>
        </p:nvPicPr>
        <p:blipFill>
          <a:blip r:embed="rId1"/>
          <a:stretch/>
        </p:blipFill>
        <p:spPr>
          <a:xfrm>
            <a:off x="457200" y="106668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2"/>
          <p:cNvPicPr/>
          <p:nvPr/>
        </p:nvPicPr>
        <p:blipFill>
          <a:blip r:embed="rId2"/>
          <a:stretch/>
        </p:blipFill>
        <p:spPr>
          <a:xfrm>
            <a:off x="3962520" y="990720"/>
            <a:ext cx="26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92050db8412cd2c6227982a"/>
          <p:cNvPicPr/>
          <p:nvPr/>
        </p:nvPicPr>
        <p:blipFill>
          <a:blip r:embed="rId1"/>
          <a:stretch/>
        </p:blipFill>
        <p:spPr>
          <a:xfrm>
            <a:off x="0" y="152280"/>
            <a:ext cx="4648320" cy="303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bb32ef28e89d5cd599250aa7"/>
          <p:cNvPicPr/>
          <p:nvPr/>
        </p:nvPicPr>
        <p:blipFill>
          <a:blip r:embed="rId2"/>
          <a:stretch/>
        </p:blipFill>
        <p:spPr>
          <a:xfrm>
            <a:off x="4952880" y="1143000"/>
            <a:ext cx="419112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pic_20071116181444_b1f25f6d-7f61-4b8e-8417-e94795c5d1e4"/>
          <p:cNvPicPr/>
          <p:nvPr/>
        </p:nvPicPr>
        <p:blipFill>
          <a:blip r:embed="rId3"/>
          <a:stretch/>
        </p:blipFill>
        <p:spPr>
          <a:xfrm>
            <a:off x="152280" y="335268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知道秋天还有哪些 果实也成熟了吗？你     有没有亲自采摘过这些果实？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u=534761922,2893685422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216216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u=1453006191,97509550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28600"/>
            <a:ext cx="209556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u=1022750370,2957017536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3049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u=3695404343,3532063321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u=760182567,970334109&amp;fm=0&amp;gp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29718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u=1172396346,2580039599&amp;fm=0&amp;gp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2971800"/>
            <a:ext cx="213336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u=2786643542,3606666012&amp;fm=0&amp;gp=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2971800"/>
            <a:ext cx="2590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u=4194163859,1089921764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u=3343623300,266607640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80880"/>
            <a:ext cx="213336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u=1024796311,3420313436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971800"/>
            <a:ext cx="220968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u=809806833,1392446393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2971800"/>
            <a:ext cx="198144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jingzhishuiguo1_016"/>
          <p:cNvPicPr/>
          <p:nvPr/>
        </p:nvPicPr>
        <p:blipFill>
          <a:blip r:embed="rId9"/>
          <a:stretch/>
        </p:blipFill>
        <p:spPr>
          <a:xfrm>
            <a:off x="4572000" y="2895480"/>
            <a:ext cx="228600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2533196_154402574519_2[2]"/>
          <p:cNvPicPr/>
          <p:nvPr/>
        </p:nvPicPr>
        <p:blipFill>
          <a:blip r:embed="rId10"/>
          <a:stretch/>
        </p:blipFill>
        <p:spPr>
          <a:xfrm>
            <a:off x="6603840" y="228600"/>
            <a:ext cx="254016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u=471943045,58334466&amp;fm=0&amp;gp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10280" y="27432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给果实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蔬菜类：萝卜、白菜、土豆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果类：苹果、桔子、柿子、枣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粮食类：玉米、稻子、地瓜、大豆、高粱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干果类：核桃、栗子、花生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智勇大冲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谁能说出秋天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两种粮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三种蔬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四种水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62481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些形状各异、颜色不同、味道香甜的果实摆在我们面前，你想到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小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盘子中剩了很多饭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小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盘子中的饭菜吃得非常干净，   桌子上却撒了一些饭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 flipH="1" flipV="1" rot="2440200">
            <a:off x="2819520" y="2971800"/>
            <a:ext cx="2797200" cy="2007720"/>
          </a:xfrm>
          <a:prstGeom prst="cloudCallout">
            <a:avLst>
              <a:gd name="adj1" fmla="val -92055"/>
              <a:gd name="adj2" fmla="val 2775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688800">
            <a:off x="3089520" y="343224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们做的对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240" y="19047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一起来读一首儿歌，听听儿歌中是怎样说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们知道是什么季节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姐姐带着礼物悄悄来到了我们身边，你们想不想知道她给我们带来的是什么礼物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008522141457994_2"/>
          <p:cNvPicPr/>
          <p:nvPr/>
        </p:nvPicPr>
        <p:blipFill>
          <a:blip r:embed="rId1"/>
          <a:stretch/>
        </p:blipFill>
        <p:spPr>
          <a:xfrm>
            <a:off x="5334120" y="762120"/>
            <a:ext cx="3124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收获的季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4479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香喷喷的米饭哪里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花花的大米做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花花的大米哪里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金灿灿的稻谷拖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金灿灿的稻谷哪里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农民伯伯种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粒稻谷一滴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爱惜粮食理应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还会哪些关于爱惜粮食的诗歌，给大家朗诵一下。秋天是收获的季节，我们不要忘记这丰收的果实是农民们辛勤的汗水浇灌出来的。让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声朗读一遍这首儿歌，来结束我们这节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936720" y="401004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990720" y="1600200"/>
            <a:ext cx="62481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同学们再见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215-9617-4612-920D-7780008D4F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7e4dd506af75c523a2935b3"/>
          <p:cNvPicPr/>
          <p:nvPr/>
        </p:nvPicPr>
        <p:blipFill>
          <a:blip r:embed="rId1"/>
          <a:stretch/>
        </p:blipFill>
        <p:spPr>
          <a:xfrm>
            <a:off x="-14400" y="69840"/>
            <a:ext cx="4687920" cy="472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7079901b752e1eb267fb556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3301920" y="-1554120"/>
            <a:ext cx="25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273117975bbWfPYqZ"/>
          <p:cNvPicPr/>
          <p:nvPr/>
        </p:nvPicPr>
        <p:blipFill>
          <a:blip r:embed="rId1"/>
          <a:stretch/>
        </p:blipFill>
        <p:spPr>
          <a:xfrm>
            <a:off x="152280" y="304920"/>
            <a:ext cx="5791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些都是秋季收获的果实，秋季还有哪些果实也成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1600200" y="1676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9175113"/>
          <p:cNvPicPr/>
          <p:nvPr/>
        </p:nvPicPr>
        <p:blipFill>
          <a:blip r:embed="rId1"/>
          <a:stretch/>
        </p:blipFill>
        <p:spPr>
          <a:xfrm rot="21087600">
            <a:off x="304560" y="685440"/>
            <a:ext cx="5238720" cy="39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xin_120906271124156077871"/>
          <p:cNvPicPr/>
          <p:nvPr/>
        </p:nvPicPr>
        <p:blipFill>
          <a:blip r:embed="rId2"/>
          <a:stretch/>
        </p:blipFill>
        <p:spPr>
          <a:xfrm>
            <a:off x="5105520" y="2209680"/>
            <a:ext cx="3809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U149P4T8D1424068F107DT20081024101539"/>
          <p:cNvPicPr/>
          <p:nvPr/>
        </p:nvPicPr>
        <p:blipFill>
          <a:blip r:embed="rId1"/>
          <a:stretch/>
        </p:blipFill>
        <p:spPr>
          <a:xfrm>
            <a:off x="0" y="0"/>
            <a:ext cx="6350040" cy="425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20070929123530285"/>
          <p:cNvPicPr/>
          <p:nvPr/>
        </p:nvPicPr>
        <p:blipFill>
          <a:blip r:embed="rId2"/>
          <a:stretch/>
        </p:blipFill>
        <p:spPr>
          <a:xfrm>
            <a:off x="4114800" y="320040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dc0e6c5cf5348d138db4937"/>
          <p:cNvPicPr/>
          <p:nvPr/>
        </p:nvPicPr>
        <p:blipFill>
          <a:blip r:embed="rId1"/>
          <a:stretch/>
        </p:blipFill>
        <p:spPr>
          <a:xfrm>
            <a:off x="152280" y="228600"/>
            <a:ext cx="4876920" cy="441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3525627_113822014626_2[1]"/>
          <p:cNvPicPr/>
          <p:nvPr/>
        </p:nvPicPr>
        <p:blipFill>
          <a:blip r:embed="rId2"/>
          <a:stretch/>
        </p:blipFill>
        <p:spPr>
          <a:xfrm>
            <a:off x="4267080" y="2514600"/>
            <a:ext cx="36576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5b41fa037a7676b0e850cd5c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00105cd2f3c60e6ef7a025"/>
          <p:cNvPicPr/>
          <p:nvPr/>
        </p:nvPicPr>
        <p:blipFill>
          <a:blip r:embed="rId2"/>
          <a:stretch/>
        </p:blipFill>
        <p:spPr>
          <a:xfrm>
            <a:off x="3886200" y="266688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34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22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