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844-DEA6-46AF-8A00-80B55F2FD7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D96-3284-42B9-8F40-F3B0A1EAE9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751-E6A8-450A-B425-2E7B5AB1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4E0-CDF7-48E9-B612-72293352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70DF3-769C-404C-B548-33E5C171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75D61-2259-4BC8-8627-9246280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4BC61-6C72-42D8-91D9-7F735569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BB1C3-AB58-4F6F-9591-729A030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490C1-73D5-4457-B300-430282A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6FB66-C561-4908-B97E-10549E83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8D803-4C80-4015-B22F-7929553D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81F4B-40D0-446D-BB64-9F4F0AA7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9B436-6221-4982-AD17-F9DB4BDB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6D59E-D133-4431-802C-1FB0C09F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565-3333-4E7F-BA53-FB945BC4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2F3F3-1C3D-4575-95B7-3C7D5E9B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BD62C-68D8-4708-ADB3-D952F6A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2A984-9A69-4AB0-B246-B41856CA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5ED45-00DF-4243-995D-D3BEFBF2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D97C1-54C3-4206-8604-A6312B83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8CEE2-0BE2-44DC-8F79-FE50F82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4B6CB-5A6D-40B7-85FE-3E7CD263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F7537-E080-48A5-8998-20C059A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72E66-4EBF-47A3-BBD5-35DC3047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95892-04EF-4FCC-B198-8DF4A8B5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5C7-76F7-49C4-B1D0-F4220342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8CB26-14AC-4370-8F49-4BEEEEDC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71E98-9B24-4940-8CDF-83F8E080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693F2-7864-4457-94E0-4EDBC6F7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5B952-44AF-4147-9722-E90FC225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A11CC-4FE2-4B55-A251-710310E1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E3243-4A77-4B4C-A0CD-06390423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18DEC-6024-43A8-AD7D-9534DE0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11119-67B2-4CFD-A82C-CEE4FE1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C5986-9395-4784-A758-979B6DE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04E9D-0713-4811-BA0C-F1290B7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12E7-9783-488C-83CC-694EEB04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EAF6D-5716-413D-A044-E759620A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8E637-E765-459E-9014-FCF5A78B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ED18-C4B4-49D2-9B3B-3960AF42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904AF-1D5E-4930-9C28-E9FA78FE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747B3-EAFF-47A3-A32A-43FE0C8D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EAE18-4940-4D7D-8750-16B0FEBA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2026C-9EE8-4605-86F9-9711C25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47379-F413-4E11-8E1C-250BF6EF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D63CA-F0F8-4EEA-8BEC-C859D890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BCC51-D8AC-4F8A-876F-73D1BC8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26DA-7EAF-4AB8-91D4-07D246A8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DD757-F336-4DAA-A87F-9A9365D7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09C95-03CA-4215-B1E8-D6F61EE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85358-C0D1-4268-AE98-5BBB2D07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67A3F-F19D-4292-A098-AA430C9F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EA377-4352-44A0-A876-0B192832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B032B-C5E9-4C0B-9E64-8F85A0CF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3B107-A81C-443F-BE25-F4A7D5EE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BD61F-6AFF-45D5-8AD6-0A4FA57C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6F028-66E5-42D1-AACA-602A337A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B8F43-6C27-41C6-A023-F93504A2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570-E670-452B-B374-1F8E651D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7266C-37B1-48BE-9242-90C5376C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ADCEC-AE48-432A-A6D9-FAF81AB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2DA44-27D7-4908-8517-71B5F57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96381-84AE-4298-8D6A-3FCCC70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ECE79-B777-4324-8CF7-7CD3C27D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BCA9A-1F3A-442C-9710-9555E252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F8F2E-7D58-4F2A-9D17-37E8A610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8D636-EC75-43E9-A9FE-FB23686B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A86E4-9DD2-464A-A52D-5A57A257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668A9-6730-471D-B8EC-F2400AA9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55D2-F697-4859-ACC5-4C0EF04F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6F54A-0A74-46E4-8D2F-944E00DA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2A754-01F4-4186-B2A0-E26BA74E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DC6CF-164A-4285-903D-3E616EFA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9FF65-B7E9-4807-A82A-BE7CFC0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492A5-F0A6-4424-9778-97005DF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B54CB-1AB2-4CDA-9FC9-CD333C7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5E405-63C0-4203-B112-3E2AEA3A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D4A6A-BE4F-44E7-8493-55FBD85D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6DF32-EE51-4379-9813-7B4F96FA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EAC7-4CB5-4CD6-84BC-35ADD24B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5FD0-1CFF-4B5E-BD25-46718C0A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9E55-42A3-4BB6-9027-81BB7FF6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1DA-B2F1-4DB6-BBFF-30BB9F86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7999-2DF1-4F10-AC65-51B12DB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1FCC-D4A3-4F90-981F-114D6C2A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4CA2-04C4-4D3D-AEDE-8E5A04E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EF79-CDF6-4B16-80D4-30B89434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AB95-8517-4F86-81B0-E22A9D77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E019-8D7D-4F88-9C66-6FDED9DF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3725-E259-40B7-9CD6-CB5EB5B9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866C-31AF-4338-9743-456075B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4DDD-65D8-4902-B693-4EDE15F0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C1B4-8FAF-4757-918E-0AAB5F40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896-424F-4D9A-9B53-EA99058C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9479-4F72-4F16-BC6F-BFFCFBC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4088-F056-440F-BF32-080CB70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BFC1-74E4-48FD-8B97-B9FC6E8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93D6-3E2F-4858-B061-19A6289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A71C-0723-4076-9030-15E5E9E4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43DF-B505-4129-98FF-6A76885D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AED4-91BA-463F-9689-ECD7759F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73394-1C85-4C01-89CC-A80C22B7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81AE-82B6-403E-BE41-5DDCCF66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B868-93BA-48AE-A98A-163DC92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860-A4FC-41E4-A662-A8C0B8BD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439B-E1D7-4376-9B0B-2818BAF5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E99D-E146-4683-9FF6-C819D4EB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EB8E-8BB5-485D-84B4-AC9FC09E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994F-7091-4ECA-B38C-F19133A8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7F14-A1FA-4B83-BB87-50521A8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2631B-2920-4AFA-9790-FA19C193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A987-CA3E-4877-9AE4-0370E8C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F539-46EA-4690-B0FF-99B5A140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2FAC-C54D-422D-B837-18BF197B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BB96-C6CD-4FA2-BAC2-57FD28B9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CBC-929A-4611-AA94-8FA9866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7327-C135-4362-A35D-4148408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301D3-53DB-4CE4-A564-919B387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4F91-1DAC-435D-A2C1-D88A9CB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26AE9-57A6-42F1-A708-26E49955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4750-1DDD-403E-AF47-5A94CCF2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B2D1-11EF-4E4E-B0E5-9D5A6EAA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17DC-0731-4D30-97EB-4BFCDBE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93CBF-78F8-4F95-BF1C-58BF414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3250-F8EC-4E20-ABBF-614D8C48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EA87-28AA-4106-B24C-D975104B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6AC-EDDA-4B56-A0D4-F610B027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18BE-5B21-4DF8-9C83-55B35669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2FA89-B9C8-42D2-AF86-737316F1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E118D-A711-4B4A-B346-686C1E1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9513C-A337-49D6-9792-6A1466BC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5EED-2BB5-429E-85B0-0DABAAF1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8B4A-F148-4A3B-B5CA-65487796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5FD8A-53A3-4750-9B54-5EB8087E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ADD1D-0C1D-48AA-B14D-29AA062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CCC7-E566-499D-9D0A-ADC48E65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711CC-7ED2-4194-87BC-15FD920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700-628B-4E96-81C7-AF7A670E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25FA7-5BE5-4CAA-84F3-556233D2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EEBD-8FA8-424F-BFA7-E38D3667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4E5C-5D59-457B-97AC-B539B14A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224B6-7DEC-44E7-81D2-E6E8828E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5C41D-9A45-4B4B-9421-144802F7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21DBA-AFDF-44A3-9D3A-B1585708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BB75B-F603-4734-9FDF-C9A7EEEA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6CE8-0B7E-4ABA-AFA6-903F867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F5286-3743-4D4D-AEDF-AFD0D11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A475-A41E-48A4-9267-B43E963C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B26-6C3D-46AF-8DAB-21530F14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7515-F513-4BFD-AA20-98F82EB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4CEA-8643-4F20-8FB7-4C82E52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85D5-D241-427B-8E18-16F2E064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24E7E-FE68-4A74-98E7-2CF4F378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1D3C-ADE0-4847-BD4D-352DD805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73D76-3419-4CAD-94E2-2DE0E15B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D503B-DCFF-45FD-8266-279286C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26D0A-0C2E-42AC-B352-3DAE3128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6A881-0D6B-4323-9A55-CFFC053C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4E505-8A73-41D8-A952-4EA22D7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8A2-5356-43AA-BA5C-043AB7C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22797-9D56-46EC-8718-A4B44A3F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4AAA-1CF8-4E91-AF7B-28955C9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F465-0C6C-412E-A511-F1996C6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BBC8-487E-4382-B174-41FE309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40F1-121C-4D74-A909-605576EC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43A3F-0D72-4175-9967-F1030231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D647-FF1F-48A9-B0F0-076D49EB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38B20-74F0-4611-AFBC-099AA2B2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9D5A5-B1E5-4064-BCD6-E94BB843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8D68B-C5AC-466D-A471-F0C8182B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9A22-0A5F-40CC-B457-0FB37A75A69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6616-6358-4654-B89F-B5B7E25B54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65E-3450-44AE-B662-93090A0FFE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451E-D3F0-43E8-9F30-7B0A3F5D36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6A1-5DD9-4ACC-9AB0-4B5DF6FDD06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C1A7-C3A5-4D2B-A29F-5CE3B08359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E1C-A0FF-41DF-A4C4-0C4F9A5E13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5231-E52D-466C-81F2-F2E3026471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0A2-E537-4162-AEE7-4390434BCBF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5C7A-4F22-4538-9298-5836D55FDD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BDA-5069-4DC8-A3CB-C0D4D321EAD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4ADF-F1C9-4C0D-BC7A-EB9833C09921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8CC6-D332-4AC5-866A-A86D9314D6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DDA6-04E1-4D81-80F8-2428BFAFF5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A95C-790C-401A-B8B6-1684FA11D56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A2CF-E247-4DB8-A37C-F4A9C26EFB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98E7-AF90-4167-A5F0-7B726479DB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B12F-DE8F-42B1-AD8B-2D0073C29C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F8CF-8580-4E20-BD7B-C13C2BA23E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C297-3D45-480A-824A-628D5BEDAA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8840-FCD9-4B21-A7AA-E08C0AAA26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9694-F435-49E2-934F-8AA8AF01F7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AB66-A21E-47B2-8531-3B5CBB39C6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290F-3F8B-4B47-8935-D26335D7C9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F2E-AE93-4A20-A140-087867CC73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61B-966C-47DF-8D25-330B96F98A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184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ef9f4"/>
                </a:solidFill>
                <a:latin typeface="微软雅黑"/>
                <a:ea typeface="微软雅黑"/>
              </a:rPr>
              <a:t>第</a:t>
            </a:r>
            <a:r>
              <a:rPr b="1" lang="zh-CN" sz="8000" spc="-1" strike="noStrike">
                <a:solidFill>
                  <a:srgbClr val="eef9f4"/>
                </a:solidFill>
                <a:latin typeface="微软雅黑"/>
                <a:ea typeface="微软雅黑"/>
              </a:rPr>
              <a:t>7</a:t>
            </a:r>
            <a:r>
              <a:rPr b="1" lang="zh-CN" sz="8000" spc="-1" strike="noStrike">
                <a:solidFill>
                  <a:srgbClr val="eef9f4"/>
                </a:solidFill>
                <a:latin typeface="微软雅黑"/>
                <a:ea typeface="微软雅黑"/>
              </a:rPr>
              <a:t>课  秋游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1403280" y="765000"/>
            <a:ext cx="61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f9f4"/>
                </a:solidFill>
                <a:latin typeface="华文中宋"/>
                <a:ea typeface="华文中宋"/>
              </a:rPr>
              <a:t>第二单元  金色的秋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5"/>
          <p:cNvSpPr/>
          <p:nvPr/>
        </p:nvSpPr>
        <p:spPr>
          <a:xfrm>
            <a:off x="184572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F93E-7356-4821-BE0C-ECB55AEE676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方正大黑简体"/>
              </a:rPr>
              <a:t>二、小组合作，交流展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4402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方正剪纸简体"/>
              </a:rPr>
              <a:t>确定秋游地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4" descr="7b7c5aa8e711074446582733e7667ebf"/>
          <p:cNvPicPr/>
          <p:nvPr/>
        </p:nvPicPr>
        <p:blipFill>
          <a:blip r:embed="rId1"/>
          <a:stretch/>
        </p:blipFill>
        <p:spPr>
          <a:xfrm>
            <a:off x="900000" y="242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73dcd9784fe846b68ae7a0d81bb62caf"/>
          <p:cNvPicPr/>
          <p:nvPr/>
        </p:nvPicPr>
        <p:blipFill>
          <a:blip r:embed="rId2"/>
          <a:stretch/>
        </p:blipFill>
        <p:spPr>
          <a:xfrm>
            <a:off x="1258920" y="2637000"/>
            <a:ext cx="3744720" cy="2608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" descr="124629BWT110-L5952"/>
          <p:cNvPicPr/>
          <p:nvPr/>
        </p:nvPicPr>
        <p:blipFill>
          <a:blip r:embed="rId3"/>
          <a:stretch/>
        </p:blipFill>
        <p:spPr>
          <a:xfrm>
            <a:off x="2050920" y="278136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20058259580605"/>
          <p:cNvPicPr/>
          <p:nvPr/>
        </p:nvPicPr>
        <p:blipFill>
          <a:blip r:embed="rId4"/>
          <a:stretch/>
        </p:blipFill>
        <p:spPr>
          <a:xfrm>
            <a:off x="2771640" y="3141720"/>
            <a:ext cx="3672000" cy="31258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8" descr="201010281332193757"/>
          <p:cNvPicPr/>
          <p:nvPr/>
        </p:nvPicPr>
        <p:blipFill>
          <a:blip r:embed="rId5"/>
          <a:stretch/>
        </p:blipFill>
        <p:spPr>
          <a:xfrm>
            <a:off x="3203640" y="2781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9" descr="01300000030421119414675670275"/>
          <p:cNvPicPr/>
          <p:nvPr/>
        </p:nvPicPr>
        <p:blipFill>
          <a:blip r:embed="rId6"/>
          <a:stretch/>
        </p:blipFill>
        <p:spPr>
          <a:xfrm>
            <a:off x="3780000" y="263700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0" descr="m201012131457091"/>
          <p:cNvPicPr/>
          <p:nvPr/>
        </p:nvPicPr>
        <p:blipFill>
          <a:blip r:embed="rId7"/>
          <a:stretch/>
        </p:blipFill>
        <p:spPr>
          <a:xfrm>
            <a:off x="4356000" y="2205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" descr="u=383773776,488055900&amp;fm=21&amp;gp=0"/>
          <p:cNvPicPr/>
          <p:nvPr/>
        </p:nvPicPr>
        <p:blipFill>
          <a:blip r:embed="rId8"/>
          <a:stretch/>
        </p:blipFill>
        <p:spPr>
          <a:xfrm>
            <a:off x="2771640" y="2349360"/>
            <a:ext cx="53294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小组合作，交流展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53960" y="1484280"/>
            <a:ext cx="382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剪纸简体"/>
              </a:rPr>
              <a:t>确定秋游带的物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669960" y="2997360"/>
          <a:ext cx="7280280" cy="3230280"/>
        </p:xfrm>
        <a:graphic>
          <a:graphicData uri="http://schemas.openxmlformats.org/drawingml/2006/table">
            <a:tbl>
              <a:tblPr/>
              <a:tblGrid>
                <a:gridCol w="2340000"/>
                <a:gridCol w="494028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方正剪纸简体"/>
                        </a:rPr>
                        <a:t>秋游景点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方正剪纸简体"/>
                        </a:rPr>
                        <a:t>穿的衣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方正剪纸简体"/>
                        </a:rPr>
                        <a:t>食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方正剪纸简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3" name="Text Box 35"/>
          <p:cNvSpPr/>
          <p:nvPr/>
        </p:nvSpPr>
        <p:spPr>
          <a:xfrm>
            <a:off x="1604880" y="229536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Arial"/>
                <a:ea typeface="方正剪纸简体"/>
              </a:rPr>
              <a:t>出行必备物品（可写，可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方正大黑简体"/>
              </a:rPr>
              <a:t>小组合作，交流展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方正剪纸简体"/>
              </a:rPr>
              <a:t>秋游注意事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剪纸简体"/>
              </a:rPr>
              <a:t>我们准备好了行囊，向秋游地点出发。为了让自己的秋游更加安全和快乐，想一想，我们秋游时还应注意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026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42"/>
          <p:cNvGrpSpPr/>
          <p:nvPr/>
        </p:nvGrpSpPr>
        <p:grpSpPr>
          <a:xfrm>
            <a:off x="1600200" y="1676520"/>
            <a:ext cx="5943600" cy="4679640"/>
            <a:chOff x="1600200" y="1676520"/>
            <a:chExt cx="5943600" cy="4679640"/>
          </a:xfrm>
        </p:grpSpPr>
        <p:pic>
          <p:nvPicPr>
            <p:cNvPr id="638" name="Picture 1040" descr="46-4"/>
            <p:cNvPicPr/>
            <p:nvPr/>
          </p:nvPicPr>
          <p:blipFill>
            <a:blip r:embed="rId2"/>
            <a:stretch/>
          </p:blipFill>
          <p:spPr>
            <a:xfrm>
              <a:off x="1600200" y="1676520"/>
              <a:ext cx="594360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1041"/>
            <p:cNvSpPr/>
            <p:nvPr/>
          </p:nvSpPr>
          <p:spPr>
            <a:xfrm>
              <a:off x="3053160" y="583560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游戏时怎样防止丢失和掉队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1043"/>
          <p:cNvSpPr/>
          <p:nvPr/>
        </p:nvSpPr>
        <p:spPr>
          <a:xfrm>
            <a:off x="1905120" y="1600200"/>
            <a:ext cx="5486400" cy="4724280"/>
          </a:xfrm>
          <a:prstGeom prst="rect">
            <a:avLst/>
          </a:prstGeom>
          <a:solidFill>
            <a:srgbClr val="ffdddd"/>
          </a:solidFill>
          <a:ln w="76320">
            <a:solidFill>
              <a:srgbClr val="ff9b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游玩是要和集体一起走，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单独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由活动时，要按照指定的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围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到集合令时，要迅速集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一丢失，要找管理处请求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6"/>
          <p:cNvGrpSpPr/>
          <p:nvPr/>
        </p:nvGrpSpPr>
        <p:grpSpPr>
          <a:xfrm>
            <a:off x="1839960" y="1676520"/>
            <a:ext cx="5791320" cy="4446360"/>
            <a:chOff x="1839960" y="1676520"/>
            <a:chExt cx="5791320" cy="4446360"/>
          </a:xfrm>
        </p:grpSpPr>
        <p:pic>
          <p:nvPicPr>
            <p:cNvPr id="643" name="Picture 12" descr="46-5"/>
            <p:cNvPicPr/>
            <p:nvPr/>
          </p:nvPicPr>
          <p:blipFill>
            <a:blip r:embed="rId2"/>
            <a:stretch/>
          </p:blipFill>
          <p:spPr>
            <a:xfrm>
              <a:off x="1839960" y="1676520"/>
              <a:ext cx="5791320" cy="39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15"/>
            <p:cNvSpPr/>
            <p:nvPr/>
          </p:nvSpPr>
          <p:spPr>
            <a:xfrm>
              <a:off x="2727000" y="5602320"/>
              <a:ext cx="423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家游玩时，怎样做到互相关心和帮助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17"/>
          <p:cNvSpPr/>
          <p:nvPr/>
        </p:nvSpPr>
        <p:spPr>
          <a:xfrm>
            <a:off x="2133720" y="1905120"/>
            <a:ext cx="5257800" cy="3809880"/>
          </a:xfrm>
          <a:prstGeom prst="rect">
            <a:avLst/>
          </a:prstGeom>
          <a:solidFill>
            <a:srgbClr val="ffdddd"/>
          </a:solidFill>
          <a:ln w="76320">
            <a:solidFill>
              <a:srgbClr val="ff9b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爬山时，帮助有困难的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走时，大家互相提醒，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止走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缺水或其它东西，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0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647" name="Group 12"/>
          <p:cNvGrpSpPr/>
          <p:nvPr/>
        </p:nvGrpSpPr>
        <p:grpSpPr>
          <a:xfrm>
            <a:off x="1905120" y="1676520"/>
            <a:ext cx="5029200" cy="4603320"/>
            <a:chOff x="1905120" y="1676520"/>
            <a:chExt cx="5029200" cy="4603320"/>
          </a:xfrm>
        </p:grpSpPr>
        <p:pic>
          <p:nvPicPr>
            <p:cNvPr id="648" name="Picture 9" descr="46-6"/>
            <p:cNvPicPr/>
            <p:nvPr/>
          </p:nvPicPr>
          <p:blipFill>
            <a:blip r:embed="rId2"/>
            <a:stretch/>
          </p:blipFill>
          <p:spPr>
            <a:xfrm>
              <a:off x="1905120" y="1676520"/>
              <a:ext cx="5029200" cy="40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11"/>
            <p:cNvSpPr/>
            <p:nvPr/>
          </p:nvSpPr>
          <p:spPr>
            <a:xfrm>
              <a:off x="3274560" y="57592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样保护旅游点的环境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13"/>
          <p:cNvSpPr/>
          <p:nvPr/>
        </p:nvSpPr>
        <p:spPr>
          <a:xfrm>
            <a:off x="2133720" y="1981080"/>
            <a:ext cx="5029200" cy="3810240"/>
          </a:xfrm>
          <a:prstGeom prst="rect">
            <a:avLst/>
          </a:prstGeom>
          <a:solidFill>
            <a:srgbClr val="ffdddd"/>
          </a:solidFill>
          <a:ln w="76320">
            <a:solidFill>
              <a:srgbClr val="ff9b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随便摘树叶和花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随地吐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乱扔垃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踏草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1"/>
          <p:cNvSpPr/>
          <p:nvPr/>
        </p:nvSpPr>
        <p:spPr>
          <a:xfrm>
            <a:off x="950760" y="49320"/>
            <a:ext cx="55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5"/>
          <p:cNvGrpSpPr/>
          <p:nvPr/>
        </p:nvGrpSpPr>
        <p:grpSpPr>
          <a:xfrm>
            <a:off x="2209680" y="1676520"/>
            <a:ext cx="4876920" cy="4635360"/>
            <a:chOff x="2209680" y="1676520"/>
            <a:chExt cx="4876920" cy="4635360"/>
          </a:xfrm>
        </p:grpSpPr>
        <p:pic>
          <p:nvPicPr>
            <p:cNvPr id="654" name="Picture 3" descr="46-7"/>
            <p:cNvPicPr/>
            <p:nvPr/>
          </p:nvPicPr>
          <p:blipFill>
            <a:blip r:embed="rId2"/>
            <a:stretch/>
          </p:blipFill>
          <p:spPr>
            <a:xfrm>
              <a:off x="2209680" y="1676520"/>
              <a:ext cx="4876920" cy="41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4"/>
            <p:cNvSpPr/>
            <p:nvPr/>
          </p:nvSpPr>
          <p:spPr>
            <a:xfrm>
              <a:off x="2570400" y="5791320"/>
              <a:ext cx="444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秋游完，回家的路上应注意哪些交通安全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6"/>
          <p:cNvSpPr/>
          <p:nvPr/>
        </p:nvSpPr>
        <p:spPr>
          <a:xfrm>
            <a:off x="2362320" y="2133720"/>
            <a:ext cx="4572000" cy="3429000"/>
          </a:xfrm>
          <a:prstGeom prst="rect">
            <a:avLst/>
          </a:prstGeom>
          <a:solidFill>
            <a:srgbClr val="ffdddd"/>
          </a:solidFill>
          <a:ln w="76320">
            <a:solidFill>
              <a:srgbClr val="ff9b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马路走人行横道、过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街天桥或地下通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在马路上追跑打闹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看交通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方正大黑简体"/>
              </a:rPr>
              <a:t>三、总结、提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Calibri"/>
                <a:ea typeface="方正卡通简体"/>
              </a:rPr>
              <a:t>秋游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alibri"/>
                <a:ea typeface="方正卡通简体"/>
              </a:rPr>
              <a:t>秋高气爽，外出游玩好季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alibri"/>
                <a:ea typeface="方正卡通简体"/>
              </a:rPr>
              <a:t>秋游出发前，准备工作要做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alibri"/>
                <a:ea typeface="方正卡通简体"/>
              </a:rPr>
              <a:t>衣服、鞋子选择好，食品和水不可少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alibri"/>
                <a:ea typeface="方正卡通简体"/>
              </a:rPr>
              <a:t>不盲从，不攀比，合理选择很重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alibri"/>
                <a:ea typeface="方正卡通简体"/>
              </a:rPr>
              <a:t>参观游玩时，安全文明要记牢。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  <a:ea typeface="方正卡通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6BD1-785F-47CF-9579-F82A0AA182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9460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方正大黑简体"/>
              </a:rPr>
              <a:t>一、欣赏秋景，体验秋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3851280" y="2133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同学们，在这美丽的秋季，谁能说一说你去过哪些地方？谈谈自己的当时感受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方正剪纸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332000" y="2349360"/>
            <a:ext cx="1728720" cy="1656000"/>
          </a:xfrm>
          <a:prstGeom prst="smileyFace">
            <a:avLst>
              <a:gd name="adj" fmla="val 4653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3"/>
          <p:cNvGrpSpPr/>
          <p:nvPr/>
        </p:nvGrpSpPr>
        <p:grpSpPr>
          <a:xfrm>
            <a:off x="1600200" y="2209680"/>
            <a:ext cx="6172200" cy="3733920"/>
            <a:chOff x="1600200" y="2209680"/>
            <a:chExt cx="6172200" cy="3733920"/>
          </a:xfrm>
        </p:grpSpPr>
        <p:pic>
          <p:nvPicPr>
            <p:cNvPr id="589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4951440" y="3414600"/>
              <a:ext cx="282096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AutoShape 5"/>
            <p:cNvSpPr/>
            <p:nvPr/>
          </p:nvSpPr>
          <p:spPr>
            <a:xfrm>
              <a:off x="1600200" y="2209680"/>
              <a:ext cx="4398840" cy="1600200"/>
            </a:xfrm>
            <a:prstGeom prst="wedgeRoundRectCallout">
              <a:avLst>
                <a:gd name="adj1" fmla="val 42134"/>
                <a:gd name="adj2" fmla="val 9751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秋游去哪里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树林"/>
          <p:cNvPicPr/>
          <p:nvPr/>
        </p:nvPicPr>
        <p:blipFill>
          <a:blip r:embed="rId1"/>
          <a:stretch/>
        </p:blipFill>
        <p:spPr>
          <a:xfrm>
            <a:off x="2124000" y="1676520"/>
            <a:ext cx="4267440" cy="4724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sheng02"/>
          <p:cNvPicPr/>
          <p:nvPr/>
        </p:nvPicPr>
        <p:blipFill>
          <a:blip r:embed="rId2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果园-1"/>
          <p:cNvPicPr/>
          <p:nvPr/>
        </p:nvPicPr>
        <p:blipFill>
          <a:blip r:embed="rId3"/>
          <a:stretch/>
        </p:blipFill>
        <p:spPr>
          <a:xfrm>
            <a:off x="1330200" y="1828800"/>
            <a:ext cx="6518520" cy="43797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稻田"/>
          <p:cNvPicPr/>
          <p:nvPr/>
        </p:nvPicPr>
        <p:blipFill>
          <a:blip r:embed="rId4"/>
          <a:stretch/>
        </p:blipFill>
        <p:spPr>
          <a:xfrm>
            <a:off x="1600200" y="18288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596" name="Group 3"/>
          <p:cNvGrpSpPr/>
          <p:nvPr/>
        </p:nvGrpSpPr>
        <p:grpSpPr>
          <a:xfrm>
            <a:off x="2971800" y="1052640"/>
            <a:ext cx="6171840" cy="3733200"/>
            <a:chOff x="2971800" y="1052640"/>
            <a:chExt cx="6171840" cy="3733200"/>
          </a:xfrm>
        </p:grpSpPr>
        <p:pic>
          <p:nvPicPr>
            <p:cNvPr id="597" name="Picture 4" descr="teacher00"/>
            <p:cNvPicPr/>
            <p:nvPr/>
          </p:nvPicPr>
          <p:blipFill>
            <a:blip r:embed="rId2"/>
            <a:stretch/>
          </p:blipFill>
          <p:spPr>
            <a:xfrm>
              <a:off x="6323040" y="2256480"/>
              <a:ext cx="2820600" cy="25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AutoShape 5"/>
            <p:cNvSpPr/>
            <p:nvPr/>
          </p:nvSpPr>
          <p:spPr>
            <a:xfrm>
              <a:off x="2971800" y="1052640"/>
              <a:ext cx="4398480" cy="2073600"/>
            </a:xfrm>
            <a:prstGeom prst="wedgeRoundRectCallout">
              <a:avLst>
                <a:gd name="adj1" fmla="val 42129"/>
                <a:gd name="adj2" fmla="val 6384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秋游带什么？我们来评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最佳出游准备奖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6"/>
          <p:cNvSpPr/>
          <p:nvPr/>
        </p:nvSpPr>
        <p:spPr>
          <a:xfrm>
            <a:off x="2797560" y="2852640"/>
            <a:ext cx="2399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游去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游去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想带的物品有没有可能找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母同意不同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4"/>
          <p:cNvSpPr/>
          <p:nvPr/>
        </p:nvSpPr>
        <p:spPr>
          <a:xfrm>
            <a:off x="154764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45-1"/>
          <p:cNvPicPr/>
          <p:nvPr/>
        </p:nvPicPr>
        <p:blipFill>
          <a:blip r:embed="rId2"/>
          <a:stretch/>
        </p:blipFill>
        <p:spPr>
          <a:xfrm>
            <a:off x="1116000" y="1905120"/>
            <a:ext cx="609588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牛奶"/>
          <p:cNvPicPr/>
          <p:nvPr/>
        </p:nvPicPr>
        <p:blipFill>
          <a:blip r:embed="rId2"/>
          <a:stretch/>
        </p:blipFill>
        <p:spPr>
          <a:xfrm>
            <a:off x="1523880" y="1752480"/>
            <a:ext cx="6172200" cy="4384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梨子"/>
          <p:cNvPicPr/>
          <p:nvPr/>
        </p:nvPicPr>
        <p:blipFill>
          <a:blip r:embed="rId3"/>
          <a:stretch/>
        </p:blipFill>
        <p:spPr>
          <a:xfrm>
            <a:off x="1828800" y="1809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可乐"/>
          <p:cNvPicPr/>
          <p:nvPr/>
        </p:nvPicPr>
        <p:blipFill>
          <a:blip r:embed="rId4"/>
          <a:stretch/>
        </p:blipFill>
        <p:spPr>
          <a:xfrm>
            <a:off x="1828800" y="1905120"/>
            <a:ext cx="5222880" cy="4103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饼干"/>
          <p:cNvPicPr/>
          <p:nvPr/>
        </p:nvPicPr>
        <p:blipFill>
          <a:blip r:embed="rId5"/>
          <a:stretch/>
        </p:blipFill>
        <p:spPr>
          <a:xfrm>
            <a:off x="2057400" y="16765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3"/>
          <p:cNvGrpSpPr/>
          <p:nvPr/>
        </p:nvGrpSpPr>
        <p:grpSpPr>
          <a:xfrm>
            <a:off x="1600200" y="2057400"/>
            <a:ext cx="6662880" cy="4089240"/>
            <a:chOff x="1600200" y="2057400"/>
            <a:chExt cx="6662880" cy="4089240"/>
          </a:xfrm>
        </p:grpSpPr>
        <p:pic>
          <p:nvPicPr>
            <p:cNvPr id="610" name="Picture 4" descr="照相机"/>
            <p:cNvPicPr/>
            <p:nvPr/>
          </p:nvPicPr>
          <p:blipFill>
            <a:blip r:embed="rId2"/>
            <a:stretch/>
          </p:blipFill>
          <p:spPr>
            <a:xfrm>
              <a:off x="1600200" y="2057400"/>
              <a:ext cx="4495680" cy="40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5" descr="小孩"/>
            <p:cNvPicPr/>
            <p:nvPr/>
          </p:nvPicPr>
          <p:blipFill>
            <a:blip r:embed="rId3"/>
            <a:stretch/>
          </p:blipFill>
          <p:spPr>
            <a:xfrm>
              <a:off x="6172200" y="2057400"/>
              <a:ext cx="2090880" cy="327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2" name="Picture 6" descr="画架"/>
          <p:cNvPicPr/>
          <p:nvPr/>
        </p:nvPicPr>
        <p:blipFill>
          <a:blip r:embed="rId4"/>
          <a:stretch/>
        </p:blipFill>
        <p:spPr>
          <a:xfrm>
            <a:off x="2590920" y="1676520"/>
            <a:ext cx="3568680" cy="47559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背包"/>
          <p:cNvPicPr/>
          <p:nvPr/>
        </p:nvPicPr>
        <p:blipFill>
          <a:blip r:embed="rId5"/>
          <a:stretch/>
        </p:blipFill>
        <p:spPr>
          <a:xfrm>
            <a:off x="1523880" y="2057400"/>
            <a:ext cx="5867640" cy="41338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运动鞋"/>
          <p:cNvPicPr/>
          <p:nvPr/>
        </p:nvPicPr>
        <p:blipFill>
          <a:blip r:embed="rId6"/>
          <a:stretch/>
        </p:blipFill>
        <p:spPr>
          <a:xfrm>
            <a:off x="1447920" y="1828800"/>
            <a:ext cx="5943600" cy="43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44-1"/>
          <p:cNvPicPr/>
          <p:nvPr/>
        </p:nvPicPr>
        <p:blipFill>
          <a:blip r:embed="rId2"/>
          <a:stretch/>
        </p:blipFill>
        <p:spPr>
          <a:xfrm>
            <a:off x="2666880" y="1676520"/>
            <a:ext cx="3127320" cy="48006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43-1"/>
          <p:cNvPicPr/>
          <p:nvPr/>
        </p:nvPicPr>
        <p:blipFill>
          <a:blip r:embed="rId3"/>
          <a:stretch/>
        </p:blipFill>
        <p:spPr>
          <a:xfrm>
            <a:off x="1981080" y="1676520"/>
            <a:ext cx="4800600" cy="4735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43-2"/>
          <p:cNvPicPr/>
          <p:nvPr/>
        </p:nvPicPr>
        <p:blipFill>
          <a:blip r:embed="rId4"/>
          <a:stretch/>
        </p:blipFill>
        <p:spPr>
          <a:xfrm>
            <a:off x="1676520" y="1828800"/>
            <a:ext cx="510516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25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