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3820-E87D-48EB-9E74-FF1DAE8EFE27}" type="datetime">
              <a:rPr b="0" lang="zh-CN" sz="1200" spc="-1" strike="noStrike">
                <a:solidFill>
                  <a:srgbClr val="000000"/>
                </a:solidFill>
                <a:latin typeface="Comic Sans MS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0CC1-AD20-4D8C-AE3D-935281C9446B}" type="slidenum">
              <a:rPr b="0" lang="zh-CN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466F-7155-441F-B190-F4B391674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808C-1B25-452F-982E-F21B8846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919F-FF93-467E-92D0-1AF697CDE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EFB7-D2DD-4DA4-832B-DB25AF819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4E046-7F9B-4C6B-9E66-CC107AD81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FF02-E622-4F7F-A510-6A1F1253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12AE-33B5-47BE-AF6E-13FE9900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7DC6-0E7C-4E7B-8A0E-C6175A52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DDC4-E8DA-4794-B836-56A8854D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34FE-AA3E-434B-81B6-08E9B906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49550-57A4-4F3D-ACCD-76D276BB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2F9B-23D7-4B41-BC24-8080DAFD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D2293-701F-45D6-A497-53158221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958A-A714-43C4-AE4C-4BD125CC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048D-A764-4775-99CF-B39D2E0F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9987-AE58-4E90-90F4-3E65B9115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10A6-FF92-44BD-B833-1662D1C50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8497-098C-464F-A5A3-CC04B0A4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AD50-73A1-4D04-9734-FFACF395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F667-83AB-4900-BBA0-669F78D0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F6F6-39AF-42AF-9C3E-F4A621BE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0489-66F2-43A6-8FB9-47681CAF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0AD1-E338-444B-B350-CE8A8EA9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8E47-DE6F-45DB-80B5-960FD065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5C0E-C59B-4B84-A7FC-29DBC5C13C8F}" type="datetime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5A59-08BC-4D8E-AF43-F1046420CC8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4560" y="25200"/>
            <a:ext cx="1164960" cy="209556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396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192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2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796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200" y="221760"/>
                  <a:ext cx="28440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6280" y="4637880"/>
              <a:ext cx="995400" cy="4600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440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000" y="4558320"/>
                <a:ext cx="10008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599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A1FC-95EF-4951-8A9C-9D7CBD4055C4}" type="datetime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E82B-8F8A-4A7E-95F5-5A26C2BF15A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641520" y="762120"/>
          <a:ext cx="5929200" cy="833400"/>
        </p:xfrm>
        <a:graphic>
          <a:graphicData uri="http://schemas.openxmlformats.org/drawingml/2006/table">
            <a:tbl>
              <a:tblPr/>
              <a:tblGrid>
                <a:gridCol w="5929200"/>
              </a:tblGrid>
              <a:tr h="83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Unit 6  Shopp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6"/>
          <p:cNvSpPr/>
          <p:nvPr/>
        </p:nvSpPr>
        <p:spPr>
          <a:xfrm>
            <a:off x="641520" y="2590920"/>
            <a:ext cx="78660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omic Sans MS"/>
              </a:rPr>
              <a:t>第五课时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矩形 9"/>
          <p:cNvSpPr/>
          <p:nvPr/>
        </p:nvSpPr>
        <p:spPr>
          <a:xfrm>
            <a:off x="2394720" y="57150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et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 a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21337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与教师一起扮演买卖东西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et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 lear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学习新句子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828440"/>
            <a:ext cx="76960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03dff"/>
                </a:solidFill>
                <a:latin typeface="Comic Sans MS"/>
              </a:rPr>
              <a:t>    </a:t>
            </a:r>
            <a:r>
              <a:rPr b="0" lang="en-US" sz="7200" spc="-1" strike="noStrike">
                <a:solidFill>
                  <a:srgbClr val="703dff"/>
                </a:solidFill>
                <a:latin typeface="Comic Sans MS"/>
              </a:rPr>
              <a:t>No problem!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685800" y="3276720"/>
            <a:ext cx="76960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03dff"/>
                </a:solidFill>
                <a:latin typeface="Comic Sans MS"/>
              </a:rPr>
              <a:t>       </a:t>
            </a:r>
            <a:r>
              <a:rPr b="0" lang="zh-CN" sz="7200" spc="-1" strike="noStrike">
                <a:solidFill>
                  <a:srgbClr val="703dff"/>
                </a:solidFill>
                <a:latin typeface="Comic Sans MS"/>
              </a:rPr>
              <a:t>没问题！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tory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学习本课小故事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4" descr="get (4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609120" y="53316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380880" y="1371600"/>
            <a:ext cx="76964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Is Zoom a good shop assistant? Why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isten and rea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听录音，读句子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Picture 4" descr="page-0068_副本"/>
          <p:cNvPicPr/>
          <p:nvPr/>
        </p:nvPicPr>
        <p:blipFill>
          <a:blip r:embed="rId2"/>
          <a:stretch/>
        </p:blipFill>
        <p:spPr>
          <a:xfrm>
            <a:off x="838080" y="152280"/>
            <a:ext cx="71629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et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 a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分组表演本课小故事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et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 go shop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分组表演情景剧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omic Sans MS"/>
              </a:rPr>
              <a:t>练一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按要求完成下列各题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矩形 5"/>
          <p:cNvSpPr/>
          <p:nvPr/>
        </p:nvSpPr>
        <p:spPr>
          <a:xfrm>
            <a:off x="2743200" y="472428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4" descr="page-0067_副本"/>
          <p:cNvPicPr/>
          <p:nvPr/>
        </p:nvPicPr>
        <p:blipFill>
          <a:blip r:embed="rId2"/>
          <a:stretch/>
        </p:blipFill>
        <p:spPr>
          <a:xfrm>
            <a:off x="609480" y="533520"/>
            <a:ext cx="7772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omic Sans MS"/>
              </a:rPr>
              <a:t>（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zh-CN" sz="4400" spc="-1" strike="noStrike">
                <a:solidFill>
                  <a:srgbClr val="ff0000"/>
                </a:solidFill>
                <a:latin typeface="Comic Sans MS"/>
              </a:rPr>
              <a:t>）选出下列句子正确的译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85440" y="182880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dff"/>
                </a:solidFill>
                <a:latin typeface="Comic Sans MS"/>
              </a:rPr>
              <a:t>（     ）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①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Can I help you?    A. </a:t>
            </a:r>
            <a:r>
              <a:rPr b="0" lang="zh-CN" sz="2800" spc="-1" strike="noStrike">
                <a:solidFill>
                  <a:srgbClr val="703dff"/>
                </a:solidFill>
                <a:latin typeface="Comic Sans MS"/>
              </a:rPr>
              <a:t>我能试试吗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dff"/>
                </a:solidFill>
                <a:latin typeface="Comic Sans MS"/>
              </a:rPr>
              <a:t>（     ）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②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No problem!         B. </a:t>
            </a:r>
            <a:r>
              <a:rPr b="0" lang="zh-CN" sz="2800" spc="-1" strike="noStrike">
                <a:solidFill>
                  <a:srgbClr val="703dff"/>
                </a:solidFill>
                <a:latin typeface="Comic Sans MS"/>
              </a:rPr>
              <a:t>你被开除了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dff"/>
                </a:solidFill>
                <a:latin typeface="Comic Sans MS"/>
              </a:rPr>
              <a:t>（     ）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③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You</a:t>
            </a:r>
            <a:r>
              <a:rPr b="0" lang="en-US" sz="2800" spc="-1" strike="noStrike">
                <a:solidFill>
                  <a:srgbClr val="703d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re fired!        C. </a:t>
            </a:r>
            <a:r>
              <a:rPr b="0" lang="zh-CN" sz="2800" spc="-1" strike="noStrike">
                <a:solidFill>
                  <a:srgbClr val="703dff"/>
                </a:solidFill>
                <a:latin typeface="Comic Sans MS"/>
              </a:rPr>
              <a:t>没问题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dff"/>
                </a:solidFill>
                <a:latin typeface="Comic Sans MS"/>
              </a:rPr>
              <a:t>（     ）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④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Do a good job.      D. </a:t>
            </a:r>
            <a:r>
              <a:rPr b="0" lang="zh-CN" sz="2800" spc="-1" strike="noStrike">
                <a:solidFill>
                  <a:srgbClr val="703dff"/>
                </a:solidFill>
                <a:latin typeface="Comic Sans MS"/>
              </a:rPr>
              <a:t>你想买些什么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dff"/>
                </a:solidFill>
                <a:latin typeface="Comic Sans MS"/>
              </a:rPr>
              <a:t>（     ）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⑤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Can I try it on?    E. </a:t>
            </a:r>
            <a:r>
              <a:rPr b="0" lang="zh-CN" sz="2800" spc="-1" strike="noStrike">
                <a:solidFill>
                  <a:srgbClr val="703dff"/>
                </a:solidFill>
                <a:latin typeface="Comic Sans MS"/>
              </a:rPr>
              <a:t>好好干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(2)</a:t>
            </a:r>
            <a:r>
              <a:rPr b="0" lang="zh-CN" sz="4400" spc="-1" strike="noStrike">
                <a:solidFill>
                  <a:srgbClr val="ff0000"/>
                </a:solidFill>
                <a:latin typeface="Comic Sans MS"/>
              </a:rPr>
              <a:t>补全对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0520" y="18288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A</a:t>
            </a:r>
            <a:r>
              <a:rPr b="0" lang="zh-CN" sz="2000" spc="-1" strike="noStrike">
                <a:solidFill>
                  <a:srgbClr val="703dff"/>
                </a:solidFill>
                <a:latin typeface="Comic Sans MS"/>
              </a:rPr>
              <a:t>：</a:t>
            </a: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Tom, do a good job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B:__________</a:t>
            </a:r>
            <a:r>
              <a:rPr b="0" lang="en-US" sz="2000" spc="-1" strike="noStrike" u="sng">
                <a:solidFill>
                  <a:srgbClr val="703dff"/>
                </a:solidFill>
                <a:uFillTx/>
                <a:latin typeface="Comic Sans MS"/>
              </a:rPr>
              <a:t>1_____________ </a:t>
            </a: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Can I help you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C: ___________</a:t>
            </a:r>
            <a:r>
              <a:rPr b="0" lang="en-US" sz="2000" spc="-1" strike="noStrike" u="sng">
                <a:solidFill>
                  <a:srgbClr val="703dff"/>
                </a:solidFill>
                <a:uFillTx/>
                <a:latin typeface="Comic Sans MS"/>
              </a:rPr>
              <a:t>_2</a:t>
            </a: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____________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B: Sure, here you ar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C: </a:t>
            </a:r>
            <a:r>
              <a:rPr b="0" lang="en-US" sz="2000" spc="-1" strike="noStrike" u="sng">
                <a:solidFill>
                  <a:srgbClr val="703dff"/>
                </a:solidFill>
                <a:uFillTx/>
                <a:latin typeface="Comic Sans MS"/>
              </a:rPr>
              <a:t>___________3_</a:t>
            </a: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____________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B: Yes, it</a:t>
            </a:r>
            <a:r>
              <a:rPr b="0" lang="en-US" sz="2000" spc="-1" strike="noStrike">
                <a:solidFill>
                  <a:srgbClr val="703d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s nic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C: It</a:t>
            </a:r>
            <a:r>
              <a:rPr b="0" lang="en-US" sz="2000" spc="-1" strike="noStrike">
                <a:solidFill>
                  <a:srgbClr val="703d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s cheap, too. It</a:t>
            </a:r>
            <a:r>
              <a:rPr b="0" lang="en-US" sz="2000" spc="-1" strike="noStrike">
                <a:solidFill>
                  <a:srgbClr val="703d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s sixteen dollars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B: </a:t>
            </a:r>
            <a:r>
              <a:rPr b="0" lang="en-US" sz="2000" spc="-1" strike="noStrike" u="sng">
                <a:solidFill>
                  <a:srgbClr val="703dff"/>
                </a:solidFill>
                <a:uFillTx/>
                <a:latin typeface="Comic Sans MS"/>
              </a:rPr>
              <a:t>_________4_______________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C: </a:t>
            </a:r>
            <a:r>
              <a:rPr b="0" lang="en-US" sz="2000" spc="-1" strike="noStrike" u="sng">
                <a:solidFill>
                  <a:srgbClr val="703dff"/>
                </a:solidFill>
                <a:uFillTx/>
                <a:latin typeface="Comic Sans MS"/>
              </a:rPr>
              <a:t>_________5_______________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B: It</a:t>
            </a:r>
            <a:r>
              <a:rPr b="0" lang="en-US" sz="2000" spc="-1" strike="noStrike">
                <a:solidFill>
                  <a:srgbClr val="703d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s ninety-one. Sorry, Mis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A: Tom, you</a:t>
            </a:r>
            <a:r>
              <a:rPr b="0" lang="en-US" sz="2000" spc="-1" strike="noStrike">
                <a:solidFill>
                  <a:srgbClr val="703d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re fired!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B: But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5486400" y="2895480"/>
            <a:ext cx="2895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A. Yes. Can I see that skirt, please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B .Then, how much is it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C. No, it isn</a:t>
            </a:r>
            <a:r>
              <a:rPr b="0" lang="en-US" sz="1800" spc="-1" strike="noStrike">
                <a:solidFill>
                  <a:srgbClr val="703dff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D. It</a:t>
            </a:r>
            <a:r>
              <a:rPr b="0" lang="en-US" sz="1800" spc="-1" strike="noStrike">
                <a:solidFill>
                  <a:srgbClr val="703dff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s pretty, isn</a:t>
            </a:r>
            <a:r>
              <a:rPr b="0" lang="en-US" sz="1800" spc="-1" strike="noStrike">
                <a:solidFill>
                  <a:srgbClr val="703dff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t it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E. No problem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Comic Sans MS"/>
              </a:rPr>
              <a:t>Homework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dff"/>
                </a:solidFill>
                <a:latin typeface="Comic Sans MS"/>
              </a:rPr>
              <a:t>（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1</a:t>
            </a:r>
            <a:r>
              <a:rPr b="0" lang="zh-CN" sz="3200" spc="-1" strike="noStrike">
                <a:solidFill>
                  <a:srgbClr val="703dff"/>
                </a:solidFill>
                <a:latin typeface="Comic Sans MS"/>
              </a:rPr>
              <a:t>）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Listen to and repeat </a:t>
            </a:r>
            <a:r>
              <a:rPr b="0" lang="en-US" sz="3200" spc="-1" strike="noStrike">
                <a:solidFill>
                  <a:srgbClr val="703d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Story time</a:t>
            </a:r>
            <a:r>
              <a:rPr b="0" lang="en-US" sz="3200" spc="-1" strike="noStrike">
                <a:solidFill>
                  <a:srgbClr val="703d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dff"/>
                </a:solidFill>
                <a:latin typeface="Comic Sans MS"/>
              </a:rPr>
              <a:t>（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2</a:t>
            </a:r>
            <a:r>
              <a:rPr b="0" lang="zh-CN" sz="3200" spc="-1" strike="noStrike">
                <a:solidFill>
                  <a:srgbClr val="703dff"/>
                </a:solidFill>
                <a:latin typeface="Comic Sans MS"/>
              </a:rPr>
              <a:t>）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ct out the story with your partners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文本框 1"/>
          <p:cNvSpPr/>
          <p:nvPr/>
        </p:nvSpPr>
        <p:spPr>
          <a:xfrm>
            <a:off x="1265400" y="5867280"/>
            <a:ext cx="57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WordArt 4"/>
          <p:cNvSpPr txBox="1"/>
          <p:nvPr/>
        </p:nvSpPr>
        <p:spPr>
          <a:xfrm>
            <a:off x="1447920" y="1447920"/>
            <a:ext cx="58672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Bye bye!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omic Sans MS"/>
              </a:rPr>
              <a:t> </a:t>
            </a:r>
            <a:r>
              <a:rPr b="0" lang="zh-CN" sz="1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omic Sans MS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D466-38F7-4BBB-976D-6D5FF87E8D4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Comic Sans MS"/>
              </a:rPr>
              <a:t>考眼力，拼单词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762120" y="220932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看谁的眼力好，看清了图片并能正确地拼写出这个单词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03dff"/>
                </a:solidFill>
                <a:latin typeface="Comic Sans MS"/>
              </a:rPr>
              <a:t>gloves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4" descr="get"/>
          <p:cNvPicPr/>
          <p:nvPr/>
        </p:nvPicPr>
        <p:blipFill>
          <a:blip r:embed="rId2"/>
          <a:stretch/>
        </p:blipFill>
        <p:spPr>
          <a:xfrm>
            <a:off x="9144000" y="2133720"/>
            <a:ext cx="69850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7361 -0.00555 L -1.73194 -0.02777 E">
                                      <p:cBhvr>
                                        <p:cTn id="6" dur="1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73194 0.02778 L -0.83194 0.05 E">
                                      <p:cBhvr>
                                        <p:cTn id="15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03dff"/>
                </a:solidFill>
                <a:latin typeface="Comic Sans MS"/>
              </a:rPr>
              <a:t>scarf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4" descr="get2"/>
          <p:cNvPicPr/>
          <p:nvPr/>
        </p:nvPicPr>
        <p:blipFill>
          <a:blip r:embed="rId2"/>
          <a:stretch/>
        </p:blipFill>
        <p:spPr>
          <a:xfrm>
            <a:off x="9144000" y="2743200"/>
            <a:ext cx="4724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666 -0.02222 L -1.46666 -0.04444 E">
                                      <p:cBhvr>
                                        <p:cTn id="21" dur="1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45833 0.02222 L -0.78333 0.03333 E">
                                      <p:cBhvr>
                                        <p:cTn id="32" dur="1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03dff"/>
                </a:solidFill>
                <a:latin typeface="Comic Sans MS"/>
              </a:rPr>
              <a:t>umbrella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4" descr="get (2)"/>
          <p:cNvPicPr/>
          <p:nvPr/>
        </p:nvPicPr>
        <p:blipFill>
          <a:blip r:embed="rId2"/>
          <a:stretch/>
        </p:blipFill>
        <p:spPr>
          <a:xfrm>
            <a:off x="9144000" y="1905120"/>
            <a:ext cx="650232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889 -0.01389 L -1.61389 -0.01389 E">
                                      <p:cBhvr>
                                        <p:cTn id="38" dur="1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7223 0.04166 L -0.92223 0.04166 E">
                                      <p:cBhvr>
                                        <p:cTn id="47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03dff"/>
                </a:solidFill>
                <a:latin typeface="Comic Sans MS"/>
              </a:rPr>
              <a:t>sunglasses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AutoShape 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10" descr="get (3)"/>
          <p:cNvPicPr/>
          <p:nvPr/>
        </p:nvPicPr>
        <p:blipFill>
          <a:blip r:embed="rId2"/>
          <a:stretch/>
        </p:blipFill>
        <p:spPr>
          <a:xfrm>
            <a:off x="9144000" y="2514600"/>
            <a:ext cx="523872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979 -0.01042 L -1.54479 -0.02153 E">
                                      <p:cBhvr>
                                        <p:cTn id="53" dur="1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8646 0.08958 L -0.83646 0.08958 E">
                                      <p:cBhvr>
                                        <p:cTn id="62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omic Sans MS"/>
              </a:rPr>
              <a:t>抽卡片，造句子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2057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用抽到的卡片造句子，看看哪组得分高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omic Sans MS"/>
              </a:rPr>
              <a:t>猜价格游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213372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看看谁猜的价格最接近，可以为本组得一分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9T14:13:5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13:41Z</dcterms:modified>
  <cp:revision>1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