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move the slide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62D5-D563-4572-BCB9-61EC0AF18B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69CF-E936-405A-A71B-90DCD736AB47}" type="slidenum">
              <a:rPr b="0" lang="zh-CN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8EB-A638-403A-A0DC-B17B9394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7C0-2FDF-4DE2-A25F-D4CEB895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5CB55-8C30-4E12-B9F5-AE18545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E677F-0854-4122-B896-C3C1D71C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76F9D-F6A5-404B-9B0C-3CB97444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47CAD-C235-455F-847A-40E8C742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721F7-426C-4FD5-9F08-96882FC8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993FF-AFBC-49CA-B0E5-1DBD4CDD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98F15-7B6D-4A98-B842-E591F2D0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93A7E-2CAF-4710-87E9-5CB17250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D4AB8-DFF5-4D5E-9F36-01022B12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631BE-D44A-4359-BAC3-0C6E5B6B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86D-4CCA-462A-A4FA-5EED7967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81A84-6CE4-4A69-8F6D-51EA2621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DE884-58B0-4BC4-8037-51BCDC58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FE7FB-508F-4A3D-B7A4-F62B6F41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42D26-1301-4EBD-B249-F6DED822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E62DE-5B3F-46B0-9D07-86CA8FBB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1E84A-49C3-4657-B695-158FEBC3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8F05A-C44A-4967-9BFE-5871B2EB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02B67-FB3A-4284-B95C-958C892B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B4CD7-9EC0-4898-8168-E106EF75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C15F8-834F-4F0A-AFF9-AFA410D4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4C4-164B-48BD-8B7F-CAFECC29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6E24A-0462-4721-9565-034D1B2D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63F7E-363D-4A18-AD77-C1AAB3AF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48AA0-2841-4E04-B01B-5E2908AD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491A4-3154-406A-959A-8F4779B7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2B1C2-0A98-4138-B326-31FFBC31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05C0D-02F4-4FA8-A507-BFBA8DBB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FB42F-81B9-4C79-A636-CA3D6300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18480-DF78-4C6A-A2AA-E0A1E3DC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2BC93-7EF8-4BD8-9F69-A7F66F14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67AEF-A80E-4D22-9DB1-56207978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D15E-9D0A-4AC1-B500-38E6F760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FFF8A-C74B-4609-94C4-6A8CDF3B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D0C06-BB00-49AF-A07E-5A571A83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BDBF-801D-446A-A8C9-58DB9CF0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9F51B-30C4-42BC-B74C-381AC6F4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CDD81-DDCC-49FE-877F-86C8C66B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E5615-967C-435C-B2EB-FF1F8019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2DA3C-6BB2-410E-8731-A1284B73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90395-F4E1-4883-AC08-9422FE80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F9F07-3BBF-49C9-BCB5-D5F8CD18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EDA85-19C0-4F1F-A2E7-B6A23252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CBEF-ECC0-463F-86E5-CA1643FC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653C9-D8C8-4D07-83F9-23620993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89E62-83B7-4771-A5A2-871C6EA7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CF5F7-7F17-4C6D-AC3C-6D3E0243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971A0-31FA-425D-8AA1-1E4A0691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5271E-0373-4EF7-8CA8-D7F9E508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669D0-2A38-4A77-8BC1-E3AB671C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03882-AA98-4388-8B47-F8C484D0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53215-82BC-435B-8D4A-DF850646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47EF9-2E8A-48A9-9150-620D90E8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63F53-F2BD-4C5B-AEB5-F73D7B8C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A6DC-CAEA-4C61-93DE-0FB46697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6D543-68F3-49A7-9B85-40FFD043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49C34-EB47-45C8-8507-03354C43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C049B-CBD0-4D02-95ED-47B2057E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ED249-7452-4A31-8D7B-1363C5D7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EA6B4-E731-4CCA-92B7-3EB0A211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EB277-B324-42AE-AA06-AE84B0B1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13603-4EC5-47C2-847D-EE04BCD8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A1B37-4C26-4D8C-8F8D-6FAF25EE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43101-5040-40C7-AAE8-C533FFF2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26E1C-B89F-41E8-BB5B-16FED5B1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9303-6CFA-47C0-B73C-05152D36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B6767-5518-4C26-929D-5A8313BF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82795-811F-4034-B413-373AAA61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192E1-EE81-49B1-BC55-887E36B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76CCC-3407-4917-B72D-279E258D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69EDC-169D-42B6-9FCF-237C30EB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46EFA-E513-4D67-8634-BDDFC3F4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B879F-4B1B-45C9-83E2-FECD6294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967E4-8575-408D-864C-76D253C1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65585-4C4A-4DE8-808B-AA3E15FF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C45614-5036-4883-BD08-F4814330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A849-48DD-4DA1-A091-5F51EBC1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77ADF-A20A-4093-ABCF-EC9EAF3F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BA1034-A04A-4322-9E14-A0F579D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736EC-FA81-487B-9376-6C98617E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FCCEF-0A3B-4813-B449-368E32FB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4B097-C5C5-4F6B-B1BA-576C4575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0A2EA-1583-4780-96F1-5EA4498B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63D88-6A60-4CCB-9829-E0A8AAE5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40E8D-CAA3-4E0D-A3BF-39B7743E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15385-E1B6-46F2-AE4C-01E2A3DD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6006D-AE00-4CA0-9985-1CF511E2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AB21-9226-4F58-85F3-F7FAC01C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F7A1F-9D68-4E23-89E3-D0D95EC5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41B7-C04B-405E-B725-09540CF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04C-3CA1-44ED-8A95-81B69A3D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76BF-D1B8-4657-A06A-57DBFFD8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39BF-08B1-4D26-8A23-EDDB3D75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67B6-22A9-48E5-A1BB-5500C7F4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64AA-627E-49E6-8280-3AB46BFB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832B-D491-4764-8E04-BB3CBC53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A020-DF70-47B3-A0DA-7FB36851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8139D-C5C6-4B1D-B5AC-C01B6A27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6E9A-624B-408C-B046-9ABD2FB6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818FC-92A5-4FD6-BA28-79D2F70A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87399-95A2-4C95-B34A-03B4576E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7E0-8566-4A10-BBE4-AD7429AD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96D4A-6F92-4C4F-BE54-BFA54B13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B95F-4AF6-47FC-81FC-DE93E3CB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2B34-053A-4199-8A46-50BCCDA7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9CBB4-CED5-4917-8CCF-3369E6D3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1229-818E-46A8-B63D-77306D08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FC5F-95AC-4729-AE60-4719EB56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9FF1-C0F8-4AB1-90D2-412002CC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18FF9-0AF2-4EB4-9B7F-0DEF4195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D073C-8564-4202-9E17-E1EA8713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C904-4B9F-4CED-85D1-806C1BA3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23F-06BC-409A-859F-133ED348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17D0-AA87-451B-A753-4988A6BA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5C86-8AA2-40A7-9425-EDBA8FFE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2D99-B3A9-4330-8D01-0C21E581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19895-4634-4812-AFA4-11BED9B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066C4-5100-491D-BDC1-278E8639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85E9-96F6-423B-A5FE-D065BFED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0130-43F8-4CEC-B055-B899E819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9F8B-6076-4A65-87D5-47646F2E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7995-D545-43A4-BC57-3ACB5722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ED99E-FE91-4520-881F-0B485FD2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38A-49F0-47C5-85A5-E8E93F32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E319-F314-499B-8223-E3CC1EFE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AE91B-082F-4FFB-9950-01872FC6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1661B-8885-4EE9-881F-5B0A0DAF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FA0C-1885-463E-BD89-B95C928D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17149-F413-4DD4-80E3-46F4F683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27117-7B44-4EB8-AA6A-E9E53ED0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45BBD-1F80-43F9-BBFB-44034BDF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8A6E5-468F-4BFA-A26F-C90A2905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A922D-C859-400F-9DEB-D16EDBDB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66846-E2D2-45B1-9394-FAEE10F2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3B6-D550-41DC-A424-AFF6EEFC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80ED-2558-4F6B-95AA-920CD8D5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B3980-DE16-4468-9382-FB1CD2A1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C462-6394-47EC-97E3-E25C66D8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87625-909A-45AA-894F-F2887803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E156C-9C3F-4D0F-9E4D-E3A747AA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70230-2CD3-4BA2-AFEF-3313AA8B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DF7A4-6D11-4793-92FF-D8B6443C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8BF54-B94C-431C-8173-AA98EC4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97500-3403-4E20-97BC-A270815E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561D1-41E1-4572-A5AD-DB983CBE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9DF-4792-4727-B542-4B6F3B0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C6572-764B-4BE0-8680-8E761746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095C2-0921-4DB8-8AB7-B023C8FE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B9F92-341A-4261-B3DC-507D4637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5D3DF-825C-4A7F-BA0A-F3569EE7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5CBB6-EF2F-460B-954B-BF1CE169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B7712-E67B-4B0E-BE78-93C3C3A5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DA730-FE90-4363-8233-4E8E66D9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80A82-86E0-4C5D-A7D4-672A348B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14132-15EC-4B79-BCA3-6A2920B5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A5380-B0BE-4181-87ED-C3DD71BC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E5D-9047-4FDB-8CEF-3652A62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FEFF7-C465-4753-B935-73704352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B5AE2-6146-4391-9D41-00FE9619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C5E64-B621-401C-B83C-7C986BD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8E9B3-0F03-4671-BD47-7233ABF0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DE6C4-9781-4E57-BE88-1786D375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3C2EA-79B1-4694-BD96-463D209F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63628-0E18-4DC7-924C-3FF2C7D7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754AE-FFCD-4595-A738-75DFD29F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DBEEF-6247-4339-8E2E-C945E6C3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805DF-7952-4B81-86C3-F590D271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0B4-9756-4ED3-AC37-DCAFAFAB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97314-5BED-4899-BE73-24F882D3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83A50-3A10-4DEF-8526-C725CE2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7717C-778C-4A65-B74D-4980C18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9BE5B-55E4-4C95-8701-68A3984F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BB685-E34F-4431-B477-AB092BDB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9F9E8-093D-47B8-88FB-A70DA479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FED6D-7B05-4750-9AA5-8493501B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0C1BF-8C40-414D-836C-1D2C3EA0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03836-4BE3-41FD-A8C8-60907850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8D610-B8BE-4FDF-94B1-927E79DE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D172-B567-4E9D-B264-2DF267DE6A16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D9EF-2370-41D9-AD99-B9B9E6BF9EA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7323-F88E-4031-BBE8-B125B1C588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358F-6538-4CF9-9064-FF4F5D5EC2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252A-E8BF-4C64-88AE-B24D2018FB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8998-7ABC-43DE-8B4F-60B84FC0BC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052D-B1E1-4724-B1F4-17F07ACCAF5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4527-F73C-4AA5-BF80-0AD967D4875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F09E-470E-4E0E-A3E5-440410370172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F9AA-5AFF-4958-92FF-842702DB6693}" type="slidenum">
              <a:rPr b="0" lang="en-US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EC48-DD1B-4609-BBBB-8CC2E3D60BB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00EF-C77B-4C55-9800-7E5EBD09A9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18CF-0506-4854-B1BD-2977D3091AE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E368-9E7B-437E-A5F9-725CCA23E9F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E512-CB97-4AEB-9E7D-24231F1482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youth.cn/ztlj/200707/t20070720_564535.htm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news.youth.cn/ztlj/200707/t20070724_565961.htm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7a452"/>
                </a:solidFill>
                <a:latin typeface="微软雅黑"/>
                <a:ea typeface="微软雅黑"/>
              </a:rPr>
              <a:t>12</a:t>
            </a:r>
            <a:r>
              <a:rPr b="1" lang="zh-CN" sz="6600" spc="-1" strike="noStrike">
                <a:solidFill>
                  <a:srgbClr val="87a452"/>
                </a:solidFill>
                <a:latin typeface="微软雅黑"/>
                <a:ea typeface="微软雅黑"/>
              </a:rPr>
              <a:t>、暑假生活我安排</a:t>
            </a:r>
            <a:endParaRPr b="1" lang="en-US" sz="66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8" name="矩形 8"/>
          <p:cNvSpPr/>
          <p:nvPr/>
        </p:nvSpPr>
        <p:spPr>
          <a:xfrm>
            <a:off x="2247480" y="5715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57b3e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657b3e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矩形 5"/>
          <p:cNvSpPr/>
          <p:nvPr/>
        </p:nvSpPr>
        <p:spPr>
          <a:xfrm>
            <a:off x="3962520" y="3429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30" name="Picture 5" descr="W020070907410827828083"/>
          <p:cNvPicPr/>
          <p:nvPr/>
        </p:nvPicPr>
        <p:blipFill>
          <a:blip r:embed="rId1"/>
          <a:stretch/>
        </p:blipFill>
        <p:spPr>
          <a:xfrm>
            <a:off x="533520" y="1143000"/>
            <a:ext cx="8153280" cy="3657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5" descr="W0200709074108333059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990720"/>
            <a:ext cx="3276720" cy="25905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W0200709074108348920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213372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a452"/>
                </a:solidFill>
                <a:latin typeface="幼圆"/>
              </a:rPr>
              <a:t>我的暑假计划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09480" y="114300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7b3e"/>
                </a:solidFill>
                <a:latin typeface="幼圆"/>
              </a:rPr>
              <a:t>制作作息时间表</a:t>
            </a:r>
            <a:endParaRPr b="0" lang="en-US" sz="40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a452"/>
                </a:solidFill>
                <a:latin typeface="幼圆"/>
              </a:rPr>
              <a:t>我的作息安排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0880" y="106668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57b3e"/>
                </a:solidFill>
                <a:latin typeface="幼圆"/>
              </a:rPr>
              <a:t>起床</a:t>
            </a:r>
            <a:endParaRPr b="0" lang="en-US" sz="32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57b3e"/>
                </a:solidFill>
                <a:latin typeface="幼圆"/>
              </a:rPr>
              <a:t>做作业</a:t>
            </a:r>
            <a:endParaRPr b="0" lang="en-US" sz="32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57b3e"/>
                </a:solidFill>
                <a:latin typeface="幼圆"/>
              </a:rPr>
              <a:t>看电视</a:t>
            </a:r>
            <a:endParaRPr b="0" lang="en-US" sz="32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57b3e"/>
                </a:solidFill>
                <a:latin typeface="幼圆"/>
              </a:rPr>
              <a:t>玩耍</a:t>
            </a:r>
            <a:endParaRPr b="0" lang="en-US" sz="32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57b3e"/>
                </a:solidFill>
                <a:latin typeface="幼圆"/>
              </a:rPr>
              <a:t>睡觉</a:t>
            </a:r>
            <a:endParaRPr b="0" lang="en-US" sz="32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幼圆"/>
              </a:rPr>
              <a:t>安排好时间  努力做到呦</a:t>
            </a:r>
            <a:endParaRPr b="0" lang="en-US" sz="32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7" name="矩形 6"/>
          <p:cNvSpPr/>
          <p:nvPr/>
        </p:nvSpPr>
        <p:spPr>
          <a:xfrm>
            <a:off x="2666880" y="27432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文本框 1"/>
          <p:cNvSpPr/>
          <p:nvPr/>
        </p:nvSpPr>
        <p:spPr>
          <a:xfrm>
            <a:off x="2162160" y="5614920"/>
            <a:ext cx="61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a452"/>
                </a:solidFill>
                <a:latin typeface="幼圆"/>
              </a:rPr>
              <a:t>暑假的活动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57b3e"/>
                </a:solidFill>
                <a:latin typeface="幼圆"/>
              </a:rPr>
              <a:t>看一本书</a:t>
            </a:r>
            <a:endParaRPr b="0" lang="en-US" sz="36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57b3e"/>
                </a:solidFill>
                <a:latin typeface="幼圆"/>
              </a:rPr>
              <a:t>做一件家务事</a:t>
            </a:r>
            <a:endParaRPr b="0" lang="en-US" sz="36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57b3e"/>
                </a:solidFill>
                <a:latin typeface="幼圆"/>
              </a:rPr>
              <a:t>学会一种本领</a:t>
            </a:r>
            <a:endParaRPr b="0" lang="en-US" sz="36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7b3e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幼圆"/>
              </a:rPr>
              <a:t>暑假活动大家说一说</a:t>
            </a:r>
            <a:endParaRPr b="0" lang="en-US" sz="36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a452"/>
                </a:solidFill>
                <a:latin typeface="幼圆"/>
              </a:rPr>
              <a:t>使用规范说明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0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幼圆"/>
              </a:rPr>
              <a:t>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幼圆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b0f0"/>
                </a:solidFill>
                <a:uFillTx/>
                <a:latin typeface="幼圆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 </a:t>
            </a:r>
            <a:endParaRPr b="0" lang="en-US" sz="10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0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0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dongtai/</a:t>
            </a: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chuangyi/</a:t>
            </a: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gongzuo/</a:t>
            </a: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0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幼圆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kejian/</a:t>
            </a: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shangwu/</a:t>
            </a: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sucai/</a:t>
            </a: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fengjing/</a:t>
            </a: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jianjie/</a:t>
            </a: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jiaoyu/</a:t>
            </a: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lunwen/</a:t>
            </a: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yiliao/</a:t>
            </a: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6FBE-AC97-4E23-A3C8-17BFE555D5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01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0:28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