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camera.wav" ContentType="audio/x-wav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F63-F988-4B1A-A057-B2AA192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DBE-DE67-43A1-BF83-A77AFDD5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2E9-56FF-42D8-815E-726368CD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13E-D8B4-4641-9EAC-70EC9B2E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9BC-943E-424F-906F-40BC7CD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620-D4F6-4C85-9B02-AB056C07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042-01B1-4E07-B1DB-2E2DEF8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3DD-56FA-43EF-9301-DE1DFC62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097-026E-4D0D-BE38-A1154C66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B2A-7260-4281-A9D3-668F6860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077-7E4E-4955-99A7-ED5AE5D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D3E-F641-4CCB-8312-13F7D1B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233-7800-4729-AF73-83BCF8F23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154240" y="2599920"/>
            <a:ext cx="385776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187280" y="1989000"/>
            <a:ext cx="7056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数学广角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023840" y="82872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新人教版四年级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53584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97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 rot="5400000">
            <a:off x="1866600" y="255276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WordArt 9" descr=""/>
          <p:cNvPicPr/>
          <p:nvPr/>
        </p:nvPicPr>
        <p:blipFill>
          <a:blip r:embed="rId2"/>
          <a:stretch/>
        </p:blipFill>
        <p:spPr>
          <a:xfrm>
            <a:off x="-1206360" y="1766880"/>
            <a:ext cx="24717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05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2590920" y="14479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4800600" y="16765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10" descr=""/>
          <p:cNvPicPr/>
          <p:nvPr/>
        </p:nvPicPr>
        <p:blipFill>
          <a:blip r:embed="rId2"/>
          <a:stretch/>
        </p:blipFill>
        <p:spPr>
          <a:xfrm>
            <a:off x="-1063800" y="1838160"/>
            <a:ext cx="24735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14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3352680" y="14479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5562720" y="13716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 flipH="1">
            <a:off x="3048120" y="297180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WordArt 11" descr=""/>
          <p:cNvPicPr/>
          <p:nvPr/>
        </p:nvPicPr>
        <p:blipFill>
          <a:blip r:embed="rId2"/>
          <a:stretch/>
        </p:blipFill>
        <p:spPr>
          <a:xfrm>
            <a:off x="-1063800" y="1622520"/>
            <a:ext cx="24735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24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 rot="16246200">
            <a:off x="3085920" y="270468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WordArt 10" descr=""/>
          <p:cNvPicPr/>
          <p:nvPr/>
        </p:nvPicPr>
        <p:blipFill>
          <a:blip r:embed="rId2"/>
          <a:stretch/>
        </p:blipFill>
        <p:spPr>
          <a:xfrm>
            <a:off x="-1063800" y="1550880"/>
            <a:ext cx="24735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33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4300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WordArt 9" descr=""/>
          <p:cNvPicPr/>
          <p:nvPr/>
        </p:nvPicPr>
        <p:blipFill>
          <a:blip r:embed="rId2"/>
          <a:stretch/>
        </p:blipFill>
        <p:spPr>
          <a:xfrm>
            <a:off x="-1062000" y="1693800"/>
            <a:ext cx="24717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41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3962520" y="16765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ordArt 10" descr=""/>
          <p:cNvPicPr/>
          <p:nvPr/>
        </p:nvPicPr>
        <p:blipFill>
          <a:blip r:embed="rId2"/>
          <a:stretch/>
        </p:blipFill>
        <p:spPr>
          <a:xfrm>
            <a:off x="-1062000" y="1693800"/>
            <a:ext cx="24717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50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4572000" y="1600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flipH="1">
            <a:off x="1676520" y="281952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WordArt 11" descr=""/>
          <p:cNvPicPr/>
          <p:nvPr/>
        </p:nvPicPr>
        <p:blipFill>
          <a:blip r:embed="rId2"/>
          <a:stretch/>
        </p:blipFill>
        <p:spPr>
          <a:xfrm>
            <a:off x="-969840" y="1550880"/>
            <a:ext cx="24098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60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 rot="16221000">
            <a:off x="1866600" y="27046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35268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WordArt 11" descr=""/>
          <p:cNvPicPr/>
          <p:nvPr/>
        </p:nvPicPr>
        <p:blipFill>
          <a:blip r:embed="rId2"/>
          <a:stretch/>
        </p:blipFill>
        <p:spPr>
          <a:xfrm>
            <a:off x="-966960" y="1693800"/>
            <a:ext cx="24051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"/>
                            </p:stCondLst>
                            <p:childTnLst>
                              <p:par>
                                <p:cTn id="20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75"/>
                            </p:stCondLst>
                            <p:childTnLst>
                              <p:par>
                                <p:cTn id="2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70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35268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210760" y="28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430080" y="28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480060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WordArt 13" descr=""/>
          <p:cNvPicPr/>
          <p:nvPr/>
        </p:nvPicPr>
        <p:blipFill>
          <a:blip r:embed="rId2"/>
          <a:stretch/>
        </p:blipFill>
        <p:spPr>
          <a:xfrm>
            <a:off x="-968400" y="1550880"/>
            <a:ext cx="2408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258920" y="1628280"/>
            <a:ext cx="611964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烙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张饼需要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分钟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　烙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张饼的最佳方案需要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分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354920" y="3933000"/>
            <a:ext cx="7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每次烙饼，锅里都有两张饼，速度最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654120" y="2874240"/>
            <a:ext cx="79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火车站附近的烙饼店来了五位顾客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每人想买一个饼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急着赶火车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限定时间不能超过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5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分钟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烙熟一个饼的两面各需要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分钟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店里唯一的烙饼锅一次只能放两个饼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同学们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们说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这三个顾客能吃上烙饼吗 </a:t>
            </a:r>
            <a:r>
              <a:rPr b="0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971640" y="1700280"/>
            <a:ext cx="48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187280" y="1700280"/>
            <a:ext cx="58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684360" y="907920"/>
            <a:ext cx="13716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8101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烙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张饼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怎样烙最省时间 谁来介绍一下方法 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24000" y="3789360"/>
            <a:ext cx="88200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烙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张呢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张呢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怎样烙最省时间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例题２图片"/>
          <p:cNvPicPr/>
          <p:nvPr/>
        </p:nvPicPr>
        <p:blipFill>
          <a:blip r:embed="rId1"/>
          <a:srcRect l="21382" t="0" r="10990" b="68692"/>
          <a:stretch/>
        </p:blipFill>
        <p:spPr>
          <a:xfrm>
            <a:off x="144360" y="117360"/>
            <a:ext cx="896472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例题２图片"/>
          <p:cNvPicPr/>
          <p:nvPr/>
        </p:nvPicPr>
        <p:blipFill>
          <a:blip r:embed="rId1"/>
          <a:srcRect l="18299" t="30619" r="61048" b="56830"/>
          <a:stretch/>
        </p:blipFill>
        <p:spPr>
          <a:xfrm>
            <a:off x="1042920" y="19162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例题２图片"/>
          <p:cNvPicPr/>
          <p:nvPr/>
        </p:nvPicPr>
        <p:blipFill>
          <a:blip r:embed="rId2"/>
          <a:srcRect l="39483" t="30934" r="37958" b="56806"/>
          <a:stretch/>
        </p:blipFill>
        <p:spPr>
          <a:xfrm>
            <a:off x="3203640" y="2060640"/>
            <a:ext cx="1584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4"/>
          <p:cNvGrpSpPr/>
          <p:nvPr/>
        </p:nvGrpSpPr>
        <p:grpSpPr>
          <a:xfrm>
            <a:off x="5508720" y="1557360"/>
            <a:ext cx="1728720" cy="1726920"/>
            <a:chOff x="5508720" y="1557360"/>
            <a:chExt cx="1728720" cy="1726920"/>
          </a:xfrm>
        </p:grpSpPr>
        <p:pic>
          <p:nvPicPr>
            <p:cNvPr id="189" name="Picture 5" descr="例题２图片"/>
            <p:cNvPicPr/>
            <p:nvPr/>
          </p:nvPicPr>
          <p:blipFill>
            <a:blip r:embed="rId3"/>
            <a:srcRect l="70645" t="29045" r="11901" b="60341"/>
            <a:stretch/>
          </p:blipFill>
          <p:spPr>
            <a:xfrm>
              <a:off x="5653080" y="155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6" descr="例题２图片"/>
            <p:cNvPicPr/>
            <p:nvPr/>
          </p:nvPicPr>
          <p:blipFill>
            <a:blip r:embed="rId4"/>
            <a:srcRect l="65738" t="38750" r="12050" b="57354"/>
            <a:stretch/>
          </p:blipFill>
          <p:spPr>
            <a:xfrm>
              <a:off x="5508720" y="2852640"/>
              <a:ext cx="172872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Picture 7" descr="例题２图片"/>
          <p:cNvPicPr/>
          <p:nvPr/>
        </p:nvPicPr>
        <p:blipFill>
          <a:blip r:embed="rId5"/>
          <a:srcRect l="19261" t="43485" r="59274" b="43485"/>
          <a:stretch/>
        </p:blipFill>
        <p:spPr>
          <a:xfrm>
            <a:off x="826920" y="3500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例题２图片"/>
          <p:cNvPicPr/>
          <p:nvPr/>
        </p:nvPicPr>
        <p:blipFill>
          <a:blip r:embed="rId6"/>
          <a:srcRect l="40859" t="42284" r="35952" b="44022"/>
          <a:stretch/>
        </p:blipFill>
        <p:spPr>
          <a:xfrm>
            <a:off x="3203640" y="384012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例题２图片"/>
          <p:cNvPicPr/>
          <p:nvPr/>
        </p:nvPicPr>
        <p:blipFill>
          <a:blip r:embed="rId7"/>
          <a:srcRect l="66203" t="41876" r="12415" b="43567"/>
          <a:stretch/>
        </p:blipFill>
        <p:spPr>
          <a:xfrm>
            <a:off x="5651640" y="3767040"/>
            <a:ext cx="1584360" cy="153360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7"/>
          <p:cNvSpPr txBox="1"/>
          <p:nvPr/>
        </p:nvSpPr>
        <p:spPr>
          <a:xfrm>
            <a:off x="468360" y="836640"/>
            <a:ext cx="6048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沏茶前要做些什么事呢？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例题２图片"/>
          <p:cNvPicPr/>
          <p:nvPr/>
        </p:nvPicPr>
        <p:blipFill>
          <a:blip r:embed="rId1"/>
          <a:srcRect l="18299" t="30619" r="61048" b="56830"/>
          <a:stretch/>
        </p:blipFill>
        <p:spPr>
          <a:xfrm>
            <a:off x="1042920" y="19162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例题２图片"/>
          <p:cNvPicPr/>
          <p:nvPr/>
        </p:nvPicPr>
        <p:blipFill>
          <a:blip r:embed="rId2"/>
          <a:srcRect l="39483" t="30934" r="37958" b="56806"/>
          <a:stretch/>
        </p:blipFill>
        <p:spPr>
          <a:xfrm>
            <a:off x="3203640" y="2060640"/>
            <a:ext cx="1584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4"/>
          <p:cNvGrpSpPr/>
          <p:nvPr/>
        </p:nvGrpSpPr>
        <p:grpSpPr>
          <a:xfrm>
            <a:off x="5508720" y="1557360"/>
            <a:ext cx="1728720" cy="1726920"/>
            <a:chOff x="5508720" y="1557360"/>
            <a:chExt cx="1728720" cy="1726920"/>
          </a:xfrm>
        </p:grpSpPr>
        <p:pic>
          <p:nvPicPr>
            <p:cNvPr id="198" name="Picture 5" descr="例题２图片"/>
            <p:cNvPicPr/>
            <p:nvPr/>
          </p:nvPicPr>
          <p:blipFill>
            <a:blip r:embed="rId3"/>
            <a:srcRect l="70645" t="29045" r="11901" b="60341"/>
            <a:stretch/>
          </p:blipFill>
          <p:spPr>
            <a:xfrm>
              <a:off x="5653080" y="155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" descr="例题２图片"/>
            <p:cNvPicPr/>
            <p:nvPr/>
          </p:nvPicPr>
          <p:blipFill>
            <a:blip r:embed="rId4"/>
            <a:srcRect l="65738" t="38750" r="12050" b="57354"/>
            <a:stretch/>
          </p:blipFill>
          <p:spPr>
            <a:xfrm>
              <a:off x="5508720" y="2852640"/>
              <a:ext cx="172872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7" descr="例题２图片"/>
          <p:cNvPicPr/>
          <p:nvPr/>
        </p:nvPicPr>
        <p:blipFill>
          <a:blip r:embed="rId5"/>
          <a:srcRect l="19261" t="43485" r="59274" b="43485"/>
          <a:stretch/>
        </p:blipFill>
        <p:spPr>
          <a:xfrm>
            <a:off x="826920" y="3500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例题２图片"/>
          <p:cNvPicPr/>
          <p:nvPr/>
        </p:nvPicPr>
        <p:blipFill>
          <a:blip r:embed="rId6"/>
          <a:srcRect l="40859" t="42284" r="35952" b="44022"/>
          <a:stretch/>
        </p:blipFill>
        <p:spPr>
          <a:xfrm>
            <a:off x="3203640" y="384012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例题２图片"/>
          <p:cNvPicPr/>
          <p:nvPr/>
        </p:nvPicPr>
        <p:blipFill>
          <a:blip r:embed="rId7"/>
          <a:srcRect l="66203" t="41876" r="12415" b="43567"/>
          <a:stretch/>
        </p:blipFill>
        <p:spPr>
          <a:xfrm>
            <a:off x="5435640" y="3716280"/>
            <a:ext cx="1584360" cy="1533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2544840" y="54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怎样才能让客人尽快喝上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698040" y="1843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3217320" y="1843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5233320" y="17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769320" y="35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3145680" y="36442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5377680" y="35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6"/>
          <p:cNvSpPr txBox="1"/>
          <p:nvPr/>
        </p:nvSpPr>
        <p:spPr>
          <a:xfrm>
            <a:off x="468360" y="260280"/>
            <a:ext cx="1800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流程图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11" name="Group 30"/>
          <p:cNvGrpSpPr/>
          <p:nvPr/>
        </p:nvGrpSpPr>
        <p:grpSpPr>
          <a:xfrm>
            <a:off x="3059280" y="3499560"/>
            <a:ext cx="1511280" cy="1224360"/>
            <a:chOff x="3059280" y="3499560"/>
            <a:chExt cx="1511280" cy="1224360"/>
          </a:xfrm>
        </p:grpSpPr>
        <p:grpSp>
          <p:nvGrpSpPr>
            <p:cNvPr id="212" name="Group 9"/>
            <p:cNvGrpSpPr/>
            <p:nvPr/>
          </p:nvGrpSpPr>
          <p:grpSpPr>
            <a:xfrm>
              <a:off x="3059280" y="3500280"/>
              <a:ext cx="1511280" cy="1223640"/>
              <a:chOff x="3059280" y="3500280"/>
              <a:chExt cx="1511280" cy="1223640"/>
            </a:xfrm>
          </p:grpSpPr>
          <p:pic>
            <p:nvPicPr>
              <p:cNvPr id="213" name="Picture 10" descr="例题２图片"/>
              <p:cNvPicPr/>
              <p:nvPr/>
            </p:nvPicPr>
            <p:blipFill>
              <a:blip r:embed="rId1"/>
              <a:srcRect l="70645" t="29045" r="11901" b="60341"/>
              <a:stretch/>
            </p:blipFill>
            <p:spPr>
              <a:xfrm>
                <a:off x="3185280" y="3500280"/>
                <a:ext cx="1384920" cy="9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1" descr="例题２图片"/>
              <p:cNvPicPr/>
              <p:nvPr/>
            </p:nvPicPr>
            <p:blipFill>
              <a:blip r:embed="rId2"/>
              <a:srcRect l="65738" t="38750" r="12050" b="57354"/>
              <a:stretch/>
            </p:blipFill>
            <p:spPr>
              <a:xfrm>
                <a:off x="3059280" y="4418280"/>
                <a:ext cx="1511280" cy="30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Rectangle 18"/>
            <p:cNvSpPr/>
            <p:nvPr/>
          </p:nvSpPr>
          <p:spPr>
            <a:xfrm>
              <a:off x="3217320" y="349956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④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31"/>
          <p:cNvGrpSpPr/>
          <p:nvPr/>
        </p:nvGrpSpPr>
        <p:grpSpPr>
          <a:xfrm>
            <a:off x="4932360" y="3572640"/>
            <a:ext cx="1368360" cy="1150200"/>
            <a:chOff x="4932360" y="3572640"/>
            <a:chExt cx="1368360" cy="1150200"/>
          </a:xfrm>
        </p:grpSpPr>
        <p:pic>
          <p:nvPicPr>
            <p:cNvPr id="217" name="Picture 13" descr="例题２图片"/>
            <p:cNvPicPr/>
            <p:nvPr/>
          </p:nvPicPr>
          <p:blipFill>
            <a:blip r:embed="rId3"/>
            <a:srcRect l="40859" t="42284" r="35952" b="44022"/>
            <a:stretch/>
          </p:blipFill>
          <p:spPr>
            <a:xfrm>
              <a:off x="4932360" y="3573360"/>
              <a:ext cx="13683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19"/>
            <p:cNvSpPr/>
            <p:nvPr/>
          </p:nvSpPr>
          <p:spPr>
            <a:xfrm>
              <a:off x="4946040" y="35726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⑤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7"/>
          <p:cNvGrpSpPr/>
          <p:nvPr/>
        </p:nvGrpSpPr>
        <p:grpSpPr>
          <a:xfrm>
            <a:off x="6012000" y="1341360"/>
            <a:ext cx="1296720" cy="1255680"/>
            <a:chOff x="6012000" y="1341360"/>
            <a:chExt cx="1296720" cy="1255680"/>
          </a:xfrm>
        </p:grpSpPr>
        <p:pic>
          <p:nvPicPr>
            <p:cNvPr id="220" name="Picture 14" descr="例题２图片"/>
            <p:cNvPicPr/>
            <p:nvPr/>
          </p:nvPicPr>
          <p:blipFill>
            <a:blip r:embed="rId4"/>
            <a:srcRect l="66203" t="41876" r="12415" b="43567"/>
            <a:stretch/>
          </p:blipFill>
          <p:spPr>
            <a:xfrm>
              <a:off x="6012000" y="1341360"/>
              <a:ext cx="12967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20"/>
            <p:cNvSpPr/>
            <p:nvPr/>
          </p:nvSpPr>
          <p:spPr>
            <a:xfrm>
              <a:off x="6084720" y="14122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2"/>
          <p:cNvGrpSpPr/>
          <p:nvPr/>
        </p:nvGrpSpPr>
        <p:grpSpPr>
          <a:xfrm>
            <a:off x="250920" y="1473840"/>
            <a:ext cx="2016000" cy="1162800"/>
            <a:chOff x="250920" y="1473840"/>
            <a:chExt cx="2016000" cy="1162800"/>
          </a:xfrm>
        </p:grpSpPr>
        <p:pic>
          <p:nvPicPr>
            <p:cNvPr id="223" name="Picture 8" descr="例题２图片"/>
            <p:cNvPicPr/>
            <p:nvPr/>
          </p:nvPicPr>
          <p:blipFill>
            <a:blip r:embed="rId5"/>
            <a:srcRect l="39483" t="30934" r="37958" b="56806"/>
            <a:stretch/>
          </p:blipFill>
          <p:spPr>
            <a:xfrm>
              <a:off x="250920" y="1483560"/>
              <a:ext cx="1584360" cy="11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5"/>
            <p:cNvSpPr/>
            <p:nvPr/>
          </p:nvSpPr>
          <p:spPr>
            <a:xfrm>
              <a:off x="264600" y="14738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1763640" y="202644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5"/>
          <p:cNvGrpSpPr/>
          <p:nvPr/>
        </p:nvGrpSpPr>
        <p:grpSpPr>
          <a:xfrm>
            <a:off x="2268360" y="1412280"/>
            <a:ext cx="1872000" cy="1242000"/>
            <a:chOff x="2268360" y="1412280"/>
            <a:chExt cx="1872000" cy="1242000"/>
          </a:xfrm>
        </p:grpSpPr>
        <p:pic>
          <p:nvPicPr>
            <p:cNvPr id="227" name="Picture 12" descr="例题２图片"/>
            <p:cNvPicPr/>
            <p:nvPr/>
          </p:nvPicPr>
          <p:blipFill>
            <a:blip r:embed="rId6"/>
            <a:srcRect l="19261" t="43485" r="59274" b="43485"/>
            <a:stretch/>
          </p:blipFill>
          <p:spPr>
            <a:xfrm>
              <a:off x="2268360" y="1413000"/>
              <a:ext cx="144000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16"/>
            <p:cNvSpPr/>
            <p:nvPr/>
          </p:nvSpPr>
          <p:spPr>
            <a:xfrm>
              <a:off x="2282040" y="14122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②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3708360" y="1989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6"/>
          <p:cNvGrpSpPr/>
          <p:nvPr/>
        </p:nvGrpSpPr>
        <p:grpSpPr>
          <a:xfrm>
            <a:off x="4140360" y="1340640"/>
            <a:ext cx="1871640" cy="1243800"/>
            <a:chOff x="4140360" y="1340640"/>
            <a:chExt cx="1871640" cy="1243800"/>
          </a:xfrm>
        </p:grpSpPr>
        <p:pic>
          <p:nvPicPr>
            <p:cNvPr id="231" name="Picture 7" descr="例题２图片"/>
            <p:cNvPicPr/>
            <p:nvPr/>
          </p:nvPicPr>
          <p:blipFill>
            <a:blip r:embed="rId7"/>
            <a:srcRect l="18299" t="30619" r="61048" b="56830"/>
            <a:stretch/>
          </p:blipFill>
          <p:spPr>
            <a:xfrm>
              <a:off x="4140360" y="1341360"/>
              <a:ext cx="14396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17"/>
            <p:cNvSpPr/>
            <p:nvPr/>
          </p:nvSpPr>
          <p:spPr>
            <a:xfrm>
              <a:off x="4153680" y="13406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③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>
              <a:off x="5580000" y="191628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Line 28"/>
          <p:cNvSpPr/>
          <p:nvPr/>
        </p:nvSpPr>
        <p:spPr>
          <a:xfrm flipH="1">
            <a:off x="3887640" y="2565360"/>
            <a:ext cx="540000" cy="9349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9"/>
          <p:cNvSpPr/>
          <p:nvPr/>
        </p:nvSpPr>
        <p:spPr>
          <a:xfrm>
            <a:off x="5148360" y="2565360"/>
            <a:ext cx="623880" cy="10796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1187280" y="530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1979640" y="530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分钟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2843280" y="530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分钟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3708360" y="530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457200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分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2340000" y="1773360"/>
            <a:ext cx="489600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7E3-DA37-4874-9E6D-5D3FD1CD32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如果烙熟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张饼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最少需要几分钟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1844640"/>
            <a:ext cx="843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如果烙熟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张饼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最少需要几分钟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5280" y="3357720"/>
            <a:ext cx="46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那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张饼怎么烙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4581360"/>
            <a:ext cx="882000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张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,8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张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, ……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最少需要多少时间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2060640"/>
            <a:ext cx="809928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）请同学们静静的想一想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你打算怎么烙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用了几分钟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它是最少时间吗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?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）有了想法后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先独自用老师发给你的材料动手烙一烙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然后用自己的语言把烙的过程轻轻的说过同桌听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611280" y="884160"/>
            <a:ext cx="7056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如果烙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3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张饼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,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隶书"/>
              </a:rPr>
              <a:t>怎样烙最省时呢？ 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7"/>
          <p:cNvSpPr/>
          <p:nvPr/>
        </p:nvSpPr>
        <p:spPr>
          <a:xfrm>
            <a:off x="4154400" y="150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3348000" y="1267200"/>
            <a:ext cx="2851200" cy="1960920"/>
            <a:chOff x="3348000" y="1267200"/>
            <a:chExt cx="2851200" cy="1960920"/>
          </a:xfrm>
        </p:grpSpPr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3851280" y="1341000"/>
              <a:ext cx="2347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/>
            <p:cNvSpPr/>
            <p:nvPr/>
          </p:nvSpPr>
          <p:spPr>
            <a:xfrm>
              <a:off x="4919760" y="2768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cc"/>
                  </a:solidFill>
                  <a:latin typeface="Arial"/>
                </a:rPr>
                <a:t>一次能放两个烧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3348000" y="126720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②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9280" y="3427920"/>
            <a:ext cx="2573640" cy="1487880"/>
            <a:chOff x="3509280" y="3427920"/>
            <a:chExt cx="2573640" cy="1487880"/>
          </a:xfrm>
        </p:grpSpPr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3920760" y="3597120"/>
              <a:ext cx="100836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9" descr=""/>
            <p:cNvPicPr/>
            <p:nvPr/>
          </p:nvPicPr>
          <p:blipFill>
            <a:blip r:embed="rId3"/>
            <a:stretch/>
          </p:blipFill>
          <p:spPr>
            <a:xfrm>
              <a:off x="4930560" y="3573360"/>
              <a:ext cx="1152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0"/>
            <p:cNvSpPr/>
            <p:nvPr/>
          </p:nvSpPr>
          <p:spPr>
            <a:xfrm>
              <a:off x="4566600" y="4456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c00"/>
                  </a:solidFill>
                  <a:latin typeface="Arial"/>
                </a:rPr>
                <a:t>每个饼要烙两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3509280" y="34279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③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9"/>
          <p:cNvGrpSpPr/>
          <p:nvPr/>
        </p:nvGrpSpPr>
        <p:grpSpPr>
          <a:xfrm>
            <a:off x="2717280" y="5588280"/>
            <a:ext cx="4336560" cy="486360"/>
            <a:chOff x="2717280" y="5588280"/>
            <a:chExt cx="4336560" cy="486360"/>
          </a:xfrm>
        </p:grpSpPr>
        <p:sp>
          <p:nvSpPr>
            <p:cNvPr id="66" name="Text Box 11"/>
            <p:cNvSpPr/>
            <p:nvPr/>
          </p:nvSpPr>
          <p:spPr>
            <a:xfrm>
              <a:off x="4129920" y="56149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每个饼每面要烙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３分钟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才熟！！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2717280" y="5588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④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WordArt 20" descr=""/>
          <p:cNvPicPr/>
          <p:nvPr/>
        </p:nvPicPr>
        <p:blipFill>
          <a:blip r:embed="rId4"/>
          <a:stretch/>
        </p:blipFill>
        <p:spPr>
          <a:xfrm>
            <a:off x="1181160" y="1838160"/>
            <a:ext cx="588960" cy="311004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"/>
          <p:cNvSpPr/>
          <p:nvPr/>
        </p:nvSpPr>
        <p:spPr>
          <a:xfrm>
            <a:off x="692280" y="433440"/>
            <a:ext cx="89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71" name="Oval 3"/>
          <p:cNvSpPr/>
          <p:nvPr/>
        </p:nvSpPr>
        <p:spPr>
          <a:xfrm>
            <a:off x="502920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6" descr=""/>
          <p:cNvPicPr/>
          <p:nvPr/>
        </p:nvPicPr>
        <p:blipFill>
          <a:blip r:embed="rId2"/>
          <a:stretch/>
        </p:blipFill>
        <p:spPr>
          <a:xfrm>
            <a:off x="-851040" y="1838160"/>
            <a:ext cx="391968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76" name="Oval 3"/>
          <p:cNvSpPr/>
          <p:nvPr/>
        </p:nvSpPr>
        <p:spPr>
          <a:xfrm>
            <a:off x="502920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352680" y="15238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8" descr=""/>
          <p:cNvPicPr/>
          <p:nvPr/>
        </p:nvPicPr>
        <p:blipFill>
          <a:blip r:embed="rId2"/>
          <a:stretch/>
        </p:blipFill>
        <p:spPr>
          <a:xfrm>
            <a:off x="-1003320" y="2486160"/>
            <a:ext cx="2484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83" name="Oval 3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4038480" y="17524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ordArt 8" descr=""/>
          <p:cNvPicPr/>
          <p:nvPr/>
        </p:nvPicPr>
        <p:blipFill>
          <a:blip r:embed="rId2"/>
          <a:stretch/>
        </p:blipFill>
        <p:spPr>
          <a:xfrm>
            <a:off x="-1133640" y="2486160"/>
            <a:ext cx="24717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90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 flipH="1">
            <a:off x="1676520" y="281952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WordArt 8" descr=""/>
          <p:cNvPicPr/>
          <p:nvPr/>
        </p:nvPicPr>
        <p:blipFill>
          <a:blip r:embed="rId2"/>
          <a:stretch/>
        </p:blipFill>
        <p:spPr>
          <a:xfrm>
            <a:off x="-1133640" y="1909800"/>
            <a:ext cx="24717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9:51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13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