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09E8-DABE-4D76-844F-BDEEE4FE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A7C2-25DF-4D7E-A4E9-1E6114F3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C205-FB54-4F7E-AD4B-9F9196D1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69F4-36A8-4308-A362-19BEAAF7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E48-9E3E-49F6-892E-F169A93E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48E-AC38-41E3-B990-C416FD01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AC2-2347-4604-95C0-0C650B2B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CE4D-1442-465B-A68C-06DF263B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F5D6-C278-4B32-93A3-0132C829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1F84-5B13-4191-A9EA-CC62A24E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C2E0-2096-40DF-A50E-FF83305F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B896-45C7-4AC2-BEC4-C335D771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371D-FE05-4C03-9797-DEE977E5E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file:///tmp/home/.config/libreoffice/4/user/gallery/suction.wav" TargetMode="Externa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-2052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2556000" y="911160"/>
            <a:ext cx="3743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宋体"/>
              </a:rPr>
              <a:t>山雨</a:t>
            </a:r>
            <a:endParaRPr b="0" lang="en-US" sz="2800" spc="-1" strike="noStrike">
              <a:ln w="0">
                <a:noFill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2383560" y="60721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0065871922797">
            <a:hlinkClick r:id="" action="ppaction://hlinkshowjump?jump=nextslide"/>
            <a:hlinkClick r:id="rId16"/>
          </p:cNvPr>
          <p:cNvPicPr/>
          <p:nvPr/>
        </p:nvPicPr>
        <p:blipFill>
          <a:blip r:embed="rId17"/>
          <a:srcRect l="0" t="381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6"/>
          <p:cNvSpPr txBox="1"/>
          <p:nvPr/>
        </p:nvSpPr>
        <p:spPr>
          <a:xfrm>
            <a:off x="1187280" y="765000"/>
            <a:ext cx="3672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雨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悄悄地来了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3401485720070614203328718_00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912960" y="836640"/>
            <a:ext cx="850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99"/>
                </a:solidFill>
                <a:latin typeface="Arial"/>
                <a:ea typeface="楷体_GB2312"/>
              </a:rPr>
              <a:t>荷塘雨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41-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2700360" y="765000"/>
            <a:ext cx="3816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雨后彩虹</a:t>
            </a:r>
            <a:endParaRPr b="0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文本框 1"/>
          <p:cNvSpPr/>
          <p:nvPr/>
        </p:nvSpPr>
        <p:spPr>
          <a:xfrm>
            <a:off x="968400" y="4775040"/>
            <a:ext cx="61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3645353220070606101422201_000"/>
          <p:cNvPicPr/>
          <p:nvPr/>
        </p:nvPicPr>
        <p:blipFill>
          <a:blip r:embed="rId1"/>
          <a:stretch/>
        </p:blipFill>
        <p:spPr>
          <a:xfrm>
            <a:off x="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211640" y="62064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66ff"/>
                </a:solidFill>
                <a:latin typeface="Arial"/>
                <a:ea typeface="楷体_GB2312"/>
              </a:rPr>
              <a:t>雨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476360" y="62064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课堂小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未命名"/>
          <p:cNvPicPr/>
          <p:nvPr/>
        </p:nvPicPr>
        <p:blipFill>
          <a:blip r:embed="rId1"/>
          <a:stretch/>
        </p:blipFill>
        <p:spPr>
          <a:xfrm>
            <a:off x="4284720" y="40464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1042920" y="1916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作者听到了什么？观察到了什么？请用课文里的话回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187280" y="2708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Arial"/>
                <a:ea typeface="楷体_GB2312"/>
              </a:rPr>
              <a:t>答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cc66ff"/>
                </a:solidFill>
                <a:latin typeface="Arial"/>
                <a:ea typeface="楷体_GB2312"/>
              </a:rPr>
              <a:t>先是听见山雨的声音，接着看到山雨改变了山林的颜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187280" y="407664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33cccc"/>
                </a:solidFill>
                <a:latin typeface="Arial"/>
                <a:ea typeface="楷体_GB2312"/>
              </a:rPr>
              <a:t>思考：作者描绘了一幅多姿多彩的山林雨景，他观察到了什么？倾听到了什么？找到有关的句子划下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未命名"/>
          <p:cNvPicPr/>
          <p:nvPr/>
        </p:nvPicPr>
        <p:blipFill>
          <a:blip r:embed="rId2"/>
          <a:stretch/>
        </p:blipFill>
        <p:spPr>
          <a:xfrm>
            <a:off x="6948360" y="5229360"/>
            <a:ext cx="9367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E150-690D-41C8-AF23-669C8F0FFD3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4T10:04:00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50:04Z</dcterms:modified>
  <cp:revision>6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