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D9B0-81FE-4EAF-8648-255F34AF4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1D02-0F93-45A5-A49C-F34F6CF22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A7A-5B8F-4DAD-AED3-0149C0A9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64D-CF03-4578-99EF-363BB92D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03D60-0C7E-41F4-AE3B-2E08907A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FBF5B-F4FF-489F-B257-62795EE9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1AB28-2E0D-426C-8BD2-E5A435B3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3C2CE-5188-4471-9159-3478D3F2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4BC1F-3143-4236-8ED5-4245F9AE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AC8F4-515F-490D-8FE5-70D0979F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6F30F-06E0-478A-B650-F6DFCC8C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2B020-2E68-4A27-8FCD-451CE6A1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FFC88-AFAE-4951-A4E9-5584D51E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340BE-1266-4F84-A6F8-85F6BB7C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7F3-CAD2-49F4-8709-06325FCB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0A5B5-D4B0-4D04-ACB3-290A6268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F626A-F18B-496E-98BA-7CA2BC29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761CD-1725-44DF-814F-C5A96A6A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83892-A46C-4D7E-AF05-BAE5541D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0097C-2EC8-4E50-8D4F-693C813A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DBA97-EF2E-47C2-973E-8411C698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30086-0050-455F-9E47-9721D61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16013-761A-45DA-BF11-FC68F54A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1A3EA-5607-4C8D-BFD8-86F754B2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F5C25-15C2-4C32-9F9B-52695E88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955-C4B1-4CF2-B266-1E26449C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BF885-B064-48F3-9E7C-AA1FB8A1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72574-C36F-495C-B9E3-E5F098CA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1FF14-ED1F-4C0C-AD2C-D35DA13C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D1C42-AE07-4C10-B485-1178AE8E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B1846-4C39-496D-A5C2-C2336DD2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89F19-50A8-4BBB-AB8E-ADEFA9CD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82041-BE74-4CDA-A649-D77C36B7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21DE8-472A-4776-9F10-CC25B3BF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34526-C325-4F7C-BF5D-20E9E8AD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B2189-7DD1-44A3-80D6-B170757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F19F-895D-4DFF-977F-9E0FBA2C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0C1E3-A8EB-453A-9A29-74F1C1C2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6349D-79BF-4D3D-B914-AFB62C6F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9F4F8-AFD5-45E2-A784-4155F9F3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48C6D-D12C-4BB6-B33D-B633D8DC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E202E-0990-4B55-BF2E-BE44AFC7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FD404-6945-497F-91BB-C1B23D21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44D7C-8BAD-47E5-8A4E-FAC02D73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E6DDC-A184-43A9-AECE-6C8B09BA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D234B-F8AE-4579-A671-EBF00AF1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602F8-7B23-4278-82EE-5690FEC5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F291-9A82-43DC-8C0F-CF61CB31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EAB48-FF1F-4E98-AB0C-D944C3C8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ECDE6-7041-4EC2-8D82-C822D84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3B75A-A007-47E6-BEC1-677653E5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5C45D-64C6-4D26-9CD7-01BE7821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6CB90-BBC0-438A-B5CC-404AA555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8FC61-85FE-46CE-B264-5FCE7849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FE3F9-A639-4876-BEAC-1526A01F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90BED-4924-4569-939F-A372E644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D8400-8D12-4BCF-836B-7E63974D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8DF74-6B3D-49B3-BC37-D33FE7AF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B57C-458E-4C8D-9702-5169D628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2AB42A-11E1-45C1-A2CC-BDB1C982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3E4E1-D61B-4C49-9DD6-7B5D03C2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2BB7B-7865-4E16-AA0D-E59001D2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BB152-347B-4485-BFEA-A73122CF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EE798-6E3E-4454-9C8E-20FAF0B2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9C89D-F5EC-484E-B960-7B039B3C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AA70C-21D7-40A2-89DF-77E754EC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7530-5D69-445A-BDD1-331A394A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DCCA-21FE-488E-AF9C-35787556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F250-DFA5-4997-AFB2-43C6ED7C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6891-E7C7-4522-A069-E129CFAE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A1A-E109-45CF-A7DF-20E665EA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DFBD-5056-404F-86F9-FF5D667F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F685-1B45-4532-B7A2-42E8564B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7B43-3167-46A4-9356-9CDCA751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36D4-C4AE-4262-938F-2A794B2E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F673-B67F-4F84-A5FC-5AFC0710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8E876-B06C-4528-BC41-6AADFFD7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39E4-3AF7-4E32-8F69-4122A85F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DC1B-A844-4257-AE94-EA9953A5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30E3-01C2-4C91-ADB6-B4B6B0D7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067DF-B5AD-4D43-9CEC-41D62EA4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C00-47B2-4CB9-97CA-1A87BB93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A47E-5C1C-4A2C-996F-D901B6CB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291A-3518-41EA-AE49-58DD0C81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AA7C3-CF38-460B-9E54-1B1AEEE0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3A60F-2560-4794-AFFF-658AD84A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F96DC-A253-4FFB-854C-E8119478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3B0A-1717-4EAB-B554-005E9685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C9C9-B8EC-4F2B-AAF4-FBA8810E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EC096-1796-45C1-9D71-E1FC0CB5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84DEB-A4C7-460C-809A-8F6EB7C8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2F8B-59FD-4576-8AC4-72C1720F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346-8C0E-4C95-AF23-1DA1AB67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2A167-8D5B-4BDA-AB46-6F5BBE32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A64D3-09F2-4860-88E8-86FB09FB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9223-0082-4071-B198-1B7BC65A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C581D-4C73-4984-BCAB-59C95A73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83473-5D35-4714-884C-707E55B7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FAB0-4B04-40F5-BBE2-F2575708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8C58-22D1-4EC7-B19E-CA39BD0B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3CAD3-18A2-46EF-8B6F-1295CDC3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B901-DE78-4D88-B74E-CB35CEDE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DB94A-0909-4A56-9039-9EBDEE66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044-27FE-4B5E-9781-1D2F446C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92E2F-3DCA-42AD-9125-21C8B081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BC3F7-0090-4637-8369-16D1E6D9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C649B-F5A8-4B6C-B020-3140BDF8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3FAC-3B03-4E9C-A98C-13055F93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2977E-F5A1-4A96-BF43-CFC78E9B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5F40-FDF0-49CA-B755-54C848C6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9F198-09CC-4DB1-B3A9-AA3DD939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A2D6-C0D6-4D46-81E5-3152DC5C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5CFB4-D913-4C13-8637-A6DEE0A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46AE-C21F-4142-8ADE-5CC42FDD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34A-67B7-4B33-B00C-2BE0C5FC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4D65-3EA6-4764-AC70-17BB3730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B715C-4C7C-4A68-9B16-C0E9A303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79948-FC30-41A6-BAA5-E6A4EC25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A6563-6874-4940-83C7-A92E513B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4ED63-363F-437F-B5F8-48B51816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77482-8850-4BB9-BDBA-C4CDC667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CBC43-C848-4111-B9B4-A59C3102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6520C-3339-4C72-AF21-C2A7C242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1240-D64B-43AC-BF38-BF368BE0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1DDF0-54A6-4246-B45F-DB5C8619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7DE-34A5-4E07-A58E-11ADAD42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9A17C-0BD4-4079-A70A-F0068EB7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346CD-51FF-4703-9D77-01DEDB27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239D5-6627-48AA-BA15-0106B65E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11101-C95B-4B26-9259-9770C09E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A04BE-D907-46FE-9622-4EDFD6E8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94A7E-E5AC-4395-BDF2-097E689A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4D4E1-F6D7-47EE-A2AA-EE0A63C2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146DC-183B-4C4D-9F6E-1C699945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50AF0-2F3A-46B5-8186-626667B6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86C73-ED1F-42BF-8B86-E48DA1ED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1AB-27DA-4068-9A4B-C23F14BF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A48F1-8FBB-42AC-9A3D-4077D77B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9E8B3-6D75-4D74-9E54-566BCFE3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4DCE4-8651-4100-80A7-2B053453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40F0F-E61A-4743-BDDB-704E891E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FE665-69B8-41C8-9479-FC6FC4B5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53DD3-12F1-48E6-8A6B-BA0A8E97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56C5E-AFA6-42DB-B561-42BD24C8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B8A19-48C4-4096-B892-2B003145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65E5A-FF8F-4D1E-9A13-14F06E21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DE896-541A-4F43-8EB2-BC65D061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3BF-38F4-4CFD-B906-4F26FE26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9BF58-09BE-4D35-93C7-A239ADC5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85F95-ABC6-4A3A-B594-79BEC3D7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3436C-1960-4026-ACC4-38AA7B2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47D28-6694-4E14-9528-709CDC35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34231-5851-4637-B9AC-C6E8A685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07396-DCDD-420D-BEB0-B6493C20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BE8A9-F5A7-4A2B-BB0A-06938069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7C5E5-E320-40D9-A674-6284BA34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1E003-101D-4BD8-BD0D-06C35907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C1C41-1F7B-4485-8B19-4091D75A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1ADD-21A1-48CE-9BBF-9F7B95AAF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D57F-CA79-417E-B877-E08D9B036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A6BE-219F-4AF5-86CD-9A59DE3DD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45DE-8715-4F0D-A173-0E07E4595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DD8B-E41E-4BEA-8AF6-CB5CE791A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25F4-D7DC-4159-930A-96077CFA4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71C6-4252-48F4-971A-BA06699BF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4AAC-F425-46FD-AAD3-F6A4FD7DC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721F-4D59-401A-94E5-9D9E4C720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4E53-A080-476A-B25B-6D793ADA8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D635-F0A0-452D-A1A3-969E9DBCC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DE7E-E459-43C9-B75A-7734567F1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1019-9522-415C-A781-0A5A8A2F3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75640" cy="326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科学》六年级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下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4400"/>
            </a:br>
            <a:r>
              <a:rPr b="0" lang="zh-CN" sz="12000" spc="-1" strike="noStrike">
                <a:solidFill>
                  <a:srgbClr val="ffffff"/>
                </a:solidFill>
                <a:latin typeface="Arial"/>
                <a:ea typeface="隶书"/>
              </a:rPr>
              <a:t>探索宇宙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2297520" y="609300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f3f4"/>
            </a:gs>
            <a:gs pos="100000">
              <a:srgbClr val="d8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33"/>
                </a:solidFill>
                <a:latin typeface="Arial"/>
              </a:rPr>
              <a:t>你知道那些太空人</a:t>
            </a: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6560" y="4076280"/>
            <a:ext cx="403416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478e"/>
                </a:solidFill>
                <a:latin typeface="Arial"/>
              </a:rPr>
              <a:t>   </a:t>
            </a:r>
            <a:r>
              <a:rPr b="0" lang="zh-CN" sz="3300" spc="-1" strike="noStrike">
                <a:solidFill>
                  <a:srgbClr val="00478e"/>
                </a:solidFill>
                <a:latin typeface="Arial"/>
              </a:rPr>
              <a:t>中国明朝人万户用火箭试验飞行失败而牺牲。这是人类为升空而牺牲的第一人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788000" y="4005360"/>
            <a:ext cx="38988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f6c"/>
                </a:solidFill>
                <a:latin typeface="Arial"/>
              </a:rPr>
              <a:t>   </a:t>
            </a:r>
            <a:r>
              <a:rPr b="0" lang="zh-CN" sz="3300" spc="-1" strike="noStrike">
                <a:solidFill>
                  <a:srgbClr val="006f6c"/>
                </a:solidFill>
                <a:latin typeface="Arial"/>
              </a:rPr>
              <a:t>世界上第一个进入宇宙空间的前苏联航天员加加林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7" descr="图像019"/>
          <p:cNvPicPr/>
          <p:nvPr/>
        </p:nvPicPr>
        <p:blipFill>
          <a:blip r:embed="rId1"/>
          <a:stretch/>
        </p:blipFill>
        <p:spPr>
          <a:xfrm>
            <a:off x="539640" y="1197000"/>
            <a:ext cx="3600720" cy="2592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图像020"/>
          <p:cNvPicPr/>
          <p:nvPr/>
        </p:nvPicPr>
        <p:blipFill>
          <a:blip r:embed="rId2"/>
          <a:stretch/>
        </p:blipFill>
        <p:spPr>
          <a:xfrm>
            <a:off x="5219640" y="1197000"/>
            <a:ext cx="3457800" cy="26636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1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d3f1"/>
            </a:gs>
            <a:gs pos="100000">
              <a:srgbClr val="c5c9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23640" y="4292640"/>
            <a:ext cx="360036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3399ff"/>
                </a:solidFill>
                <a:latin typeface="Arial"/>
              </a:rPr>
              <a:t>中国第一位进入太空的航天员杨利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714560" y="4292640"/>
            <a:ext cx="3817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3399ff"/>
                </a:solidFill>
                <a:latin typeface="Arial"/>
              </a:rPr>
              <a:t>中国“神州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3399ff"/>
                </a:solidFill>
                <a:latin typeface="Arial"/>
              </a:rPr>
              <a:t>号”航天员费俊龙和聂海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7" descr="图像024"/>
          <p:cNvPicPr/>
          <p:nvPr/>
        </p:nvPicPr>
        <p:blipFill>
          <a:blip r:embed="rId1"/>
          <a:stretch/>
        </p:blipFill>
        <p:spPr>
          <a:xfrm>
            <a:off x="466560" y="260280"/>
            <a:ext cx="3673800" cy="38163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图像023"/>
          <p:cNvPicPr/>
          <p:nvPr/>
        </p:nvPicPr>
        <p:blipFill>
          <a:blip r:embed="rId2"/>
          <a:stretch/>
        </p:blipFill>
        <p:spPr>
          <a:xfrm>
            <a:off x="4788000" y="260280"/>
            <a:ext cx="4032000" cy="3816360"/>
          </a:xfrm>
          <a:prstGeom prst="rect">
            <a:avLst/>
          </a:prstGeom>
          <a:ln w="0">
            <a:noFill/>
          </a:ln>
        </p:spPr>
      </p:pic>
      <p:sp>
        <p:nvSpPr>
          <p:cNvPr id="606" name="文本框 1"/>
          <p:cNvSpPr/>
          <p:nvPr/>
        </p:nvSpPr>
        <p:spPr>
          <a:xfrm>
            <a:off x="1508040" y="6245280"/>
            <a:ext cx="565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更多免费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PPT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模板下载：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http://www.eeppt.com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8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8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0f0"/>
            </a:gs>
            <a:gs pos="100000">
              <a:srgbClr val="95c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252360" y="4076280"/>
            <a:ext cx="4176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一个登上月球的美国航天员阿姆斯特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00360" y="4076640"/>
            <a:ext cx="4211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美国“哥伦比亚号”航天飞机上牺牲的七位太空英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7" descr="图像021"/>
          <p:cNvPicPr/>
          <p:nvPr/>
        </p:nvPicPr>
        <p:blipFill>
          <a:blip r:embed="rId1"/>
          <a:stretch/>
        </p:blipFill>
        <p:spPr>
          <a:xfrm>
            <a:off x="395280" y="260280"/>
            <a:ext cx="3778200" cy="34862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图像022"/>
          <p:cNvPicPr/>
          <p:nvPr/>
        </p:nvPicPr>
        <p:blipFill>
          <a:blip r:embed="rId2"/>
          <a:stretch/>
        </p:blipFill>
        <p:spPr>
          <a:xfrm>
            <a:off x="4932360" y="272880"/>
            <a:ext cx="3778200" cy="34992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e5f7"/>
            </a:gs>
            <a:gs pos="100000">
              <a:srgbClr val="b3b3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7"/>
          <p:cNvSpPr/>
          <p:nvPr/>
        </p:nvSpPr>
        <p:spPr>
          <a:xfrm>
            <a:off x="376200" y="31896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982800" y="260280"/>
            <a:ext cx="6912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华文新魏"/>
              </a:rPr>
              <a:t>练一练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395280" y="836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14" name="Rectangle 11"/>
          <p:cNvSpPr/>
          <p:nvPr/>
        </p:nvSpPr>
        <p:spPr>
          <a:xfrm>
            <a:off x="1878120" y="908280"/>
            <a:ext cx="536508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选择正确答案的序号填入题后的括号里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252360" y="1916280"/>
            <a:ext cx="925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1</a:t>
            </a:r>
            <a:r>
              <a:rPr b="0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、人类第一次从太空遥望地球的人是</a:t>
            </a:r>
            <a:r>
              <a:rPr b="0" lang="en-US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-----</a:t>
            </a:r>
            <a:r>
              <a:rPr b="0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（ ）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A</a:t>
            </a:r>
            <a:r>
              <a:rPr b="0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、杨利伟   </a:t>
            </a:r>
            <a:r>
              <a:rPr b="0" lang="en-US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B</a:t>
            </a:r>
            <a:r>
              <a:rPr b="0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、加加林    </a:t>
            </a:r>
            <a:r>
              <a:rPr b="0" lang="en-US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C</a:t>
            </a:r>
            <a:r>
              <a:rPr b="0" lang="zh-CN" sz="32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、阿姆斯特朗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16" name="Text Box 14"/>
          <p:cNvSpPr/>
          <p:nvPr/>
        </p:nvSpPr>
        <p:spPr>
          <a:xfrm>
            <a:off x="85680" y="255096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1592280" y="3592440"/>
            <a:ext cx="6327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、人类为升空而牺牲的第一人是哪国人</a:t>
            </a:r>
            <a:r>
              <a:rPr b="0" lang="en-US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---</a:t>
            </a:r>
            <a:r>
              <a:rPr b="0" lang="zh-CN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（ ）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  </a:t>
            </a:r>
            <a:r>
              <a:rPr b="0" lang="en-US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A</a:t>
            </a:r>
            <a:r>
              <a:rPr b="0" lang="zh-CN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、中国人   </a:t>
            </a:r>
            <a:r>
              <a:rPr b="0" lang="en-US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B</a:t>
            </a:r>
            <a:r>
              <a:rPr b="0" lang="zh-CN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、美国人    </a:t>
            </a:r>
            <a:r>
              <a:rPr b="0" lang="en-US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C</a:t>
            </a:r>
            <a:r>
              <a:rPr b="0" lang="zh-CN" sz="3200" spc="-1" strike="noStrike">
                <a:solidFill>
                  <a:srgbClr val="cc0099"/>
                </a:solidFill>
                <a:latin typeface="仿宋_GB2312"/>
                <a:ea typeface="仿宋_GB2312"/>
              </a:rPr>
              <a:t>、前苏联人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18" name="Text Box 16"/>
          <p:cNvSpPr/>
          <p:nvPr/>
        </p:nvSpPr>
        <p:spPr>
          <a:xfrm>
            <a:off x="181080" y="501336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中国第一个载人航天飞船是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-----------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 ）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神州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号   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神州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号   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神州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号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19" name="Text Box 17"/>
          <p:cNvSpPr/>
          <p:nvPr/>
        </p:nvSpPr>
        <p:spPr>
          <a:xfrm flipH="1">
            <a:off x="7763040" y="1916280"/>
            <a:ext cx="358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20" name="Text Box 18"/>
          <p:cNvSpPr/>
          <p:nvPr/>
        </p:nvSpPr>
        <p:spPr>
          <a:xfrm>
            <a:off x="7727040" y="357336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21" name="Text Box 19"/>
          <p:cNvSpPr/>
          <p:nvPr/>
        </p:nvSpPr>
        <p:spPr>
          <a:xfrm>
            <a:off x="7661160" y="501336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4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e2e0"/>
            </a:gs>
            <a:gs pos="100000">
              <a:srgbClr val="b3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4"/>
          <p:cNvSpPr/>
          <p:nvPr/>
        </p:nvSpPr>
        <p:spPr>
          <a:xfrm>
            <a:off x="2100240" y="0"/>
            <a:ext cx="51541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、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第一个飞出太阳系的太空探测器是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----------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（ ）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  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、先驱者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号探测器  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、阿波罗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号飞船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   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、东方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号飞船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0" y="19890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、中国第一颗探月卫星嫦娥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号是哪一年发射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--(  )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年 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2005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年      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、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2007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  <a:ea typeface="宋体"/>
              </a:rPr>
              <a:t>年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1114920" y="3500280"/>
            <a:ext cx="717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、人类第一个踏上月球的人是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--------------------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（ ）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、加加林 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、阿姆斯特朗 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宋体"/>
              </a:rPr>
              <a:t>、阿尔德林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1114920" y="5013360"/>
            <a:ext cx="71762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726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4a2726"/>
                </a:solidFill>
                <a:latin typeface="Arial"/>
                <a:ea typeface="宋体"/>
              </a:rPr>
              <a:t>、中国第一个进入太空的人是</a:t>
            </a:r>
            <a:r>
              <a:rPr b="0" lang="en-US" sz="3200" spc="-1" strike="noStrike">
                <a:solidFill>
                  <a:srgbClr val="4a2726"/>
                </a:solidFill>
                <a:latin typeface="Arial"/>
              </a:rPr>
              <a:t>--------------------</a:t>
            </a:r>
            <a:r>
              <a:rPr b="0" lang="zh-CN" sz="3200" spc="-1" strike="noStrike">
                <a:solidFill>
                  <a:srgbClr val="4a2726"/>
                </a:solidFill>
                <a:latin typeface="Arial"/>
                <a:ea typeface="宋体"/>
              </a:rPr>
              <a:t>（ ）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2726"/>
                </a:solidFill>
                <a:latin typeface="Arial"/>
                <a:ea typeface="宋体"/>
              </a:rPr>
              <a:t>     </a:t>
            </a:r>
            <a:r>
              <a:rPr b="0" lang="en-US" sz="3200" spc="-1" strike="noStrike">
                <a:solidFill>
                  <a:srgbClr val="4a2726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4a2726"/>
                </a:solidFill>
                <a:latin typeface="Arial"/>
                <a:ea typeface="宋体"/>
              </a:rPr>
              <a:t>、费俊龙        </a:t>
            </a:r>
            <a:r>
              <a:rPr b="0" lang="en-US" sz="3200" spc="-1" strike="noStrike">
                <a:solidFill>
                  <a:srgbClr val="4a2726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4a2726"/>
                </a:solidFill>
                <a:latin typeface="Arial"/>
                <a:ea typeface="宋体"/>
              </a:rPr>
              <a:t>、聂海胜        </a:t>
            </a:r>
            <a:r>
              <a:rPr b="0" lang="en-US" sz="3200" spc="-1" strike="noStrike">
                <a:solidFill>
                  <a:srgbClr val="4a2726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4a2726"/>
                </a:solidFill>
                <a:latin typeface="Arial"/>
                <a:ea typeface="宋体"/>
              </a:rPr>
              <a:t>、杨利伟 </a:t>
            </a:r>
            <a:endParaRPr b="0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7860240" y="35002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3898800" y="-863640"/>
            <a:ext cx="185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7794360" y="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7926120" y="198900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7896240" y="5013360"/>
            <a:ext cx="287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A814-D90A-48ED-A7CB-365E2650F7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b6ff"/>
            </a:gs>
            <a:gs pos="50000">
              <a:srgbClr val="79ff79"/>
            </a:gs>
            <a:gs pos="100000">
              <a:srgbClr val="85b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2000" y="189000"/>
            <a:ext cx="230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议一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9640" y="1052640"/>
            <a:ext cx="80647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人类与生俱来的好奇心驱使着人们不断地去探索宇宙的奥秘。你认为探索太空的困难有哪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人类探索太空经过了哪些历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1835280" y="3933720"/>
            <a:ext cx="5268960" cy="265752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5"/>
          <p:cNvSpPr/>
          <p:nvPr/>
        </p:nvSpPr>
        <p:spPr>
          <a:xfrm>
            <a:off x="7164360" y="4292640"/>
            <a:ext cx="1655640" cy="576360"/>
          </a:xfrm>
          <a:prstGeom prst="wedgeRectCallout">
            <a:avLst>
              <a:gd name="adj1" fmla="val -53546"/>
              <a:gd name="adj2" fmla="val 74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类如何飞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地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252360" y="4365720"/>
            <a:ext cx="1441440" cy="647640"/>
          </a:xfrm>
          <a:prstGeom prst="wedgeRectCallout">
            <a:avLst>
              <a:gd name="adj1" fmla="val 62333"/>
              <a:gd name="adj2" fmla="val 74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类怎样适应太空环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48" name="AutoShape 8"/>
          <p:cNvSpPr/>
          <p:nvPr/>
        </p:nvSpPr>
        <p:spPr>
          <a:xfrm>
            <a:off x="828720" y="3213000"/>
            <a:ext cx="3672000" cy="432000"/>
          </a:xfrm>
          <a:prstGeom prst="wedgeRectCallout">
            <a:avLst>
              <a:gd name="adj1" fmla="val -2615"/>
              <a:gd name="adj2" fmla="val 107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类起初用肉眼观察，后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49" name="AutoShape 9"/>
          <p:cNvSpPr/>
          <p:nvPr/>
        </p:nvSpPr>
        <p:spPr>
          <a:xfrm rot="10800000">
            <a:off x="5651640" y="3213000"/>
            <a:ext cx="2952720" cy="432000"/>
          </a:xfrm>
          <a:prstGeom prst="wedgeRectCallout">
            <a:avLst>
              <a:gd name="adj1" fmla="val 46986"/>
              <a:gd name="adj2" fmla="val -1165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何制造探测宇宙的工具？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50" name="AutoShape 11"/>
          <p:cNvSpPr/>
          <p:nvPr/>
        </p:nvSpPr>
        <p:spPr>
          <a:xfrm>
            <a:off x="4140360" y="5805360"/>
            <a:ext cx="1512720" cy="432000"/>
          </a:xfrm>
          <a:prstGeom prst="wedgeRectCallout">
            <a:avLst>
              <a:gd name="adj1" fmla="val -33212"/>
              <a:gd name="adj2" fmla="val -124263"/>
            </a:avLst>
          </a:prstGeom>
          <a:solidFill>
            <a:srgbClr val="dcef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20000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5fd"/>
            </a:gs>
            <a:gs pos="100000">
              <a:srgbClr val="c4ce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640" y="189000"/>
            <a:ext cx="5688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人类探索宇宙的历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2" descr="古人观月018"/>
          <p:cNvPicPr/>
          <p:nvPr/>
        </p:nvPicPr>
        <p:blipFill>
          <a:blip r:embed="rId1"/>
          <a:stretch/>
        </p:blipFill>
        <p:spPr>
          <a:xfrm>
            <a:off x="1114560" y="2637000"/>
            <a:ext cx="1657080" cy="3887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3" descr="观月019"/>
          <p:cNvPicPr/>
          <p:nvPr/>
        </p:nvPicPr>
        <p:blipFill>
          <a:blip r:embed="rId2"/>
          <a:stretch/>
        </p:blipFill>
        <p:spPr>
          <a:xfrm>
            <a:off x="324000" y="404640"/>
            <a:ext cx="1295280" cy="7207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4" descr="伽利略观月017"/>
          <p:cNvPicPr/>
          <p:nvPr/>
        </p:nvPicPr>
        <p:blipFill>
          <a:blip r:embed="rId3"/>
          <a:stretch/>
        </p:blipFill>
        <p:spPr>
          <a:xfrm>
            <a:off x="4356000" y="2637000"/>
            <a:ext cx="3673440" cy="295092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25"/>
          <p:cNvSpPr/>
          <p:nvPr/>
        </p:nvSpPr>
        <p:spPr>
          <a:xfrm>
            <a:off x="4032360" y="5530680"/>
            <a:ext cx="185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56" name="Text Box 27"/>
          <p:cNvSpPr/>
          <p:nvPr/>
        </p:nvSpPr>
        <p:spPr>
          <a:xfrm>
            <a:off x="5166720" y="5589720"/>
            <a:ext cx="2134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伽利略在演示如何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用望远镜观察天空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57" name="Line 28"/>
          <p:cNvSpPr/>
          <p:nvPr/>
        </p:nvSpPr>
        <p:spPr>
          <a:xfrm>
            <a:off x="3348000" y="335772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58" name="Line 33"/>
          <p:cNvSpPr/>
          <p:nvPr/>
        </p:nvSpPr>
        <p:spPr>
          <a:xfrm>
            <a:off x="1332000" y="17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59" name="Line 34"/>
          <p:cNvSpPr/>
          <p:nvPr/>
        </p:nvSpPr>
        <p:spPr>
          <a:xfrm>
            <a:off x="3419640" y="1773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60" name="Line 35"/>
          <p:cNvSpPr/>
          <p:nvPr/>
        </p:nvSpPr>
        <p:spPr>
          <a:xfrm>
            <a:off x="5148360" y="17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61" name="Line 36"/>
          <p:cNvSpPr/>
          <p:nvPr/>
        </p:nvSpPr>
        <p:spPr>
          <a:xfrm>
            <a:off x="7164360" y="177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62" name="Text Box 37"/>
          <p:cNvSpPr/>
          <p:nvPr/>
        </p:nvSpPr>
        <p:spPr>
          <a:xfrm>
            <a:off x="-252360" y="1557360"/>
            <a:ext cx="180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用肉眼观察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在地球上）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63" name="Text Box 38"/>
          <p:cNvSpPr/>
          <p:nvPr/>
        </p:nvSpPr>
        <p:spPr>
          <a:xfrm>
            <a:off x="1693800" y="1557360"/>
            <a:ext cx="1798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用望远镜观察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在地球上）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64" name="Text Box 39"/>
          <p:cNvSpPr/>
          <p:nvPr/>
        </p:nvSpPr>
        <p:spPr>
          <a:xfrm>
            <a:off x="3942000" y="1557360"/>
            <a:ext cx="109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用火箭运载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在地球上）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65" name="Text Box 40"/>
          <p:cNvSpPr/>
          <p:nvPr/>
        </p:nvSpPr>
        <p:spPr>
          <a:xfrm>
            <a:off x="5815080" y="1557360"/>
            <a:ext cx="109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用航天器观察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在太空中）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66" name="Text Box 41"/>
          <p:cNvSpPr/>
          <p:nvPr/>
        </p:nvSpPr>
        <p:spPr>
          <a:xfrm>
            <a:off x="7743960" y="1557360"/>
            <a:ext cx="109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航天人观察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在太空中）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b3f1"/>
            </a:gs>
            <a:gs pos="100000">
              <a:srgbClr val="d3d3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你知道哪些望远镜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8" descr="图像008"/>
          <p:cNvPicPr/>
          <p:nvPr/>
        </p:nvPicPr>
        <p:blipFill>
          <a:blip r:embed="rId1"/>
          <a:stretch/>
        </p:blipFill>
        <p:spPr>
          <a:xfrm>
            <a:off x="5294160" y="1125360"/>
            <a:ext cx="3383280" cy="338328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9"/>
          <p:cNvSpPr/>
          <p:nvPr/>
        </p:nvSpPr>
        <p:spPr>
          <a:xfrm>
            <a:off x="623880" y="1687680"/>
            <a:ext cx="1857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66200" y="4581360"/>
            <a:ext cx="4248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意大利科学家伽利略制作的世界上第一架天文望远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5362560" y="1484280"/>
            <a:ext cx="326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294160" y="1197000"/>
            <a:ext cx="287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573" name="Picture 15" descr="图像007"/>
          <p:cNvPicPr/>
          <p:nvPr/>
        </p:nvPicPr>
        <p:blipFill>
          <a:blip r:embed="rId2"/>
          <a:stretch/>
        </p:blipFill>
        <p:spPr>
          <a:xfrm>
            <a:off x="1114560" y="1125360"/>
            <a:ext cx="3143160" cy="331164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6"/>
          <p:cNvSpPr/>
          <p:nvPr/>
        </p:nvSpPr>
        <p:spPr>
          <a:xfrm>
            <a:off x="5435640" y="4724280"/>
            <a:ext cx="32418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天文台的光学望远镜</a:t>
            </a: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3dadb"/>
            </a:gs>
            <a:gs pos="50000">
              <a:srgbClr val="eaf5f6"/>
            </a:gs>
            <a:gs pos="100000">
              <a:srgbClr val="d3da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7" descr="图像009"/>
          <p:cNvPicPr/>
          <p:nvPr/>
        </p:nvPicPr>
        <p:blipFill>
          <a:blip r:embed="rId1"/>
          <a:stretch/>
        </p:blipFill>
        <p:spPr>
          <a:xfrm>
            <a:off x="5076720" y="260280"/>
            <a:ext cx="3382920" cy="33861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图像010"/>
          <p:cNvPicPr/>
          <p:nvPr/>
        </p:nvPicPr>
        <p:blipFill>
          <a:blip r:embed="rId2"/>
          <a:stretch/>
        </p:blipFill>
        <p:spPr>
          <a:xfrm>
            <a:off x="539640" y="260280"/>
            <a:ext cx="3313080" cy="33847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9"/>
          <p:cNvSpPr/>
          <p:nvPr/>
        </p:nvSpPr>
        <p:spPr>
          <a:xfrm>
            <a:off x="324000" y="3718080"/>
            <a:ext cx="41954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990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年世界上第一台空间天文望远镜问世。这就是著名的哈勃太空望远镜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5702400" y="3933720"/>
            <a:ext cx="201240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这是专门接收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天体发出无线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电波的射电望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远镜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d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你知道哪些运载火箭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7" descr="图像012"/>
          <p:cNvPicPr/>
          <p:nvPr/>
        </p:nvPicPr>
        <p:blipFill>
          <a:blip r:embed="rId1"/>
          <a:stretch/>
        </p:blipFill>
        <p:spPr>
          <a:xfrm>
            <a:off x="5076720" y="1125360"/>
            <a:ext cx="3311640" cy="3456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9" descr="图像011"/>
          <p:cNvPicPr/>
          <p:nvPr/>
        </p:nvPicPr>
        <p:blipFill>
          <a:blip r:embed="rId2"/>
          <a:stretch/>
        </p:blipFill>
        <p:spPr>
          <a:xfrm>
            <a:off x="539640" y="1197000"/>
            <a:ext cx="3241800" cy="331308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11"/>
          <p:cNvSpPr/>
          <p:nvPr/>
        </p:nvSpPr>
        <p:spPr>
          <a:xfrm>
            <a:off x="987480" y="4919760"/>
            <a:ext cx="1707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中国古代的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火箭模型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5439600" y="4797360"/>
            <a:ext cx="26524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926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年美国戈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达德制造的第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一枚现代火箭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057120" y="31320"/>
            <a:ext cx="6086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冲出地球的最大困难是无法脱离地球引力的束缚。地球就象一个巨大的磁铁，牢牢地抓住地表的各种物体。当运载火箭的速度达到每秒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千米时，它就能挣脱地球引力围绕地球运转。逐级加速的多级火箭就是为实现这一目的而设计出来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4257720" y="32464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586" name="Picture 11" descr="u=2881017910,820086484&amp;gp=12"/>
          <p:cNvPicPr/>
          <p:nvPr/>
        </p:nvPicPr>
        <p:blipFill>
          <a:blip r:embed="rId1"/>
          <a:stretch/>
        </p:blipFill>
        <p:spPr>
          <a:xfrm>
            <a:off x="324000" y="189000"/>
            <a:ext cx="2665440" cy="45370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14"/>
          <p:cNvSpPr/>
          <p:nvPr/>
        </p:nvSpPr>
        <p:spPr>
          <a:xfrm>
            <a:off x="181080" y="5013360"/>
            <a:ext cx="2876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这是逐级加速的多级运载火箭</a:t>
            </a:r>
            <a:endParaRPr b="0" lang="en-US" sz="32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dfff"/>
            </a:gs>
            <a:gs pos="50000">
              <a:srgbClr val="a8feec"/>
            </a:gs>
            <a:gs pos="100000">
              <a:srgbClr val="c1d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1187280" y="5084280"/>
            <a:ext cx="266544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国际空间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航天飞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284360" y="5157360"/>
            <a:ext cx="4321080" cy="139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:0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中国成功发射了一颗绕月探测卫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嫦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图像014"/>
          <p:cNvPicPr/>
          <p:nvPr/>
        </p:nvPicPr>
        <p:blipFill>
          <a:blip r:embed="rId1"/>
          <a:stretch/>
        </p:blipFill>
        <p:spPr>
          <a:xfrm>
            <a:off x="611280" y="1052640"/>
            <a:ext cx="3529080" cy="38890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u=1375543952,4016914150&amp;gp=20"/>
          <p:cNvPicPr/>
          <p:nvPr/>
        </p:nvPicPr>
        <p:blipFill>
          <a:blip r:embed="rId2"/>
          <a:stretch/>
        </p:blipFill>
        <p:spPr>
          <a:xfrm>
            <a:off x="4581360" y="1052640"/>
            <a:ext cx="3807000" cy="388908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5113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你知道那些航天器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3f4"/>
            </a:gs>
            <a:gs pos="50000">
              <a:srgbClr val="e1f2f3"/>
            </a:gs>
            <a:gs pos="100000">
              <a:srgbClr val="c2c3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-360" y="3499920"/>
            <a:ext cx="4390920" cy="35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0bdf"/>
                </a:solidFill>
                <a:latin typeface="Arial"/>
              </a:rPr>
              <a:t>       “</a:t>
            </a:r>
            <a:r>
              <a:rPr b="0" lang="zh-CN" sz="2800" spc="-1" strike="noStrike">
                <a:solidFill>
                  <a:srgbClr val="380bdf"/>
                </a:solidFill>
                <a:latin typeface="Arial"/>
              </a:rPr>
              <a:t>先驱者</a:t>
            </a:r>
            <a:r>
              <a:rPr b="0" lang="en-US" sz="2800" spc="-1" strike="noStrike">
                <a:solidFill>
                  <a:srgbClr val="380bdf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380bdf"/>
                </a:solidFill>
                <a:latin typeface="Arial"/>
              </a:rPr>
              <a:t>号”</a:t>
            </a:r>
            <a:r>
              <a:rPr b="0" lang="en-US" sz="2800" spc="-1" strike="noStrike">
                <a:solidFill>
                  <a:srgbClr val="380bdf"/>
                </a:solidFill>
                <a:latin typeface="Arial"/>
              </a:rPr>
              <a:t>1972</a:t>
            </a:r>
            <a:r>
              <a:rPr b="0" lang="zh-CN" sz="2800" spc="-1" strike="noStrike">
                <a:solidFill>
                  <a:srgbClr val="380bdf"/>
                </a:solidFill>
                <a:latin typeface="Arial"/>
              </a:rPr>
              <a:t>年升空</a:t>
            </a:r>
            <a:r>
              <a:rPr b="0" lang="en-US" sz="2800" spc="-1" strike="noStrike">
                <a:solidFill>
                  <a:srgbClr val="380bdf"/>
                </a:solidFill>
                <a:latin typeface="Arial"/>
              </a:rPr>
              <a:t>,1983</a:t>
            </a:r>
            <a:r>
              <a:rPr b="0" lang="zh-CN" sz="2800" spc="-1" strike="noStrike">
                <a:solidFill>
                  <a:srgbClr val="380bdf"/>
                </a:solidFill>
                <a:latin typeface="Arial"/>
              </a:rPr>
              <a:t>年成为第一个飞出太阳系的太空探测器 。</a:t>
            </a:r>
            <a:r>
              <a:rPr b="0" lang="en-US" sz="2800" spc="-1" strike="noStrike">
                <a:solidFill>
                  <a:srgbClr val="380bdf"/>
                </a:solidFill>
                <a:latin typeface="Arial"/>
              </a:rPr>
              <a:t>2003</a:t>
            </a:r>
            <a:r>
              <a:rPr b="0" lang="zh-CN" sz="2800" spc="-1" strike="noStrike">
                <a:solidFill>
                  <a:srgbClr val="380bdf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380bd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380bdf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380bdf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380bdf"/>
                </a:solidFill>
                <a:latin typeface="Arial"/>
              </a:rPr>
              <a:t>日人们接收到它的最后一次信号。从此，它便杳无音讯地飞向宇宙深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076720" y="3573360"/>
            <a:ext cx="367200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108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54108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54108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54108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54108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54108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54108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54108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54108"/>
                </a:solidFill>
                <a:latin typeface="Arial"/>
              </a:rPr>
              <a:t>日中国宇航员杨利伟搭载”神州</a:t>
            </a:r>
            <a:r>
              <a:rPr b="0" lang="en-US" sz="3200" spc="-1" strike="noStrike">
                <a:solidFill>
                  <a:srgbClr val="054108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54108"/>
                </a:solidFill>
                <a:latin typeface="Arial"/>
              </a:rPr>
              <a:t>号”飞船在太空中围绕地球飞行了</a:t>
            </a:r>
            <a:r>
              <a:rPr b="0" lang="en-US" sz="3200" spc="-1" strike="noStrike">
                <a:solidFill>
                  <a:srgbClr val="054108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54108"/>
                </a:solidFill>
                <a:latin typeface="Arial"/>
              </a:rPr>
              <a:t>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7" descr="图像016"/>
          <p:cNvPicPr/>
          <p:nvPr/>
        </p:nvPicPr>
        <p:blipFill>
          <a:blip r:embed="rId1"/>
          <a:stretch/>
        </p:blipFill>
        <p:spPr>
          <a:xfrm>
            <a:off x="395280" y="189000"/>
            <a:ext cx="3600360" cy="3024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图像018"/>
          <p:cNvPicPr/>
          <p:nvPr/>
        </p:nvPicPr>
        <p:blipFill>
          <a:blip r:embed="rId2"/>
          <a:stretch/>
        </p:blipFill>
        <p:spPr>
          <a:xfrm>
            <a:off x="5148360" y="260280"/>
            <a:ext cx="3746520" cy="2952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15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20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