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explode.wav" ContentType="audio/x-wav"/>
  <Override PartName="/ppt/media/image5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24.jpeg" ContentType="image/jpeg"/>
  <Override PartName="/ppt/media/camera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voltage.wav" ContentType="audio/x-wav"/>
  <Override PartName="/ppt/media/image3.jpeg" ContentType="image/jpeg"/>
  <Override PartName="/ppt/media/image37.jpeg" ContentType="image/jpeg"/>
  <Override PartName="/ppt/media/image12.jpeg" ContentType="image/jpeg"/>
  <Override PartName="/ppt/media/image16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9A2-BA7D-4DF8-BEE9-EDBDB71C59A9}" type="slidenum">
              <a:rPr b="0" lang="zh-CN" sz="12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668-16FB-491F-8E66-F9F0FD18A0AB}" type="slidenum">
              <a:rPr b="0" lang="zh-CN" sz="12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497-FCA3-4EE1-8C7F-E2ED70E41467}" type="slidenum">
              <a:rPr b="0" lang="zh-CN" sz="12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8D6-1362-42E1-A2B5-5B99F97D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A43-8C0C-45E8-B5B4-FA85F15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B61-2BE3-422B-BBA5-15FC53E9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AAA-2C1B-45C9-AF5D-65620831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8D9-6DC4-4FDB-A398-C4C2913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7FB-515D-4A2F-A58E-DB337E2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14E-838D-4174-A47D-0D8FFFCC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F30-1D17-48EA-8FA1-A9F8CDD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C8B-1FBD-41BA-AC43-CB45457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896-58B5-4AD3-8CEE-CAA067B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B34-FE7D-4444-95F5-60CD337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5D1-F2E7-4059-956B-7FECBE2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BB3-EE85-43F5-A4DB-BF57BDEE5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.baidu.com/i?ct=503316480&amp;z=0&amp;tn=baiduimagedetail&amp;word=&#750;%D0%C7&amp;in=21631&amp;cl=2&amp;cm=1&amp;sc=0&amp;lm=-1&amp;pn=13&amp;rn=1&amp;di=1435502372&amp;ln=2000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3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4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5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6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7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8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fu.net/gallery/showpage.asp?id=2006122801520682&amp;pn=9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0d968f23628dc05ead34dec8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57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95280" y="83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同学们，在浩瀚的宇宙中有一个美丽的星系，它就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19480" y="2205000"/>
            <a:ext cx="4844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太阳系</a:t>
            </a:r>
            <a:endParaRPr b="0" lang="en-US" sz="115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1" name="Picture 5" descr="jwDhVzWbU"/>
          <p:cNvPicPr/>
          <p:nvPr/>
        </p:nvPicPr>
        <p:blipFill>
          <a:blip r:embed="rId2"/>
          <a:stretch/>
        </p:blipFill>
        <p:spPr>
          <a:xfrm>
            <a:off x="395280" y="692280"/>
            <a:ext cx="69048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2378520" y="6022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1844640"/>
          <a:ext cx="4724280" cy="389880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赤道直径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千米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水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 878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金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2 100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地球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2 756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火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6 796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木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4 380 0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土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20 660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天王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1 118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海王星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9 500</a:t>
                      </a:r>
                      <a:endParaRPr b="0" lang="en-US" sz="20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34"/>
          <p:cNvSpPr/>
          <p:nvPr/>
        </p:nvSpPr>
        <p:spPr>
          <a:xfrm>
            <a:off x="5508720" y="2060640"/>
            <a:ext cx="3117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根据行星的体积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大小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对八大行星进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行排序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按照由大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到小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):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＿＿＿＿＿＿＿＿＿＿＿＿＿＿＿＿＿＿＿＿＿＿＿＿＿＿＿＿。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477120" y="5638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1764360" y="692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ff00"/>
                </a:solidFill>
                <a:latin typeface="Times New Roman"/>
              </a:rPr>
              <a:t>太阳系八大行星有关资料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5724360" y="3573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　　水星 、火星、金星 、地球 、木星 、海王星 、天王星 、土星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17" name="Picture 38" descr="jwDhVzWbU"/>
          <p:cNvPicPr/>
          <p:nvPr/>
        </p:nvPicPr>
        <p:blipFill>
          <a:blip r:embed="rId1"/>
          <a:stretch/>
        </p:blipFill>
        <p:spPr>
          <a:xfrm>
            <a:off x="324000" y="404640"/>
            <a:ext cx="792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97560" y="476280"/>
          <a:ext cx="4546440" cy="3376440"/>
        </p:xfrm>
        <a:graphic>
          <a:graphicData uri="http://schemas.openxmlformats.org/drawingml/2006/table">
            <a:tbl>
              <a:tblPr/>
              <a:tblGrid>
                <a:gridCol w="1574640"/>
                <a:gridCol w="297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到太阳的平均距离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千米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水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8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金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08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地球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50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火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28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木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778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土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427 000 000            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天王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 870 000 000             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海王星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 497 000 000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365720"/>
          <a:ext cx="8604360" cy="2143080"/>
        </p:xfrm>
        <a:graphic>
          <a:graphicData uri="http://schemas.openxmlformats.org/drawingml/2006/table">
            <a:tbl>
              <a:tblPr/>
              <a:tblGrid>
                <a:gridCol w="2987640"/>
                <a:gridCol w="1297080"/>
                <a:gridCol w="1366920"/>
                <a:gridCol w="1152360"/>
                <a:gridCol w="1800360"/>
              </a:tblGrid>
              <a:tr h="5882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高速火车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乘坐飞机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乘坐火箭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乘坐“光速飞船”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从地球到太阳所需的时间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从火星到太阳所需的时间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从海王星到太阳所需的时间</a:t>
                      </a:r>
                      <a:endParaRPr b="0" lang="en-US" sz="1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61"/>
          <p:cNvSpPr/>
          <p:nvPr/>
        </p:nvSpPr>
        <p:spPr>
          <a:xfrm>
            <a:off x="0" y="1052640"/>
            <a:ext cx="4500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假如我们要去旅行，可选择三种工具：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、时速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200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公里的火车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、每小时飞行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2000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千米的飞机 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3 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、每小时飞行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40000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千米的火箭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4 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、每秒钟传播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万千米的光速飞船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1" name="Text Box 62"/>
          <p:cNvSpPr/>
          <p:nvPr/>
        </p:nvSpPr>
        <p:spPr>
          <a:xfrm>
            <a:off x="755640" y="549360"/>
            <a:ext cx="35053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太阳系实在太庞大了，我们试着做个简单的计算吧 ！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22" name="Picture 63" descr="jwDhVzWbU"/>
          <p:cNvPicPr/>
          <p:nvPr/>
        </p:nvPicPr>
        <p:blipFill>
          <a:blip r:embed="rId1"/>
          <a:stretch/>
        </p:blipFill>
        <p:spPr>
          <a:xfrm>
            <a:off x="179280" y="260280"/>
            <a:ext cx="863640" cy="1081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5"/>
          <p:cNvSpPr/>
          <p:nvPr/>
        </p:nvSpPr>
        <p:spPr>
          <a:xfrm>
            <a:off x="3203640" y="5013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4" name="Text Box 96"/>
          <p:cNvSpPr/>
          <p:nvPr/>
        </p:nvSpPr>
        <p:spPr>
          <a:xfrm>
            <a:off x="435600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5" name="Text Box 97"/>
          <p:cNvSpPr/>
          <p:nvPr/>
        </p:nvSpPr>
        <p:spPr>
          <a:xfrm>
            <a:off x="5724360" y="4941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6" name="Text Box 98"/>
          <p:cNvSpPr/>
          <p:nvPr/>
        </p:nvSpPr>
        <p:spPr>
          <a:xfrm>
            <a:off x="7020000" y="5013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39640" y="1844640"/>
          <a:ext cx="7772400" cy="3753000"/>
        </p:xfrm>
        <a:graphic>
          <a:graphicData uri="http://schemas.openxmlformats.org/drawingml/2006/table">
            <a:tbl>
              <a:tblPr/>
              <a:tblGrid>
                <a:gridCol w="3165480"/>
                <a:gridCol w="460692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地球到太阳的需要的时间</a:t>
                      </a:r>
                      <a:endParaRPr b="0" lang="en-US" sz="2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高速火车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时速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公里）</a:t>
                      </a:r>
                      <a:endParaRPr b="0" lang="en-US" sz="2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小汽车（时速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公里）</a:t>
                      </a:r>
                      <a:endParaRPr b="0" lang="en-US" sz="2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马（时速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公里）</a:t>
                      </a:r>
                      <a:endParaRPr b="0" lang="en-US" sz="2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步行（时速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公里）</a:t>
                      </a:r>
                      <a:endParaRPr b="0" lang="en-US" sz="28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74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9" name="Text Box 176"/>
          <p:cNvSpPr/>
          <p:nvPr/>
        </p:nvSpPr>
        <p:spPr>
          <a:xfrm>
            <a:off x="406728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30" name="Text Box 177"/>
          <p:cNvSpPr/>
          <p:nvPr/>
        </p:nvSpPr>
        <p:spPr>
          <a:xfrm>
            <a:off x="4211640" y="422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4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31" name="Text Box 178"/>
          <p:cNvSpPr/>
          <p:nvPr/>
        </p:nvSpPr>
        <p:spPr>
          <a:xfrm>
            <a:off x="4067280" y="486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4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32" name="Picture 187" descr="jwDhVzWbU"/>
          <p:cNvPicPr/>
          <p:nvPr/>
        </p:nvPicPr>
        <p:blipFill>
          <a:blip r:embed="rId1"/>
          <a:stretch/>
        </p:blipFill>
        <p:spPr>
          <a:xfrm>
            <a:off x="395280" y="260280"/>
            <a:ext cx="863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928960" y="20001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水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3338640"/>
            <a:ext cx="91440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水星在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八大行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中是最小的行星，比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月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/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它同时也是最靠近太阳的行星。 水星目视星等范围从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.4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到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.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；水星太接近太阳，常常被猛烈的阳光淹没它的轨道距太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59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万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97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万千米之间。，所以望远镜很少能够仔细观察它。水星没有自然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卫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7600" y="0"/>
            <a:ext cx="3416400" cy="335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t3.baidu.com/it/u=3305864657,3615215632&amp;fm=0&amp;gp=2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14720" y="214200"/>
            <a:ext cx="3076560" cy="307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ttp://imgsrc.baidu.com/baike/pic/item/61183b2d060e4323349bf719.jpg"/>
          <p:cNvPicPr/>
          <p:nvPr/>
        </p:nvPicPr>
        <p:blipFill>
          <a:blip r:embed="rId5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000160" y="25002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金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4000320"/>
            <a:ext cx="9144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金星是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八大行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之一，按离太阳由近及远的次序是第二颗。它是离地球最近的行星。中国古代称之为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太白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太白金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它有时是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晨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黎明前出现在东方天空，被称为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启明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；有时是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昏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黄昏后出现在西方天空，被称为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长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55440"/>
            <a:ext cx="3571920" cy="384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imgsrc.baidu.com/baike/pic/item/7ab514d1c75b99c4572c84bf.jpg"/>
          <p:cNvPicPr/>
          <p:nvPr/>
        </p:nvPicPr>
        <p:blipFill>
          <a:blip r:embed="rId3"/>
          <a:stretch/>
        </p:blipFill>
        <p:spPr>
          <a:xfrm>
            <a:off x="2428920" y="428760"/>
            <a:ext cx="3300480" cy="307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imgsrc.baidu.com/baike/pic/item/5d212aa843abe6a6cb130ca8.jpg"/>
          <p:cNvPicPr/>
          <p:nvPr/>
        </p:nvPicPr>
        <p:blipFill>
          <a:blip r:embed="rId4"/>
          <a:stretch/>
        </p:blipFill>
        <p:spPr>
          <a:xfrm>
            <a:off x="0" y="119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714760" y="26431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地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392904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唯一一个存在已知生命的星球。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地球上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9%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陆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71%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海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全球的陆地可以分为七大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亚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非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大洋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南美洲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北美洲和南极洲。全球的海洋可以分为四大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太平洋、大西洋、印度洋和北冰洋。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地球预览图 点击看大图"/>
          <p:cNvPicPr/>
          <p:nvPr/>
        </p:nvPicPr>
        <p:blipFill>
          <a:blip r:embed="rId3"/>
          <a:stretch/>
        </p:blipFill>
        <p:spPr>
          <a:xfrm>
            <a:off x="2428920" y="214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pic.enorth.com.cn/0/02/81/26/2812657_092682.jpg"/>
          <p:cNvPicPr/>
          <p:nvPr/>
        </p:nvPicPr>
        <p:blipFill>
          <a:blip r:embed="rId4"/>
          <a:stretch/>
        </p:blipFill>
        <p:spPr>
          <a:xfrm>
            <a:off x="0" y="571680"/>
            <a:ext cx="2428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071880" y="25002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火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407160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火星为距太阳第四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也是太阳系中第七大行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转轨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离太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27,940,000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千米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.52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文单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行星直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6,794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千米 质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6.4219e23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千克 火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希腊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阿瑞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被称为战神。这或许是由于它鲜红的颜色而得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1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www.js.chinanews.com.cn/news/2007/2007-12-17/1/_1197871330_mars.jpg"/>
          <p:cNvPicPr/>
          <p:nvPr/>
        </p:nvPicPr>
        <p:blipFill>
          <a:blip r:embed="rId3"/>
          <a:stretch/>
        </p:blipFill>
        <p:spPr>
          <a:xfrm>
            <a:off x="1428840" y="0"/>
            <a:ext cx="4152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2643480" y="2499840"/>
            <a:ext cx="781524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木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37857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木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Jupiter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太阳系中的第五个行星，是太阳系最大的行星。木星的成份绝大部分是氢和氦。木星离太阳比较远，表面温度低达摄氏零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度，木星内部散放出来的热，是它从太阳接受的热的两倍以上，所以如果木星只靠太阳的热来加温，表面温度还会再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度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3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0800" y="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imgsrc.baidu.com/baike/pic/item/b7bc4c6673f22c32aa184c5f.jpg"/>
          <p:cNvPicPr/>
          <p:nvPr/>
        </p:nvPicPr>
        <p:blipFill>
          <a:blip r:embed="rId3"/>
          <a:stretch/>
        </p:blipFill>
        <p:spPr>
          <a:xfrm>
            <a:off x="1712880" y="0"/>
            <a:ext cx="371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129120" y="15001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土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292896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土星古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镇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填星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因为土星公转周期大约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9.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国古代有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宿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土星几乎是每年在一个宿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有镇住或填满该宿的意味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所以称为镇星或填星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直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93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公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是太阳系第二大行星。它与邻居木星十分相像，表面也是液态氢和氦的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海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上方同样覆盖着厚厚的云层。土星上狂风肆虐，沿东西方向的风速可超过每小时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6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公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5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0"/>
            <a:ext cx="3786120" cy="293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imgsrc.baidu.com/baike/pic/item/08b68e5227d618190df3e329.jpg"/>
          <p:cNvPicPr/>
          <p:nvPr/>
        </p:nvPicPr>
        <p:blipFill>
          <a:blip r:embed="rId3"/>
          <a:stretch/>
        </p:blipFill>
        <p:spPr>
          <a:xfrm>
            <a:off x="1857240" y="0"/>
            <a:ext cx="35150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71840" y="2071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天王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王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从太阳向外的第七颗行星，在太阳系的体积是第三大，质量排名第四。他的名称来自古希腊神话中的天空之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尤拉纳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是克洛诺斯的父亲，宙斯的祖父。天王星是第一颗在现代发现的行星，虽然他的光度与五颗传统行星一样，亮度是肉眼可见的，但由于较为黯淡而未被古代的观测者发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86280" y="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Uranus"/>
          <p:cNvPicPr/>
          <p:nvPr/>
        </p:nvPicPr>
        <p:blipFill>
          <a:blip r:embed="rId3"/>
          <a:stretch/>
        </p:blipFill>
        <p:spPr>
          <a:xfrm>
            <a:off x="2135160" y="0"/>
            <a:ext cx="36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3557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2034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71640" y="747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地心说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6" name="Picture 5" descr="11477558721750989"/>
          <p:cNvPicPr/>
          <p:nvPr/>
        </p:nvPicPr>
        <p:blipFill>
          <a:blip r:embed="rId1"/>
          <a:stretch/>
        </p:blipFill>
        <p:spPr>
          <a:xfrm>
            <a:off x="6095880" y="1371600"/>
            <a:ext cx="246852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0" y="33148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克罗狄斯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托勒密</a:t>
            </a:r>
            <a:endParaRPr b="0" lang="en-US" sz="9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353640" y="518148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埃及天文学家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  <a:ea typeface="Arial"/>
              </a:rPr>
              <a:t>托勒密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24000" y="14842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每天，我们都可以看到太阳东起西落，在很久很久以前，古人看到这种现象，就认为太阳在绕这地球做圆周运动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埃及天文学家托勒密</a:t>
            </a:r>
            <a:r>
              <a:rPr b="1" lang="zh-CN" sz="2800" spc="-1" strike="noStrike">
                <a:solidFill>
                  <a:srgbClr val="00ff00"/>
                </a:solidFill>
                <a:latin typeface="_x000b__x000c_"/>
              </a:rPr>
              <a:t>认为地球是宇宙的中心，其他的天体都在围绕地球旋转，这就是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_x000b__x000c_"/>
              </a:rPr>
              <a:t>地心说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ff00"/>
                </a:solidFill>
                <a:latin typeface="_x000b__x000c_"/>
              </a:rPr>
              <a:t>。这种学说在西方一直持续了一千多年。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0" name="Picture 9" descr="jwDhVzWbU"/>
          <p:cNvPicPr/>
          <p:nvPr/>
        </p:nvPicPr>
        <p:blipFill>
          <a:blip r:embed="rId2"/>
          <a:stretch/>
        </p:blipFill>
        <p:spPr>
          <a:xfrm>
            <a:off x="250920" y="260280"/>
            <a:ext cx="863640" cy="1081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611280" y="57340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们认为古人的这种观点正确吗？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00240" y="19285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海王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海王星为太阳系八大行星中的第八个，亦是最后一个，是一个巨行星。海王星是第一个通过天体力学计算后被发现的行星。因为天王星的轨道与计算的不同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84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年英国人约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可夫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亚当斯和法国人埃班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勒维叶推算了在天王星外的一个未知行星可能的位置，这就是海王星。目前海王星是太阳系内离太阳最远的行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2" descr="太阳系八大行星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imgsrc.baidu.com/baike/pic/item/3a86813dbb3abb17bba1675a.jpg"/>
          <p:cNvPicPr/>
          <p:nvPr/>
        </p:nvPicPr>
        <p:blipFill>
          <a:blip r:embed="rId3"/>
          <a:stretch/>
        </p:blipFill>
        <p:spPr>
          <a:xfrm>
            <a:off x="2000160" y="25560"/>
            <a:ext cx="3841920" cy="3398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imgsrc.baidu.com/baike/pic/item/4bd1e803f468c3603812bb5a.jpg"/>
          <p:cNvPicPr/>
          <p:nvPr/>
        </p:nvPicPr>
        <p:blipFill>
          <a:blip r:embed="rId4"/>
          <a:stretch/>
        </p:blipFill>
        <p:spPr>
          <a:xfrm>
            <a:off x="0" y="571680"/>
            <a:ext cx="17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柯伊伯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385776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柯伊伯带位于太阳系的尽头，其名称源于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荷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裔美籍天文学家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柯伊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早在上世纪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年代，柯伊伯和埃吉沃斯就预言：在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海王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轨道以外的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太阳系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边缘地带，充满了微小冰封的物体，它们是原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太阳星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的残留物，也是短周期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彗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的来源地。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内容占位符 3" descr="245e8bcaabe68d95c91768e6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317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www.astron.sh.cn/yiwen/2006/yw060415-planetbirth.files/9224.jpg"/>
          <p:cNvPicPr/>
          <p:nvPr/>
        </p:nvPicPr>
        <p:blipFill>
          <a:blip r:embed="rId2"/>
          <a:stretch/>
        </p:blipFill>
        <p:spPr>
          <a:xfrm>
            <a:off x="0" y="0"/>
            <a:ext cx="3948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407160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除了光，太阳也不断的放射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电子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也就是所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太阳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这条微粒子流的速度为每小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万公里，在太阳系内创造出稀薄的大气层，范围至少达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天文单位，也就是我们所认知的行星际物质。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地球的磁场从与太阳风的互动中保护著地球大气层。水星和金星则没有磁场，太阳风使它们的大气层逐渐流失至太空中。 太阳风和地球磁场交互作用产生的极光，可以在接近地球的磁极的附近看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0" y="3000240"/>
            <a:ext cx="914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行星际物质</a:t>
            </a:r>
            <a:endParaRPr b="0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5" name="Picture 5" descr="http://imgsrc.baidu.com/baike/pic/item/a1ad16faa2ac0f8459ee9082.jpg"/>
          <p:cNvPicPr/>
          <p:nvPr/>
        </p:nvPicPr>
        <p:blipFill>
          <a:blip r:embed="rId1"/>
          <a:stretch/>
        </p:blipFill>
        <p:spPr>
          <a:xfrm>
            <a:off x="0" y="0"/>
            <a:ext cx="4286160" cy="2803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imgsrc.baidu.com/baike/pic/item/bf487563fe1541730c33fae1.jpg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27860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"/>
          <p:cNvSpPr/>
          <p:nvPr/>
        </p:nvSpPr>
        <p:spPr>
          <a:xfrm>
            <a:off x="880920" y="612720"/>
            <a:ext cx="584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更多免费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模板下载：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http://www.eeppt.com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内太阳系在传统上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类地行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行星带区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的名称，主要是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硅酸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金属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组成的。这个区域挤在靠近太阳的范围内，半径还比木星与土星之间的距离还短。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0" y="260280"/>
            <a:ext cx="896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内太阳系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1" name="Picture 6" descr="0d968f23628dc05ead34dec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4437000"/>
            <a:ext cx="77770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颗内行星或是类地行星的特点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密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岩石构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有少量或没有卫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没有环系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它们由高熔点的矿物，像是硅酸盐类的矿物，组成表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固体的地壳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半流质的地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以及由铁、镍构成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金属核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所组成。四颗中的三颗有实质的大气层，全部都有撞击坑和地质构造的表面特征。内行星容易和比地球更接近太阳的内侧行星混淆。行星运行在一个平面，朝着一个方向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00016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 </a:t>
            </a:r>
            <a:r>
              <a:rPr b="0" lang="zh-CN" sz="32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内行星 </a:t>
            </a:r>
            <a:endParaRPr b="0" lang="en-US" sz="32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4" name="Picture 6" descr="http://www.chinadaily.com.cn/hqzx/images/attachement/jpg/site1/20070813/00096b4f6f6e082a44c31e.jpg"/>
          <p:cNvPicPr/>
          <p:nvPr/>
        </p:nvPicPr>
        <p:blipFill>
          <a:blip r:embed="rId1"/>
          <a:stretch/>
        </p:blipFill>
        <p:spPr>
          <a:xfrm>
            <a:off x="0" y="0"/>
            <a:ext cx="305280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http://www.chinadaily.com.cn/hqzx/images/attachement/jpg/site1/20070813/00096b4f6f6e082a449b1d.jpg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21480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彗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392904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彗星是星际间物质，俗称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扫把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。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文略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这本书中写道：彗星为怪异之星，有首有尾，俗象其形而名之曰扫把星。除了离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太阳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很远时以外，彗星的长长的明亮稀疏的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彗尾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在过去给人们这样的印象，即认为彗星很靠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地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甚至就在我们的大气范围之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http://imgsrc.baidu.com/baike/pic/item/54baacfb953c21314f4aea1b.jpg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383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http://imgsrc.baidu.com/baike/pic/item/b29f8282698317a46d81195c.jpg"/>
          <p:cNvPicPr/>
          <p:nvPr/>
        </p:nvPicPr>
        <p:blipFill>
          <a:blip r:embed="rId2"/>
          <a:stretch/>
        </p:blipFill>
        <p:spPr>
          <a:xfrm>
            <a:off x="1214280" y="0"/>
            <a:ext cx="433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0b971315cdf64d9b4b90a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4360" y="3284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这是中国探索太空的又一次飞跃，是中国空间站的起点。是中国的骄傲，太阳系庞大，可他只是宇宙中得沧海一粟，在太空中还存在许多的奥秘，这就需要大家努力学习，积极探索，希望在不久的将来你也成为祖国的骄傲。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9e9dcf83cfbae3390df4d237"/>
          <p:cNvPicPr/>
          <p:nvPr/>
        </p:nvPicPr>
        <p:blipFill>
          <a:blip r:embed="rId1"/>
          <a:stretch/>
        </p:blipFill>
        <p:spPr>
          <a:xfrm>
            <a:off x="755640" y="42840"/>
            <a:ext cx="7561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DD0-DC7C-4513-842F-611EFCDCBC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9910twxjgbn"/>
          <p:cNvPicPr/>
          <p:nvPr/>
        </p:nvPicPr>
        <p:blipFill>
          <a:blip r:embed="rId1"/>
          <a:stretch/>
        </p:blipFill>
        <p:spPr>
          <a:xfrm>
            <a:off x="6732720" y="1413000"/>
            <a:ext cx="223020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759720" y="5157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波兰天文学家哥白尼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116000" y="765000"/>
            <a:ext cx="15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_x000b__x000c_"/>
              </a:rPr>
              <a:t>日心说 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155736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哥白尼： 波兰天文学家，日心说的创立者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布鲁诺：宣传哥白尼的日心说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开普勒：德国天文学家，以数学的和谐性探          索宇宙，在天文学方面做出了巨大的贡献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伽利略：发明天文望远镜，发现支持“日心说”的新的天文现象。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牛顿：创制了反射望远镜，发现了万有引力。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7" name="Picture 7" descr="jwDhVzWbU"/>
          <p:cNvPicPr/>
          <p:nvPr/>
        </p:nvPicPr>
        <p:blipFill>
          <a:blip r:embed="rId2"/>
          <a:stretch/>
        </p:blipFill>
        <p:spPr>
          <a:xfrm>
            <a:off x="468360" y="333360"/>
            <a:ext cx="86364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11280" y="4508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些为“日心说”的发展作出贡献的科学家，他们的名字流芳百世。希望同学们努力学习，将来为人类做出贡献，那你的名字也将流芳百世。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9" name="文本框 1"/>
          <p:cNvSpPr/>
          <p:nvPr/>
        </p:nvSpPr>
        <p:spPr>
          <a:xfrm rot="360000">
            <a:off x="1688760" y="676440"/>
            <a:ext cx="888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83664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　庞大的太阳系：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71" name="Picture 3" descr="jwDhVzWbU"/>
          <p:cNvPicPr/>
          <p:nvPr/>
        </p:nvPicPr>
        <p:blipFill>
          <a:blip r:embed="rId1"/>
          <a:stretch/>
        </p:blipFill>
        <p:spPr>
          <a:xfrm>
            <a:off x="250920" y="404640"/>
            <a:ext cx="863640" cy="10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pia06890-1024-768"/>
          <p:cNvPicPr/>
          <p:nvPr/>
        </p:nvPicPr>
        <p:blipFill>
          <a:blip r:embed="rId2"/>
          <a:srcRect l="0" t="-1283" r="0" b="0"/>
          <a:stretch/>
        </p:blipFill>
        <p:spPr>
          <a:xfrm>
            <a:off x="684360" y="1484280"/>
            <a:ext cx="79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4920" y="14504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太阳系是由太阳和围绕它转的一群天体组成。如果把太阳系比作一个大家庭的话，太阳就是一家之主。太阳系除了太阳这个主人，还有其它一些主要成员，而我们生活的地球正是浩瀚的太阳系里的一颗普通的行星，它还有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个兄弟呢！我们按照与太阳的距离从近到远来看一下，有哪些行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pia06890-1024-768"/>
          <p:cNvPicPr/>
          <p:nvPr/>
        </p:nvPicPr>
        <p:blipFill>
          <a:blip r:embed="rId1"/>
          <a:srcRect l="0" t="-1286" r="0" b="0"/>
          <a:stretch/>
        </p:blipFill>
        <p:spPr>
          <a:xfrm>
            <a:off x="1258920" y="3357720"/>
            <a:ext cx="6121440" cy="32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wDhVzWbU"/>
          <p:cNvPicPr/>
          <p:nvPr/>
        </p:nvPicPr>
        <p:blipFill>
          <a:blip r:embed="rId2"/>
          <a:stretch/>
        </p:blipFill>
        <p:spPr>
          <a:xfrm>
            <a:off x="395280" y="404640"/>
            <a:ext cx="863640" cy="10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252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地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人类的家园“地球”已经是一个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46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亿岁的老寿星了，她起源于原始太阳星云。在地球引力的作用下，大量气体聚集在地球周围，形成包层，这就是地球大气层。地球就像一只陀螺，沿着自转轴自西向东不停地旋转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939960" y="-1811160"/>
            <a:ext cx="7265880" cy="10486800"/>
            <a:chOff x="939960" y="-1811160"/>
            <a:chExt cx="7265880" cy="10486800"/>
          </a:xfrm>
        </p:grpSpPr>
        <p:sp>
          <p:nvSpPr>
            <p:cNvPr id="79" name="Rectangle 5"/>
            <p:cNvSpPr/>
            <p:nvPr/>
          </p:nvSpPr>
          <p:spPr>
            <a:xfrm>
              <a:off x="939960" y="-1811160"/>
              <a:ext cx="6742080" cy="104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ff00"/>
                </a:solidFill>
                <a:latin typeface="Times New Roman"/>
              </a:endParaRPr>
            </a:p>
          </p:txBody>
        </p:sp>
        <p:grpSp>
          <p:nvGrpSpPr>
            <p:cNvPr id="80" name="Group 6"/>
            <p:cNvGrpSpPr/>
            <p:nvPr/>
          </p:nvGrpSpPr>
          <p:grpSpPr>
            <a:xfrm>
              <a:off x="939960" y="-1811160"/>
              <a:ext cx="7265880" cy="9023400"/>
              <a:chOff x="939960" y="-1811160"/>
              <a:chExt cx="7265880" cy="9023400"/>
            </a:xfrm>
          </p:grpSpPr>
          <p:sp>
            <p:nvSpPr>
              <p:cNvPr id="81" name="Rectangle 7"/>
              <p:cNvSpPr/>
              <p:nvPr/>
            </p:nvSpPr>
            <p:spPr>
              <a:xfrm>
                <a:off x="939960" y="-1811160"/>
                <a:ext cx="6661080" cy="89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ff00"/>
                  </a:solidFill>
                  <a:latin typeface="Times New Roman"/>
                </a:endParaRPr>
              </a:p>
            </p:txBody>
          </p:sp>
          <p:grpSp>
            <p:nvGrpSpPr>
              <p:cNvPr id="82" name="Group 8"/>
              <p:cNvGrpSpPr/>
              <p:nvPr/>
            </p:nvGrpSpPr>
            <p:grpSpPr>
              <a:xfrm>
                <a:off x="939960" y="-1811160"/>
                <a:ext cx="7265880" cy="9023400"/>
                <a:chOff x="939960" y="-1811160"/>
                <a:chExt cx="7265880" cy="9023400"/>
              </a:xfrm>
            </p:grpSpPr>
            <p:sp>
              <p:nvSpPr>
                <p:cNvPr id="83" name="Rectangle 9"/>
                <p:cNvSpPr/>
                <p:nvPr/>
              </p:nvSpPr>
              <p:spPr>
                <a:xfrm>
                  <a:off x="939960" y="-1811160"/>
                  <a:ext cx="5268960" cy="902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10"/>
                <p:cNvSpPr/>
                <p:nvPr/>
              </p:nvSpPr>
              <p:spPr>
                <a:xfrm>
                  <a:off x="939960" y="-1811160"/>
                  <a:ext cx="72658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ff00"/>
                      </a:solidFill>
                      <a:latin typeface="Times New Roman"/>
                    </a:rPr>
                    <a:t>地球就像一只陀螺，沿着自转轴自西向东不停地旋转着。</a:t>
                  </a: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" name="Group 11"/>
          <p:cNvGrpSpPr/>
          <p:nvPr/>
        </p:nvGrpSpPr>
        <p:grpSpPr>
          <a:xfrm>
            <a:off x="939960" y="-1811160"/>
            <a:ext cx="7265880" cy="10486800"/>
            <a:chOff x="939960" y="-1811160"/>
            <a:chExt cx="7265880" cy="10486800"/>
          </a:xfrm>
        </p:grpSpPr>
        <p:sp>
          <p:nvSpPr>
            <p:cNvPr id="86" name="Rectangle 12"/>
            <p:cNvSpPr/>
            <p:nvPr/>
          </p:nvSpPr>
          <p:spPr>
            <a:xfrm>
              <a:off x="939960" y="-1811160"/>
              <a:ext cx="6742080" cy="104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ff00"/>
                </a:solidFill>
                <a:latin typeface="Times New Roman"/>
              </a:endParaRPr>
            </a:p>
          </p:txBody>
        </p:sp>
        <p:grpSp>
          <p:nvGrpSpPr>
            <p:cNvPr id="87" name="Group 13"/>
            <p:cNvGrpSpPr/>
            <p:nvPr/>
          </p:nvGrpSpPr>
          <p:grpSpPr>
            <a:xfrm>
              <a:off x="939960" y="-1811160"/>
              <a:ext cx="7265880" cy="9023400"/>
              <a:chOff x="939960" y="-1811160"/>
              <a:chExt cx="7265880" cy="9023400"/>
            </a:xfrm>
          </p:grpSpPr>
          <p:sp>
            <p:nvSpPr>
              <p:cNvPr id="88" name="Rectangle 14"/>
              <p:cNvSpPr/>
              <p:nvPr/>
            </p:nvSpPr>
            <p:spPr>
              <a:xfrm>
                <a:off x="939960" y="-1811160"/>
                <a:ext cx="6661080" cy="89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ff00"/>
                  </a:solidFill>
                  <a:latin typeface="Times New Roman"/>
                </a:endParaRPr>
              </a:p>
            </p:txBody>
          </p:sp>
          <p:grpSp>
            <p:nvGrpSpPr>
              <p:cNvPr id="89" name="Group 15"/>
              <p:cNvGrpSpPr/>
              <p:nvPr/>
            </p:nvGrpSpPr>
            <p:grpSpPr>
              <a:xfrm>
                <a:off x="939960" y="-1811160"/>
                <a:ext cx="7265880" cy="9023400"/>
                <a:chOff x="939960" y="-1811160"/>
                <a:chExt cx="7265880" cy="9023400"/>
              </a:xfrm>
            </p:grpSpPr>
            <p:sp>
              <p:nvSpPr>
                <p:cNvPr id="90" name="Rectangle 16"/>
                <p:cNvSpPr/>
                <p:nvPr/>
              </p:nvSpPr>
              <p:spPr>
                <a:xfrm>
                  <a:off x="939960" y="-1811160"/>
                  <a:ext cx="5268960" cy="902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7"/>
                <p:cNvSpPr/>
                <p:nvPr/>
              </p:nvSpPr>
              <p:spPr>
                <a:xfrm>
                  <a:off x="939960" y="-1811160"/>
                  <a:ext cx="72658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ff00"/>
                      </a:solidFill>
                      <a:latin typeface="Times New Roman"/>
                    </a:rPr>
                    <a:t>地球就像一只陀螺，沿着自转轴自西向东不停地旋转着。</a:t>
                  </a: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" name="Group 18"/>
          <p:cNvGrpSpPr/>
          <p:nvPr/>
        </p:nvGrpSpPr>
        <p:grpSpPr>
          <a:xfrm>
            <a:off x="939960" y="-1811160"/>
            <a:ext cx="7265880" cy="10486800"/>
            <a:chOff x="939960" y="-1811160"/>
            <a:chExt cx="7265880" cy="10486800"/>
          </a:xfrm>
        </p:grpSpPr>
        <p:sp>
          <p:nvSpPr>
            <p:cNvPr id="93" name="Rectangle 19"/>
            <p:cNvSpPr/>
            <p:nvPr/>
          </p:nvSpPr>
          <p:spPr>
            <a:xfrm>
              <a:off x="939960" y="-1811160"/>
              <a:ext cx="6742080" cy="104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ff00"/>
                </a:solidFill>
                <a:latin typeface="Times New Roman"/>
              </a:endParaRPr>
            </a:p>
          </p:txBody>
        </p:sp>
        <p:grpSp>
          <p:nvGrpSpPr>
            <p:cNvPr id="94" name="Group 20"/>
            <p:cNvGrpSpPr/>
            <p:nvPr/>
          </p:nvGrpSpPr>
          <p:grpSpPr>
            <a:xfrm>
              <a:off x="939960" y="-1811160"/>
              <a:ext cx="7265880" cy="9023400"/>
              <a:chOff x="939960" y="-1811160"/>
              <a:chExt cx="7265880" cy="9023400"/>
            </a:xfrm>
          </p:grpSpPr>
          <p:sp>
            <p:nvSpPr>
              <p:cNvPr id="95" name="Rectangle 21"/>
              <p:cNvSpPr/>
              <p:nvPr/>
            </p:nvSpPr>
            <p:spPr>
              <a:xfrm>
                <a:off x="939960" y="-1811160"/>
                <a:ext cx="6661080" cy="89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ff00"/>
                  </a:solidFill>
                  <a:latin typeface="Times New Roman"/>
                </a:endParaRPr>
              </a:p>
            </p:txBody>
          </p:sp>
          <p:grpSp>
            <p:nvGrpSpPr>
              <p:cNvPr id="96" name="Group 22"/>
              <p:cNvGrpSpPr/>
              <p:nvPr/>
            </p:nvGrpSpPr>
            <p:grpSpPr>
              <a:xfrm>
                <a:off x="939960" y="-1811160"/>
                <a:ext cx="7265880" cy="9023400"/>
                <a:chOff x="939960" y="-1811160"/>
                <a:chExt cx="7265880" cy="9023400"/>
              </a:xfrm>
            </p:grpSpPr>
            <p:sp>
              <p:nvSpPr>
                <p:cNvPr id="97" name="Rectangle 23"/>
                <p:cNvSpPr/>
                <p:nvPr/>
              </p:nvSpPr>
              <p:spPr>
                <a:xfrm>
                  <a:off x="939960" y="-1811160"/>
                  <a:ext cx="5268960" cy="902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939960" y="-1811160"/>
                  <a:ext cx="72658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ff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25" descr="tb0004as"/>
          <p:cNvPicPr/>
          <p:nvPr/>
        </p:nvPicPr>
        <p:blipFill>
          <a:blip r:embed="rId1"/>
          <a:stretch/>
        </p:blipFill>
        <p:spPr>
          <a:xfrm>
            <a:off x="4356000" y="1700280"/>
            <a:ext cx="4103640" cy="411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jwDhVzWbU"/>
          <p:cNvPicPr/>
          <p:nvPr/>
        </p:nvPicPr>
        <p:blipFill>
          <a:blip r:embed="rId2"/>
          <a:stretch/>
        </p:blipFill>
        <p:spPr>
          <a:xfrm>
            <a:off x="468360" y="549360"/>
            <a:ext cx="863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ff509827e945e936d811941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80880" y="6019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地球和他的“小兄弟们”。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130000024272612301789336820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09480" y="5943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地球还有几个“大哥哥”。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514600" y="5334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61160" y="510552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ec6c2c71828ab2b9c163d47"/>
          <p:cNvPicPr/>
          <p:nvPr/>
        </p:nvPicPr>
        <p:blipFill>
          <a:blip r:embed="rId1"/>
          <a:stretch/>
        </p:blipFill>
        <p:spPr>
          <a:xfrm>
            <a:off x="914400" y="304920"/>
            <a:ext cx="7315200" cy="5470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09480" y="6019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在庞大的“主人”面前，神马都是浮云！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133720" y="54100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6668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木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010280" y="53352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太阳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3:51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7:10Z</dcterms:modified>
  <cp:revision>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