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3D7-A445-479A-A82C-A0017B9A7C9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1B7-48DF-461D-BCE6-E66F7D31552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FEE-EBD2-4368-9EE2-653AB7C8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2C8-953D-41D7-A573-D50D6D7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E4B-A5EF-45D6-9F40-009F6100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E9E-1379-43DB-A181-F17785A4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FB4-C7A3-47EB-8BFA-BF9C417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941-9B29-4A11-AFD4-22A9FCF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4D5-E772-4466-955A-5F5A4FE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AF2-07DE-40E0-90B0-B1E8EE46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762-FF34-416F-AEC1-AC183E1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7BB-FB9B-4D56-8B06-E1ED7DE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DD9-E092-4F4F-96BF-C1366AE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82F-BE69-4F8D-AA8A-1A8A262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B59-677D-4DE1-B979-909A56612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2124000" y="609300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066680" y="1371600"/>
            <a:ext cx="7315200" cy="2515680"/>
            <a:chOff x="1066680" y="1371600"/>
            <a:chExt cx="7315200" cy="2515680"/>
          </a:xfrm>
        </p:grpSpPr>
        <p:sp>
          <p:nvSpPr>
            <p:cNvPr id="50" name="WordArt 3"/>
            <p:cNvSpPr txBox="1"/>
            <p:nvPr/>
          </p:nvSpPr>
          <p:spPr>
            <a:xfrm>
              <a:off x="1066680" y="1371600"/>
              <a:ext cx="731520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方正魏碑简体"/>
                </a:rPr>
                <a:t>我的叔叔于勒</a:t>
              </a:r>
              <a:endPara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方正魏碑简体"/>
                <a:ea typeface="方正魏碑简体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3200400" y="3505320"/>
              <a:ext cx="15238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5151960" y="306216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莫泊桑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文本框 1"/>
          <p:cNvSpPr/>
          <p:nvPr/>
        </p:nvSpPr>
        <p:spPr>
          <a:xfrm>
            <a:off x="100080" y="59706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1108800" y="533520"/>
            <a:ext cx="6820200" cy="4196160"/>
            <a:chOff x="1108800" y="533520"/>
            <a:chExt cx="6820200" cy="4196160"/>
          </a:xfrm>
        </p:grpSpPr>
        <p:sp>
          <p:nvSpPr>
            <p:cNvPr id="170" name="Text Box 2"/>
            <p:cNvSpPr/>
            <p:nvPr/>
          </p:nvSpPr>
          <p:spPr>
            <a:xfrm>
              <a:off x="1108800" y="5335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克拉丽丝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"/>
            <p:cNvSpPr/>
            <p:nvPr/>
          </p:nvSpPr>
          <p:spPr>
            <a:xfrm>
              <a:off x="2005560" y="1447920"/>
              <a:ext cx="4910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夸于勒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只要这个好心的于勒一回来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他真是个有办法的人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1798920" y="3173400"/>
              <a:ext cx="6130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骂于勒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我就知道这个贼是不会有出息的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早晚会重新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”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讨饭的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”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流氓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6"/>
          <p:cNvSpPr/>
          <p:nvPr/>
        </p:nvSpPr>
        <p:spPr>
          <a:xfrm>
            <a:off x="1295280" y="504504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刻薄、势利表露无余，但比丈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更有心计，马上沉着地指挥着一切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620440" y="1600200"/>
            <a:ext cx="36334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打发丈夫向船长打听，证实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让儿子若瑟夫去付款，夫妇俩回避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叮嘱丈夫千万别让女婿看出来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撤离现场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非之地，不可久留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338280" y="5181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指挥若定，大将风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843840" y="2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人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58120" y="1603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于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00400" y="254484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我”（若瑟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624040" y="3432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两个姐姐，一个姐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256480" y="4525920"/>
            <a:ext cx="46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父亲”、“母亲”（菲利普和克拉丽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133720" y="1981080"/>
            <a:ext cx="441936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929640" y="1522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暗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012080" y="243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见证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038480" y="2819520"/>
            <a:ext cx="251460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7022520" y="3305160"/>
            <a:ext cx="11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陪衬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4876920" y="3733920"/>
            <a:ext cx="167616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394440" y="352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是主人公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1905120" y="685800"/>
            <a:ext cx="990360" cy="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7"/>
          <p:cNvGrpSpPr/>
          <p:nvPr/>
        </p:nvGrpSpPr>
        <p:grpSpPr>
          <a:xfrm>
            <a:off x="4876920" y="5048280"/>
            <a:ext cx="3220920" cy="703440"/>
            <a:chOff x="4876920" y="5048280"/>
            <a:chExt cx="3220920" cy="703440"/>
          </a:xfrm>
        </p:grpSpPr>
        <p:sp>
          <p:nvSpPr>
            <p:cNvPr id="192" name="Text Box 15"/>
            <p:cNvSpPr/>
            <p:nvPr/>
          </p:nvSpPr>
          <p:spPr>
            <a:xfrm>
              <a:off x="7002720" y="5048280"/>
              <a:ext cx="1095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02388" dir="1783193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主人公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4876920" y="5410080"/>
              <a:ext cx="16761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088280" y="272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环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514600"/>
            <a:ext cx="838440" cy="15562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黑体"/>
              </a:rPr>
              <a:t>环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825080" y="175248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衬托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愉悦心情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阴郁心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419720" y="40831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金钱至上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女婿写出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社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07160" y="1676520"/>
            <a:ext cx="1278000" cy="642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自然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229480" y="3962520"/>
            <a:ext cx="1278000" cy="642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社会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1219320" y="1980720"/>
            <a:ext cx="609480" cy="2362680"/>
            <a:chOff x="1219320" y="1980720"/>
            <a:chExt cx="609480" cy="2362680"/>
          </a:xfrm>
        </p:grpSpPr>
        <p:sp>
          <p:nvSpPr>
            <p:cNvPr id="202" name="Line 8"/>
            <p:cNvSpPr/>
            <p:nvPr/>
          </p:nvSpPr>
          <p:spPr>
            <a:xfrm flipV="1">
              <a:off x="1219320" y="1980720"/>
              <a:ext cx="533160" cy="83844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>
              <a:off x="1219320" y="3657600"/>
              <a:ext cx="609480" cy="68580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3886200" y="2057400"/>
            <a:ext cx="533520" cy="2286000"/>
            <a:chOff x="3886200" y="2057400"/>
            <a:chExt cx="533520" cy="2286000"/>
          </a:xfrm>
        </p:grpSpPr>
        <p:sp>
          <p:nvSpPr>
            <p:cNvPr id="205" name="Line 10"/>
            <p:cNvSpPr/>
            <p:nvPr/>
          </p:nvSpPr>
          <p:spPr>
            <a:xfrm>
              <a:off x="3886200" y="2057400"/>
              <a:ext cx="53352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3886200" y="4343400"/>
              <a:ext cx="53352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文本框 1"/>
          <p:cNvSpPr/>
          <p:nvPr/>
        </p:nvSpPr>
        <p:spPr>
          <a:xfrm>
            <a:off x="195120" y="1764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762120" y="326880"/>
            <a:ext cx="7788240" cy="3601440"/>
            <a:chOff x="762120" y="326880"/>
            <a:chExt cx="7788240" cy="3601440"/>
          </a:xfrm>
        </p:grpSpPr>
        <p:sp>
          <p:nvSpPr>
            <p:cNvPr id="210" name="Text Box 2"/>
            <p:cNvSpPr/>
            <p:nvPr/>
          </p:nvSpPr>
          <p:spPr>
            <a:xfrm>
              <a:off x="1714680" y="326880"/>
              <a:ext cx="319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写作延伸（作业）：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"/>
            <p:cNvSpPr/>
            <p:nvPr/>
          </p:nvSpPr>
          <p:spPr>
            <a:xfrm>
              <a:off x="762120" y="1260360"/>
              <a:ext cx="778824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续写练习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、如果现在又在换乘的船上看到了有位富翁像于勒（或就是于勒），那么菲利普夫妇又会有哪些出色的表现呢？请展开想象，续写故事，注意人物语言、神态、动作描写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开头为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回来的时候，我们换乘了圣玛洛船……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762120" y="1488960"/>
            <a:ext cx="7619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经过了船上遭遇于勒叔叔的经历，全家人的哲尔赛岛之行会是什么样的情形？请展开想象，续写故事，注意人物语言、神态、动作描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头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我们面前，天边远处仿佛有一片紫色的阴影从海里钻出来，这就是哲尔赛岛了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ztx.mp3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CB3-7343-4F30-819D-0D03CB4E3A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1"/>
          <p:cNvSpPr/>
          <p:nvPr/>
        </p:nvSpPr>
        <p:spPr>
          <a:xfrm>
            <a:off x="2190600" y="1773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87520" y="83808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188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年《羊脂球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85960" y="2133720"/>
            <a:ext cx="274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30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多个中短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个长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288040" y="4648320"/>
            <a:ext cx="29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短篇小说之王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3429000" y="50292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7239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莫泊桑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850-1893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4" descr="莫泊桑"/>
          <p:cNvPicPr/>
          <p:nvPr/>
        </p:nvPicPr>
        <p:blipFill>
          <a:blip r:embed="rId16"/>
          <a:stretch/>
        </p:blipFill>
        <p:spPr>
          <a:xfrm>
            <a:off x="533520" y="228600"/>
            <a:ext cx="393696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5"/>
          <p:cNvSpPr/>
          <p:nvPr/>
        </p:nvSpPr>
        <p:spPr>
          <a:xfrm>
            <a:off x="2514600" y="5410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后期法国杰出的批判现实主义作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8080" y="2133720"/>
            <a:ext cx="861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抓住小说三要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阅读小说理解主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学习刻划人物的方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语言、神态、动作等的描写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25320" y="398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说的三要素是什么？最主要的是什么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371600" y="1143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物          环境          故事情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5800" y="1981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说的情节是由哪四部分构成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371600" y="2895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因      发展         高潮         结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3808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描写人物的方法有哪几种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371600" y="4419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外貌描写      动作描写     语言描写   心理描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276372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菲利普夫 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722480" y="2940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169240" y="2940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迎回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6560" y="184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722480" y="184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69240" y="184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撵走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722400" y="29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347560" y="2919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暴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06560" y="4083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349000" y="41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落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347560" y="184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赤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2480" y="406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169240" y="406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遗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1971720" y="1523880"/>
            <a:ext cx="1447920" cy="3581640"/>
            <a:chOff x="1971720" y="1523880"/>
            <a:chExt cx="1447920" cy="3581640"/>
          </a:xfrm>
        </p:grpSpPr>
        <p:sp>
          <p:nvSpPr>
            <p:cNvPr id="89" name="Oval 16"/>
            <p:cNvSpPr/>
            <p:nvPr/>
          </p:nvSpPr>
          <p:spPr>
            <a:xfrm>
              <a:off x="197172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7"/>
            <p:cNvSpPr/>
            <p:nvPr/>
          </p:nvSpPr>
          <p:spPr>
            <a:xfrm>
              <a:off x="242892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2" name="Oval 37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8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9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5" name="Oval 40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情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4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9" name="Oval 45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46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3520" y="99072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生活是一部由金钱开动的机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巴尔扎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236232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的金钱保障了你的地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福楼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7680" y="3733920"/>
            <a:ext cx="8169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在资本主义社会里，人们都在酬金的独裁下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跪倒在金犊偶像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莫泊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38"/>
          <p:cNvGrpSpPr/>
          <p:nvPr/>
        </p:nvGrpSpPr>
        <p:grpSpPr>
          <a:xfrm>
            <a:off x="304920" y="1523880"/>
            <a:ext cx="5882760" cy="3581640"/>
            <a:chOff x="304920" y="1523880"/>
            <a:chExt cx="5882760" cy="3581640"/>
          </a:xfrm>
        </p:grpSpPr>
        <p:grpSp>
          <p:nvGrpSpPr>
            <p:cNvPr id="107" name="Group 37"/>
            <p:cNvGrpSpPr/>
            <p:nvPr/>
          </p:nvGrpSpPr>
          <p:grpSpPr>
            <a:xfrm>
              <a:off x="304920" y="1847880"/>
              <a:ext cx="5882760" cy="2755800"/>
              <a:chOff x="304920" y="1847880"/>
              <a:chExt cx="5882760" cy="2755800"/>
            </a:xfrm>
          </p:grpSpPr>
          <p:sp>
            <p:nvSpPr>
              <p:cNvPr id="108" name="Text Box 2"/>
              <p:cNvSpPr/>
              <p:nvPr/>
            </p:nvSpPr>
            <p:spPr>
              <a:xfrm>
                <a:off x="304920" y="2763720"/>
                <a:ext cx="138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菲利普夫 妇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"/>
              <p:cNvSpPr/>
              <p:nvPr/>
            </p:nvSpPr>
            <p:spPr>
              <a:xfrm>
                <a:off x="4718520" y="2940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盼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4"/>
              <p:cNvSpPr/>
              <p:nvPr/>
            </p:nvSpPr>
            <p:spPr>
              <a:xfrm>
                <a:off x="5153400" y="29401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迎回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5"/>
              <p:cNvSpPr/>
              <p:nvPr/>
            </p:nvSpPr>
            <p:spPr>
              <a:xfrm>
                <a:off x="3702600" y="1847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怕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6"/>
              <p:cNvSpPr/>
              <p:nvPr/>
            </p:nvSpPr>
            <p:spPr>
              <a:xfrm>
                <a:off x="4718520" y="1847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送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7"/>
              <p:cNvSpPr/>
              <p:nvPr/>
            </p:nvSpPr>
            <p:spPr>
              <a:xfrm>
                <a:off x="5153400" y="1847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撵走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8"/>
              <p:cNvSpPr/>
              <p:nvPr/>
            </p:nvSpPr>
            <p:spPr>
              <a:xfrm>
                <a:off x="3718440" y="2919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赞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9"/>
              <p:cNvSpPr/>
              <p:nvPr/>
            </p:nvSpPr>
            <p:spPr>
              <a:xfrm>
                <a:off x="2339640" y="2919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暴发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10"/>
              <p:cNvSpPr/>
              <p:nvPr/>
            </p:nvSpPr>
            <p:spPr>
              <a:xfrm>
                <a:off x="3702600" y="4083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骂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1"/>
              <p:cNvSpPr/>
              <p:nvPr/>
            </p:nvSpPr>
            <p:spPr>
              <a:xfrm>
                <a:off x="2339640" y="40831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落魄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2"/>
              <p:cNvSpPr/>
              <p:nvPr/>
            </p:nvSpPr>
            <p:spPr>
              <a:xfrm>
                <a:off x="2339640" y="1847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赤贫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4718520" y="4062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躲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14"/>
              <p:cNvSpPr/>
              <p:nvPr/>
            </p:nvSpPr>
            <p:spPr>
              <a:xfrm>
                <a:off x="5153400" y="4062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遗弃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5"/>
            <p:cNvGrpSpPr/>
            <p:nvPr/>
          </p:nvGrpSpPr>
          <p:grpSpPr>
            <a:xfrm>
              <a:off x="1971720" y="1523880"/>
              <a:ext cx="1447920" cy="3581640"/>
              <a:chOff x="1971720" y="1523880"/>
              <a:chExt cx="1447920" cy="3581640"/>
            </a:xfrm>
          </p:grpSpPr>
          <p:sp>
            <p:nvSpPr>
              <p:cNvPr id="122" name="Oval 16"/>
              <p:cNvSpPr/>
              <p:nvPr/>
            </p:nvSpPr>
            <p:spPr>
              <a:xfrm>
                <a:off x="1971720" y="1523880"/>
                <a:ext cx="1447920" cy="3581640"/>
              </a:xfrm>
              <a:prstGeom prst="ellipse">
                <a:avLst/>
              </a:prstGeom>
              <a:noFill/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17"/>
              <p:cNvSpPr/>
              <p:nvPr/>
            </p:nvSpPr>
            <p:spPr>
              <a:xfrm>
                <a:off x="2428920" y="2666880"/>
                <a:ext cx="457200" cy="1295640"/>
              </a:xfrm>
              <a:prstGeom prst="rect">
                <a:avLst/>
              </a:prstGeom>
              <a:noFill/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Group 35"/>
          <p:cNvGrpSpPr/>
          <p:nvPr/>
        </p:nvGrpSpPr>
        <p:grpSpPr>
          <a:xfrm>
            <a:off x="7010280" y="1616040"/>
            <a:ext cx="1717920" cy="2592720"/>
            <a:chOff x="7010280" y="1616040"/>
            <a:chExt cx="1717920" cy="2592720"/>
          </a:xfrm>
        </p:grpSpPr>
        <p:sp>
          <p:nvSpPr>
            <p:cNvPr id="125" name="Text Box 18"/>
            <p:cNvSpPr/>
            <p:nvPr/>
          </p:nvSpPr>
          <p:spPr>
            <a:xfrm>
              <a:off x="7010280" y="1616040"/>
              <a:ext cx="1717920" cy="259272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情面纱下赤裸裸的金钱关系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 flipH="1">
              <a:off x="7620120" y="1981080"/>
              <a:ext cx="304560" cy="457200"/>
            </a:xfrm>
            <a:prstGeom prst="line">
              <a:avLst/>
            </a:prstGeom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 flipH="1">
              <a:off x="7848720" y="1905120"/>
              <a:ext cx="304560" cy="533160"/>
            </a:xfrm>
            <a:prstGeom prst="line">
              <a:avLst/>
            </a:prstGeom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1"/>
          <p:cNvGrpSpPr/>
          <p:nvPr/>
        </p:nvGrpSpPr>
        <p:grpSpPr>
          <a:xfrm>
            <a:off x="1371600" y="2133720"/>
            <a:ext cx="5562720" cy="2209680"/>
            <a:chOff x="1371600" y="2133720"/>
            <a:chExt cx="5562720" cy="2209680"/>
          </a:xfrm>
        </p:grpSpPr>
        <p:sp>
          <p:nvSpPr>
            <p:cNvPr id="129" name="Line 22"/>
            <p:cNvSpPr/>
            <p:nvPr/>
          </p:nvSpPr>
          <p:spPr>
            <a:xfrm>
              <a:off x="1447920" y="3276720"/>
              <a:ext cx="45720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 flipV="1">
              <a:off x="1371600" y="2362320"/>
              <a:ext cx="609480" cy="45720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>
              <a:off x="1371600" y="3657600"/>
              <a:ext cx="609480" cy="53352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3048120" y="213372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>
              <a:off x="3048120" y="3200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124080" y="4343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>
              <a:off x="4114800" y="3200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>
              <a:off x="4114800" y="4343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4114800" y="213372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31"/>
            <p:cNvSpPr/>
            <p:nvPr/>
          </p:nvSpPr>
          <p:spPr>
            <a:xfrm>
              <a:off x="6324480" y="4343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>
              <a:off x="6324480" y="213372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>
              <a:off x="6324480" y="3200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34"/>
          <p:cNvSpPr/>
          <p:nvPr/>
        </p:nvSpPr>
        <p:spPr>
          <a:xfrm>
            <a:off x="6477120" y="1447920"/>
            <a:ext cx="228600" cy="37335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019160" y="243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主旨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685800" y="5486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概括：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通过菲利普夫妇对其弟弟于勒态度的前后变化，形象地揭露了资本主义社会人与人之间赤裸裸的金钱关系，反映了资本主义社会的黑暗和腐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6"/>
          <p:cNvSpPr/>
          <p:nvPr/>
        </p:nvSpPr>
        <p:spPr>
          <a:xfrm>
            <a:off x="843840" y="2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人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1158120" y="1603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于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1400400" y="254484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我”（若瑟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9"/>
          <p:cNvSpPr/>
          <p:nvPr/>
        </p:nvSpPr>
        <p:spPr>
          <a:xfrm>
            <a:off x="2624040" y="3432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两个姐姐，一个姐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0"/>
          <p:cNvSpPr/>
          <p:nvPr/>
        </p:nvSpPr>
        <p:spPr>
          <a:xfrm>
            <a:off x="2256480" y="4525920"/>
            <a:ext cx="46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父亲”、“母亲”（菲利普和克拉丽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9"/>
          <p:cNvGrpSpPr/>
          <p:nvPr/>
        </p:nvGrpSpPr>
        <p:grpSpPr>
          <a:xfrm>
            <a:off x="2133720" y="1522440"/>
            <a:ext cx="5567040" cy="703440"/>
            <a:chOff x="2133720" y="1522440"/>
            <a:chExt cx="5567040" cy="703440"/>
          </a:xfrm>
        </p:grpSpPr>
        <p:sp>
          <p:nvSpPr>
            <p:cNvPr id="151" name="Line 1031"/>
            <p:cNvSpPr/>
            <p:nvPr/>
          </p:nvSpPr>
          <p:spPr>
            <a:xfrm>
              <a:off x="2133720" y="1981080"/>
              <a:ext cx="44193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032"/>
            <p:cNvSpPr/>
            <p:nvPr/>
          </p:nvSpPr>
          <p:spPr>
            <a:xfrm>
              <a:off x="6910560" y="1522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暗线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040"/>
          <p:cNvGrpSpPr/>
          <p:nvPr/>
        </p:nvGrpSpPr>
        <p:grpSpPr>
          <a:xfrm>
            <a:off x="4038480" y="2436840"/>
            <a:ext cx="4068720" cy="703440"/>
            <a:chOff x="4038480" y="2436840"/>
            <a:chExt cx="4068720" cy="703440"/>
          </a:xfrm>
        </p:grpSpPr>
        <p:sp>
          <p:nvSpPr>
            <p:cNvPr id="154" name="Text Box 1033"/>
            <p:cNvSpPr/>
            <p:nvPr/>
          </p:nvSpPr>
          <p:spPr>
            <a:xfrm>
              <a:off x="7012080" y="24368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见证人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34"/>
            <p:cNvSpPr/>
            <p:nvPr/>
          </p:nvSpPr>
          <p:spPr>
            <a:xfrm>
              <a:off x="4038480" y="2819520"/>
              <a:ext cx="251460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041"/>
          <p:cNvGrpSpPr/>
          <p:nvPr/>
        </p:nvGrpSpPr>
        <p:grpSpPr>
          <a:xfrm>
            <a:off x="4876920" y="3305160"/>
            <a:ext cx="3270960" cy="764280"/>
            <a:chOff x="4876920" y="3305160"/>
            <a:chExt cx="3270960" cy="764280"/>
          </a:xfrm>
        </p:grpSpPr>
        <p:sp>
          <p:nvSpPr>
            <p:cNvPr id="157" name="Text Box 1035"/>
            <p:cNvSpPr/>
            <p:nvPr/>
          </p:nvSpPr>
          <p:spPr>
            <a:xfrm>
              <a:off x="7022520" y="3305160"/>
              <a:ext cx="1125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陪衬</a:t>
              </a: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人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36"/>
            <p:cNvSpPr/>
            <p:nvPr/>
          </p:nvSpPr>
          <p:spPr>
            <a:xfrm>
              <a:off x="4876920" y="3733920"/>
              <a:ext cx="16761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1037"/>
          <p:cNvSpPr/>
          <p:nvPr/>
        </p:nvSpPr>
        <p:spPr>
          <a:xfrm>
            <a:off x="3394440" y="352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是主人公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38"/>
          <p:cNvSpPr/>
          <p:nvPr/>
        </p:nvSpPr>
        <p:spPr>
          <a:xfrm>
            <a:off x="1905120" y="685800"/>
            <a:ext cx="990360" cy="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685800" y="609480"/>
            <a:ext cx="8153280" cy="3835800"/>
            <a:chOff x="685800" y="609480"/>
            <a:chExt cx="8153280" cy="3835800"/>
          </a:xfrm>
        </p:grpSpPr>
        <p:sp>
          <p:nvSpPr>
            <p:cNvPr id="163" name="Text Box 2"/>
            <p:cNvSpPr/>
            <p:nvPr/>
          </p:nvSpPr>
          <p:spPr>
            <a:xfrm>
              <a:off x="1086480" y="6094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菲利普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3"/>
            <p:cNvSpPr/>
            <p:nvPr/>
          </p:nvSpPr>
          <p:spPr>
            <a:xfrm>
              <a:off x="2163960" y="1600200"/>
              <a:ext cx="70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永不变更的话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2496960" y="2541600"/>
              <a:ext cx="290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上千种计划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甚至要置买别墅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685800" y="337644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脸色早已煞白，两眼呆直，哑着嗓子，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神色狼狈，低声嘟哝：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出大乱子了！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8"/>
          <p:cNvSpPr/>
          <p:nvPr/>
        </p:nvSpPr>
        <p:spPr>
          <a:xfrm>
            <a:off x="2034360" y="502920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急切的心态，贪婪的本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希望破灭后的失落与惶恐跃然纸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6:27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48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