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D08-98CD-475A-B8C8-29AF4BAC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2AA-D009-479A-BAD0-B2100AA5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9C4-BD93-46C4-8E6F-65EBC63F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2F4-F9F7-4582-A5D2-86F8941D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F62-FBD6-44DE-9E01-D2B34DE6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0DD-D881-4B21-9A68-14BB89B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294-7840-4F79-B299-2F0CC875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95B-76A5-4C79-8E08-BB854E10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12D-BE1F-49B5-A120-F0CB98CE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A14-9F59-498B-9F3C-CC4B616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1DC-3E60-4437-AC65-C53E922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CDD-D0E9-48B2-A1EC-6C7D395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AB6-ACAE-4269-A841-21D0A37D7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0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7.png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21.png"/><Relationship Id="rId5" Type="http://schemas.openxmlformats.org/officeDocument/2006/relationships/image" Target="../media/image10.jpeg"/><Relationship Id="rId6" Type="http://schemas.openxmlformats.org/officeDocument/2006/relationships/image" Target="../media/image22.jpeg"/><Relationship Id="rId7" Type="http://schemas.openxmlformats.org/officeDocument/2006/relationships/image" Target="../media/image11.jpeg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3.gif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2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619200" y="2708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76360" y="333360"/>
            <a:ext cx="63244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1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我们成功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Img251030600"/>
          <p:cNvPicPr/>
          <p:nvPr/>
        </p:nvPicPr>
        <p:blipFill>
          <a:blip r:embed="rId16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1403280" y="4221000"/>
            <a:ext cx="100800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239148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68360" y="105264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申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     奥林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匹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相互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京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泪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洋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拥抱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飘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222222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60199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476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971640" y="6922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427640" y="260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p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79280" y="2060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xiān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1547640" y="2060640"/>
            <a:ext cx="10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h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708360" y="2060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jī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5796000" y="2060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è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403280" y="350028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yɑ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9"/>
          <p:cNvSpPr/>
          <p:nvPr/>
        </p:nvSpPr>
        <p:spPr>
          <a:xfrm flipV="1">
            <a:off x="1835280" y="3644640"/>
            <a:ext cx="144360" cy="142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2771640" y="35002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yō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067280" y="3500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ɑ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4500720" y="3645000"/>
            <a:ext cx="142560" cy="1429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6516720" y="3573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yɑ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6"/>
          <p:cNvSpPr/>
          <p:nvPr/>
        </p:nvSpPr>
        <p:spPr>
          <a:xfrm flipV="1">
            <a:off x="6948360" y="371592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1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295280" y="1219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  </a:t>
            </a:r>
            <a:r>
              <a:rPr b="0" lang="en-US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喜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讯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，人们不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同地涌上街头，北京立刻变成了欢乐的海洋 。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62120" y="556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371600" y="2819520"/>
            <a:ext cx="6248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舞着国旗，在欢庆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鼓声中一遍遍高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476360" y="4797360"/>
            <a:ext cx="541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相互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互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拥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激动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尽情流淌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143000" y="14479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喜讯传来，人们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不约而同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涌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街头，北京立刻变成了欢乐的海洋 。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120" y="556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37160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47920" y="4800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_995065202_01071441"/>
          <p:cNvPicPr/>
          <p:nvPr/>
        </p:nvPicPr>
        <p:blipFill>
          <a:blip r:embed="rId1"/>
          <a:stretch/>
        </p:blipFill>
        <p:spPr>
          <a:xfrm>
            <a:off x="0" y="0"/>
            <a:ext cx="342900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欢庆1"/>
          <p:cNvPicPr/>
          <p:nvPr/>
        </p:nvPicPr>
        <p:blipFill>
          <a:blip r:embed="rId2"/>
          <a:stretch/>
        </p:blipFill>
        <p:spPr>
          <a:xfrm>
            <a:off x="0" y="3276720"/>
            <a:ext cx="5181480" cy="358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欢庆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挥国旗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327672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欢庆"/>
          <p:cNvPicPr/>
          <p:nvPr/>
        </p:nvPicPr>
        <p:blipFill>
          <a:blip r:embed="rId7"/>
          <a:stretch/>
        </p:blipFill>
        <p:spPr>
          <a:xfrm>
            <a:off x="3429000" y="0"/>
            <a:ext cx="3581280" cy="32767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>
            <a:hlinkClick r:id="rId8" action="ppaction://hlinksldjump"/>
          </p:cNvPr>
          <p:cNvSpPr/>
          <p:nvPr/>
        </p:nvSpPr>
        <p:spPr>
          <a:xfrm>
            <a:off x="4140360" y="6597720"/>
            <a:ext cx="576000" cy="260280"/>
          </a:xfrm>
          <a:custGeom>
            <a:avLst/>
            <a:gdLst>
              <a:gd name="textAreaLeft" fmla="*/ 16560 w 576000"/>
              <a:gd name="textAreaRight" fmla="*/ 559440 w 576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65" h="21600">
                <a:moveTo>
                  <a:pt x="0" y="0"/>
                </a:moveTo>
                <a:lnTo>
                  <a:pt x="47765" y="0"/>
                </a:lnTo>
                <a:lnTo>
                  <a:pt x="47765" y="21600"/>
                </a:lnTo>
                <a:lnTo>
                  <a:pt x="0" y="21600"/>
                </a:lnTo>
                <a:close/>
              </a:path>
              <a:path fill="lightenLess" w="47765" h="21600">
                <a:moveTo>
                  <a:pt x="0" y="0"/>
                </a:moveTo>
                <a:lnTo>
                  <a:pt x="47765" y="0"/>
                </a:lnTo>
                <a:lnTo>
                  <a:pt x="46365" y="1400"/>
                </a:lnTo>
                <a:lnTo>
                  <a:pt x="1400" y="1400"/>
                </a:lnTo>
                <a:close/>
              </a:path>
              <a:path fill="darken" w="47765" h="21600">
                <a:moveTo>
                  <a:pt x="47765" y="0"/>
                </a:moveTo>
                <a:lnTo>
                  <a:pt x="47765" y="21600"/>
                </a:lnTo>
                <a:lnTo>
                  <a:pt x="46365" y="20200"/>
                </a:lnTo>
                <a:lnTo>
                  <a:pt x="46365" y="1400"/>
                </a:lnTo>
                <a:close/>
              </a:path>
              <a:path fill="darkenLess" w="47765" h="21600">
                <a:moveTo>
                  <a:pt x="47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65" y="20200"/>
                </a:lnTo>
                <a:close/>
              </a:path>
              <a:path fill="lighten" w="47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65" h="21600">
                <a:moveTo>
                  <a:pt x="238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7765" h="21600">
                <a:moveTo>
                  <a:pt x="238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7765" h="21600">
                <a:moveTo>
                  <a:pt x="21306" y="8224"/>
                </a:moveTo>
                <a:lnTo>
                  <a:pt x="25170" y="8224"/>
                </a:lnTo>
                <a:lnTo>
                  <a:pt x="25170" y="15221"/>
                </a:lnTo>
                <a:lnTo>
                  <a:pt x="26459" y="15221"/>
                </a:lnTo>
                <a:lnTo>
                  <a:pt x="26459" y="16144"/>
                </a:lnTo>
                <a:lnTo>
                  <a:pt x="21306" y="16144"/>
                </a:lnTo>
                <a:lnTo>
                  <a:pt x="21306" y="15221"/>
                </a:lnTo>
                <a:lnTo>
                  <a:pt x="22594" y="15221"/>
                </a:lnTo>
                <a:lnTo>
                  <a:pt x="22594" y="9129"/>
                </a:lnTo>
                <a:lnTo>
                  <a:pt x="21306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Img251030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8532720" y="652464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788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5774" h="21600">
                <a:moveTo>
                  <a:pt x="1788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5774" h="21600">
                <a:moveTo>
                  <a:pt x="15311" y="8224"/>
                </a:moveTo>
                <a:lnTo>
                  <a:pt x="19175" y="8224"/>
                </a:lnTo>
                <a:lnTo>
                  <a:pt x="19175" y="15221"/>
                </a:lnTo>
                <a:lnTo>
                  <a:pt x="20463" y="15221"/>
                </a:lnTo>
                <a:lnTo>
                  <a:pt x="20463" y="16144"/>
                </a:lnTo>
                <a:lnTo>
                  <a:pt x="15311" y="16144"/>
                </a:lnTo>
                <a:lnTo>
                  <a:pt x="15311" y="15221"/>
                </a:lnTo>
                <a:lnTo>
                  <a:pt x="16599" y="15221"/>
                </a:lnTo>
                <a:lnTo>
                  <a:pt x="16599" y="9129"/>
                </a:lnTo>
                <a:lnTo>
                  <a:pt x="15311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欢庆21"/>
          <p:cNvPicPr/>
          <p:nvPr/>
        </p:nvPicPr>
        <p:blipFill>
          <a:blip r:embed="rId1"/>
          <a:stretch/>
        </p:blipFill>
        <p:spPr>
          <a:xfrm>
            <a:off x="0" y="0"/>
            <a:ext cx="419112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世纪坛1"/>
          <p:cNvPicPr/>
          <p:nvPr/>
        </p:nvPicPr>
        <p:blipFill>
          <a:blip r:embed="rId2"/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江泽民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962520"/>
            <a:ext cx="4038480" cy="2759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欢庆3"/>
          <p:cNvPicPr/>
          <p:nvPr/>
        </p:nvPicPr>
        <p:blipFill>
          <a:blip r:embed="rId5"/>
          <a:stretch/>
        </p:blipFill>
        <p:spPr>
          <a:xfrm>
            <a:off x="4952880" y="182880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u=2729278720,2303449167&amp;gp=0"/>
          <p:cNvPicPr/>
          <p:nvPr/>
        </p:nvPicPr>
        <p:blipFill>
          <a:blip r:embed="rId6"/>
          <a:stretch/>
        </p:blipFill>
        <p:spPr>
          <a:xfrm>
            <a:off x="4572000" y="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u=3910801914,2952498741&amp;gp=1"/>
          <p:cNvPicPr/>
          <p:nvPr/>
        </p:nvPicPr>
        <p:blipFill>
          <a:blip r:embed="rId7"/>
          <a:stretch/>
        </p:blipFill>
        <p:spPr>
          <a:xfrm>
            <a:off x="7086600" y="228600"/>
            <a:ext cx="1905120" cy="13651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>
            <a:hlinkClick r:id="rId8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0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223">
                <a:moveTo>
                  <a:pt x="10800" y="447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223">
                <a:moveTo>
                  <a:pt x="8224" y="8535"/>
                </a:moveTo>
                <a:lnTo>
                  <a:pt x="12088" y="8535"/>
                </a:lnTo>
                <a:lnTo>
                  <a:pt x="12088" y="15533"/>
                </a:lnTo>
                <a:lnTo>
                  <a:pt x="13376" y="15533"/>
                </a:lnTo>
                <a:lnTo>
                  <a:pt x="13376" y="16456"/>
                </a:lnTo>
                <a:lnTo>
                  <a:pt x="8224" y="16456"/>
                </a:lnTo>
                <a:lnTo>
                  <a:pt x="8224" y="15533"/>
                </a:lnTo>
                <a:lnTo>
                  <a:pt x="9512" y="15533"/>
                </a:lnTo>
                <a:lnTo>
                  <a:pt x="9512" y="9441"/>
                </a:lnTo>
                <a:lnTo>
                  <a:pt x="8224" y="944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051" descr="欢庆1"/>
          <p:cNvPicPr/>
          <p:nvPr/>
        </p:nvPicPr>
        <p:blipFill>
          <a:blip r:embed="rId1"/>
          <a:stretch/>
        </p:blipFill>
        <p:spPr>
          <a:xfrm>
            <a:off x="0" y="0"/>
            <a:ext cx="518148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53" descr="挥国旗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056">
            <a:hlinkClick r:id="" action="ppaction://hlinkshowjump?jump=nextslide"/>
          </p:cNvPr>
          <p:cNvSpPr/>
          <p:nvPr/>
        </p:nvSpPr>
        <p:spPr>
          <a:xfrm>
            <a:off x="8381880" y="6400800"/>
            <a:ext cx="576360" cy="304920"/>
          </a:xfrm>
          <a:custGeom>
            <a:avLst/>
            <a:gdLst>
              <a:gd name="textAreaLeft" fmla="*/ 19440 w 576360"/>
              <a:gd name="textAreaRight" fmla="*/ 556920 w 5763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0806" h="21600">
                <a:moveTo>
                  <a:pt x="0" y="0"/>
                </a:moveTo>
                <a:lnTo>
                  <a:pt x="40806" y="0"/>
                </a:lnTo>
                <a:lnTo>
                  <a:pt x="40806" y="21600"/>
                </a:lnTo>
                <a:lnTo>
                  <a:pt x="0" y="21600"/>
                </a:lnTo>
                <a:close/>
              </a:path>
              <a:path fill="lightenLess" w="40806" h="21600">
                <a:moveTo>
                  <a:pt x="0" y="0"/>
                </a:moveTo>
                <a:lnTo>
                  <a:pt x="40806" y="0"/>
                </a:lnTo>
                <a:lnTo>
                  <a:pt x="39406" y="1400"/>
                </a:lnTo>
                <a:lnTo>
                  <a:pt x="1400" y="1400"/>
                </a:lnTo>
                <a:close/>
              </a:path>
              <a:path fill="darken" w="40806" h="21600">
                <a:moveTo>
                  <a:pt x="40806" y="0"/>
                </a:moveTo>
                <a:lnTo>
                  <a:pt x="40806" y="21600"/>
                </a:lnTo>
                <a:lnTo>
                  <a:pt x="39406" y="20200"/>
                </a:lnTo>
                <a:lnTo>
                  <a:pt x="39406" y="1400"/>
                </a:lnTo>
                <a:close/>
              </a:path>
              <a:path fill="darkenLess" w="40806" h="21600">
                <a:moveTo>
                  <a:pt x="40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6" y="20200"/>
                </a:lnTo>
                <a:close/>
              </a:path>
              <a:path fill="lighten" w="40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6" h="21600">
                <a:moveTo>
                  <a:pt x="23902" y="10800"/>
                </a:moveTo>
                <a:lnTo>
                  <a:pt x="13396" y="17806"/>
                </a:lnTo>
                <a:lnTo>
                  <a:pt x="13396" y="3794"/>
                </a:lnTo>
                <a:close/>
              </a:path>
              <a:path fill="darken" w="40806" h="21600">
                <a:moveTo>
                  <a:pt x="25747" y="3794"/>
                </a:moveTo>
                <a:lnTo>
                  <a:pt x="25747" y="17806"/>
                </a:lnTo>
                <a:lnTo>
                  <a:pt x="27409" y="17806"/>
                </a:lnTo>
                <a:lnTo>
                  <a:pt x="27409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058"/>
          <p:cNvSpPr/>
          <p:nvPr/>
        </p:nvSpPr>
        <p:spPr>
          <a:xfrm>
            <a:off x="0" y="4114800"/>
            <a:ext cx="91440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挥舞着国旗，在欢庆的锣鼓声中一遍遍高呼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57200" y="260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挥舞着国旗，在欢庆的锣鼓声中一遍遍高呼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3789360"/>
            <a:ext cx="85341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世纪坛人如海，歌如潮。人们相互击掌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互拥抱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激动的泪水尽情流淌 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7956720" y="609300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20755" y="10800"/>
                </a:moveTo>
                <a:lnTo>
                  <a:pt x="10250" y="17806"/>
                </a:lnTo>
                <a:lnTo>
                  <a:pt x="10250" y="3794"/>
                </a:lnTo>
                <a:close/>
              </a:path>
              <a:path fill="darken" w="34513" h="21600">
                <a:moveTo>
                  <a:pt x="22600" y="3794"/>
                </a:moveTo>
                <a:lnTo>
                  <a:pt x="22600" y="17806"/>
                </a:lnTo>
                <a:lnTo>
                  <a:pt x="24263" y="17806"/>
                </a:lnTo>
                <a:lnTo>
                  <a:pt x="24263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1580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9735" y="3794"/>
                </a:lnTo>
                <a:lnTo>
                  <a:pt x="9735" y="17806"/>
                </a:lnTo>
                <a:lnTo>
                  <a:pt x="80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礼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-6039720" y="3046320"/>
            <a:ext cx="449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讯  传  约    聚  挥  锣  呼    击  拥  抱   泪   泽            克  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欢庆21"/>
          <p:cNvPicPr/>
          <p:nvPr/>
        </p:nvPicPr>
        <p:blipFill>
          <a:blip r:embed="rId3"/>
          <a:stretch/>
        </p:blipFill>
        <p:spPr>
          <a:xfrm>
            <a:off x="0" y="0"/>
            <a:ext cx="4191120" cy="2766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世纪坛1"/>
          <p:cNvPicPr/>
          <p:nvPr/>
        </p:nvPicPr>
        <p:blipFill>
          <a:blip r:embed="rId4"/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u=2729278720,2303449167&amp;gp=0"/>
          <p:cNvPicPr/>
          <p:nvPr/>
        </p:nvPicPr>
        <p:blipFill>
          <a:blip r:embed="rId5"/>
          <a:stretch/>
        </p:blipFill>
        <p:spPr>
          <a:xfrm>
            <a:off x="4572000" y="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u=3910801914,2952498741&amp;gp=1"/>
          <p:cNvPicPr/>
          <p:nvPr/>
        </p:nvPicPr>
        <p:blipFill>
          <a:blip r:embed="rId6"/>
          <a:stretch/>
        </p:blipFill>
        <p:spPr>
          <a:xfrm>
            <a:off x="7086600" y="228600"/>
            <a:ext cx="1905120" cy="1365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欢庆3"/>
          <p:cNvPicPr/>
          <p:nvPr/>
        </p:nvPicPr>
        <p:blipFill>
          <a:blip r:embed="rId7"/>
          <a:stretch/>
        </p:blipFill>
        <p:spPr>
          <a:xfrm>
            <a:off x="5029200" y="167652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江泽民"/>
          <p:cNvPicPr/>
          <p:nvPr/>
        </p:nvPicPr>
        <p:blipFill>
          <a:blip r:embed="rId8"/>
          <a:stretch/>
        </p:blipFill>
        <p:spPr>
          <a:xfrm>
            <a:off x="4572000" y="3733920"/>
            <a:ext cx="4038480" cy="27590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1">
            <a:hlinkClick r:id="" action="ppaction://hlinkshowjump?jump=nextslide"/>
          </p:cNvPr>
          <p:cNvSpPr/>
          <p:nvPr/>
        </p:nvSpPr>
        <p:spPr>
          <a:xfrm>
            <a:off x="8153280" y="6497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20766" y="10800"/>
                </a:moveTo>
                <a:lnTo>
                  <a:pt x="10261" y="17806"/>
                </a:lnTo>
                <a:lnTo>
                  <a:pt x="10261" y="3794"/>
                </a:lnTo>
                <a:close/>
              </a:path>
              <a:path fill="darken" w="34534" h="21600">
                <a:moveTo>
                  <a:pt x="22611" y="3794"/>
                </a:moveTo>
                <a:lnTo>
                  <a:pt x="22611" y="17806"/>
                </a:lnTo>
                <a:lnTo>
                  <a:pt x="24274" y="17806"/>
                </a:lnTo>
                <a:lnTo>
                  <a:pt x="24274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3">
            <a:hlinkClick r:id="" action="ppaction://hlinkshowjump?jump=previousslide"/>
          </p:cNvPr>
          <p:cNvSpPr/>
          <p:nvPr/>
        </p:nvSpPr>
        <p:spPr>
          <a:xfrm>
            <a:off x="7467480" y="6497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1580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9735" y="3794"/>
                </a:lnTo>
                <a:lnTo>
                  <a:pt x="9735" y="17806"/>
                </a:lnTo>
                <a:lnTo>
                  <a:pt x="80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奥林  匹克旗帜将在中国北京高高飘扬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jing"/>
          <p:cNvPicPr/>
          <p:nvPr/>
        </p:nvPicPr>
        <p:blipFill>
          <a:blip r:embed="rId1"/>
          <a:stretch/>
        </p:blipFill>
        <p:spPr>
          <a:xfrm>
            <a:off x="228600" y="373392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五环旗"/>
          <p:cNvPicPr/>
          <p:nvPr/>
        </p:nvPicPr>
        <p:blipFill>
          <a:blip r:embed="rId2"/>
          <a:stretch/>
        </p:blipFill>
        <p:spPr>
          <a:xfrm>
            <a:off x="4495680" y="3733920"/>
            <a:ext cx="4206960" cy="283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五环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2"/>
          <p:cNvSpPr/>
          <p:nvPr/>
        </p:nvSpPr>
        <p:spPr>
          <a:xfrm>
            <a:off x="3301920" y="-7589880"/>
            <a:ext cx="254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，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971800" y="2133720"/>
            <a:ext cx="38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809880" y="2209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581280" y="16002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留言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文本框 1"/>
          <p:cNvSpPr/>
          <p:nvPr/>
        </p:nvSpPr>
        <p:spPr>
          <a:xfrm>
            <a:off x="276120" y="5931000"/>
            <a:ext cx="80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B7D-C1A8-4658-89CE-29759550A1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7"/>
          <p:cNvSpPr txBox="1"/>
          <p:nvPr/>
        </p:nvSpPr>
        <p:spPr>
          <a:xfrm>
            <a:off x="990720" y="990720"/>
            <a:ext cx="6629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 </a:t>
            </a:r>
            <a:r>
              <a:rPr b="1" lang="en-US" sz="9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2001</a:t>
            </a:r>
            <a:r>
              <a:rPr b="1" lang="zh-CN" sz="96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年</a:t>
            </a:r>
            <a:r>
              <a:rPr b="1" lang="en-US" sz="96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7</a:t>
            </a:r>
            <a:r>
              <a:rPr b="1" lang="zh-CN" sz="96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月</a:t>
            </a:r>
            <a:r>
              <a:rPr b="1" lang="en-US" sz="96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13</a:t>
            </a:r>
            <a:r>
              <a:rPr b="1" lang="zh-CN" sz="96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日</a:t>
            </a:r>
            <a:endParaRPr b="1" lang="en-US" sz="96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49" name="Text Box 1029"/>
          <p:cNvSpPr/>
          <p:nvPr/>
        </p:nvSpPr>
        <p:spPr>
          <a:xfrm>
            <a:off x="762120" y="762120"/>
            <a:ext cx="73911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的夜晚，北京申办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奥运会成功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33333"/>
          <p:cNvPicPr/>
          <p:nvPr/>
        </p:nvPicPr>
        <p:blipFill>
          <a:blip r:embed="rId9"/>
          <a:stretch/>
        </p:blipFill>
        <p:spPr>
          <a:xfrm>
            <a:off x="533520" y="5105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33333"/>
          <p:cNvPicPr/>
          <p:nvPr/>
        </p:nvPicPr>
        <p:blipFill>
          <a:blip r:embed="rId10"/>
          <a:stretch/>
        </p:blipFill>
        <p:spPr>
          <a:xfrm>
            <a:off x="1676520" y="5867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32" descr="33333"/>
          <p:cNvPicPr/>
          <p:nvPr/>
        </p:nvPicPr>
        <p:blipFill>
          <a:blip r:embed="rId11"/>
          <a:stretch/>
        </p:blipFill>
        <p:spPr>
          <a:xfrm>
            <a:off x="274320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33" descr="33333"/>
          <p:cNvPicPr/>
          <p:nvPr/>
        </p:nvPicPr>
        <p:blipFill>
          <a:blip r:embed="rId12"/>
          <a:stretch/>
        </p:blipFill>
        <p:spPr>
          <a:xfrm>
            <a:off x="4952880" y="54100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34" descr="33333"/>
          <p:cNvPicPr/>
          <p:nvPr/>
        </p:nvPicPr>
        <p:blipFill>
          <a:blip r:embed="rId13"/>
          <a:stretch/>
        </p:blipFill>
        <p:spPr>
          <a:xfrm>
            <a:off x="6095880" y="49528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5" descr="33333"/>
          <p:cNvPicPr/>
          <p:nvPr/>
        </p:nvPicPr>
        <p:blipFill>
          <a:blip r:embed="rId14"/>
          <a:stretch/>
        </p:blipFill>
        <p:spPr>
          <a:xfrm>
            <a:off x="7620120" y="57150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36" descr="33333"/>
          <p:cNvPicPr/>
          <p:nvPr/>
        </p:nvPicPr>
        <p:blipFill>
          <a:blip r:embed="rId15"/>
          <a:stretch/>
        </p:blipFill>
        <p:spPr>
          <a:xfrm>
            <a:off x="3505320" y="5715000"/>
            <a:ext cx="1074600" cy="388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39">
            <a:hlinkClick r:id="" action="ppaction://hlinkshowjump?jump=nextslide"/>
          </p:cNvPr>
          <p:cNvSpPr/>
          <p:nvPr/>
        </p:nvSpPr>
        <p:spPr>
          <a:xfrm>
            <a:off x="788508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20766" y="10800"/>
                </a:moveTo>
                <a:lnTo>
                  <a:pt x="10261" y="17806"/>
                </a:lnTo>
                <a:lnTo>
                  <a:pt x="10261" y="3794"/>
                </a:lnTo>
                <a:close/>
              </a:path>
              <a:path fill="darken" w="34534" h="21600">
                <a:moveTo>
                  <a:pt x="22611" y="3794"/>
                </a:moveTo>
                <a:lnTo>
                  <a:pt x="22611" y="17806"/>
                </a:lnTo>
                <a:lnTo>
                  <a:pt x="24274" y="17806"/>
                </a:lnTo>
                <a:lnTo>
                  <a:pt x="24274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大萨"/>
          <p:cNvPicPr/>
          <p:nvPr/>
        </p:nvPicPr>
        <p:blipFill>
          <a:blip r:embed="rId1"/>
          <a:stretch/>
        </p:blipFill>
        <p:spPr>
          <a:xfrm>
            <a:off x="0" y="0"/>
            <a:ext cx="28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代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0"/>
            <a:ext cx="431964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达标"/>
          <p:cNvPicPr/>
          <p:nvPr/>
        </p:nvPicPr>
        <p:blipFill>
          <a:blip r:embed="rId4"/>
          <a:stretch/>
        </p:blipFill>
        <p:spPr>
          <a:xfrm>
            <a:off x="0" y="3573360"/>
            <a:ext cx="3816360" cy="304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实际谈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3645000"/>
            <a:ext cx="2035080" cy="321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_995065202_01071441"/>
          <p:cNvPicPr/>
          <p:nvPr/>
        </p:nvPicPr>
        <p:blipFill>
          <a:blip r:embed="rId7"/>
          <a:stretch/>
        </p:blipFill>
        <p:spPr>
          <a:xfrm>
            <a:off x="6300720" y="3500280"/>
            <a:ext cx="284328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欢庆3"/>
          <p:cNvPicPr/>
          <p:nvPr/>
        </p:nvPicPr>
        <p:blipFill>
          <a:blip r:embed="rId8"/>
          <a:stretch/>
        </p:blipFill>
        <p:spPr>
          <a:xfrm>
            <a:off x="7308720" y="0"/>
            <a:ext cx="1835280" cy="3398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dur="indefinite" nodeType="after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" dur="indefinite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" dur="indefinite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3500"/>
                            </p:stCondLst>
                            <p:childTnLst>
                              <p:par>
                                <p:cTn id="40" dur="indefinite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28"/>
          <p:cNvSpPr/>
          <p:nvPr/>
        </p:nvSpPr>
        <p:spPr>
          <a:xfrm>
            <a:off x="324000" y="223920"/>
            <a:ext cx="8820000" cy="75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功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奥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运  喜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讯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传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说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约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定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聚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集  </a:t>
            </a: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挥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舞   </a:t>
            </a: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锣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鼓    欢</a:t>
            </a: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呼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打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击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拥抱  任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何  眼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泪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淌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光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泽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克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服 奥林匹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克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飘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9280" y="2743200"/>
            <a:ext cx="7991640" cy="41148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００１年７月１３日的夜晚，北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京申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２００８年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会成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讯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人们不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同地涌上街头，北京立刻变成了欢乐的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u=3910801914,2952498741&amp;gp=1"/>
          <p:cNvPicPr/>
          <p:nvPr/>
        </p:nvPicPr>
        <p:blipFill>
          <a:blip r:embed="rId1"/>
          <a:stretch/>
        </p:blipFill>
        <p:spPr>
          <a:xfrm>
            <a:off x="5580000" y="228600"/>
            <a:ext cx="3411720" cy="24447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>
            <a:hlinkClick r:id="rId2" action="ppaction://hlinksldjump"/>
          </p:cNvPr>
          <p:cNvSpPr/>
          <p:nvPr/>
        </p:nvSpPr>
        <p:spPr>
          <a:xfrm>
            <a:off x="8675640" y="5300640"/>
            <a:ext cx="217440" cy="2890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8705">
                <a:moveTo>
                  <a:pt x="0" y="0"/>
                </a:moveTo>
                <a:lnTo>
                  <a:pt x="21600" y="0"/>
                </a:lnTo>
                <a:lnTo>
                  <a:pt x="21600" y="28705"/>
                </a:lnTo>
                <a:lnTo>
                  <a:pt x="0" y="28705"/>
                </a:lnTo>
                <a:close/>
              </a:path>
              <a:path fill="lightenLess" w="21600" h="287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05">
                <a:moveTo>
                  <a:pt x="21600" y="0"/>
                </a:moveTo>
                <a:lnTo>
                  <a:pt x="21600" y="28705"/>
                </a:lnTo>
                <a:lnTo>
                  <a:pt x="20200" y="27305"/>
                </a:lnTo>
                <a:lnTo>
                  <a:pt x="20200" y="1400"/>
                </a:lnTo>
                <a:close/>
              </a:path>
              <a:path fill="darkenLess" w="21600" h="28705">
                <a:moveTo>
                  <a:pt x="21600" y="28705"/>
                </a:moveTo>
                <a:lnTo>
                  <a:pt x="0" y="28705"/>
                </a:lnTo>
                <a:lnTo>
                  <a:pt x="1400" y="27305"/>
                </a:lnTo>
                <a:lnTo>
                  <a:pt x="20200" y="27305"/>
                </a:lnTo>
                <a:close/>
              </a:path>
              <a:path fill="lighten" w="21600" h="28705">
                <a:moveTo>
                  <a:pt x="0" y="287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05"/>
                </a:lnTo>
                <a:close/>
              </a:path>
              <a:path fill="darken" w="21600" h="28705">
                <a:moveTo>
                  <a:pt x="10800" y="734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705">
                <a:moveTo>
                  <a:pt x="10800" y="772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705">
                <a:moveTo>
                  <a:pt x="8224" y="11776"/>
                </a:moveTo>
                <a:lnTo>
                  <a:pt x="12088" y="11776"/>
                </a:lnTo>
                <a:lnTo>
                  <a:pt x="12088" y="18774"/>
                </a:lnTo>
                <a:lnTo>
                  <a:pt x="13376" y="18774"/>
                </a:lnTo>
                <a:lnTo>
                  <a:pt x="13376" y="19696"/>
                </a:lnTo>
                <a:lnTo>
                  <a:pt x="8224" y="19696"/>
                </a:lnTo>
                <a:lnTo>
                  <a:pt x="8224" y="18774"/>
                </a:lnTo>
                <a:lnTo>
                  <a:pt x="9512" y="18774"/>
                </a:lnTo>
                <a:lnTo>
                  <a:pt x="9512" y="12681"/>
                </a:lnTo>
                <a:lnTo>
                  <a:pt x="8224" y="1268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4720" y="765000"/>
            <a:ext cx="4248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天安门广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了几十万群众。人们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舞着国旗，在欢庆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声中一遍遍高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挥国旗"/>
          <p:cNvPicPr/>
          <p:nvPr/>
        </p:nvPicPr>
        <p:blipFill>
          <a:blip r:embed="rId1"/>
          <a:stretch/>
        </p:blipFill>
        <p:spPr>
          <a:xfrm>
            <a:off x="0" y="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7">
            <a:hlinkClick r:id="rId2" action="ppaction://hlinksldjump"/>
          </p:cNvPr>
          <p:cNvSpPr/>
          <p:nvPr/>
        </p:nvSpPr>
        <p:spPr>
          <a:xfrm>
            <a:off x="8101080" y="623736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38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708">
                <a:moveTo>
                  <a:pt x="10800" y="42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708">
                <a:moveTo>
                  <a:pt x="8224" y="8278"/>
                </a:moveTo>
                <a:lnTo>
                  <a:pt x="12088" y="8278"/>
                </a:lnTo>
                <a:lnTo>
                  <a:pt x="12088" y="15276"/>
                </a:lnTo>
                <a:lnTo>
                  <a:pt x="13376" y="15276"/>
                </a:lnTo>
                <a:lnTo>
                  <a:pt x="13376" y="16198"/>
                </a:lnTo>
                <a:lnTo>
                  <a:pt x="8224" y="16198"/>
                </a:lnTo>
                <a:lnTo>
                  <a:pt x="8224" y="15276"/>
                </a:lnTo>
                <a:lnTo>
                  <a:pt x="9512" y="15276"/>
                </a:lnTo>
                <a:lnTo>
                  <a:pt x="9512" y="9183"/>
                </a:lnTo>
                <a:lnTo>
                  <a:pt x="8224" y="918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092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中华世纪坛人如海，歌如潮。人们相互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互拥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激动的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尽情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江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主席等国家领导人来到欢乐的人群中，与大家同欢呼，共歌唱，把庆祝活动推向高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欢庆1"/>
          <p:cNvPicPr/>
          <p:nvPr/>
        </p:nvPicPr>
        <p:blipFill>
          <a:blip r:embed="rId1"/>
          <a:stretch/>
        </p:blipFill>
        <p:spPr>
          <a:xfrm>
            <a:off x="0" y="3276720"/>
            <a:ext cx="5181480" cy="3581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8">
            <a:hlinkClick r:id="rId2" action="ppaction://hlinksldjump"/>
          </p:cNvPr>
          <p:cNvSpPr/>
          <p:nvPr/>
        </p:nvSpPr>
        <p:spPr>
          <a:xfrm>
            <a:off x="7885080" y="5373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1111"/>
          <p:cNvPicPr/>
          <p:nvPr/>
        </p:nvPicPr>
        <p:blipFill>
          <a:blip r:embed="rId1"/>
          <a:stretch/>
        </p:blipFill>
        <p:spPr>
          <a:xfrm>
            <a:off x="-457200" y="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887920" y="1589040"/>
            <a:ext cx="444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２００８年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林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匹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旗帜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中国北京高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飘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扬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51:59Z</dcterms:modified>
  <cp:revision>1</cp:revision>
  <dc:subject/>
  <dc:title>幻灯片 1</dc:title>
</cp:coreProperties>
</file>