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wmf" ContentType="image/x-wmf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591B-2C03-4A61-81B8-73290C2F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2CA-57EC-471F-94BB-93815DE5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A5F9-6EC9-424D-BD36-51D6E139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963C-70D1-4225-89B2-32BDED80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9E51-175E-4604-BEBA-209DFEFE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994-B673-4ACC-9779-A2D41A4A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93E-3020-4962-BE04-9DB106D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F1B-F728-4300-999C-ED3C427A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4C0-842B-46EE-988E-73BC039C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77E-AB6C-4165-8C71-012916C2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97D-DF41-47E6-A5BE-9D07C57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833-429E-4BBB-A472-894B59F5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5DF-E335-4630-856F-862CB0C7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682-5F1C-439F-A5A1-71C5E20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646-00F9-4867-AAD4-EB481EF7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057-E931-4598-AB50-5A37E6E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DF3-9595-4EF8-9679-8FC7006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1B65-BD99-4915-B277-1AE198B4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58960" y="76212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我们身边的物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1271520" y="1830240"/>
            <a:ext cx="6805800" cy="441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705720" y="6081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247480" y="62658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物质会变化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"/>
          <p:cNvPicPr/>
          <p:nvPr/>
        </p:nvPicPr>
        <p:blipFill>
          <a:blip r:embed="rId1"/>
          <a:stretch/>
        </p:blipFill>
        <p:spPr>
          <a:xfrm>
            <a:off x="533520" y="609480"/>
            <a:ext cx="7993080" cy="3229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79440" y="4114800"/>
            <a:ext cx="876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这两种物质的变化又有什么相同之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09480" y="5105520"/>
            <a:ext cx="777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实质发生了改变，产生了新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-152280" y="1981080"/>
            <a:ext cx="292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火柴燃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铁生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 flipH="1" rot="21540000">
            <a:off x="2894760" y="1905120"/>
            <a:ext cx="459000" cy="3396960"/>
          </a:xfrm>
          <a:custGeom>
            <a:avLst/>
            <a:gdLst>
              <a:gd name="textAreaLeft" fmla="*/ 293400 w 459000"/>
              <a:gd name="textAreaRight" fmla="*/ 459360 w 459000"/>
              <a:gd name="textAreaTop" fmla="*/ 88200 h 3396960"/>
              <a:gd name="textAreaBottom" fmla="*/ 3308760 h 33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115"/>
                </a:lnTo>
                <a:cubicBezTo>
                  <a:pt x="10800" y="10015"/>
                  <a:pt x="5400" y="10914"/>
                  <a:pt x="0" y="10914"/>
                </a:cubicBezTo>
                <a:cubicBezTo>
                  <a:pt x="5400" y="10914"/>
                  <a:pt x="10800" y="11814"/>
                  <a:pt x="10800" y="1271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44800" y="2438280"/>
            <a:ext cx="47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  <a:ea typeface="楷体_GB2312"/>
              </a:rPr>
              <a:t>物质在变化时，产生新的物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516560" y="3170160"/>
            <a:ext cx="14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叫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化学变化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物质在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4059360"/>
            <a:ext cx="56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伴随的现象：发光发热、颜色改变、产生气体、产生沉淀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答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90720" y="990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柴燃烧发生的变化和木柴折断发生的变化有哪些相同点和不同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90720" y="270360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同点：形状都发生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同点：火柴燃烧产生其他物质，     而木柴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99cc00"/>
                </a:solidFill>
                <a:latin typeface="Arial"/>
                <a:ea typeface="黑体"/>
              </a:rPr>
              <a:t>让物质发生变化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11"/>
          <p:cNvPicPr/>
          <p:nvPr/>
        </p:nvPicPr>
        <p:blipFill>
          <a:blip r:embed="rId1"/>
          <a:stretch/>
        </p:blipFill>
        <p:spPr>
          <a:xfrm>
            <a:off x="457200" y="2666880"/>
            <a:ext cx="4457880" cy="2982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372_0"/>
          <p:cNvPicPr/>
          <p:nvPr/>
        </p:nvPicPr>
        <p:blipFill>
          <a:blip r:embed="rId2"/>
          <a:stretch/>
        </p:blipFill>
        <p:spPr>
          <a:xfrm>
            <a:off x="6400800" y="2133720"/>
            <a:ext cx="134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265480" y="475920"/>
            <a:ext cx="45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让物质发生变化记录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700280"/>
          <a:ext cx="8642160" cy="4753080"/>
        </p:xfrm>
        <a:graphic>
          <a:graphicData uri="http://schemas.openxmlformats.org/drawingml/2006/table">
            <a:tbl>
              <a:tblPr/>
              <a:tblGrid>
                <a:gridCol w="1584000"/>
                <a:gridCol w="1944720"/>
                <a:gridCol w="2808360"/>
                <a:gridCol w="2305080"/>
              </a:tblGrid>
              <a:tr h="92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Calibri"/>
                          <a:ea typeface="黑体"/>
                        </a:rPr>
                        <a:t>物质名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Calibri"/>
                          <a:ea typeface="黑体"/>
                        </a:rPr>
                        <a:t>使用的方法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Calibri"/>
                          <a:ea typeface="黑体"/>
                        </a:rPr>
                        <a:t>发生了哪些变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Calibri"/>
                          <a:ea typeface="黑体"/>
                        </a:rPr>
                        <a:t>有无产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Calibri"/>
                          <a:ea typeface="黑体"/>
                        </a:rPr>
                        <a:t>新的物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Calibri"/>
                          <a:ea typeface="黑体"/>
                        </a:rPr>
                        <a:t>纸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Calibri"/>
                          <a:ea typeface="黑体"/>
                        </a:rPr>
                        <a:t>蜡烛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andle_Candle_light_4010"/>
          <p:cNvPicPr/>
          <p:nvPr/>
        </p:nvPicPr>
        <p:blipFill>
          <a:blip r:embed="rId1"/>
          <a:stretch/>
        </p:blipFill>
        <p:spPr>
          <a:xfrm>
            <a:off x="533520" y="304920"/>
            <a:ext cx="7772400" cy="4857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837160" y="55627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蜡烛在燃烧过程中的现象和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物质在变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烧饭的时候，米变成了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写字的时候，纸上留下了字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雨过后，路上的积水慢慢地变成水蒸气消失在空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457200" y="1447920"/>
            <a:ext cx="8136000" cy="0"/>
          </a:xfrm>
          <a:prstGeom prst="line">
            <a:avLst/>
          </a:prstGeom>
          <a:ln w="7632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9"/>
          <p:cNvPicPr/>
          <p:nvPr/>
        </p:nvPicPr>
        <p:blipFill>
          <a:blip r:embed="rId1"/>
          <a:stretch/>
        </p:blipFill>
        <p:spPr>
          <a:xfrm>
            <a:off x="609480" y="457200"/>
            <a:ext cx="79041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"/>
          <p:cNvPicPr/>
          <p:nvPr/>
        </p:nvPicPr>
        <p:blipFill>
          <a:blip r:embed="rId1"/>
          <a:stretch/>
        </p:blipFill>
        <p:spPr>
          <a:xfrm>
            <a:off x="762120" y="457200"/>
            <a:ext cx="77785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然界的岩石会发生哪些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答：自然界中的岩石，在长期的自然作用下，会发生风化现象。具体表现在大小、形状、成份等都会发生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2105D"/>
          <p:cNvPicPr/>
          <p:nvPr/>
        </p:nvPicPr>
        <p:blipFill>
          <a:blip r:embed="rId1"/>
          <a:stretch/>
        </p:blipFill>
        <p:spPr>
          <a:xfrm>
            <a:off x="3809880" y="3200400"/>
            <a:ext cx="42674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190512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华文新魏"/>
              </a:rPr>
              <a:t>书本、橡皮、桌子、电灯、自来水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华文新魏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0720" y="403848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ff"/>
                </a:solidFill>
                <a:latin typeface="Verdana"/>
                <a:ea typeface="华文新魏"/>
              </a:rPr>
              <a:t>空气、电、火、声音</a:t>
            </a:r>
            <a:r>
              <a:rPr b="0" lang="en-US" sz="4800" spc="-1" strike="noStrike">
                <a:solidFill>
                  <a:srgbClr val="66ffff"/>
                </a:solidFill>
                <a:latin typeface="Verdana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895480" y="152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Verdana"/>
                <a:ea typeface="华文新魏"/>
              </a:rPr>
              <a:t>物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世界上有不变的物质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1981080" y="3657600"/>
            <a:ext cx="4392720" cy="230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762120" y="41911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世界总是在不断的变化，有些变化只是改变物质的形态，大小，有些变化就产生了新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85800" y="990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为什么说人不可能两次踏进同一条河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2008102779837441"/>
          <p:cNvPicPr/>
          <p:nvPr/>
        </p:nvPicPr>
        <p:blipFill>
          <a:blip r:embed="rId1"/>
          <a:stretch/>
        </p:blipFill>
        <p:spPr>
          <a:xfrm>
            <a:off x="4952880" y="762120"/>
            <a:ext cx="35053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有的物质变化很快，而有些物质变化比较缓慢，甚至不易被我们察觉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1465200" y="5518080"/>
            <a:ext cx="55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3124080" y="2362320"/>
            <a:ext cx="35816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6BC3-7899-4458-9FDB-22953AE26F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其实，我们能直接或间接观察到的实际存在的东西都是物质，</a:t>
            </a:r>
            <a:r>
              <a:rPr b="1" lang="zh-CN" sz="4800" spc="-1" strike="noStrike">
                <a:solidFill>
                  <a:srgbClr val="bbe0e3"/>
                </a:solidFill>
                <a:latin typeface="Arial"/>
              </a:rPr>
              <a:t>整个世界都是由物质构成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419112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Verdana"/>
                <a:ea typeface="华文新魏"/>
              </a:rPr>
              <a:t>神仙 妖魔 鬼怪  想法这些是物质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840240" y="132120"/>
            <a:ext cx="667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  <a:ea typeface="楷体_GB2312"/>
              </a:rPr>
              <a:t>它们发生了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140360" y="4613400"/>
            <a:ext cx="14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88760" y="506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圆柱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884200" y="5105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不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7"/>
          <p:cNvCxnSpPr/>
          <p:nvPr/>
        </p:nvCxnSpPr>
        <p:spPr>
          <a:xfrm>
            <a:off x="3812760" y="5462280"/>
            <a:ext cx="1894680" cy="1080"/>
          </a:xfrm>
          <a:prstGeom prst="straightConnector1">
            <a:avLst/>
          </a:prstGeom>
          <a:ln w="34920">
            <a:solidFill>
              <a:srgbClr val="00c6f8"/>
            </a:solidFill>
            <a:round/>
            <a:tailEnd len="lg" type="triangle" w="lg"/>
          </a:ln>
        </p:spPr>
      </p:cxn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1998720" cy="3362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19080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7960" y="170280"/>
            <a:ext cx="667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  <a:ea typeface="楷体_GB2312"/>
              </a:rPr>
              <a:t>它们发生了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809880" y="50911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048040" y="1433520"/>
            <a:ext cx="1984320" cy="347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4956120" y="1434960"/>
            <a:ext cx="1920960" cy="3486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85760" y="55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90960" y="5592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8"/>
          <p:cNvCxnSpPr/>
          <p:nvPr/>
        </p:nvCxnSpPr>
        <p:spPr>
          <a:xfrm>
            <a:off x="3429000" y="5928840"/>
            <a:ext cx="2316960" cy="1080"/>
          </a:xfrm>
          <a:prstGeom prst="straightConnector1">
            <a:avLst/>
          </a:prstGeom>
          <a:ln w="34920">
            <a:solidFill>
              <a:srgbClr val="00c6f8"/>
            </a:solidFill>
            <a:round/>
            <a:tailEnd len="lg" type="triangle" w="lg"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物质在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04920" y="2286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这两种物质的变化有什么相同之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228600" y="1004760"/>
            <a:ext cx="4032000" cy="3816360"/>
            <a:chOff x="228600" y="1004760"/>
            <a:chExt cx="4032000" cy="3816360"/>
          </a:xfrm>
        </p:grpSpPr>
        <p:pic>
          <p:nvPicPr>
            <p:cNvPr id="74" name="Picture 4" descr="1"/>
            <p:cNvPicPr/>
            <p:nvPr/>
          </p:nvPicPr>
          <p:blipFill>
            <a:blip r:embed="rId1"/>
            <a:stretch/>
          </p:blipFill>
          <p:spPr>
            <a:xfrm>
              <a:off x="228600" y="1004760"/>
              <a:ext cx="1839960" cy="38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" descr="2"/>
            <p:cNvPicPr/>
            <p:nvPr/>
          </p:nvPicPr>
          <p:blipFill>
            <a:blip r:embed="rId2"/>
            <a:stretch/>
          </p:blipFill>
          <p:spPr>
            <a:xfrm>
              <a:off x="2413080" y="1071000"/>
              <a:ext cx="1847520" cy="37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6"/>
          <p:cNvGrpSpPr/>
          <p:nvPr/>
        </p:nvGrpSpPr>
        <p:grpSpPr>
          <a:xfrm>
            <a:off x="4572000" y="1122480"/>
            <a:ext cx="4032000" cy="3639600"/>
            <a:chOff x="4572000" y="1122480"/>
            <a:chExt cx="4032000" cy="3639600"/>
          </a:xfrm>
        </p:grpSpPr>
        <p:pic>
          <p:nvPicPr>
            <p:cNvPr id="77" name="Picture 7" descr="3"/>
            <p:cNvPicPr/>
            <p:nvPr/>
          </p:nvPicPr>
          <p:blipFill>
            <a:blip r:embed="rId3"/>
            <a:stretch/>
          </p:blipFill>
          <p:spPr>
            <a:xfrm>
              <a:off x="4572000" y="1122480"/>
              <a:ext cx="1833480" cy="36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8" descr="4"/>
            <p:cNvPicPr/>
            <p:nvPr/>
          </p:nvPicPr>
          <p:blipFill>
            <a:blip r:embed="rId4"/>
            <a:stretch/>
          </p:blipFill>
          <p:spPr>
            <a:xfrm>
              <a:off x="6591960" y="1122480"/>
              <a:ext cx="2012040" cy="363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9"/>
          <p:cNvSpPr/>
          <p:nvPr/>
        </p:nvSpPr>
        <p:spPr>
          <a:xfrm>
            <a:off x="685800" y="5410080"/>
            <a:ext cx="777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改变了物体的形态，实质没有改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-380880" y="2098800"/>
            <a:ext cx="338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水结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易拉罐压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 flipH="1" rot="21540000">
            <a:off x="3123360" y="1905120"/>
            <a:ext cx="459000" cy="3396960"/>
          </a:xfrm>
          <a:custGeom>
            <a:avLst/>
            <a:gdLst>
              <a:gd name="textAreaLeft" fmla="*/ 293400 w 459000"/>
              <a:gd name="textAreaRight" fmla="*/ 459360 w 459000"/>
              <a:gd name="textAreaTop" fmla="*/ 88200 h 3396960"/>
              <a:gd name="textAreaBottom" fmla="*/ 3308760 h 33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115"/>
                </a:lnTo>
                <a:cubicBezTo>
                  <a:pt x="10800" y="10015"/>
                  <a:pt x="5400" y="10914"/>
                  <a:pt x="0" y="10914"/>
                </a:cubicBezTo>
                <a:cubicBezTo>
                  <a:pt x="5400" y="10914"/>
                  <a:pt x="10800" y="11814"/>
                  <a:pt x="10800" y="1271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物质在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62520" y="3048120"/>
            <a:ext cx="36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只改变物质的形状、大小、状态，并没有产生新的物质的变化叫做物理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57760" y="790920"/>
            <a:ext cx="667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  <a:ea typeface="楷体_GB2312"/>
              </a:rPr>
              <a:t>它们发生了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2"/>
          <p:cNvPicPr/>
          <p:nvPr/>
        </p:nvPicPr>
        <p:blipFill>
          <a:blip r:embed="rId1"/>
          <a:stretch/>
        </p:blipFill>
        <p:spPr>
          <a:xfrm>
            <a:off x="2219400" y="1554120"/>
            <a:ext cx="1836720" cy="333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2"/>
          <p:cNvPicPr/>
          <p:nvPr/>
        </p:nvPicPr>
        <p:blipFill>
          <a:blip r:embed="rId2"/>
          <a:stretch/>
        </p:blipFill>
        <p:spPr>
          <a:xfrm>
            <a:off x="4861080" y="1573200"/>
            <a:ext cx="1871640" cy="3245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151520" y="5094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发光发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75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改变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22800" y="5119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产生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物质在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3440" y="589320"/>
            <a:ext cx="667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  <a:ea typeface="楷体_GB2312"/>
              </a:rPr>
              <a:t>它们发生了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81800" y="518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改变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"/>
          <p:cNvPicPr/>
          <p:nvPr/>
        </p:nvPicPr>
        <p:blipFill>
          <a:blip r:embed="rId1"/>
          <a:stretch/>
        </p:blipFill>
        <p:spPr>
          <a:xfrm>
            <a:off x="5292720" y="1573200"/>
            <a:ext cx="2089080" cy="3427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"/>
          <p:cNvPicPr/>
          <p:nvPr/>
        </p:nvPicPr>
        <p:blipFill>
          <a:blip r:embed="rId2"/>
          <a:stretch/>
        </p:blipFill>
        <p:spPr>
          <a:xfrm>
            <a:off x="2362320" y="1600200"/>
            <a:ext cx="2047680" cy="3427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物质在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2106D"/>
          <p:cNvPicPr/>
          <p:nvPr/>
        </p:nvPicPr>
        <p:blipFill>
          <a:blip r:embed="rId3"/>
          <a:stretch/>
        </p:blipFill>
        <p:spPr>
          <a:xfrm>
            <a:off x="1523880" y="998640"/>
            <a:ext cx="69343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4:11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14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