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7DC0-F286-4958-8FAE-0D4E9EF2BA6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83D1-B056-4D0D-AA29-53D3DB4CEA7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20E-DD2C-4E40-A7DC-16CFA025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828-4403-4DB9-9178-2FA960FF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C9F-0D84-4F84-AAD9-11EF737A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216-3A81-4DA2-9D74-B888DD51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478C-9AD8-4060-B873-4D602BA3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E7E8-F24F-4468-A9B2-2FA1F221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7F96-AF6B-4562-99BE-E15B1A05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4616-7661-43AB-9909-6B5B1154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5655-FFA4-4B70-AC65-E056D8EA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FCB3-8B72-4F4E-8F3D-9E60EFDE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3CA9-D800-49CB-B46D-0372ADC3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BC7-3454-4906-B619-490FC937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A40F-71FE-466F-8642-5D0FB705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F5D6-F314-4CF9-9996-0821C663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AB2D-EB8C-45EF-B17A-BF991CDB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914D-29D3-4552-A387-915C8FBA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0DAD-3038-41EE-AEC3-748CFE54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5473-90B2-469F-A133-45F40F4D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5226-61B6-417A-97CB-876BDADA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960-6DB5-4B4E-97F2-3E80B404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023-C279-49F0-A580-7038F730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F24-710C-48A3-9449-ECC2D187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448-9D4E-4ABF-848B-B9310E62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324-270F-4F98-92F4-9C88F151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8CC5-2EF1-4722-80BF-C6921B36D42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6E81-688D-4C47-94BA-FD371ECA05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81CF-DE17-4C42-AB27-9E30D1C0DE3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A7EC-47E3-4DC7-A315-AAD0027EFB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9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hyperlink" Target="http://image.baidu.com/i?ct=503316480&amp;z=0&amp;tn=baiduimagedetail&amp;word=&#572;%C9&#1397;&#315;%F0%D1%E6&amp;in=7280&amp;cl=2&amp;lm=-1&amp;pn=1&amp;rn=1&amp;di=7002314238&amp;ln=1&amp;fr=&amp;ic=0&amp;s=&amp;se=&amp;sme=0&amp;tab=&amp;width=&amp;height=&amp;face=0&amp;fb=0" TargetMode="External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6" descr=""/>
          <p:cNvPicPr/>
          <p:nvPr/>
        </p:nvPicPr>
        <p:blipFill>
          <a:blip r:embed="rId1"/>
          <a:stretch/>
        </p:blipFill>
        <p:spPr>
          <a:xfrm>
            <a:off x="1095480" y="2155680"/>
            <a:ext cx="6878520" cy="3865680"/>
          </a:xfrm>
          <a:prstGeom prst="rect">
            <a:avLst/>
          </a:prstGeom>
          <a:ln w="0">
            <a:noFill/>
          </a:ln>
        </p:spPr>
      </p:pic>
      <p:pic>
        <p:nvPicPr>
          <p:cNvPr id="90" name="矩形 4" descr=""/>
          <p:cNvPicPr/>
          <p:nvPr/>
        </p:nvPicPr>
        <p:blipFill>
          <a:blip r:embed="rId2"/>
          <a:stretch/>
        </p:blipFill>
        <p:spPr>
          <a:xfrm>
            <a:off x="822240" y="795240"/>
            <a:ext cx="7883640" cy="1363680"/>
          </a:xfrm>
          <a:prstGeom prst="rect">
            <a:avLst/>
          </a:prstGeom>
          <a:ln w="0">
            <a:noFill/>
          </a:ln>
        </p:spPr>
      </p:pic>
      <p:sp>
        <p:nvSpPr>
          <p:cNvPr id="91" name="矩形 5"/>
          <p:cNvSpPr/>
          <p:nvPr/>
        </p:nvSpPr>
        <p:spPr>
          <a:xfrm>
            <a:off x="2171880" y="6021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D2D7-B026-4402-AE78-852AD4DAFA20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12"/>
          <p:cNvPicPr/>
          <p:nvPr/>
        </p:nvPicPr>
        <p:blipFill>
          <a:blip r:embed="rId1"/>
          <a:stretch/>
        </p:blipFill>
        <p:spPr>
          <a:xfrm>
            <a:off x="1187280" y="620640"/>
            <a:ext cx="6769440" cy="4321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116000" y="5300640"/>
            <a:ext cx="80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丢弃腐烂的垃圾，污染着空气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BD2E-7B63-4A16-A8ED-6A5DEF949356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15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4176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539640" y="5300640"/>
            <a:ext cx="86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树木过度砍伐破坏，空气不再清新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B849-DF44-4172-B23A-49F74BC88A31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9" descr="16"/>
          <p:cNvPicPr/>
          <p:nvPr/>
        </p:nvPicPr>
        <p:blipFill>
          <a:blip r:embed="rId1"/>
          <a:stretch/>
        </p:blipFill>
        <p:spPr>
          <a:xfrm rot="1051800">
            <a:off x="1403280" y="549360"/>
            <a:ext cx="1792440" cy="2674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11"/>
          <p:cNvPicPr/>
          <p:nvPr/>
        </p:nvPicPr>
        <p:blipFill>
          <a:blip r:embed="rId2"/>
          <a:stretch/>
        </p:blipFill>
        <p:spPr>
          <a:xfrm>
            <a:off x="2987640" y="620640"/>
            <a:ext cx="2592360" cy="1424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12"/>
          <p:cNvPicPr/>
          <p:nvPr/>
        </p:nvPicPr>
        <p:blipFill>
          <a:blip r:embed="rId3"/>
          <a:stretch/>
        </p:blipFill>
        <p:spPr>
          <a:xfrm rot="1620000">
            <a:off x="1042920" y="234936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14"/>
          <p:cNvPicPr/>
          <p:nvPr/>
        </p:nvPicPr>
        <p:blipFill>
          <a:blip r:embed="rId4"/>
          <a:stretch/>
        </p:blipFill>
        <p:spPr>
          <a:xfrm rot="1346400">
            <a:off x="5435280" y="620640"/>
            <a:ext cx="2663640" cy="1994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15"/>
          <p:cNvPicPr/>
          <p:nvPr/>
        </p:nvPicPr>
        <p:blipFill>
          <a:blip r:embed="rId5"/>
          <a:stretch/>
        </p:blipFill>
        <p:spPr>
          <a:xfrm rot="733800">
            <a:off x="2050920" y="3284280"/>
            <a:ext cx="2519640" cy="1884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13"/>
          <p:cNvPicPr/>
          <p:nvPr/>
        </p:nvPicPr>
        <p:blipFill>
          <a:blip r:embed="rId6"/>
          <a:stretch/>
        </p:blipFill>
        <p:spPr>
          <a:xfrm>
            <a:off x="4427640" y="3429000"/>
            <a:ext cx="2628720" cy="1971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22"/>
          <p:cNvPicPr/>
          <p:nvPr/>
        </p:nvPicPr>
        <p:blipFill>
          <a:blip r:embed="rId7"/>
          <a:stretch/>
        </p:blipFill>
        <p:spPr>
          <a:xfrm rot="3035400">
            <a:off x="5568480" y="2287440"/>
            <a:ext cx="2665440" cy="1779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00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2"/>
          <p:cNvSpPr/>
          <p:nvPr/>
        </p:nvSpPr>
        <p:spPr>
          <a:xfrm>
            <a:off x="755640" y="4869000"/>
            <a:ext cx="77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大气被严重污染，我们的地球 无法正常呼吸！！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7750"/>
                            </p:stCondLst>
                            <p:childTnLst>
                              <p:par>
                                <p:cTn id="19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06F5-B216-40F0-A19E-E3B45F458C22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4" descr="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01D1-BB31-4B25-8629-B8DC50F8E877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33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4360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1"/>
          <p:cNvSpPr/>
          <p:nvPr/>
        </p:nvSpPr>
        <p:spPr>
          <a:xfrm>
            <a:off x="755640" y="757080"/>
            <a:ext cx="62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9E5B-AF40-487A-8684-CF4861B194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CC60-3739-438F-AFBF-EA89CFE59F84}" type="datetime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2" descr="C:\Users\MMC\Desktop\1.jpg"/>
          <p:cNvPicPr/>
          <p:nvPr/>
        </p:nvPicPr>
        <p:blipFill>
          <a:blip r:embed="rId1"/>
          <a:stretch/>
        </p:blipFill>
        <p:spPr>
          <a:xfrm>
            <a:off x="1357200" y="571680"/>
            <a:ext cx="6410520" cy="5715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MMC\Desktop\2.jpg"/>
          <p:cNvPicPr/>
          <p:nvPr/>
        </p:nvPicPr>
        <p:blipFill>
          <a:blip r:embed="rId2"/>
          <a:stretch/>
        </p:blipFill>
        <p:spPr>
          <a:xfrm>
            <a:off x="1357200" y="571680"/>
            <a:ext cx="6410520" cy="571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MMC\Desktop\图片2.jpg"/>
          <p:cNvPicPr/>
          <p:nvPr/>
        </p:nvPicPr>
        <p:blipFill>
          <a:blip r:embed="rId3"/>
          <a:stretch/>
        </p:blipFill>
        <p:spPr>
          <a:xfrm>
            <a:off x="1357200" y="571680"/>
            <a:ext cx="6429600" cy="573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MMC\Desktop\图片3.jpg"/>
          <p:cNvPicPr/>
          <p:nvPr/>
        </p:nvPicPr>
        <p:blipFill>
          <a:blip r:embed="rId4"/>
          <a:stretch/>
        </p:blipFill>
        <p:spPr>
          <a:xfrm>
            <a:off x="1357200" y="571680"/>
            <a:ext cx="6429600" cy="5733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MMC\Desktop\图片3.jpg"/>
          <p:cNvPicPr/>
          <p:nvPr/>
        </p:nvPicPr>
        <p:blipFill>
          <a:blip r:embed="rId5"/>
          <a:stretch/>
        </p:blipFill>
        <p:spPr>
          <a:xfrm>
            <a:off x="1332000" y="549360"/>
            <a:ext cx="6429240" cy="5734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MMC\Desktop\图片3.jpg"/>
          <p:cNvPicPr/>
          <p:nvPr/>
        </p:nvPicPr>
        <p:blipFill>
          <a:blip r:embed="rId6"/>
          <a:stretch/>
        </p:blipFill>
        <p:spPr>
          <a:xfrm>
            <a:off x="1332000" y="549360"/>
            <a:ext cx="6429240" cy="573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图片1"/>
          <p:cNvPicPr/>
          <p:nvPr/>
        </p:nvPicPr>
        <p:blipFill>
          <a:blip r:embed="rId7"/>
          <a:stretch/>
        </p:blipFill>
        <p:spPr>
          <a:xfrm>
            <a:off x="1332000" y="549360"/>
            <a:ext cx="6448320" cy="5753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MMC\Desktop\图片4.jpg"/>
          <p:cNvPicPr/>
          <p:nvPr/>
        </p:nvPicPr>
        <p:blipFill>
          <a:blip r:embed="rId8"/>
          <a:stretch/>
        </p:blipFill>
        <p:spPr>
          <a:xfrm>
            <a:off x="1332000" y="549360"/>
            <a:ext cx="6426000" cy="5734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1928880" y="564372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下降的小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5072040" y="564372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上浮的小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268360" y="981000"/>
            <a:ext cx="18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空气占空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小球 被下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5148360" y="98100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空气的流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小球 能上浮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21E8-E297-4E20-A7DB-5314A2190CB3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空气真的在我们周围吗？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84280"/>
            <a:ext cx="8686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你能够用身边的材料或老师提供的材料，让大家 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Tahoma"/>
              </a:rPr>
              <a:t>看到听到或感觉到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我们周围有空气吗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仿宋_GB2312"/>
              </a:rPr>
              <a:t>提示：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仿宋_GB2312"/>
              </a:rPr>
              <a:t>、老师给大家准备了塑料袋、吸管、针筒、小瓶等材             料，也可用身边的材料哦！！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仿宋_GB2312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仿宋_GB2312"/>
              </a:rPr>
              <a:t>、用文字或图画的方式记录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仿宋_GB2312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仿宋_GB2312"/>
              </a:rPr>
              <a:t>、可以与你同桌轻轻 地商量一下</a:t>
            </a: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仿宋_GB2312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仿宋_GB2312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  <a:ea typeface="仿宋_GB2312"/>
              </a:rPr>
              <a:t>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4760-BBC5-44CA-8E38-90FA7FDD9173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820000" cy="24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像空气这样的东西我们虽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然看不见，但它确是无处不在。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7"/>
          <p:cNvSpPr/>
          <p:nvPr/>
        </p:nvSpPr>
        <p:spPr>
          <a:xfrm>
            <a:off x="1763640" y="2492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日期占位符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16E2-1536-4567-9843-78B748A84DEA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404"/>
                </a:solidFill>
                <a:latin typeface="Tahoma"/>
              </a:rPr>
              <a:t>空气的组成：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8800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ahoma"/>
              </a:rPr>
              <a:t>拉瓦锡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法国化学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１７世纪以前人们一直认为空气是一种单一成分的物质，１８世纪才认识到空气的复杂性．法国化学家拉瓦锡通过多次的实验，分析出了空气的主要成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lawaxi"/>
          <p:cNvPicPr/>
          <p:nvPr/>
        </p:nvPicPr>
        <p:blipFill>
          <a:blip r:embed="rId1"/>
          <a:stretch/>
        </p:blipFill>
        <p:spPr>
          <a:xfrm>
            <a:off x="468360" y="1989000"/>
            <a:ext cx="4032360" cy="4392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7C07-3C98-41E5-AA4E-A9C6E081D9CB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2" descr="pic_32597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6927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1111006886_ohaarg"/>
          <p:cNvPicPr/>
          <p:nvPr/>
        </p:nvPicPr>
        <p:blipFill>
          <a:blip r:embed="rId2"/>
          <a:stretch/>
        </p:blipFill>
        <p:spPr>
          <a:xfrm>
            <a:off x="468360" y="4292640"/>
            <a:ext cx="1942920" cy="145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氮肥"/>
          <p:cNvPicPr/>
          <p:nvPr/>
        </p:nvPicPr>
        <p:blipFill>
          <a:blip r:embed="rId3"/>
          <a:stretch/>
        </p:blipFill>
        <p:spPr>
          <a:xfrm>
            <a:off x="2484360" y="4292640"/>
            <a:ext cx="2087640" cy="1440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灯泡"/>
          <p:cNvPicPr/>
          <p:nvPr/>
        </p:nvPicPr>
        <p:blipFill>
          <a:blip r:embed="rId4"/>
          <a:stretch/>
        </p:blipFill>
        <p:spPr>
          <a:xfrm>
            <a:off x="1258920" y="2637000"/>
            <a:ext cx="2519280" cy="1247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763640" y="580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404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404"/>
                </a:solidFill>
                <a:latin typeface="Arial"/>
              </a:rPr>
              <a:t>化  肥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050920" y="386064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404"/>
                </a:solidFill>
                <a:latin typeface="Arial"/>
              </a:rPr>
              <a:t>保护气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8" descr="潜水"/>
          <p:cNvPicPr/>
          <p:nvPr/>
        </p:nvPicPr>
        <p:blipFill>
          <a:blip r:embed="rId5"/>
          <a:stretch/>
        </p:blipFill>
        <p:spPr>
          <a:xfrm>
            <a:off x="6588000" y="3141720"/>
            <a:ext cx="2232000" cy="1224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6113520" y="3213000"/>
            <a:ext cx="546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404"/>
                </a:solidFill>
                <a:latin typeface="Arial"/>
              </a:rPr>
              <a:t>呼    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0" descr="u=3407778156,4232041331&amp;fm=9&amp;gp=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88000" y="4365720"/>
            <a:ext cx="2232000" cy="1296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6087960" y="4653000"/>
            <a:ext cx="546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404"/>
                </a:solidFill>
                <a:latin typeface="Arial"/>
              </a:rPr>
              <a:t>燃   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159C-FD13-4895-920B-AE52B6736A3E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324000" y="1484280"/>
            <a:ext cx="8569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我们周围的空气正遭受着灾难！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4B02-20C2-4B45-8FD2-B870D9F7A3F0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11"/>
          <p:cNvPicPr/>
          <p:nvPr/>
        </p:nvPicPr>
        <p:blipFill>
          <a:blip r:embed="rId1"/>
          <a:stretch/>
        </p:blipFill>
        <p:spPr>
          <a:xfrm>
            <a:off x="755640" y="907920"/>
            <a:ext cx="7272360" cy="3996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971640" y="537372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汽车排放的尾气，污染着空气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9592-551F-4176-9A80-69694E166147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33"/>
          <p:cNvPicPr/>
          <p:nvPr/>
        </p:nvPicPr>
        <p:blipFill>
          <a:blip r:embed="rId1"/>
          <a:stretch/>
        </p:blipFill>
        <p:spPr>
          <a:xfrm>
            <a:off x="684360" y="476280"/>
            <a:ext cx="7619760" cy="46814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4493880" y="5589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工厂任意排放的废气，污染着空气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0:57:0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9:37Z</dcterms:modified>
  <cp:revision>19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3</vt:r8>
  </property>
</Properties>
</file>