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camera.wav" ContentType="audio/x-wav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594-5E65-4373-9365-05DF6962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4B41-E870-4CE6-B1A8-7CDF03E5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2C4-A261-4215-A6CA-83E3086C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DF8-1D4C-42DA-BBBE-7AA56B13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02D-DA8D-49D2-8A0E-BF338BDC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72F-5E2D-48CB-B1EA-4E9B9BDB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11B-C0BD-4B09-84FB-3D5C85C8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291-3FF0-445E-870B-9C41D6A1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916-5BB8-4CEA-AA63-5B6E38D5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B73-B8D1-4E71-B296-16ABE23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3EB-3985-4305-8B30-84772BDC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C7A-02F6-46D3-A12A-BDE745C0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C38-196E-4D5D-BCF5-57AC0C6F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DE5-CAE0-43A0-8287-0F3F75AD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C7B2-758D-4D6A-8FC2-7E9733615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2040" y="1341360"/>
            <a:ext cx="766620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六课  </a:t>
            </a: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蜗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286360" y="61149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1965240" y="2924280"/>
            <a:ext cx="5238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66680" y="1143000"/>
            <a:ext cx="6934320" cy="642600"/>
          </a:xfrm>
          <a:prstGeom prst="rect">
            <a:avLst/>
          </a:prstGeom>
          <a:noFill/>
          <a:ln w="9360">
            <a:solidFill>
              <a:srgbClr val="c6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，从硬壳里探出一对长着小黑眼睛的触角，东张西望地“巡视”一番，直到觉得四周没有一点儿危险了，才慢慢地伸出头来。要是轻轻地碰它一下，它便立即把头缩回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0"/>
            <a:ext cx="1371600" cy="838080"/>
          </a:xfrm>
          <a:prstGeom prst="wedgeRectCallout">
            <a:avLst>
              <a:gd name="adj1" fmla="val 39004"/>
              <a:gd name="adj2" fmla="val 95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76520" y="4876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嘿，真是一个胆小鬼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>
            <a:hlinkClick r:id="rId2" action="ppaction://hlinksldjump"/>
          </p:cNvPr>
          <p:cNvSpPr/>
          <p:nvPr/>
        </p:nvSpPr>
        <p:spPr>
          <a:xfrm>
            <a:off x="304920" y="6019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990720"/>
          <a:ext cx="8229600" cy="44496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爬行的角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背上的负重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爬行的方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摔下来的表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所用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22"/>
          <p:cNvSpPr/>
          <p:nvPr/>
        </p:nvSpPr>
        <p:spPr>
          <a:xfrm>
            <a:off x="4724280" y="99072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直平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4572000" y="1676520"/>
            <a:ext cx="3962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重的壳像一块大石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4572000" y="2895480"/>
            <a:ext cx="3962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挪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4952880" y="3505320"/>
            <a:ext cx="40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关系，我没摔坏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4648320" y="4724280"/>
            <a:ext cx="3809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十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>
            <a:hlinkClick r:id="rId2" action="ppaction://hlinksldjump"/>
          </p:cNvPr>
          <p:cNvSpPr/>
          <p:nvPr/>
        </p:nvSpPr>
        <p:spPr>
          <a:xfrm>
            <a:off x="7391520" y="579132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0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0" y="20200"/>
                </a:lnTo>
                <a:lnTo>
                  <a:pt x="33690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0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0" h="21600">
                <a:moveTo>
                  <a:pt x="17545" y="3837"/>
                </a:moveTo>
                <a:lnTo>
                  <a:pt x="20122" y="6448"/>
                </a:lnTo>
                <a:lnTo>
                  <a:pt x="20122" y="4707"/>
                </a:lnTo>
                <a:lnTo>
                  <a:pt x="21897" y="4707"/>
                </a:lnTo>
                <a:lnTo>
                  <a:pt x="21897" y="8224"/>
                </a:lnTo>
                <a:lnTo>
                  <a:pt x="24508" y="10800"/>
                </a:lnTo>
                <a:lnTo>
                  <a:pt x="22854" y="10800"/>
                </a:lnTo>
                <a:lnTo>
                  <a:pt x="22854" y="17989"/>
                </a:lnTo>
                <a:lnTo>
                  <a:pt x="12236" y="17989"/>
                </a:lnTo>
                <a:lnTo>
                  <a:pt x="12236" y="10800"/>
                </a:lnTo>
                <a:lnTo>
                  <a:pt x="10582" y="10800"/>
                </a:lnTo>
                <a:close/>
              </a:path>
              <a:path fill="darkenLess" w="35090" h="21600">
                <a:moveTo>
                  <a:pt x="20122" y="6448"/>
                </a:moveTo>
                <a:lnTo>
                  <a:pt x="20122" y="4707"/>
                </a:lnTo>
                <a:lnTo>
                  <a:pt x="21897" y="4707"/>
                </a:lnTo>
                <a:lnTo>
                  <a:pt x="21897" y="8224"/>
                </a:lnTo>
                <a:close/>
              </a:path>
              <a:path fill="darkenLess" w="35090" h="21600">
                <a:moveTo>
                  <a:pt x="16623" y="14299"/>
                </a:moveTo>
                <a:lnTo>
                  <a:pt x="18468" y="14299"/>
                </a:lnTo>
                <a:lnTo>
                  <a:pt x="18468" y="17989"/>
                </a:lnTo>
                <a:lnTo>
                  <a:pt x="22854" y="17989"/>
                </a:lnTo>
                <a:lnTo>
                  <a:pt x="22854" y="10800"/>
                </a:lnTo>
                <a:lnTo>
                  <a:pt x="12236" y="10800"/>
                </a:lnTo>
                <a:lnTo>
                  <a:pt x="12236" y="17989"/>
                </a:lnTo>
                <a:lnTo>
                  <a:pt x="1662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905120" y="16002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真是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世上无难事，只要肯攀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哪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52480" y="3429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理解了这句话的意思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1619280" y="5195880"/>
            <a:ext cx="62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777280" y="4950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epea"/>
          <p:cNvPicPr/>
          <p:nvPr/>
        </p:nvPicPr>
        <p:blipFill>
          <a:blip r:embed="rId2"/>
          <a:stretch/>
        </p:blipFill>
        <p:spPr>
          <a:xfrm>
            <a:off x="6553080" y="4924440"/>
            <a:ext cx="2286000" cy="17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990720" y="838080"/>
            <a:ext cx="6705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_GB2312"/>
              </a:rPr>
              <a:t>路在脚下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_GB2312"/>
              </a:rPr>
              <a:t>只要走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_GB2312"/>
              </a:rPr>
              <a:t>就有希望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1186-81AC-40C2-9C90-0B29509A2A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2692440" cy="281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263196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蜗牛5"/>
          <p:cNvPicPr/>
          <p:nvPr/>
        </p:nvPicPr>
        <p:blipFill>
          <a:blip r:embed="rId4"/>
          <a:stretch/>
        </p:blipFill>
        <p:spPr>
          <a:xfrm>
            <a:off x="5187960" y="304920"/>
            <a:ext cx="3956040" cy="5905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蜗牛7"/>
          <p:cNvPicPr/>
          <p:nvPr/>
        </p:nvPicPr>
        <p:blipFill>
          <a:blip r:embed="rId5"/>
          <a:stretch/>
        </p:blipFill>
        <p:spPr>
          <a:xfrm>
            <a:off x="3429000" y="2971800"/>
            <a:ext cx="143496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蜗牛6"/>
          <p:cNvPicPr/>
          <p:nvPr/>
        </p:nvPicPr>
        <p:blipFill>
          <a:blip r:embed="rId6"/>
          <a:stretch/>
        </p:blipFill>
        <p:spPr>
          <a:xfrm>
            <a:off x="3581280" y="533520"/>
            <a:ext cx="12654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6713640" cy="3562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835440" y="68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654600" y="21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320240" y="4648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触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68800" y="4876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30832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24360" y="404280"/>
            <a:ext cx="99378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默读课文第一、二、五自然段，看看你发现了什么？感受到了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、我觉得作者有点儿难过，惆怅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、我发现课文的开头和结尾都写到了小青青唱儿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1523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院子里，邻居家的小姑娘青青，坐在一个小板凳上，摆弄着地上的一只小蜗牛，口中还念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蜗牛、蜗牛，先出犄角后出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”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457200" y="0"/>
            <a:ext cx="114300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听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6" name="Picture 4" descr="21"/>
          <p:cNvPicPr/>
          <p:nvPr/>
        </p:nvPicPr>
        <p:blipFill>
          <a:blip r:embed="rId4"/>
          <a:stretch/>
        </p:blipFill>
        <p:spPr>
          <a:xfrm>
            <a:off x="0" y="51436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3564000" y="49417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1ca8be20bb56cf468644f9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333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作者对蜗牛的感情经历了怎样的变化呢？请大家默读第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段，寻找答案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为什么作者感情发生了变化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请在文中找出相关语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3573000"/>
            <a:ext cx="3584520" cy="13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认为蜗牛是胆小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067280" y="4292640"/>
            <a:ext cx="1523880" cy="352440"/>
          </a:xfrm>
          <a:prstGeom prst="rightArrow">
            <a:avLst>
              <a:gd name="adj1" fmla="val 50000"/>
              <a:gd name="adj2" fmla="val 1080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96000" y="378936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开始敬佩蜗牛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26920" y="167652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ff"/>
                </a:solidFill>
                <a:latin typeface="Arial"/>
                <a:ea typeface="楷体_GB2312"/>
              </a:rPr>
              <a:t>蜗牛总是</a:t>
            </a: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藏</a:t>
            </a:r>
            <a:r>
              <a:rPr b="1" lang="zh-CN" sz="7200" spc="-1" strike="noStrike">
                <a:solidFill>
                  <a:srgbClr val="9900ff"/>
                </a:solidFill>
                <a:latin typeface="Arial"/>
                <a:ea typeface="楷体_GB2312"/>
              </a:rPr>
              <a:t>在圆圆的螺旋形的硬壳里</a:t>
            </a: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不肯</a:t>
            </a:r>
            <a:r>
              <a:rPr b="1" lang="zh-CN" sz="7200" spc="-1" strike="noStrike">
                <a:solidFill>
                  <a:srgbClr val="9900ff"/>
                </a:solidFill>
                <a:latin typeface="Arial"/>
                <a:ea typeface="楷体_GB2312"/>
              </a:rPr>
              <a:t>出来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-2773440" y="285264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不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>
            <a:hlinkClick r:id="rId2" action="ppaction://hlinksldjump"/>
          </p:cNvPr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-262908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02:27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8:20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