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camera.wav" ContentType="audio/x-wav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3EFF-0A24-4C82-9D6A-B55E5E01131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62EF-7864-4CD8-8F29-2102F25FBF5D}" type="slidenum">
              <a:rPr b="1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D175F-01E6-4631-9AC3-53A5BD0A30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E1596-AE29-4871-AE76-0C80268241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2F667-F2CA-455E-B8A9-6314A91BC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9F00F-4C25-4732-975B-198BBAAC71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FB0DE-B9E2-4F4A-AC14-49D0F5A0E4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8552D-F83A-47E1-9006-E7E7B50F43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BA16A-A02B-47E8-98B7-E442528C6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5D068-B012-4437-9E4A-C9E0A1C9DB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B1C1E-C892-491D-AC2E-FFC91DB90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1CE43-2158-4905-B131-2C823E842C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EF309-C0FF-4DD6-B668-15F4ECC757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7F4BA-493E-4218-BF72-8C38FFC71F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5-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B088D430-2D2C-40C8-A29E-CFA70957D808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5-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3560" y="1514160"/>
            <a:ext cx="7772400" cy="1143000"/>
          </a:xfrm>
          <a:prstGeom prst="rect">
            <a:avLst/>
          </a:prstGeom>
          <a:noFill/>
          <a:ln w="9360">
            <a:solidFill>
              <a:srgbClr val="ffcc00">
                <a:alpha val="46000"/>
              </a:srgbClr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污水和污水处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"/>
          <p:cNvSpPr/>
          <p:nvPr/>
        </p:nvSpPr>
        <p:spPr>
          <a:xfrm>
            <a:off x="2287800" y="60642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图片 1" descr=""/>
          <p:cNvPicPr/>
          <p:nvPr/>
        </p:nvPicPr>
        <p:blipFill>
          <a:blip r:embed="rId1"/>
          <a:stretch/>
        </p:blipFill>
        <p:spPr>
          <a:xfrm>
            <a:off x="3537000" y="3014640"/>
            <a:ext cx="3809880" cy="26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W0200507252851594665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2124000" y="5661000"/>
            <a:ext cx="4535640" cy="642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造纸厂排放的污水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4041076"/>
          <p:cNvPicPr/>
          <p:nvPr/>
        </p:nvPicPr>
        <p:blipFill>
          <a:blip r:embed="rId1"/>
          <a:stretch/>
        </p:blipFill>
        <p:spPr>
          <a:xfrm>
            <a:off x="0" y="-1440"/>
            <a:ext cx="9144000" cy="5806800"/>
          </a:xfrm>
          <a:prstGeom prst="rect">
            <a:avLst/>
          </a:prstGeom>
          <a:ln w="0">
            <a:noFill/>
          </a:ln>
        </p:spPr>
      </p:pic>
      <p:sp>
        <p:nvSpPr>
          <p:cNvPr id="112" name="WordArt 3"/>
          <p:cNvSpPr txBox="1"/>
          <p:nvPr/>
        </p:nvSpPr>
        <p:spPr>
          <a:xfrm>
            <a:off x="2195640" y="6165720"/>
            <a:ext cx="4824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农药排放导致野生水生动物死亡</a:t>
            </a:r>
            <a:endParaRPr b="1" lang="en-US" sz="1800" spc="1" strike="noStrike">
              <a:ln w="1908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70a0d6fbeda6b3c7b58f31ac"/>
          <p:cNvPicPr/>
          <p:nvPr/>
        </p:nvPicPr>
        <p:blipFill>
          <a:blip r:embed="rId1"/>
          <a:stretch/>
        </p:blipFill>
        <p:spPr>
          <a:xfrm>
            <a:off x="-33480" y="0"/>
            <a:ext cx="9177480" cy="6165720"/>
          </a:xfrm>
          <a:prstGeom prst="rect">
            <a:avLst/>
          </a:prstGeom>
          <a:ln w="0">
            <a:noFill/>
          </a:ln>
        </p:spPr>
      </p:pic>
      <p:sp>
        <p:nvSpPr>
          <p:cNvPr id="114" name="WordArt 3"/>
          <p:cNvSpPr txBox="1"/>
          <p:nvPr/>
        </p:nvSpPr>
        <p:spPr>
          <a:xfrm>
            <a:off x="1547640" y="6237360"/>
            <a:ext cx="633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量鱼类死于水质污染渔民损失惨重</a:t>
            </a:r>
            <a:endParaRPr b="1" lang="en-US" sz="1800" spc="1" strike="noStrike">
              <a:ln w="1908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374973c50fc2d0544e11af7a7cbb64ac"/>
          <p:cNvPicPr/>
          <p:nvPr/>
        </p:nvPicPr>
        <p:blipFill>
          <a:blip r:embed="rId1"/>
          <a:stretch/>
        </p:blipFill>
        <p:spPr>
          <a:xfrm>
            <a:off x="0" y="0"/>
            <a:ext cx="9144000" cy="6080040"/>
          </a:xfrm>
          <a:prstGeom prst="rect">
            <a:avLst/>
          </a:prstGeom>
          <a:ln w="0">
            <a:noFill/>
          </a:ln>
        </p:spPr>
      </p:pic>
      <p:sp>
        <p:nvSpPr>
          <p:cNvPr id="116" name="WordArt 3"/>
          <p:cNvSpPr txBox="1"/>
          <p:nvPr/>
        </p:nvSpPr>
        <p:spPr>
          <a:xfrm>
            <a:off x="2484360" y="60930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石油污染下的海鸟</a:t>
            </a:r>
            <a:endParaRPr b="1" lang="en-US" sz="1800" spc="1" strike="noStrike">
              <a:ln w="1908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bbbc752d4bf6ba0d359bf798"/>
          <p:cNvPicPr/>
          <p:nvPr/>
        </p:nvPicPr>
        <p:blipFill>
          <a:blip r:embed="rId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118" name="WordArt 3"/>
          <p:cNvSpPr txBox="1"/>
          <p:nvPr/>
        </p:nvSpPr>
        <p:spPr>
          <a:xfrm>
            <a:off x="1547640" y="5877000"/>
            <a:ext cx="597708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死于石油泄漏下的海龟</a:t>
            </a:r>
            <a:endParaRPr b="1" lang="en-US" sz="1800" spc="1" strike="noStrike">
              <a:ln w="1908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00114320debb0869414e2c"/>
          <p:cNvPicPr/>
          <p:nvPr/>
        </p:nvPicPr>
        <p:blipFill>
          <a:blip r:embed="rId1"/>
          <a:stretch/>
        </p:blipFill>
        <p:spPr>
          <a:xfrm>
            <a:off x="34920" y="44280"/>
            <a:ext cx="9109080" cy="6813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68360" y="404280"/>
            <a:ext cx="82296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不洁净的水为各种寄生虫、变形虫和细菌提供了温床，由此每年可损害</a:t>
            </a:r>
            <a:r>
              <a:rPr b="1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亿人的健康。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39640" y="4221000"/>
            <a:ext cx="8207640" cy="113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发展中国家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8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％的死亡病例是由水问题导致的。每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秒钟就有一名儿童因此死亡。 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468360" y="2455920"/>
            <a:ext cx="7920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全世界医院一半的住院病人是患由不洁净水引发的各种疾病的患者。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52360" y="1557360"/>
            <a:ext cx="89280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水的污染源可能来自哪儿？阅读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P8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页，在书中填空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2843280" y="69228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污水和污水处理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0" y="2492280"/>
            <a:ext cx="9144000" cy="3960720"/>
            <a:chOff x="0" y="2492280"/>
            <a:chExt cx="9144000" cy="3960720"/>
          </a:xfrm>
        </p:grpSpPr>
        <p:sp>
          <p:nvSpPr>
            <p:cNvPr id="126" name="Oval 5"/>
            <p:cNvSpPr/>
            <p:nvPr/>
          </p:nvSpPr>
          <p:spPr>
            <a:xfrm>
              <a:off x="4284720" y="5661000"/>
              <a:ext cx="1584360" cy="792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ahoma"/>
                </a:rPr>
                <a:t>水污染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Oval 6"/>
            <p:cNvSpPr/>
            <p:nvPr/>
          </p:nvSpPr>
          <p:spPr>
            <a:xfrm>
              <a:off x="1116000" y="4797360"/>
              <a:ext cx="1584360" cy="792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ahoma"/>
                </a:rPr>
                <a:t>农业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Oval 7"/>
            <p:cNvSpPr/>
            <p:nvPr/>
          </p:nvSpPr>
          <p:spPr>
            <a:xfrm>
              <a:off x="3203640" y="4076640"/>
              <a:ext cx="1584360" cy="792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Oval 8"/>
            <p:cNvSpPr/>
            <p:nvPr/>
          </p:nvSpPr>
          <p:spPr>
            <a:xfrm>
              <a:off x="5435640" y="4221000"/>
              <a:ext cx="1584360" cy="792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Oval 9"/>
            <p:cNvSpPr/>
            <p:nvPr/>
          </p:nvSpPr>
          <p:spPr>
            <a:xfrm>
              <a:off x="7236000" y="4941720"/>
              <a:ext cx="1584000" cy="792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Oval 10"/>
            <p:cNvSpPr/>
            <p:nvPr/>
          </p:nvSpPr>
          <p:spPr>
            <a:xfrm>
              <a:off x="0" y="3357360"/>
              <a:ext cx="1368360" cy="576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ahoma"/>
                </a:rPr>
                <a:t>杀虫剂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Oval 11"/>
            <p:cNvSpPr/>
            <p:nvPr/>
          </p:nvSpPr>
          <p:spPr>
            <a:xfrm>
              <a:off x="971640" y="2852640"/>
              <a:ext cx="1368360" cy="576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Oval 12"/>
            <p:cNvSpPr/>
            <p:nvPr/>
          </p:nvSpPr>
          <p:spPr>
            <a:xfrm>
              <a:off x="2484360" y="2997000"/>
              <a:ext cx="1368360" cy="576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Oval 13"/>
            <p:cNvSpPr/>
            <p:nvPr/>
          </p:nvSpPr>
          <p:spPr>
            <a:xfrm>
              <a:off x="3564000" y="2492280"/>
              <a:ext cx="1368360" cy="576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Oval 14"/>
            <p:cNvSpPr/>
            <p:nvPr/>
          </p:nvSpPr>
          <p:spPr>
            <a:xfrm>
              <a:off x="5003640" y="2781360"/>
              <a:ext cx="1368720" cy="576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Oval 15"/>
            <p:cNvSpPr/>
            <p:nvPr/>
          </p:nvSpPr>
          <p:spPr>
            <a:xfrm>
              <a:off x="6300720" y="3068640"/>
              <a:ext cx="1368360" cy="576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Oval 16"/>
            <p:cNvSpPr/>
            <p:nvPr/>
          </p:nvSpPr>
          <p:spPr>
            <a:xfrm>
              <a:off x="7775640" y="3573360"/>
              <a:ext cx="1368360" cy="576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Line 17"/>
            <p:cNvSpPr/>
            <p:nvPr/>
          </p:nvSpPr>
          <p:spPr>
            <a:xfrm flipH="1" flipV="1">
              <a:off x="1042920" y="3860640"/>
              <a:ext cx="504720" cy="10080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Line 18"/>
            <p:cNvSpPr/>
            <p:nvPr/>
          </p:nvSpPr>
          <p:spPr>
            <a:xfrm flipH="1" flipV="1">
              <a:off x="1692000" y="3428640"/>
              <a:ext cx="215640" cy="13683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Line 19"/>
            <p:cNvSpPr/>
            <p:nvPr/>
          </p:nvSpPr>
          <p:spPr>
            <a:xfrm flipH="1" flipV="1">
              <a:off x="2626920" y="5300640"/>
              <a:ext cx="1655640" cy="7920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Line 20"/>
            <p:cNvSpPr/>
            <p:nvPr/>
          </p:nvSpPr>
          <p:spPr>
            <a:xfrm flipH="1" flipV="1">
              <a:off x="4211280" y="4868280"/>
              <a:ext cx="576360" cy="7923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Line 21"/>
            <p:cNvSpPr/>
            <p:nvPr/>
          </p:nvSpPr>
          <p:spPr>
            <a:xfrm flipV="1">
              <a:off x="5364000" y="4941720"/>
              <a:ext cx="503280" cy="7192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Line 22"/>
            <p:cNvSpPr/>
            <p:nvPr/>
          </p:nvSpPr>
          <p:spPr>
            <a:xfrm flipV="1">
              <a:off x="5724360" y="5373360"/>
              <a:ext cx="1511640" cy="4302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Line 23"/>
            <p:cNvSpPr/>
            <p:nvPr/>
          </p:nvSpPr>
          <p:spPr>
            <a:xfrm flipH="1" flipV="1">
              <a:off x="3564000" y="3499920"/>
              <a:ext cx="287280" cy="5763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V="1">
              <a:off x="4211640" y="3068640"/>
              <a:ext cx="0" cy="10080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H="1" flipV="1">
              <a:off x="5796000" y="3357000"/>
              <a:ext cx="216000" cy="8636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Line 26"/>
            <p:cNvSpPr/>
            <p:nvPr/>
          </p:nvSpPr>
          <p:spPr>
            <a:xfrm flipV="1">
              <a:off x="6516720" y="3644640"/>
              <a:ext cx="360360" cy="6480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V="1">
              <a:off x="8172360" y="4149720"/>
              <a:ext cx="289080" cy="7920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9" name="Text Box 28"/>
          <p:cNvSpPr/>
          <p:nvPr/>
        </p:nvSpPr>
        <p:spPr>
          <a:xfrm>
            <a:off x="1384200" y="29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900"/>
                </a:solidFill>
                <a:latin typeface="Tahoma"/>
              </a:rPr>
              <a:t>肥料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29"/>
          <p:cNvSpPr/>
          <p:nvPr/>
        </p:nvSpPr>
        <p:spPr>
          <a:xfrm>
            <a:off x="3689280" y="42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900"/>
                </a:solidFill>
                <a:latin typeface="Tahoma"/>
              </a:rPr>
              <a:t>工业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30"/>
          <p:cNvSpPr/>
          <p:nvPr/>
        </p:nvSpPr>
        <p:spPr>
          <a:xfrm>
            <a:off x="2896920" y="3068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900"/>
                </a:solidFill>
                <a:latin typeface="Tahoma"/>
              </a:rPr>
              <a:t>废水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31"/>
          <p:cNvSpPr/>
          <p:nvPr/>
        </p:nvSpPr>
        <p:spPr>
          <a:xfrm>
            <a:off x="3976560" y="256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900"/>
                </a:solidFill>
                <a:latin typeface="Tahoma"/>
              </a:rPr>
              <a:t>油污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32"/>
          <p:cNvSpPr/>
          <p:nvPr/>
        </p:nvSpPr>
        <p:spPr>
          <a:xfrm>
            <a:off x="5916240" y="4365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900"/>
                </a:solidFill>
                <a:latin typeface="Tahoma"/>
              </a:rPr>
              <a:t>家庭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33"/>
          <p:cNvSpPr/>
          <p:nvPr/>
        </p:nvSpPr>
        <p:spPr>
          <a:xfrm>
            <a:off x="5263560" y="2852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900"/>
                </a:solidFill>
                <a:latin typeface="Tahoma"/>
              </a:rPr>
              <a:t>洗涤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34"/>
          <p:cNvSpPr/>
          <p:nvPr/>
        </p:nvSpPr>
        <p:spPr>
          <a:xfrm>
            <a:off x="6630480" y="3068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900"/>
                </a:solidFill>
                <a:latin typeface="Tahoma"/>
              </a:rPr>
              <a:t>排泄物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35"/>
          <p:cNvSpPr/>
          <p:nvPr/>
        </p:nvSpPr>
        <p:spPr>
          <a:xfrm>
            <a:off x="7787880" y="5084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900"/>
                </a:solidFill>
                <a:latin typeface="Tahoma"/>
              </a:rPr>
              <a:t>动物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36"/>
          <p:cNvSpPr/>
          <p:nvPr/>
        </p:nvSpPr>
        <p:spPr>
          <a:xfrm>
            <a:off x="8221320" y="3645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900"/>
                </a:solidFill>
                <a:latin typeface="Tahoma"/>
              </a:rPr>
              <a:t>尸体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mb dir="horz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WordArt 2" descr=""/>
          <p:cNvPicPr/>
          <p:nvPr/>
        </p:nvPicPr>
        <p:blipFill>
          <a:blip r:embed="rId1"/>
          <a:stretch/>
        </p:blipFill>
        <p:spPr>
          <a:xfrm>
            <a:off x="919080" y="847800"/>
            <a:ext cx="4869000" cy="1987560"/>
          </a:xfrm>
          <a:prstGeom prst="rect">
            <a:avLst/>
          </a:prstGeom>
          <a:ln w="0">
            <a:noFill/>
          </a:ln>
        </p:spPr>
      </p:pic>
      <p:sp>
        <p:nvSpPr>
          <p:cNvPr id="159" name="WordArt 3"/>
          <p:cNvSpPr txBox="1"/>
          <p:nvPr/>
        </p:nvSpPr>
        <p:spPr>
          <a:xfrm>
            <a:off x="4214880" y="3857760"/>
            <a:ext cx="43578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怎么做？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22400" y="274320"/>
            <a:ext cx="7664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观察比较自来水和生活污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6761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清洁的自来水被用来洗脸、刷牙、洗衣、拖地后就成了污水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能用什么方法把污水中的杂质分离出来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955960" y="2916360"/>
            <a:ext cx="329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838080" y="106668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270160" y="4821120"/>
            <a:ext cx="283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403280" y="53737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答：沉淀、过滤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8" descr="080111foshan"/>
          <p:cNvPicPr/>
          <p:nvPr/>
        </p:nvPicPr>
        <p:blipFill>
          <a:blip r:embed="rId1"/>
          <a:stretch/>
        </p:blipFill>
        <p:spPr>
          <a:xfrm>
            <a:off x="5500800" y="421488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116000" y="1268280"/>
            <a:ext cx="12240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填表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68360" y="2565360"/>
          <a:ext cx="8424720" cy="2895480"/>
        </p:xfrm>
        <a:graphic>
          <a:graphicData uri="http://schemas.openxmlformats.org/drawingml/2006/table">
            <a:tbl>
              <a:tblPr/>
              <a:tblGrid>
                <a:gridCol w="1405080"/>
                <a:gridCol w="1403280"/>
                <a:gridCol w="1404720"/>
                <a:gridCol w="1403640"/>
                <a:gridCol w="1404720"/>
                <a:gridCol w="1403280"/>
              </a:tblGrid>
              <a:tr h="965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颜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气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沉淀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透明度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自来水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无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好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污水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有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刺激性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差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a7a60aa34e427b80cbefd092"/>
          <p:cNvPicPr/>
          <p:nvPr/>
        </p:nvPicPr>
        <p:blipFill>
          <a:blip r:embed="rId1"/>
          <a:stretch/>
        </p:blipFill>
        <p:spPr>
          <a:xfrm>
            <a:off x="223920" y="784080"/>
            <a:ext cx="5781600" cy="5816880"/>
          </a:xfrm>
          <a:prstGeom prst="rect">
            <a:avLst/>
          </a:prstGeom>
          <a:ln w="0">
            <a:noFill/>
          </a:ln>
        </p:spPr>
      </p:pic>
      <p:sp>
        <p:nvSpPr>
          <p:cNvPr id="90" name="Line 3"/>
          <p:cNvSpPr/>
          <p:nvPr/>
        </p:nvSpPr>
        <p:spPr>
          <a:xfrm>
            <a:off x="539640" y="1341360"/>
            <a:ext cx="1079640" cy="863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611280" y="9079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海水</a:t>
            </a:r>
            <a:endParaRPr b="1" lang="en-US" sz="1800" spc="1" strike="noStrike">
              <a:ln w="1908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2" name="Line 5"/>
          <p:cNvSpPr/>
          <p:nvPr/>
        </p:nvSpPr>
        <p:spPr>
          <a:xfrm flipV="1">
            <a:off x="4427640" y="1197000"/>
            <a:ext cx="144360" cy="1008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WordArt 6"/>
          <p:cNvSpPr txBox="1"/>
          <p:nvPr/>
        </p:nvSpPr>
        <p:spPr>
          <a:xfrm>
            <a:off x="4067280" y="62064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冰川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黑体"/>
              </a:rPr>
              <a:t>污水的处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目前，大多数的污水直接排放到江河湖泊中，严重影响着水环境的质量。使用受到污染的水，会对我们的健康造成危害，对生态系统造成危害，对农作物造成危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污水应该经过处理，再排放到自然水域中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"/>
          <p:cNvSpPr/>
          <p:nvPr/>
        </p:nvSpPr>
        <p:spPr>
          <a:xfrm>
            <a:off x="914400" y="5335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实验器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纱布两条、一次性杯子三个、洗净的沙子一杯、剪开的矿泉水瓶两个、漏斗一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1042920" y="4292640"/>
            <a:ext cx="6985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记录下你的发现！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8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废水处理系统示意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09120" y="12189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IMG_2187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1116000" y="1268280"/>
            <a:ext cx="12240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连线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43280" y="69228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污水和污水处理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301400" y="1773360"/>
            <a:ext cx="1155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初步处理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再处理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追加处理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5765760" y="1844640"/>
            <a:ext cx="1155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天然净化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沉淀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过滤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2700360" y="2565360"/>
            <a:ext cx="2808360" cy="1079640"/>
          </a:xfrm>
          <a:prstGeom prst="line">
            <a:avLst/>
          </a:prstGeom>
          <a:ln w="28440">
            <a:solidFill>
              <a:srgbClr val="463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2484360" y="3500280"/>
            <a:ext cx="2808360" cy="1079640"/>
          </a:xfrm>
          <a:prstGeom prst="line">
            <a:avLst/>
          </a:prstGeom>
          <a:ln w="28440">
            <a:solidFill>
              <a:srgbClr val="463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Line 8"/>
          <p:cNvSpPr/>
          <p:nvPr/>
        </p:nvSpPr>
        <p:spPr>
          <a:xfrm flipV="1">
            <a:off x="2700360" y="2708280"/>
            <a:ext cx="2808360" cy="1728720"/>
          </a:xfrm>
          <a:prstGeom prst="line">
            <a:avLst/>
          </a:prstGeom>
          <a:ln w="28440">
            <a:solidFill>
              <a:srgbClr val="463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mb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179280" y="40464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污水的处理一般都是比较严格的，且每一步都很重要，请阅读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P8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写出污水处理的几个重要步骤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79280" y="1628640"/>
            <a:ext cx="8675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初步处理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废水流经处理设备，流速放慢，大一些的固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状物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沉淀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下来，水经过沉淀槽时，小一些的微粒沉入底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，形成矿泥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再处理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滴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过滤系统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，废水通过沙砾得以过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滤，沙砾表面也可铺一层细菌群，以分解污水中的废物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追加处理：水被排入露天池塘，在那里，阳光、空气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使它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天然净化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进入 大气后形成纯水蒸气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氯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般在处理水的再次排放前加入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mb dir="horz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相同点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沉淀和过滤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同点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消毒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2484360" y="117360"/>
            <a:ext cx="431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污水处理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179280" y="1001520"/>
            <a:ext cx="8785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温州市区每天大约产生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80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万吨生活污水，以每个矿泉水桶可装水约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20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千克算，装下这些污水需要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4000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万个桶，装下这些污水大约需要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7210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个教室。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34920" y="422100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每吨污水处理的费用至少要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0.7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元。如果要处理这些污水温州市每天处理污水的费用达到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56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万元。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a243b2523de4a4270df3e3c1"/>
          <p:cNvPicPr/>
          <p:nvPr/>
        </p:nvPicPr>
        <p:blipFill>
          <a:blip r:embed="rId1"/>
          <a:stretch/>
        </p:blipFill>
        <p:spPr>
          <a:xfrm>
            <a:off x="127080" y="361800"/>
            <a:ext cx="889308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250920" y="1268280"/>
            <a:ext cx="22334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一、填空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79280" y="1628640"/>
            <a:ext cx="910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在淡水资源短缺的情况下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更给人类和其他生物造成了威胁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绝大的水污染都是由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_____________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引起的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淡水在自来水厂中除了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之外，还要加入药物进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__________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这样的水才能符合我们使用的标准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5148360" y="1916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水污染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2843280" y="69228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污水和污水处理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398840" y="3645000"/>
            <a:ext cx="30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人类活动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4500720" y="4508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沉淀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6443640" y="4508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过滤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3203640" y="5300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灭菌处理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mb dir="horz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34920" y="1123920"/>
            <a:ext cx="914544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大多数地区的自来水水源取自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或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自来水是主要的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在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____________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是禁止游泳的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目前污水主要包括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____________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_____________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__________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我们能用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__________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方法把污水中的杂质分离出来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5506920" y="119700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水库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7380360" y="1197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湖泊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324000" y="1773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河流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3348000" y="242100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饮用水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5291280" y="242100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饮用水源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3706920" y="357336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生活污水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6443640" y="3573360"/>
            <a:ext cx="25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工业污水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250920" y="4221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农业污水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2449440" y="4797360"/>
            <a:ext cx="14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沉淀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4498920" y="47973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过滤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mb dir="horz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a7a60aa34e427b80cbefd092"/>
          <p:cNvPicPr/>
          <p:nvPr/>
        </p:nvPicPr>
        <p:blipFill>
          <a:blip r:embed="rId1"/>
          <a:stretch/>
        </p:blipFill>
        <p:spPr>
          <a:xfrm>
            <a:off x="0" y="0"/>
            <a:ext cx="1763640" cy="1693800"/>
          </a:xfrm>
          <a:prstGeom prst="rect">
            <a:avLst/>
          </a:prstGeom>
          <a:ln w="0">
            <a:noFill/>
          </a:ln>
        </p:spPr>
      </p:pic>
      <p:pic>
        <p:nvPicPr>
          <p:cNvPr id="95" name="Object 2" descr=""/>
          <p:cNvPicPr/>
          <p:nvPr/>
        </p:nvPicPr>
        <p:blipFill>
          <a:blip r:embed="rId2"/>
          <a:stretch/>
        </p:blipFill>
        <p:spPr>
          <a:xfrm>
            <a:off x="-177840" y="476280"/>
            <a:ext cx="9793440" cy="7475400"/>
          </a:xfrm>
          <a:prstGeom prst="rect">
            <a:avLst/>
          </a:prstGeom>
          <a:ln w="0">
            <a:noFill/>
          </a:ln>
        </p:spPr>
      </p:pic>
      <p:sp>
        <p:nvSpPr>
          <p:cNvPr id="96" name="WordArt 4"/>
          <p:cNvSpPr txBox="1"/>
          <p:nvPr/>
        </p:nvSpPr>
        <p:spPr>
          <a:xfrm rot="257400">
            <a:off x="3924360" y="1413000"/>
            <a:ext cx="792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2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round/>
                </a:ln>
                <a:solidFill>
                  <a:srgbClr val="ff0000">
                    <a:alpha val="48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×</a:t>
            </a:r>
            <a:endParaRPr b="1" lang="en-US" sz="1800" spc="1" strike="noStrike">
              <a:ln w="19080">
                <a:solidFill>
                  <a:srgbClr val="ff0000"/>
                </a:solidFill>
                <a:round/>
              </a:ln>
              <a:solidFill>
                <a:srgbClr val="ff0000">
                  <a:alpha val="48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7" name="WordArt 5"/>
          <p:cNvSpPr txBox="1"/>
          <p:nvPr/>
        </p:nvSpPr>
        <p:spPr>
          <a:xfrm rot="257400">
            <a:off x="6659640" y="5157720"/>
            <a:ext cx="792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2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round/>
                </a:ln>
                <a:solidFill>
                  <a:srgbClr val="ff0000">
                    <a:alpha val="48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×</a:t>
            </a:r>
            <a:endParaRPr b="1" lang="en-US" sz="1800" spc="1" strike="noStrike">
              <a:ln w="19080">
                <a:solidFill>
                  <a:srgbClr val="ff0000"/>
                </a:solidFill>
                <a:round/>
              </a:ln>
              <a:solidFill>
                <a:srgbClr val="ff0000">
                  <a:alpha val="48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" name="WordArt 6"/>
          <p:cNvSpPr txBox="1"/>
          <p:nvPr/>
        </p:nvSpPr>
        <p:spPr>
          <a:xfrm>
            <a:off x="4643280" y="5445000"/>
            <a:ext cx="4572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0000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？</a:t>
            </a:r>
            <a:endParaRPr b="1" lang="en-US" sz="1800" spc="1" strike="noStrike">
              <a:ln w="19080">
                <a:solidFill>
                  <a:srgbClr val="ff0000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50560" y="404280"/>
            <a:ext cx="88390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判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清洁的自来水被用来洗脸、刷牙、洗衣、拖地后就成了污水。（      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污水经过沉淀和过滤达到自来水的洁净程度。（       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洗过衣服的水不会造成水污染。（      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污染物会溶解在水中，并通过水体运动流向远方。（      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大多数的污水可以直接排放到江河湖海中。（       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废水经过处理就能无害的回归环境了。（       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经过处理的水可以用来浇灌草坪和树木，或作为工厂中的冷却水。（      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179280" y="333360"/>
            <a:ext cx="8604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为什么要特别保护自来水的水源？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我们应该从哪些方面入手来保护自来水水源呢？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170028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答：因为饮用水是否洁净直接影响人的身体健康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们应该从以下几方面来做好水源的保护：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不在水库等水源保护区丢弃废物；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不到水源保护区游泳、洗涤；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不破坏水源保护区相关的植被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不向水域倾倒废渣、垃圾、粪便及其他废弃物；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不使用农药、不用炸药、毒药捕杀鱼类；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发现污染，及时向环保部门举报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mb dir="horz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课外作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课外考察家乡的水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包括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水域周围的环境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水域周围的污染源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水域中的水生植物生长情况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水域的水质情况、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"/>
          <p:cNvSpPr/>
          <p:nvPr/>
        </p:nvSpPr>
        <p:spPr>
          <a:xfrm>
            <a:off x="1757520" y="5722920"/>
            <a:ext cx="604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更多免费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模板尽在：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http://www.eeppt.com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0" lang="zh-CN" sz="9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0" lang="zh-CN" sz="9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0" lang="zh-CN" sz="9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0" lang="zh-CN" sz="9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0" lang="zh-CN" sz="9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900" spc="-1" strike="noStrike" u="sng">
                <a:solidFill>
                  <a:srgbClr val="4639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900" spc="-1" strike="noStrike" u="sng">
                <a:solidFill>
                  <a:srgbClr val="463900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 u="sng">
                <a:solidFill>
                  <a:srgbClr val="463900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1" lang="zh-CN" sz="800" spc="-1" strike="noStrike" u="sng">
                <a:solidFill>
                  <a:srgbClr val="463900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 u="sng">
                <a:solidFill>
                  <a:srgbClr val="463900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1" lang="zh-CN" sz="800" spc="-1" strike="noStrike" u="sng">
                <a:solidFill>
                  <a:srgbClr val="463900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 u="sng">
                <a:solidFill>
                  <a:srgbClr val="463900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1" lang="zh-CN" sz="800" spc="-1" strike="noStrike" u="sng">
                <a:solidFill>
                  <a:srgbClr val="463900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 u="sng">
                <a:solidFill>
                  <a:srgbClr val="463900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1" lang="zh-CN" sz="800" spc="-1" strike="noStrike" u="sng">
                <a:solidFill>
                  <a:srgbClr val="463900"/>
                </a:solidFill>
                <a:uFillTx/>
                <a:latin typeface="Arial"/>
                <a:hlinkClick r:id="rId11"/>
              </a:rPr>
              <a:t>课件ppt模板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1" lang="en-US" sz="8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 u="sng">
                <a:solidFill>
                  <a:srgbClr val="463900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1" lang="zh-CN" sz="800" spc="-1" strike="noStrike" u="sng">
                <a:solidFill>
                  <a:srgbClr val="463900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 u="sng">
                <a:solidFill>
                  <a:srgbClr val="463900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1" lang="zh-CN" sz="800" spc="-1" strike="noStrike" u="sng">
                <a:solidFill>
                  <a:srgbClr val="463900"/>
                </a:solidFill>
                <a:uFillTx/>
                <a:latin typeface="Arial"/>
                <a:hlinkClick r:id="rId15"/>
              </a:rPr>
              <a:t>ppt素材图片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84DB-575C-47BB-94AA-AF71927CD2C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淡水资源缺乏的情况下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水污染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更给人类和其他生物造成威胁。绝大多数的水污染都是由人类的活动引起的，如：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生活废水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工业污水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石油污染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wr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wr1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2195640" y="2565360"/>
            <a:ext cx="597672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60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年代淘米洗菜、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70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年代开始变坏、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80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年代鱼虾绝代、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90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年代洗不干净马桶盖。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罐头加工厂"/>
          <p:cNvPicPr/>
          <p:nvPr/>
        </p:nvPicPr>
        <p:blipFill>
          <a:blip r:embed="rId1"/>
          <a:stretch/>
        </p:blipFill>
        <p:spPr>
          <a:xfrm>
            <a:off x="0" y="44280"/>
            <a:ext cx="9131400" cy="57247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1908000" y="5877000"/>
            <a:ext cx="540072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罐头加工厂排放的污水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d92d283a534a89f314cecbb4"/>
          <p:cNvPicPr/>
          <p:nvPr/>
        </p:nvPicPr>
        <p:blipFill>
          <a:blip r:embed="rId1"/>
          <a:stretch/>
        </p:blipFill>
        <p:spPr>
          <a:xfrm>
            <a:off x="0" y="1440"/>
            <a:ext cx="9144000" cy="64519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2050920" y="5877000"/>
            <a:ext cx="524520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印染厂排放的污水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200755144920342"/>
          <p:cNvPicPr/>
          <p:nvPr/>
        </p:nvPicPr>
        <p:blipFill>
          <a:blip r:embed="rId1"/>
          <a:stretch/>
        </p:blipFill>
        <p:spPr>
          <a:xfrm>
            <a:off x="0" y="0"/>
            <a:ext cx="9110520" cy="60483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1692360" y="5950080"/>
            <a:ext cx="525600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化工厂刺鼻、刺眼的污水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01:57:5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0:43Z</dcterms:modified>
  <cp:revision>15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