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16.gif" ContentType="image/gif"/>
  <Override PartName="/ppt/media/image14.gif" ContentType="image/gif"/>
  <Override PartName="/ppt/media/image2.jpeg" ContentType="image/jpeg"/>
  <Override PartName="/ppt/media/image3.wmf" ContentType="image/x-wmf"/>
  <Override PartName="/ppt/media/image8.jpeg" ContentType="image/jpeg"/>
  <Override PartName="/ppt/media/image5.png" ContentType="image/png"/>
  <Override PartName="/ppt/media/image1.jpeg" ContentType="image/jpeg"/>
  <Override PartName="/ppt/media/image15.wmf" ContentType="image/x-wmf"/>
  <Override PartName="/ppt/media/image4.gif" ContentType="image/gif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806-AAD4-4AF0-A820-49BC4723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AE76-ABB0-47B4-A874-948BA710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6A092-752C-4FB2-8E8D-516B2170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309C5-A5DE-4B9C-80FC-321CF0E8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59B2A-28E3-442C-B240-01971E7C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1FEC8-11E7-4E6F-915B-A4C4916D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F4B55-9490-4E3E-9357-49E954BB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B9C06-0EAF-4531-A0D9-1A417C80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B893A-3AC6-4E1A-AE66-2E9249BB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15F6D-9DB6-45F7-9443-24116A45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E691C-520E-4DA9-BF72-66EB4D73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ACFCD-1D0A-41D8-BA5D-0732D14A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D557-814D-4232-A230-DD9D6363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70651-21A4-4B64-8EEA-E25075E4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03334-5329-45FD-A3F7-190CF3C0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FE8F2-F53D-4953-A0FA-B169ECD4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74FB5-CEDC-464F-B844-0C2037C3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F12E3-DC4D-49D1-8D4D-8A23E7C3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20DD9-E3E5-47C4-8FE5-4297142C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5BC97-681B-4D1A-8E9B-C9137481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79DE8-7A57-418D-8C86-24199739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4486B-E833-4121-A5AF-3C1F9F82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C289F-14BB-4703-92DF-A7067A50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93E-39B8-4309-9B89-C660AE0F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5FDFF-EFB5-4214-A6D5-31A9779A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B760C-788B-42CA-8B8D-512CA47F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C2B93-23AF-4BC3-BE1D-18303BED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C52C4-0FEE-46BC-A4BA-011E1856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762D5-7DCB-4541-A5D0-D908F3A1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92CC7-C808-493A-A8CD-F2CF56BA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90760-2F44-40E2-B226-A36967D4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C9311-5116-44E3-A951-0B3F50BD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2C236-02B3-400E-91C7-5403757D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52C18-133B-49B1-8E2F-BC7CFCA4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4D6E-CE11-47CC-B49F-D38A1204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F8B89-458C-41B5-A723-5ED85A88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4A75D-E50E-4EE4-90F7-68D2A044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CFEA2-A4CC-41FB-907E-3EA7643E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850CE-5B40-4B04-9329-A154B9C6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EC789-3C2C-4114-AA65-9C232310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DCA80-FB54-464D-B476-4F4AA823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4055D-0CDE-433D-BBEF-441FE342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BD06A-586B-4E9C-B3D0-CF580F81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BABE3-05F6-44DC-A9C6-F35455B7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78E14-F180-4CDA-8739-1BB213A5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EF92-89D6-4199-9913-6D725C2F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20233-6E00-4D31-9FAE-2E01F57C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A53A8-F666-44E5-B90A-DD0D3288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563A9-7ECC-4F9B-B44F-7105FBF9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8E9FF-9C5E-4A00-9635-07644DA1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D0BD2-A86A-4671-8638-8A085459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A4772-C7F8-42CA-AC14-BA154037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34285-005E-4F43-81EE-1EA8E9F6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DFDAAE-F3A1-4CCD-9998-84D15682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45C88-0813-474C-9AD3-67112CB3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0E85A-D4A4-4821-B1D6-30727862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42A7-A511-4CCE-BE00-64A26EA2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8DCFD-048B-4983-8F4E-01FD2FB2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683B3-D42D-465A-8242-C678053D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C0CC8-D37D-48F6-9AC1-DFC380AE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5A62A-9B9B-4D18-9DC4-B9C88B06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6EF1A-020D-4BFE-9E0F-1A0410D5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0F973C-756D-49F3-815D-8723B53D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74928-D5FA-44A0-9CCA-9D1A20AF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53D8B-D9DC-403B-8515-3817294E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7DB6E8-C9A3-4572-A00C-A77B39A6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91D728-7CDD-468F-9F14-827E0EE5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1B08-88BC-4783-9F00-01E0BAE2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9C693-58AA-4CC5-A241-A165654F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9A1494-078C-442F-A332-C2D64620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E985F7-3E6E-431E-9345-976DCDD8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0405D6-1C96-4B3B-B36B-105AFD01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0A56F-8E15-4682-A473-ACF605FA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84599-3848-4B02-B63A-C2D5DF20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D2E6B-1232-48F4-B519-CC19D671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627F1-AF77-4A18-BDC9-A963CA15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50115-673B-4F05-9C0C-74C93DC1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236A2B-B5E4-4BE5-B376-93742F01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070C-5B36-451B-80BD-C77A16FB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21EBA7-BC0E-4B7F-BFEB-6CAA5901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9C82C4-370E-4598-9164-BADF0BE1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DE6E7B-07F1-41D7-832A-C633E6D3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C1CC13-FDAC-4B13-9E9A-5EF2F1AC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25B676-054A-4CE3-9F67-C7CD3C63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B38282-4E5D-43E4-948D-A6AD71CA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8398FC-8BBB-4002-B2F7-1C4941C2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89B744-19ED-4FD8-9AC0-41B91336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2892CC-BFD1-49ED-8542-38454422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323C2-55A6-479E-9B2D-CB797C70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A08A-AF73-4EA0-9AEA-9948F057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BA4A8-C48E-4F5C-9BEC-2C383F90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A4198B-5D72-4906-A276-B6FBD36C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118077-AE14-45E7-9930-0C5A9150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4E335D-6BCA-4DB8-BEFC-182F8453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CB7036-E5FF-4787-AB17-0468E27A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C8AD14-0419-46C8-A4A7-66C60A02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84F477-E63D-4754-A48E-02C4E9D9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F00E2B-7A37-4203-8561-134E4AE7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2B5FA1-8162-41F7-B4C9-762A5BED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178360-6E34-4B77-8F7E-E40564C6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67CF-297B-401C-829B-263CAB14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C3D12-6025-4D5F-AC16-29A36F5C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FAD5E7-A926-4C6F-BAF3-1BC927B3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4AAA3D-B3A4-4163-84D2-D656C8F7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0D00A1-3496-41D0-9D14-152E0511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002709-C7CA-46EE-819D-9DA2461A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01D8BB-6959-4F2A-8724-E5304698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C99BF5-6B72-46FD-B2F3-6132D941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A09A4A-DD75-4D79-9F88-B8B4D865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79FED-1F78-4FC5-A287-CD7CBAA8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71F203-40B7-4681-B56C-EA2F32BB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03D-7210-420C-93E9-D9459E8A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1B86-62A4-42C6-BCD7-73413C7A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06CCE8-2B3F-4F6F-9EBB-632978B6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C49DCF-3BEE-474C-B24E-A385C690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F2E7C6-E8A1-4835-8B60-BC762C87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1BB18C-0694-44A7-B759-CE3BCEEC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269829-6EC9-4BF3-A4AD-7F7052DF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ECED-08A8-40DC-96D4-C47ACBA0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B604-3960-4210-BE0E-60301591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2748-5862-492B-A1FA-C6CFB2E6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53A6-E413-4C31-BDA7-7A594EAD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A5E54-B0D4-4C27-B49C-F7989D5F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E9D5E-9A92-48E9-9523-2EAB61C8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4CC16-2C59-4E1A-90FA-7BA35B82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C8573-A55F-4B93-9FEA-935D8173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6F3CA-D9A2-48F3-99DA-AE5B90B4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FFC4-0169-47E4-A214-4AFB30F0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6ADB5-51A2-46C8-B5BA-6E92EE3D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18DE4-8EB2-476E-9589-CD726459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7EAE8-EF6F-44AF-94D0-E3108437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6A796-7FFC-4CB0-AC88-B82DB0B0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091B-B700-4A29-BE33-FED5475A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725E2-CEE9-4034-B999-980F4CDB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09236-290D-4E9E-BD8C-C9D5FA6F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C9751-C79C-45C9-AC7D-E2EAA1FD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45ACF-A577-4E42-9637-C413E160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3FE0A-6A16-4D2D-ADFE-FBD4CB45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5A4-6394-45BF-8284-4B5A8BBA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870CE-1DCF-417B-85BC-7DB113F9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A3198-1A5F-4122-8A78-6C4A1B39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51CB1-8134-424D-84D4-4E85301D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15813-7A13-4D16-8129-1D4067B6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BCF9B-D2B4-4D50-9CC8-3B2E5ED3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8B4E8-F2F3-4317-B82C-85188926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A450F-A022-4837-8EB1-B31BEA06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A3EC0-2A08-4622-B591-7032EC58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6023C-CBED-43FC-BDE7-1B1AE0AC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3C13A-C39E-4CC1-9735-F532DD57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813-CC1D-4C5C-885E-A26AC169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78DCF-8CB2-4B32-BC87-6F792B18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B48B3-6686-4FBE-91CE-B7CFAB42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1307B-A1F5-45ED-ABAA-455EA324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8537A-1FC3-45C9-BCC1-3A584381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97B60-8663-41AE-935B-24FA89A9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E113E-BD18-4C40-8462-B9D5673B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4B166-99ED-4C76-9BCA-A635F77F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28928-E9C8-49DC-A9E5-8D65ADEB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58E44-6AE8-4AF2-8E76-C61AD333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D3CBF-C62C-4A70-A5BD-0A36A68C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81B-CA0D-41ED-AC71-28AC2FB4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74A2C-E6BF-4E9B-B23D-F8D898C1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402AD-168B-4FC3-86AE-305EF50B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39765-DA2B-413B-B899-7A1BD33E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7EA66-A37A-4F1C-BB3F-3C9C1643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48359-7707-4F9E-8D71-8B343604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E3111-A07E-4DB0-93A0-56C3135D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E1BA6-A3D8-4943-A26D-EDF3A5EF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6C49A-4B83-4C59-BDDF-906906A0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387AF-CE75-4B88-8AC0-7B428122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14D49-B834-4CDD-A0F1-1B85AE09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C37-88B9-4AD0-BBEC-4978F33B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A0859-E311-491C-928C-A17B5025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D9FD0-ABD0-48B9-B53C-EB36A5B6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58AAE-0A27-4F1A-9CDF-4DA21C6E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091C0-2DC6-4221-9F0C-A1ACC65F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3A808-8165-445B-BFE0-891ECDF4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C76DE-36D6-4F56-AADB-6089B44D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DBF02-55FC-4745-B4C4-AC373DF3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8AE5C-0A34-4720-AE7B-8D543BB4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3FB71-02B7-4927-80AF-B63642DD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5FB40-6451-49AC-9074-1FF10C9C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A53-81CC-495D-8AF0-92233330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9EEC0-6F43-4BFF-B855-98F73227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E4287-3ECB-4348-BBB2-68856AF4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6423C-8019-4734-AAE4-F8D21786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5FF70-B641-4EDF-8CEC-1FEC79C9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6B713-2636-4940-A2A4-4B291D9E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CDEBE-BE87-4CD1-9201-3DF2F271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BF37A-48FC-4BCA-B4FC-4FD7F0CD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05115-5912-4B89-A69C-C026D0A6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C3805-89A3-4AB4-9479-353B241E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9E35B-9CEE-4060-9353-7605EB54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BD1-82D6-46F5-8C47-3BC11C43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71DAA-F1BD-4FC7-9948-ED9E923F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14481-B76B-4C11-B54F-CB0569BF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EA200-532C-498C-BC8A-3A42997A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080A5-FE27-40C2-AD05-D261EF06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D997F-20DB-4515-A7F6-655350FE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2A9EA-5248-4296-A6EE-84E486F3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F475D-0518-45B4-A860-96F93A7E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06E4C-5EDB-44EB-BBA7-E38AB33B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B9971-F1C5-41DD-A669-F161E51B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031CB-1A10-4F42-AB82-BA679D76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4B3C-6946-4D57-B57C-E39EFAF19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530F-5C5C-43FF-BDAB-0308C080F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492D-2870-4D37-B9EA-4823D1E4C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B655-D4E8-40FD-AFAA-D1042C085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7" descr="春天4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12F8-D192-434F-BAF0-93B5E5553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7" descr="梅花10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DCE9-07B7-4B7A-9F9A-4D269E701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7" descr="00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63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3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64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Group 15"/>
              <p:cNvGrpSpPr/>
              <p:nvPr/>
            </p:nvGrpSpPr>
            <p:grpSpPr>
              <a:xfrm>
                <a:off x="852480" y="4055400"/>
                <a:ext cx="1833480" cy="1663560"/>
                <a:chOff x="852480" y="4055400"/>
                <a:chExt cx="1833480" cy="1663560"/>
              </a:xfrm>
            </p:grpSpPr>
            <p:sp>
              <p:nvSpPr>
                <p:cNvPr id="646" name="Freeform 16"/>
                <p:cNvSpPr/>
                <p:nvPr/>
              </p:nvSpPr>
              <p:spPr>
                <a:xfrm flipH="1" rot="7102800">
                  <a:off x="1263600" y="3944160"/>
                  <a:ext cx="474480" cy="12186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17"/>
                <p:cNvSpPr/>
                <p:nvPr/>
              </p:nvSpPr>
              <p:spPr>
                <a:xfrm flipH="1" rot="7102800">
                  <a:off x="2327400" y="4973040"/>
                  <a:ext cx="10872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8"/>
                <p:cNvSpPr/>
                <p:nvPr/>
              </p:nvSpPr>
              <p:spPr>
                <a:xfrm flipH="1" rot="7102800">
                  <a:off x="2502360" y="5569560"/>
                  <a:ext cx="19836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65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5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5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6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6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6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21"/>
            <p:cNvGrpSpPr/>
            <p:nvPr/>
          </p:nvGrpSpPr>
          <p:grpSpPr>
            <a:xfrm>
              <a:off x="5643720" y="296280"/>
              <a:ext cx="888840" cy="833760"/>
              <a:chOff x="5643720" y="296280"/>
              <a:chExt cx="888840" cy="833760"/>
            </a:xfrm>
          </p:grpSpPr>
          <p:sp>
            <p:nvSpPr>
              <p:cNvPr id="695" name="Freeform 22"/>
              <p:cNvSpPr/>
              <p:nvPr/>
            </p:nvSpPr>
            <p:spPr>
              <a:xfrm rot="14908200">
                <a:off x="5754960" y="7999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23"/>
              <p:cNvSpPr/>
              <p:nvPr/>
            </p:nvSpPr>
            <p:spPr>
              <a:xfrm rot="14908200">
                <a:off x="5703840" y="4795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24"/>
              <p:cNvSpPr/>
              <p:nvPr/>
            </p:nvSpPr>
            <p:spPr>
              <a:xfrm rot="14908200">
                <a:off x="6242760" y="396720"/>
                <a:ext cx="32004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6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Group 29"/>
            <p:cNvGrpSpPr/>
            <p:nvPr/>
          </p:nvGrpSpPr>
          <p:grpSpPr>
            <a:xfrm>
              <a:off x="357840" y="431640"/>
              <a:ext cx="1693440" cy="1148040"/>
              <a:chOff x="357840" y="431640"/>
              <a:chExt cx="1693440" cy="1148040"/>
            </a:xfrm>
          </p:grpSpPr>
          <p:sp>
            <p:nvSpPr>
              <p:cNvPr id="703" name="Freeform 30"/>
              <p:cNvSpPr/>
              <p:nvPr/>
            </p:nvSpPr>
            <p:spPr>
              <a:xfrm flipH="1" rot="4107000">
                <a:off x="1560600" y="1050480"/>
                <a:ext cx="35604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1"/>
              <p:cNvSpPr/>
              <p:nvPr/>
            </p:nvSpPr>
            <p:spPr>
              <a:xfrm flipH="1" rot="4107000">
                <a:off x="1006560" y="575280"/>
                <a:ext cx="60948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2"/>
              <p:cNvSpPr/>
              <p:nvPr/>
            </p:nvSpPr>
            <p:spPr>
              <a:xfrm flipH="1" rot="4107000">
                <a:off x="260280" y="1089720"/>
                <a:ext cx="637200" cy="22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7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DDB6-175C-41A6-9EDA-FCD92F9AAE0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4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4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4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3D4D-E476-42AC-9043-B61E29DE7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49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0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33666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36666"/>
                </a:solidFill>
                <a:latin typeface="Arial"/>
                <a:ea typeface="宋体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51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095B-266E-438B-A0C1-C7290744621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42A1-C9DD-48F0-B6C3-4A980D8EA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框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2352-93D8-44E1-A73D-CC40FD480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图片8"/>
          <p:cNvPicPr/>
          <p:nvPr/>
        </p:nvPicPr>
        <p:blipFill>
          <a:blip r:embed="rId3"/>
          <a:stretch/>
        </p:blipFill>
        <p:spPr>
          <a:xfrm>
            <a:off x="0" y="0"/>
            <a:ext cx="1908000" cy="190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花2"/>
          <p:cNvPicPr/>
          <p:nvPr/>
        </p:nvPicPr>
        <p:blipFill>
          <a:blip r:embed="rId4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2877-F977-4BC4-B38D-2C5607701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梅花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6F94-035F-4621-B678-1D17AF64A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花14"/>
          <p:cNvPicPr/>
          <p:nvPr/>
        </p:nvPicPr>
        <p:blipFill>
          <a:blip r:embed="rId3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987E-6967-4743-9C9C-08BAB037C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花边框0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5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5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6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15"/>
              <p:cNvGrpSpPr/>
              <p:nvPr/>
            </p:nvGrpSpPr>
            <p:grpSpPr>
              <a:xfrm>
                <a:off x="852480" y="4055400"/>
                <a:ext cx="1833480" cy="1663560"/>
                <a:chOff x="852480" y="4055400"/>
                <a:chExt cx="1833480" cy="1663560"/>
              </a:xfrm>
            </p:grpSpPr>
            <p:sp>
              <p:nvSpPr>
                <p:cNvPr id="266" name="Freeform 16"/>
                <p:cNvSpPr/>
                <p:nvPr/>
              </p:nvSpPr>
              <p:spPr>
                <a:xfrm flipH="1" rot="7102800">
                  <a:off x="1263600" y="3944160"/>
                  <a:ext cx="474480" cy="12186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17"/>
                <p:cNvSpPr/>
                <p:nvPr/>
              </p:nvSpPr>
              <p:spPr>
                <a:xfrm flipH="1" rot="7102800">
                  <a:off x="2327400" y="4973040"/>
                  <a:ext cx="10872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18"/>
                <p:cNvSpPr/>
                <p:nvPr/>
              </p:nvSpPr>
              <p:spPr>
                <a:xfrm flipH="1" rot="7102800">
                  <a:off x="2502360" y="5569560"/>
                  <a:ext cx="19836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7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7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7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4CAD-9E64-4A53-988B-8AC7DA4F216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09F7-DC50-4EE2-8A3A-CCD83E4C3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方边框00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B5A9-F424-4426-878B-AD3B64723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春天5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页脚占位符 2"/>
          <p:cNvSpPr/>
          <p:nvPr/>
        </p:nvSpPr>
        <p:spPr>
          <a:xfrm>
            <a:off x="2124000" y="6245280"/>
            <a:ext cx="51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WordArt 4" descr=""/>
          <p:cNvPicPr/>
          <p:nvPr/>
        </p:nvPicPr>
        <p:blipFill>
          <a:blip r:embed="rId1"/>
          <a:stretch/>
        </p:blipFill>
        <p:spPr>
          <a:xfrm>
            <a:off x="468360" y="1554120"/>
            <a:ext cx="831672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"/>
          <p:cNvSpPr/>
          <p:nvPr/>
        </p:nvSpPr>
        <p:spPr>
          <a:xfrm>
            <a:off x="395280" y="692280"/>
            <a:ext cx="8424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作者从哪些方面刻画了行道树的形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怎样理解“站在这双线道的马路边，这无疑是一种堕落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们的存在只是一种悲凉的点缀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现了行道树怎样的思想感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同时揭示了怎样的社会现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你认为哪些语言描写最生动，最能突出行道树的形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试分析说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"/>
          <p:cNvSpPr/>
          <p:nvPr/>
        </p:nvSpPr>
        <p:spPr>
          <a:xfrm>
            <a:off x="468360" y="1484280"/>
            <a:ext cx="79214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现实生活中有像行道树一样具有奉献精神的人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怎样看待他们的价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本文的现实意义是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本文的中心是通过行道树的自白表现出来的。但有人说像在发牢骚，你怎么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395280" y="404640"/>
            <a:ext cx="41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拓宽与延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2"/>
          <p:cNvSpPr/>
          <p:nvPr/>
        </p:nvSpPr>
        <p:spPr>
          <a:xfrm>
            <a:off x="395280" y="76500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设计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几位同学表演树木，另几位同学扮演开车的人，被烟雾呛的咳嗽的人。当这些人急匆匆地走开时，只有树留下，回忆山上的日子，诉说自己的心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为城市消除污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设计二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几位同学表演参加舞会的人，参加宴会的人，当他们在路上匆匆而过时并不注意树，有的人在碰到树后甚至还咒骂树，而树依然挺立，准备迎接朝阳，并为走来的孩子而高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2"/>
          <p:cNvSpPr/>
          <p:nvPr/>
        </p:nvSpPr>
        <p:spPr>
          <a:xfrm>
            <a:off x="395280" y="4797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朗读课文，掌握朗读的发音、停顿、重音、语调、速度和情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"/>
          <p:cNvSpPr/>
          <p:nvPr/>
        </p:nvSpPr>
        <p:spPr>
          <a:xfrm>
            <a:off x="250920" y="2205000"/>
            <a:ext cx="460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我们都是社会的一员，应该有强烈的社会责任感。从任何意义上讲，我们都应关注社会，关注人生，关注自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4"/>
          <p:cNvSpPr/>
          <p:nvPr/>
        </p:nvSpPr>
        <p:spPr>
          <a:xfrm>
            <a:off x="2843280" y="189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文章欣赏：枫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5"/>
          <p:cNvSpPr/>
          <p:nvPr/>
        </p:nvSpPr>
        <p:spPr>
          <a:xfrm>
            <a:off x="971640" y="836640"/>
            <a:ext cx="741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阳节过后，在北京来说，到香山看枫叶，正是很好的时节。我爱枫叶，没有别的，爽直一点来说，就是因为她红得深浓，红得妍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枫叶之可爱，还在于它异于其他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别的叶儿过秋枯落，而她偏偏在这时候红得鲜妍，就是由于她耐得住风霜交加。她能经得起秋之摧残，露出了无畏的神采，正是战西风而不怯，经严霜而愈丽。单凭这一点，就值得我分外赞美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秋冬之交，正是吃萝卜的时候。街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4"/>
          <p:cNvSpPr/>
          <p:nvPr/>
        </p:nvSpPr>
        <p:spPr>
          <a:xfrm>
            <a:off x="826920" y="146160"/>
            <a:ext cx="7417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夜晚，叫卖者常常喊着“萝卜赛梨”的清脆的声音，引诱你不得不去买一个尝尝。萝卜还有“红到心”的别号；但它的内心是不是发红，还得等到剖开之后，经过检验才见分晓。这又哪里赶得上枫叶之红！她是那么显明，那么毫无掩盖地表现了自己的色彩；说她是敢于红，有气魄的红，也是应该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人说：枫叶虽红，毕竟是到了肃杀的秋天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董西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的一警句：“君不见满川红叶，尽是离人眼中血！”以枫叶喻离别，把枫叶比作血，当然这是因人的特定的心情而产生的一种感受。但从我来看，说肃杀也好，比作血也好，都还是在于秋，而不在枫叶；相反的，如果把枫叶之红比作血，那就是因为她的确抗得住肃杀之气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4"/>
          <p:cNvSpPr/>
          <p:nvPr/>
        </p:nvSpPr>
        <p:spPr>
          <a:xfrm>
            <a:off x="1476360" y="692280"/>
            <a:ext cx="640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想到枫叶，我便联想到那些在各个岗位上克服困难而挺拔直立的劳动者们。我觉得用枫叶的性格来比喻我们这时代的英雄人物也是毫无愧色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我礼赞枫叶，我爱她斗西风血点儿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4"/>
          <p:cNvSpPr/>
          <p:nvPr/>
        </p:nvSpPr>
        <p:spPr>
          <a:xfrm>
            <a:off x="3348000" y="69228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思考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5"/>
          <p:cNvSpPr/>
          <p:nvPr/>
        </p:nvSpPr>
        <p:spPr>
          <a:xfrm>
            <a:off x="395280" y="2060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生活中还有哪些事物可以象征奉献者的形象？请列举一些说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6"/>
          <p:cNvSpPr/>
          <p:nvPr/>
        </p:nvSpPr>
        <p:spPr>
          <a:xfrm>
            <a:off x="468360" y="37162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“神圣的事业总是痛苦的，但是，也惟有这种痛苦把深沉给予我们”，你能举出人物事迹的实例来证明这句话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WordArt 2"/>
          <p:cNvSpPr txBox="1"/>
          <p:nvPr/>
        </p:nvSpPr>
        <p:spPr>
          <a:xfrm>
            <a:off x="1258920" y="1628640"/>
            <a:ext cx="6864480" cy="20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ddebcf"/>
                    </a:gs>
                    <a:gs pos="50000">
                      <a:srgbClr val="156b13"/>
                    </a:gs>
                    <a:gs pos="100000">
                      <a:srgbClr val="ddebc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第一次真好</a:t>
            </a:r>
            <a:endParaRPr b="0" lang="en-US" sz="9600" spc="-1" strike="noStrike">
              <a:ln w="0">
                <a:noFill/>
              </a:ln>
              <a:gradFill rotWithShape="0">
                <a:gsLst>
                  <a:gs pos="0">
                    <a:srgbClr val="ddebcf"/>
                  </a:gs>
                  <a:gs pos="50000">
                    <a:srgbClr val="156b13"/>
                  </a:gs>
                  <a:gs pos="100000">
                    <a:srgbClr val="ddebc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95" name="WordArt 3"/>
          <p:cNvSpPr txBox="1"/>
          <p:nvPr/>
        </p:nvSpPr>
        <p:spPr>
          <a:xfrm>
            <a:off x="2987640" y="4221000"/>
            <a:ext cx="338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周素珊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矩形 6"/>
          <p:cNvSpPr/>
          <p:nvPr/>
        </p:nvSpPr>
        <p:spPr>
          <a:xfrm>
            <a:off x="4192560" y="2708280"/>
            <a:ext cx="649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250920" y="3933720"/>
            <a:ext cx="8532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风雨送春归，飞雪迎春到。已是悬崖百丈冰，犹有花枝俏。俏也不争春，只把春来报。待到山花烂漫时，她在丛中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7"/>
          <p:cNvSpPr/>
          <p:nvPr/>
        </p:nvSpPr>
        <p:spPr>
          <a:xfrm>
            <a:off x="2484360" y="549360"/>
            <a:ext cx="4680000" cy="2952720"/>
          </a:xfrm>
          <a:prstGeom prst="wedgeEllipseCallout">
            <a:avLst>
              <a:gd name="adj1" fmla="val -44435"/>
              <a:gd name="adj2" fmla="val 7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行楷"/>
              </a:rPr>
              <a:t>言在此而意在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Picture 2" descr="j0246197"/>
          <p:cNvPicPr/>
          <p:nvPr/>
        </p:nvPicPr>
        <p:blipFill>
          <a:blip r:embed="rId1"/>
          <a:stretch/>
        </p:blipFill>
        <p:spPr>
          <a:xfrm rot="1164000">
            <a:off x="0" y="0"/>
            <a:ext cx="3164040" cy="3017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3" descr="9"/>
          <p:cNvPicPr/>
          <p:nvPr/>
        </p:nvPicPr>
        <p:blipFill>
          <a:blip r:embed="rId2"/>
          <a:stretch/>
        </p:blipFill>
        <p:spPr>
          <a:xfrm>
            <a:off x="7008840" y="5683320"/>
            <a:ext cx="2160720" cy="120024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4"/>
          <p:cNvSpPr/>
          <p:nvPr/>
        </p:nvSpPr>
        <p:spPr>
          <a:xfrm>
            <a:off x="395280" y="321300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6000" spc="-1" strike="noStrike">
                <a:solidFill>
                  <a:srgbClr val="ff3300"/>
                </a:solidFill>
                <a:latin typeface="华文行楷"/>
                <a:ea typeface="华文行楷"/>
              </a:rPr>
              <a:t>第一次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真</a:t>
            </a:r>
            <a:r>
              <a:rPr b="0" lang="zh-CN" sz="6000" spc="-1" strike="noStrike">
                <a:solidFill>
                  <a:srgbClr val="ff3300"/>
                </a:solidFill>
                <a:latin typeface="华文行楷"/>
                <a:ea typeface="华文行楷"/>
              </a:rPr>
              <a:t>好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</a:t>
            </a:r>
            <a:r>
              <a:rPr b="0" lang="zh-CN" sz="6000" spc="-1" strike="noStrike">
                <a:solidFill>
                  <a:srgbClr val="ff3300"/>
                </a:solidFill>
                <a:latin typeface="华文行楷"/>
                <a:ea typeface="华文行楷"/>
              </a:rPr>
              <a:t>第一次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感觉真奇妙。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2"/>
          <p:cNvSpPr/>
          <p:nvPr/>
        </p:nvSpPr>
        <p:spPr>
          <a:xfrm>
            <a:off x="900000" y="1341360"/>
            <a:ext cx="77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、感悟课文内容，注意朗读时的情感和速度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、默读课文：独立思考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2"/>
          <p:cNvSpPr/>
          <p:nvPr/>
        </p:nvSpPr>
        <p:spPr>
          <a:xfrm>
            <a:off x="1979640" y="404640"/>
            <a:ext cx="79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柚子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3"/>
          <p:cNvSpPr/>
          <p:nvPr/>
        </p:nvSpPr>
        <p:spPr>
          <a:xfrm>
            <a:off x="1979640" y="3573360"/>
            <a:ext cx="79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十姊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4"/>
          <p:cNvSpPr/>
          <p:nvPr/>
        </p:nvSpPr>
        <p:spPr>
          <a:xfrm>
            <a:off x="3419640" y="119700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喜悦和新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5"/>
          <p:cNvSpPr/>
          <p:nvPr/>
        </p:nvSpPr>
        <p:spPr>
          <a:xfrm>
            <a:off x="3492360" y="386064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惊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6"/>
          <p:cNvSpPr/>
          <p:nvPr/>
        </p:nvSpPr>
        <p:spPr>
          <a:xfrm>
            <a:off x="5148360" y="39337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恶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7"/>
          <p:cNvSpPr/>
          <p:nvPr/>
        </p:nvSpPr>
        <p:spPr>
          <a:xfrm>
            <a:off x="6948360" y="393372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喜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2"/>
          <p:cNvSpPr/>
          <p:nvPr/>
        </p:nvSpPr>
        <p:spPr>
          <a:xfrm>
            <a:off x="0" y="184320"/>
            <a:ext cx="914400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        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合作与探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课文在安排材料上有什么特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好处是什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“生命中的第一次愈多，生命也就愈益多姿多彩。” 怎么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为什么说是“一幅秋日的风情画”，而不说是“风景画”、“风光画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“雏形”与“具体而微”有什么区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“我喜爱他们又甚于那些老鸟”一句表达了作者怎样的思想感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找出课文中带有议论性的句子，试分析它的作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页脚占位符 2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"/>
          <p:cNvSpPr/>
          <p:nvPr/>
        </p:nvSpPr>
        <p:spPr>
          <a:xfrm>
            <a:off x="611280" y="191628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为什么第一次的经验不一定都愉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感觉不愉快的第一次就不能尝试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为什么说“生命中的第一次愈多，生命也就愈益多姿多彩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回忆你难忘的第一次经历，谈谈它对你后来的发展产生了怎样的影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什么样的第一次不能尝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1547640" y="40464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体验与反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文本框 1"/>
          <p:cNvSpPr/>
          <p:nvPr/>
        </p:nvSpPr>
        <p:spPr>
          <a:xfrm>
            <a:off x="500040" y="6078600"/>
            <a:ext cx="58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"/>
          <p:cNvSpPr/>
          <p:nvPr/>
        </p:nvSpPr>
        <p:spPr>
          <a:xfrm>
            <a:off x="971640" y="206064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以“第一次”为话题写一篇作文，谈谈自己的真实感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5EAB-B721-4B70-B030-344C3C7400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4"/>
          <p:cNvSpPr/>
          <p:nvPr/>
        </p:nvSpPr>
        <p:spPr>
          <a:xfrm>
            <a:off x="611280" y="1268280"/>
            <a:ext cx="8893080" cy="35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教学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理解行道树的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感悟并珍视人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’’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经验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揣摩文中使用的形象化语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掌握两篇文章的写作手法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4"/>
          <p:cNvSpPr/>
          <p:nvPr/>
        </p:nvSpPr>
        <p:spPr>
          <a:xfrm>
            <a:off x="755640" y="1989000"/>
            <a:ext cx="79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贪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落    点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自豪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冉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苦熬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形    丰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稀疏    珍重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累    低回    沉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甸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甸    眼巴巴    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急管    红灯绿酒   玲珑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透    具体而微    多姿多彩    不可磨灭    回味无穷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道树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395280" y="1773360"/>
            <a:ext cx="87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贪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Times New Roman"/>
              </a:rPr>
              <a:t>婪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(lán)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Times New Roman"/>
              </a:rPr>
              <a:t>堕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落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(duò)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点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Times New Roman"/>
              </a:rPr>
              <a:t>缀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(zhuì)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自豪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Times New Roman"/>
              </a:rPr>
              <a:t>冉冉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(rǎn)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苦熬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Times New Roman"/>
              </a:rPr>
              <a:t>雏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形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(chú)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丰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Times New Roman"/>
              </a:rPr>
              <a:t>硕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(shuò)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稀疏 珍重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Times New Roman"/>
              </a:rPr>
              <a:t>累累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(lěi)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低回  沉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Times New Roman"/>
              </a:rPr>
              <a:t>甸甸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(diān)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眼巴巴 繁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Times New Roman"/>
              </a:rPr>
              <a:t>弦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急管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(xiá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红灯绿酒 玲珑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Times New Roman"/>
              </a:rPr>
              <a:t>剔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透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(tī)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具体而微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多姿多彩 不可磨灭 回味无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Times New Roman"/>
              </a:rPr>
              <a:t>行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道树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(xíng)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Times New Roman"/>
              </a:rPr>
              <a:t>姊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妹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(zǐ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WordArt 4"/>
          <p:cNvSpPr txBox="1"/>
          <p:nvPr/>
        </p:nvSpPr>
        <p:spPr>
          <a:xfrm>
            <a:off x="1619280" y="1557360"/>
            <a:ext cx="5904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8000"/>
                  </a:solidFill>
                  <a:round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隶书"/>
              </a:rPr>
              <a:t>行道树</a:t>
            </a:r>
            <a:endParaRPr b="0" lang="en-US" sz="9600" spc="1" strike="noStrike">
              <a:ln w="9360">
                <a:solidFill>
                  <a:srgbClr val="008000"/>
                </a:solidFill>
                <a:round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62" name="WordArt 5"/>
          <p:cNvSpPr txBox="1"/>
          <p:nvPr/>
        </p:nvSpPr>
        <p:spPr>
          <a:xfrm>
            <a:off x="3419640" y="4508640"/>
            <a:ext cx="230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张晓风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863" name="Picture 6" descr="j0219108"/>
          <p:cNvPicPr/>
          <p:nvPr/>
        </p:nvPicPr>
        <p:blipFill>
          <a:blip r:embed="rId1"/>
          <a:stretch/>
        </p:blipFill>
        <p:spPr>
          <a:xfrm>
            <a:off x="179280" y="5300640"/>
            <a:ext cx="13525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2"/>
          <p:cNvSpPr/>
          <p:nvPr/>
        </p:nvSpPr>
        <p:spPr>
          <a:xfrm>
            <a:off x="755640" y="1268280"/>
            <a:ext cx="7667640" cy="256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阅读文章，完成要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不能理解的语句勾画出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文中找出一句话来概括一下行道树的形象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2"/>
          <p:cNvSpPr/>
          <p:nvPr/>
        </p:nvSpPr>
        <p:spPr>
          <a:xfrm>
            <a:off x="684360" y="1413000"/>
            <a:ext cx="7416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读，发现问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华文行楷"/>
                <a:ea typeface="华文行楷"/>
              </a:rPr>
              <a:t>讨论，筛选、整理</a:t>
            </a:r>
            <a:r>
              <a:rPr b="1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"/>
          <p:cNvSpPr/>
          <p:nvPr/>
        </p:nvSpPr>
        <p:spPr>
          <a:xfrm>
            <a:off x="250920" y="1125360"/>
            <a:ext cx="8496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．行道树的形象体现了什么精神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．找出本文最富哲理性的句子并理解：神圣的事业是什么事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为什么说神圣的事业总是痛苦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行道树的“深沉”主要表现在什么方面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．怎样理解“我们是一列忧愁而又快乐的树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3"/>
          <p:cNvSpPr/>
          <p:nvPr/>
        </p:nvSpPr>
        <p:spPr>
          <a:xfrm>
            <a:off x="250920" y="0"/>
            <a:ext cx="34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5:35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8:28Z</dcterms:modified>
  <cp:revision>4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