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F26-5D60-4BF9-BE02-E3874DE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53D-7280-4644-A38B-B242F208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35F-4145-4490-929C-E60EA420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AAD-DE60-4AC3-BDE9-BF397F7F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DAE-CA33-49FE-9CBF-EFFA882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85A-C851-445E-B9D7-2EC07F3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02A-7BEC-4027-98C3-456BDC6B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49E-AE93-47AB-A383-15E409C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7F6-E916-4832-A3F5-37BBFB1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131-97C2-4D1F-8AC6-84DE178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C68-D612-4748-825B-AAE61B3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646-3309-4395-B5FF-C9F6FDD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93E9-0E46-4561-BE58-4B2352DE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BG055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1908000" y="692280"/>
            <a:ext cx="651672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小木偶的故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46132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杜甫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4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春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G048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796000" y="189000"/>
            <a:ext cx="334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小木偶委屈极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可是有什么办法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老木匠只给了他一种表情，那就是笑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陈.wav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29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08-5-2370712733"/>
          <p:cNvPicPr/>
          <p:nvPr/>
        </p:nvPicPr>
        <p:blipFill>
          <a:blip r:embed="rId1"/>
          <a:stretch/>
        </p:blipFill>
        <p:spPr>
          <a:xfrm>
            <a:off x="0" y="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165240" y="6632640"/>
            <a:ext cx="63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70913155019937500"/>
          <p:cNvPicPr/>
          <p:nvPr/>
        </p:nvPicPr>
        <p:blipFill>
          <a:blip r:embed="rId1"/>
          <a:stretch/>
        </p:blipFill>
        <p:spPr>
          <a:xfrm>
            <a:off x="-541440" y="0"/>
            <a:ext cx="6012000" cy="8542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580000" y="476280"/>
            <a:ext cx="356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笑是很重要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不过，要是只会笑，那可是远远不够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8969-9FD9-4437-B12C-03BBA1359A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1:02:1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8:33Z</dcterms:modified>
  <cp:revision>17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