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B5B-D6E9-44E1-9B70-8C1DCB63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CD6-D601-48E4-BDA0-02EEC19F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87B-B489-4D72-AABA-0A9FD59D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ED2-B79B-4C37-82B4-C64DAF9C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3E5-B4C3-43C8-8707-867F7E6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D28-6511-4388-B285-E9E08D17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AA1-B2C4-4604-84C6-4649F6AE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5FF-A75B-43B4-8832-C6BA668B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72F-F3FF-4036-B0E1-375C80AC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05C-D034-4EBC-8F6D-3664E6C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14E-5138-497A-969D-B233454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15F-4032-4838-AA50-0DB6704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4371-F22B-4C67-91BF-3362B86EC9F9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xsdjhhjf_j.exe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53548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3"/>
          <p:cNvGrpSpPr/>
          <p:nvPr/>
        </p:nvGrpSpPr>
        <p:grpSpPr>
          <a:xfrm>
            <a:off x="1800720" y="1828800"/>
            <a:ext cx="5493600" cy="2958840"/>
            <a:chOff x="1800720" y="1828800"/>
            <a:chExt cx="5493600" cy="2958840"/>
          </a:xfrm>
        </p:grpSpPr>
        <p:sp>
          <p:nvSpPr>
            <p:cNvPr id="44" name="Text Box 3"/>
            <p:cNvSpPr/>
            <p:nvPr/>
          </p:nvSpPr>
          <p:spPr>
            <a:xfrm>
              <a:off x="1862280" y="1828800"/>
              <a:ext cx="537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.37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千克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      ）克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5" name="Text Box 4"/>
            <p:cNvSpPr/>
            <p:nvPr/>
          </p:nvSpPr>
          <p:spPr>
            <a:xfrm>
              <a:off x="1862280" y="2590920"/>
              <a:ext cx="537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.07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千克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      ）克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6" name="Text Box 5"/>
            <p:cNvSpPr/>
            <p:nvPr/>
          </p:nvSpPr>
          <p:spPr>
            <a:xfrm>
              <a:off x="1800720" y="3429000"/>
              <a:ext cx="549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.81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千克 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      ）克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7" name="Text Box 6"/>
            <p:cNvSpPr/>
            <p:nvPr/>
          </p:nvSpPr>
          <p:spPr>
            <a:xfrm>
              <a:off x="1801440" y="4267080"/>
              <a:ext cx="54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 . 4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千克 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      ）克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pic>
        <p:nvPicPr>
          <p:cNvPr id="48" name="Picture 7" descr="1496"/>
          <p:cNvPicPr/>
          <p:nvPr/>
        </p:nvPicPr>
        <p:blipFill>
          <a:blip r:embed="rId2"/>
          <a:stretch/>
        </p:blipFill>
        <p:spPr>
          <a:xfrm>
            <a:off x="6781680" y="3657600"/>
            <a:ext cx="2362320" cy="2225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4877640" y="18288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375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877640" y="25909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075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877640" y="3429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781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877640" y="4267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40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508760" y="182880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.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3700440" y="3573360"/>
            <a:ext cx="1447920" cy="1573200"/>
            <a:chOff x="3700440" y="3573360"/>
            <a:chExt cx="1447920" cy="1573200"/>
          </a:xfrm>
        </p:grpSpPr>
        <p:sp>
          <p:nvSpPr>
            <p:cNvPr id="56" name="Text Box 10"/>
            <p:cNvSpPr/>
            <p:nvPr/>
          </p:nvSpPr>
          <p:spPr>
            <a:xfrm>
              <a:off x="4218840" y="357336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73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4234680" y="40924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07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3700440" y="4626000"/>
              <a:ext cx="14479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778560" y="409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+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4234680" y="462600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8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61" name="Group 18"/>
          <p:cNvGrpSpPr/>
          <p:nvPr/>
        </p:nvGrpSpPr>
        <p:grpSpPr>
          <a:xfrm>
            <a:off x="2607840" y="2604960"/>
            <a:ext cx="4277160" cy="520560"/>
            <a:chOff x="2607840" y="2604960"/>
            <a:chExt cx="4277160" cy="520560"/>
          </a:xfrm>
        </p:grpSpPr>
        <p:sp>
          <p:nvSpPr>
            <p:cNvPr id="62" name="Text Box 4"/>
            <p:cNvSpPr/>
            <p:nvPr/>
          </p:nvSpPr>
          <p:spPr>
            <a:xfrm>
              <a:off x="2607840" y="2604960"/>
              <a:ext cx="427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735 + 4075 =  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千克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4800600" y="3124080"/>
              <a:ext cx="10663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64" name="Text Box 19"/>
          <p:cNvSpPr/>
          <p:nvPr/>
        </p:nvSpPr>
        <p:spPr>
          <a:xfrm>
            <a:off x="4933080" y="26049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781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5" name="Picture 20" descr="a8"/>
          <p:cNvPicPr/>
          <p:nvPr/>
        </p:nvPicPr>
        <p:blipFill>
          <a:blip r:embed="rId2"/>
          <a:stretch/>
        </p:blipFill>
        <p:spPr>
          <a:xfrm>
            <a:off x="457200" y="297180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508040" y="182880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700440" y="3573360"/>
            <a:ext cx="1447920" cy="1573200"/>
            <a:chOff x="3700440" y="3573360"/>
            <a:chExt cx="1447920" cy="1573200"/>
          </a:xfrm>
        </p:grpSpPr>
        <p:sp>
          <p:nvSpPr>
            <p:cNvPr id="69" name="Text Box 5"/>
            <p:cNvSpPr/>
            <p:nvPr/>
          </p:nvSpPr>
          <p:spPr>
            <a:xfrm>
              <a:off x="4218840" y="357336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8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4234680" y="40924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40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1" name="Line 7"/>
            <p:cNvSpPr/>
            <p:nvPr/>
          </p:nvSpPr>
          <p:spPr>
            <a:xfrm>
              <a:off x="3700440" y="4626000"/>
              <a:ext cx="14479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3849480" y="4070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－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4234680" y="462600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4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74" name="Group 10"/>
          <p:cNvGrpSpPr/>
          <p:nvPr/>
        </p:nvGrpSpPr>
        <p:grpSpPr>
          <a:xfrm>
            <a:off x="2530800" y="2604960"/>
            <a:ext cx="4495320" cy="520560"/>
            <a:chOff x="2530800" y="2604960"/>
            <a:chExt cx="4495320" cy="520560"/>
          </a:xfrm>
        </p:grpSpPr>
        <p:sp>
          <p:nvSpPr>
            <p:cNvPr id="75" name="Text Box 11"/>
            <p:cNvSpPr/>
            <p:nvPr/>
          </p:nvSpPr>
          <p:spPr>
            <a:xfrm>
              <a:off x="2530800" y="2604960"/>
              <a:ext cx="44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810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400 =  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千克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4800600" y="3124080"/>
              <a:ext cx="10663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77" name="Text Box 13"/>
          <p:cNvSpPr/>
          <p:nvPr/>
        </p:nvSpPr>
        <p:spPr>
          <a:xfrm>
            <a:off x="4860000" y="26049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41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8" name="Picture 14" descr="a8"/>
          <p:cNvPicPr/>
          <p:nvPr/>
        </p:nvPicPr>
        <p:blipFill>
          <a:blip r:embed="rId2"/>
          <a:stretch/>
        </p:blipFill>
        <p:spPr>
          <a:xfrm>
            <a:off x="457200" y="297180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1508760" y="182880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.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3846600" y="3672000"/>
            <a:ext cx="1516320" cy="1572840"/>
            <a:chOff x="3846600" y="3672000"/>
            <a:chExt cx="1516320" cy="1572840"/>
          </a:xfrm>
        </p:grpSpPr>
        <p:sp>
          <p:nvSpPr>
            <p:cNvPr id="82" name="Text Box 5"/>
            <p:cNvSpPr/>
            <p:nvPr/>
          </p:nvSpPr>
          <p:spPr>
            <a:xfrm>
              <a:off x="4364640" y="36720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.73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4380480" y="419112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.07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3846600" y="4724280"/>
              <a:ext cx="144756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3924360" y="4191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+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4380480" y="472428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.8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87" name="Group 16"/>
          <p:cNvGrpSpPr/>
          <p:nvPr/>
        </p:nvGrpSpPr>
        <p:grpSpPr>
          <a:xfrm>
            <a:off x="2611440" y="2604960"/>
            <a:ext cx="4454280" cy="520560"/>
            <a:chOff x="2611440" y="2604960"/>
            <a:chExt cx="4454280" cy="520560"/>
          </a:xfrm>
        </p:grpSpPr>
        <p:sp>
          <p:nvSpPr>
            <p:cNvPr id="88" name="Text Box 17"/>
            <p:cNvSpPr/>
            <p:nvPr/>
          </p:nvSpPr>
          <p:spPr>
            <a:xfrm>
              <a:off x="2611440" y="2604960"/>
              <a:ext cx="445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.735 + 4.075 =  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千克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4800600" y="3124080"/>
              <a:ext cx="10663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90" name="Text Box 19"/>
          <p:cNvSpPr/>
          <p:nvPr/>
        </p:nvSpPr>
        <p:spPr>
          <a:xfrm>
            <a:off x="4938120" y="2604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7.8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1" name="Picture 20" descr="a8"/>
          <p:cNvPicPr/>
          <p:nvPr/>
        </p:nvPicPr>
        <p:blipFill>
          <a:blip r:embed="rId2"/>
          <a:stretch/>
        </p:blipFill>
        <p:spPr>
          <a:xfrm>
            <a:off x="457200" y="297180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508040" y="182880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.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3700440" y="3573360"/>
            <a:ext cx="1447920" cy="1573200"/>
            <a:chOff x="3700440" y="3573360"/>
            <a:chExt cx="1447920" cy="1573200"/>
          </a:xfrm>
        </p:grpSpPr>
        <p:sp>
          <p:nvSpPr>
            <p:cNvPr id="95" name="Text Box 5"/>
            <p:cNvSpPr/>
            <p:nvPr/>
          </p:nvSpPr>
          <p:spPr>
            <a:xfrm>
              <a:off x="4219200" y="357336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.8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4235400" y="4092480"/>
              <a:ext cx="6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.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3700440" y="4626000"/>
              <a:ext cx="14479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3849480" y="4070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－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4235040" y="462600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.4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00" name="Group 10"/>
          <p:cNvGrpSpPr/>
          <p:nvPr/>
        </p:nvGrpSpPr>
        <p:grpSpPr>
          <a:xfrm>
            <a:off x="2532960" y="2604960"/>
            <a:ext cx="4490640" cy="520560"/>
            <a:chOff x="2532960" y="2604960"/>
            <a:chExt cx="4490640" cy="520560"/>
          </a:xfrm>
        </p:grpSpPr>
        <p:sp>
          <p:nvSpPr>
            <p:cNvPr id="101" name="Text Box 11"/>
            <p:cNvSpPr/>
            <p:nvPr/>
          </p:nvSpPr>
          <p:spPr>
            <a:xfrm>
              <a:off x="2532960" y="2604960"/>
              <a:ext cx="449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.81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.4 =    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千克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>
              <a:off x="4800600" y="3124080"/>
              <a:ext cx="106632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4860360" y="2604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.4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4" name="Picture 14" descr="a8"/>
          <p:cNvPicPr/>
          <p:nvPr/>
        </p:nvPicPr>
        <p:blipFill>
          <a:blip r:embed="rId2"/>
          <a:stretch/>
        </p:blipFill>
        <p:spPr>
          <a:xfrm>
            <a:off x="457200" y="297180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a8"/>
          <p:cNvPicPr/>
          <p:nvPr/>
        </p:nvPicPr>
        <p:blipFill>
          <a:blip r:embed="rId2"/>
          <a:stretch/>
        </p:blipFill>
        <p:spPr>
          <a:xfrm>
            <a:off x="762120" y="3276720"/>
            <a:ext cx="1692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4"/>
          <p:cNvGrpSpPr/>
          <p:nvPr/>
        </p:nvGrpSpPr>
        <p:grpSpPr>
          <a:xfrm>
            <a:off x="2438280" y="1600200"/>
            <a:ext cx="5639040" cy="3989520"/>
            <a:chOff x="2438280" y="1600200"/>
            <a:chExt cx="5639040" cy="3989520"/>
          </a:xfrm>
        </p:grpSpPr>
        <p:pic>
          <p:nvPicPr>
            <p:cNvPr id="108" name="Picture 22" descr="hb"/>
            <p:cNvPicPr/>
            <p:nvPr/>
          </p:nvPicPr>
          <p:blipFill>
            <a:blip r:embed="rId3"/>
            <a:stretch/>
          </p:blipFill>
          <p:spPr>
            <a:xfrm>
              <a:off x="2438280" y="1600200"/>
              <a:ext cx="563904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153600" y="2263680"/>
              <a:ext cx="410652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小数加法和整数加法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什么相同的地方？有什么不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同的地方？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1981080"/>
            <a:ext cx="5411880" cy="380052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"/>
          <p:cNvSpPr/>
          <p:nvPr/>
        </p:nvSpPr>
        <p:spPr>
          <a:xfrm>
            <a:off x="103320" y="6073920"/>
            <a:ext cx="100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模板尽在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FE97-779F-44A6-A8B1-C56FA17B14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44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