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F6C-5735-4B60-8FF9-4D6ABA42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355-0316-4CA3-8A00-CDA8CE7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3AE-7833-4CA4-8D31-DDB0784B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4A0-A898-4C42-8C7F-0032EDBD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46B-D1BD-46A6-B6C4-5E60B0B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CF6-B247-461C-B43F-AB10031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CA6-0533-4CE5-9197-F6EBBED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7A2-E7AF-4BAE-AD6F-A8CDBFF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CE9-9D20-4E55-91ED-B357DCF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88B-024F-4B7F-AD8F-23FF74C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0E4-F3D4-4251-A788-DAF5B8F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817-7FE3-4A90-9722-897ABD1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953-743C-458B-976F-6A0767213530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xsdxdbj_zongjie.avi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3194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567800" y="1523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大小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1759320" y="2057400"/>
            <a:ext cx="5682240" cy="534960"/>
            <a:chOff x="1759320" y="2057400"/>
            <a:chExt cx="5682240" cy="534960"/>
          </a:xfrm>
        </p:grpSpPr>
        <p:sp>
          <p:nvSpPr>
            <p:cNvPr id="45" name="Text Box 5"/>
            <p:cNvSpPr/>
            <p:nvPr/>
          </p:nvSpPr>
          <p:spPr>
            <a:xfrm>
              <a:off x="1759320" y="2071800"/>
              <a:ext cx="568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832        799                   6124       621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251460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609588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609768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5780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44160" y="2711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说说怎样比较整数的大小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922040" y="3505320"/>
            <a:ext cx="43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当整数位数不同时，位数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的那个数就大；当整数位数相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时，从高位开始比较，按数位顺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序一位一位地比，哪一位的数大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那个数就大，就不再比下一位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2" name="Picture 13" descr="a7"/>
          <p:cNvPicPr/>
          <p:nvPr/>
        </p:nvPicPr>
        <p:blipFill>
          <a:blip r:embed="rId2"/>
          <a:stretch/>
        </p:blipFill>
        <p:spPr>
          <a:xfrm>
            <a:off x="6865920" y="3352680"/>
            <a:ext cx="1287360" cy="24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203560" y="181944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.0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392920" y="27432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65240" y="350532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 4.0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7" name="Picture 7" descr="a6"/>
          <p:cNvPicPr/>
          <p:nvPr/>
        </p:nvPicPr>
        <p:blipFill>
          <a:blip r:embed="rId2"/>
          <a:stretch/>
        </p:blipFill>
        <p:spPr>
          <a:xfrm>
            <a:off x="1450800" y="3962520"/>
            <a:ext cx="114012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14880" y="4267080"/>
            <a:ext cx="36795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两个小数的大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小，先看它们的整数部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分，整数部分大的那个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数就大。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295360" y="152388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4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44240" y="222408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都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50360" y="28195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各是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25760" y="388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哪个大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698800" y="390852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大 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014000" y="335268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各是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 和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402000" y="458640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2.4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7" name="Picture 11" descr="a6"/>
          <p:cNvPicPr/>
          <p:nvPr/>
        </p:nvPicPr>
        <p:blipFill>
          <a:blip r:embed="rId2"/>
          <a:stretch/>
        </p:blipFill>
        <p:spPr>
          <a:xfrm>
            <a:off x="7191360" y="3657600"/>
            <a:ext cx="1190520" cy="2389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2743200" y="5302080"/>
            <a:ext cx="419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　　当整数部分相同时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十分位上的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696320" y="1600200"/>
            <a:ext cx="38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59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440080" y="2757600"/>
            <a:ext cx="517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和十分位上的数都相同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就要看百分位，百分位上的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与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377880" y="4281480"/>
            <a:ext cx="32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gt;  0.059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3" name="Picture 6" descr="a8"/>
          <p:cNvPicPr/>
          <p:nvPr/>
        </p:nvPicPr>
        <p:blipFill>
          <a:blip r:embed="rId2"/>
          <a:stretch/>
        </p:blipFill>
        <p:spPr>
          <a:xfrm>
            <a:off x="1371600" y="4191120"/>
            <a:ext cx="1409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676520"/>
            <a:ext cx="6095880" cy="428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Picture 8" descr="ds知识应用"/>
          <p:cNvPicPr/>
          <p:nvPr/>
        </p:nvPicPr>
        <p:blipFill>
          <a:blip r:embed="rId3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"/>
          <p:cNvSpPr/>
          <p:nvPr/>
        </p:nvSpPr>
        <p:spPr>
          <a:xfrm>
            <a:off x="190440" y="61372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3EBD-53FB-4053-95B6-C4CA9FA427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39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