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31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gif" ContentType="image/gif"/>
  <Override PartName="/ppt/media/image11.jpeg" ContentType="image/jpeg"/>
  <Override PartName="/ppt/media/image24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A1E-4769-4A24-9FEC-12E7DA9421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6.xml"/><Relationship Id="rId18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CAA-A8F3-4D6A-9E13-709B66B5A1B0}" type="slidenum">
              <a:rPr b="0" lang="zh-CN" sz="12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26A-E503-482E-9AA8-5FF4406E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7EE-48E3-4871-9DF9-9C530E56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2B77A-BD8A-4C9D-B82F-ADBF60A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720FB-25A9-48DF-9ECB-161D3DA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23A0F-A5F9-41FE-A3C0-6CDF7614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B070-94EA-4B6C-ABF8-ED70A8E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0CF14-A8A8-4890-A614-1CD99A1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096CF-33BD-4B38-A58E-C03A1B8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6F5A9-E500-4EA3-AEB0-4629A22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A9DBF-3263-430C-8ADC-98DEB87B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8995D-66F1-41AD-A1F7-6D882374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79D0-4082-4CC7-BBA9-140B05E3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063-9B91-4BE4-A683-D4E09878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F5CDA-4E02-4F7F-828D-9D8F190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8F53E-145A-4320-AE9D-6B383327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AC8C9-8C6E-4204-B6A6-25AE729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9155-A9DB-4F5E-A89C-BA4A375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1E739-2E98-4275-8EE9-98D98D5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1344-FC74-4711-8049-60114A1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1BF97-6CDF-4A84-9912-7737D4C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50159-9F0F-490D-AB3F-352C88C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51A00-A6E7-44F8-B7DA-E60EF073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A4724-1727-417D-8A39-39AE24BD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650-DF6D-45CC-8441-AEA5B5E2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46F0-32D1-455B-8A39-9FE3134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13026-4FA1-498C-B2BD-9264931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54853-17A8-4A2A-BC9F-5A8C045C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9C587-BCF1-4EB7-A655-87ACAE28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DBC3-C223-445E-9939-CCFA282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B909-85DA-4A84-8B88-21E49309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2405-F964-40E7-BDB5-3E25A90B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FC31A-249A-49EF-91EB-FF8DF35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BC30-076E-4F35-9061-ACF8496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B93C9-E961-43E6-89F4-B26AA1A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DE37-77BE-47E5-AE1C-FCB119F0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FC7E2-3F78-4FF1-9A97-19375575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EA482-A5C8-43FD-A5BA-08056C02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C2A2-AA70-482C-841B-E1340F32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D60E-774A-455B-9A0D-6E072A1D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641BC-EC68-4B74-9C5A-B17E3F60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8B771-579B-4960-86C6-F67A071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DC04B-E30C-408C-9FE7-98CD925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3A2A-5263-4E24-B283-0CFE05E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1D95-F6B0-4D55-B74B-EB61118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C951-682D-495F-BA8A-ECA1A41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DBD5-58D8-4946-8730-0001738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128AE-6B5E-4B36-8DF5-6FEBF19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38C41-95DE-4E04-B2DA-4CF4193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5B8A-54C7-4AA4-9A68-0492B1D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56F4C-BE3E-410D-BB32-D0BF67B5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6932D-83C2-4E69-BA66-0F527303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0A5D-F3BC-4FA8-BD1B-758B9BD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3426-6BB3-48B6-9FFA-C36305D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070F-C561-41DA-AD7B-8D3F1C7D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85DF-DBFE-47D2-8714-C50A376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19D-D792-4CCE-90C6-C86A3F6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A0E-85D0-4823-AB7E-02535FE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48EF-23B3-4BB0-B95F-AEDA9BC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413-5300-4CE8-B0D9-C9EAA70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53E-8883-49AB-B4A1-1A1FBC8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131E-277A-40CC-98D7-8A1E2305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2635-30E3-4CC3-BD34-EFDC6435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663B-53BA-4ECA-BDD3-D8CEBC5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36CE-FA78-45E4-8941-698DA3F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6395-6C6B-4550-947B-10E155D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DF16-295F-44C9-9E65-8CF5F93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B338-2CAB-4253-A459-FF51DE6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12C-0560-4883-B447-F9EF3A43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4004-4A80-453E-9B0D-14615AA5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ACAF-ADA3-40B4-BD3C-578DEB0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2A3B-B02F-4880-B830-8DDAFAA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5B33-2F38-4AD8-8B89-F0E96F6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9D3B-0247-48E2-BAFD-55AF36A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5F8B-FFF1-4A1D-90AA-F3D5E64B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E9EB-D5E5-4C34-88C0-99DDB2F4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B137-9E97-4960-A783-1635B178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5563-0014-4560-ADD1-87062584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4837A-98E7-4439-B469-4E9F1FCB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D91-DC3A-4E3D-8B63-6FFBB23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4AB2-8B15-402C-85D6-F6A1EF59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8601-265E-4CD3-9CFB-47501631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8AE3-6E05-4368-87D0-03267A11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99E6-AC02-44D3-8B15-FF5482B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2CA8-637F-4215-A4EC-6B188DC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B7AD-1AB6-47EC-9509-B6915D0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3BFA-0A29-4DD3-9995-29A25621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3250-0D46-4C06-9DFD-F193D11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0932-5548-4AE7-81D3-38934EA4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F976-DCD9-4001-BFAB-A33831F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61E-6D2F-46DE-8731-4E6DB55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52D5-6AC8-42B9-BDED-FA9972B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2D30-8EE7-485A-8DBB-D751A7DA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0E30-4B36-4181-A7F0-C1A55E7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8314-BA1A-428D-9F98-8C3C9EE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109B2-771A-4C8C-8BD8-C7A0771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2A8D-7ED3-4E45-B125-9071A99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978E-C44E-421F-8021-53C574C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9CC9-8F18-48BD-BE28-A4F54DA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68B5D-39C0-4E20-951E-829E3DB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60AC-58F1-40A7-AF9C-53266F43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23E-56EB-4C32-A365-A2E8EBF4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983F-C4AA-4E44-875A-462F908F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73A6-7ADC-4BA9-AEB9-8EC72E7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38DF-DCEC-4863-9631-EF3E15BB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B0BB-89D6-4D78-BC88-7283798A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4AEE-D05E-4ACE-BA40-3DDD2447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9371-FA38-4723-9023-EA8344B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2D0C-D884-43FB-A920-B4BEC8B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CE7-2542-4F79-8D00-39E12AD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CD52-4C65-4CD4-907B-8CA385E1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EEBE-79A9-41ED-844A-517E3E5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E76-5643-4F45-BD5B-F9F92C1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8028-6C29-43B7-B6ED-6DFDB68F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C057-D293-491A-98C9-9A71004E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BC61-CD75-4040-8F8E-7652FCF5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04EB-134C-4802-9D3F-AE35BC16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C022-1D6A-4CB9-9449-11B0DFC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19B6-D051-4FE2-AE36-16886AA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A6F7-8FD9-4E57-BA17-311C319B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EC7D7-ADB0-4911-B520-A35AB36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274E7-6F31-4120-97CE-A03E7D29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1447-8189-48C8-89A5-BBD4587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0A0-42D3-423B-94A2-A9FF2AD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CA94-A0A2-49FA-88C4-A784977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19E2-856D-44AE-A362-A17D85F9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5FE6-7993-4594-8892-3DD4DBC1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2635-5C73-4941-9B26-71C2F3C8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7487-E524-4E57-882A-6FBE98B9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83C05-819B-4ADE-8CB3-2339572D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35507-0EA9-4EC7-A89D-7FA8CF6C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22997-A04A-477B-B29B-D91F0E0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EC14-ACC6-4757-A488-207DE58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12FF7-64A5-42F4-951C-E53769B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C9E-DA1D-40B9-BE23-501CD4B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20009-B675-4468-9AAE-CA4D3334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30BE-6F30-42FA-ADBE-9CDBC25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F7E6-EF47-49FB-B663-AA96C51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AC61-1584-4A2F-A738-281CBFB6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D2332-5ED1-4FC1-A54A-8841B2F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02629-B2A0-474E-8945-E41EA19D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411C7-6509-4362-A60C-C5C026E6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041E8-737E-4671-8819-1D64C78C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556F1-D58F-49D4-86E9-80312C6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A92A7-2A69-499F-8A81-699A8493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796B-175A-44E7-B7E9-20FA465BA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70F-5B23-4A9F-8C66-BCCFC3C5D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DFE1-5709-4380-B02C-962C2A2E8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474-B49C-4415-B334-D9137FF4198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4B8-E023-4C23-8B0B-68C5B760E8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C88-0E9B-44C3-9C0A-B6C6B5194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E40-F1E6-4603-AB6E-EB891EDB9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3B18-E120-40FB-A15E-4A7D145A4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D29-470E-4FD9-B2C1-10013EF847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642-DB5B-4D14-B561-73A2079C6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40B-1941-4FB5-8916-5045599C8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35C-EA09-438E-AF72-793084C131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5.xml"/><Relationship Id="rId3" Type="http://schemas.openxmlformats.org/officeDocument/2006/relationships/image" Target="../media/image4.png"/><Relationship Id="rId4" Type="http://schemas.openxmlformats.org/officeDocument/2006/relationships/slide" Target="slide13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image" Target="../media/image4.png"/><Relationship Id="rId5" Type="http://schemas.openxmlformats.org/officeDocument/2006/relationships/slide" Target="slide2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image" Target="../media/image4.png"/><Relationship Id="rId5" Type="http://schemas.openxmlformats.org/officeDocument/2006/relationships/slide" Target="slide21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slide" Target="slide22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.xml"/><Relationship Id="rId3" Type="http://schemas.openxmlformats.org/officeDocument/2006/relationships/image" Target="../media/image4.png"/><Relationship Id="rId4" Type="http://schemas.openxmlformats.org/officeDocument/2006/relationships/slide" Target="slide14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17.xml"/><Relationship Id="rId3" Type="http://schemas.openxmlformats.org/officeDocument/2006/relationships/image" Target="../media/image4.png"/><Relationship Id="rId4" Type="http://schemas.openxmlformats.org/officeDocument/2006/relationships/slide" Target="slide24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9032"/>
                </a:solidFill>
                <a:latin typeface="Times New Roman"/>
                <a:ea typeface="华文新魏"/>
              </a:rPr>
              <a:t>人教新课标一年级品德与生活下册第三单元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5564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小心，别伤着</a:t>
            </a:r>
            <a:endParaRPr b="0" lang="en-US" sz="8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1" name="矩形 4"/>
          <p:cNvSpPr/>
          <p:nvPr/>
        </p:nvSpPr>
        <p:spPr>
          <a:xfrm>
            <a:off x="2073600" y="611352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2" name="图片 1" descr=""/>
          <p:cNvPicPr/>
          <p:nvPr/>
        </p:nvPicPr>
        <p:blipFill>
          <a:blip r:embed="rId1"/>
          <a:stretch/>
        </p:blipFill>
        <p:spPr>
          <a:xfrm>
            <a:off x="2241720" y="2811600"/>
            <a:ext cx="4446360" cy="32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02"/>
          <p:cNvPicPr/>
          <p:nvPr/>
        </p:nvPicPr>
        <p:blipFill>
          <a:blip r:embed="rId1"/>
          <a:stretch/>
        </p:blipFill>
        <p:spPr>
          <a:xfrm>
            <a:off x="539640" y="7650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3"/>
          <p:cNvSpPr/>
          <p:nvPr/>
        </p:nvSpPr>
        <p:spPr>
          <a:xfrm>
            <a:off x="3924360" y="189000"/>
            <a:ext cx="4967280" cy="3168720"/>
          </a:xfrm>
          <a:prstGeom prst="cloudCallout">
            <a:avLst>
              <a:gd name="adj1" fmla="val 13981"/>
              <a:gd name="adj2" fmla="val 9098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想一想，父母会是什么心情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61" name="Picture 4" descr="011"/>
          <p:cNvPicPr/>
          <p:nvPr/>
        </p:nvPicPr>
        <p:blipFill>
          <a:blip r:embed="rId3"/>
          <a:stretch/>
        </p:blipFill>
        <p:spPr>
          <a:xfrm>
            <a:off x="7020000" y="3645000"/>
            <a:ext cx="1778040" cy="2971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受伤5"/>
          <p:cNvPicPr/>
          <p:nvPr/>
        </p:nvPicPr>
        <p:blipFill>
          <a:blip r:embed="rId4"/>
          <a:stretch/>
        </p:blipFill>
        <p:spPr>
          <a:xfrm>
            <a:off x="395280" y="148428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伤心"/>
          <p:cNvPicPr/>
          <p:nvPr/>
        </p:nvPicPr>
        <p:blipFill>
          <a:blip r:embed="rId5"/>
          <a:stretch/>
        </p:blipFill>
        <p:spPr>
          <a:xfrm>
            <a:off x="395280" y="3357720"/>
            <a:ext cx="5256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u=4221947769,2156711960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u=3712922634,1172982438&amp;fm=0&amp;gp=0"/>
          <p:cNvPicPr/>
          <p:nvPr/>
        </p:nvPicPr>
        <p:blipFill>
          <a:blip r:embed="rId2"/>
          <a:stretch/>
        </p:blipFill>
        <p:spPr>
          <a:xfrm>
            <a:off x="5796000" y="3645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755640" y="981000"/>
            <a:ext cx="7561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孩子是父母的心头肉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伤在孩子身上，痛在父母的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心上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304920" y="1447920"/>
            <a:ext cx="8229600" cy="1523880"/>
          </a:xfrm>
          <a:prstGeom prst="rect">
            <a:avLst/>
          </a:prstGeom>
          <a:solidFill>
            <a:srgbClr val="008000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507960" y="16257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找一找，我们的生活中还有哪些容易造成伤害的情况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69" name="Picture 5" descr="012"/>
          <p:cNvPicPr/>
          <p:nvPr/>
        </p:nvPicPr>
        <p:blipFill>
          <a:blip r:embed="rId1"/>
          <a:stretch/>
        </p:blipFill>
        <p:spPr>
          <a:xfrm>
            <a:off x="2405160" y="3068640"/>
            <a:ext cx="4071960" cy="3560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98040" y="6388200"/>
            <a:ext cx="282600" cy="2998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21760" y="6388200"/>
            <a:ext cx="301680" cy="299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73920" y="6397560"/>
            <a:ext cx="2923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026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29" descr="过马路不看红绿灯"/>
          <p:cNvPicPr/>
          <p:nvPr/>
        </p:nvPicPr>
        <p:blipFill>
          <a:blip r:embed="rId2"/>
          <a:stretch/>
        </p:blipFill>
        <p:spPr>
          <a:xfrm>
            <a:off x="2627280" y="2060640"/>
            <a:ext cx="3916440" cy="29383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030"/>
          <p:cNvSpPr/>
          <p:nvPr/>
        </p:nvSpPr>
        <p:spPr>
          <a:xfrm>
            <a:off x="2550960" y="4875120"/>
            <a:ext cx="449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过马路不看红绿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马路上看书危险"/>
          <p:cNvPicPr/>
          <p:nvPr/>
        </p:nvPicPr>
        <p:blipFill>
          <a:blip r:embed="rId2"/>
          <a:stretch/>
        </p:blipFill>
        <p:spPr>
          <a:xfrm>
            <a:off x="2916360" y="2060640"/>
            <a:ext cx="3962160" cy="36813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3220920" y="51847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马路上看书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在马路上打闹"/>
          <p:cNvPicPr/>
          <p:nvPr/>
        </p:nvPicPr>
        <p:blipFill>
          <a:blip r:embed="rId2"/>
          <a:stretch/>
        </p:blipFill>
        <p:spPr>
          <a:xfrm>
            <a:off x="2411280" y="1844640"/>
            <a:ext cx="4114800" cy="33465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6"/>
          <p:cNvSpPr/>
          <p:nvPr/>
        </p:nvSpPr>
        <p:spPr>
          <a:xfrm>
            <a:off x="3630600" y="50785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马路上打闹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拿树枝、竹剑对拼"/>
          <p:cNvPicPr/>
          <p:nvPr/>
        </p:nvPicPr>
        <p:blipFill>
          <a:blip r:embed="rId2"/>
          <a:stretch/>
        </p:blipFill>
        <p:spPr>
          <a:xfrm>
            <a:off x="2627280" y="1628640"/>
            <a:ext cx="4572000" cy="377532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6"/>
          <p:cNvSpPr/>
          <p:nvPr/>
        </p:nvSpPr>
        <p:spPr>
          <a:xfrm>
            <a:off x="3236760" y="5286240"/>
            <a:ext cx="335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拿树枝、竹剑对拼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玩火"/>
          <p:cNvPicPr/>
          <p:nvPr/>
        </p:nvPicPr>
        <p:blipFill>
          <a:blip r:embed="rId2"/>
          <a:stretch/>
        </p:blipFill>
        <p:spPr>
          <a:xfrm>
            <a:off x="1676520" y="2448000"/>
            <a:ext cx="548640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1676520" y="1600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危险！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0" name="Picture 13" descr="玩火的危险"/>
          <p:cNvPicPr/>
          <p:nvPr/>
        </p:nvPicPr>
        <p:blipFill>
          <a:blip r:embed="rId2"/>
          <a:stretch/>
        </p:blipFill>
        <p:spPr>
          <a:xfrm>
            <a:off x="1676520" y="2422440"/>
            <a:ext cx="5410080" cy="39020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4"/>
          <p:cNvSpPr/>
          <p:nvPr/>
        </p:nvSpPr>
        <p:spPr>
          <a:xfrm>
            <a:off x="7238880" y="2743200"/>
            <a:ext cx="762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玩火的危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1295280" y="1828800"/>
            <a:ext cx="7010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意外伤害是指由于我们疏忽大意或缺乏安全意识而引起的身体伤害，如磕伤、撞伤、烫伤等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295280" y="3565440"/>
            <a:ext cx="7010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伤害无论大小都会给自己和他人带来痛苦，还会给家人带来不必要的烦恼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1371600" y="4800600"/>
            <a:ext cx="7086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因此，在进行各种活动时，我们要多加注意，尽量避免伤害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01"/>
          <p:cNvPicPr/>
          <p:nvPr/>
        </p:nvPicPr>
        <p:blipFill>
          <a:blip r:embed="rId1"/>
          <a:stretch/>
        </p:blipFill>
        <p:spPr>
          <a:xfrm>
            <a:off x="971640" y="1916280"/>
            <a:ext cx="3979800" cy="403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一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52280" y="1020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说一说，他这样做有危险吗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6" name="Picture 5" descr="011"/>
          <p:cNvPicPr/>
          <p:nvPr/>
        </p:nvPicPr>
        <p:blipFill>
          <a:blip r:embed="rId2"/>
          <a:stretch/>
        </p:blipFill>
        <p:spPr>
          <a:xfrm>
            <a:off x="6804000" y="3357720"/>
            <a:ext cx="1595520" cy="2666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sp>
        <p:nvSpPr>
          <p:cNvPr id="509" name="文本框 1"/>
          <p:cNvSpPr/>
          <p:nvPr/>
        </p:nvSpPr>
        <p:spPr>
          <a:xfrm>
            <a:off x="339840" y="611496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模板尽在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6068880" cy="685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97" name="Picture 3" descr="011"/>
          <p:cNvPicPr/>
          <p:nvPr/>
        </p:nvPicPr>
        <p:blipFill>
          <a:blip r:embed="rId2"/>
          <a:stretch/>
        </p:blipFill>
        <p:spPr>
          <a:xfrm>
            <a:off x="6781680" y="3733920"/>
            <a:ext cx="1595520" cy="26668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77120" y="304560"/>
            <a:ext cx="22096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预防受伤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9" name="Picture 5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4388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67600" y="6464160"/>
            <a:ext cx="301680" cy="300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6095880" y="260280"/>
            <a:ext cx="3048120" cy="2895840"/>
          </a:xfrm>
          <a:prstGeom prst="rect">
            <a:avLst/>
          </a:prstGeom>
          <a:solidFill>
            <a:srgbClr val="008000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443640" y="333000"/>
            <a:ext cx="22096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预防受伤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03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6068880" cy="685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604" name="Text Box 5"/>
          <p:cNvSpPr/>
          <p:nvPr/>
        </p:nvSpPr>
        <p:spPr>
          <a:xfrm>
            <a:off x="6324480" y="1268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建筑工地是很危险的地方，小学生千万不能到那里去玩！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05" name="Picture 6" descr="011"/>
          <p:cNvPicPr/>
          <p:nvPr/>
        </p:nvPicPr>
        <p:blipFill>
          <a:blip r:embed="rId2"/>
          <a:stretch/>
        </p:blipFill>
        <p:spPr>
          <a:xfrm>
            <a:off x="6781680" y="3733920"/>
            <a:ext cx="1595520" cy="2666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4388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6760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0120" y="6473880"/>
            <a:ext cx="291960" cy="2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221004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预防受伤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10" name="Picture 3" descr="011"/>
          <p:cNvPicPr/>
          <p:nvPr/>
        </p:nvPicPr>
        <p:blipFill>
          <a:blip r:embed="rId1"/>
          <a:stretch/>
        </p:blipFill>
        <p:spPr>
          <a:xfrm>
            <a:off x="7243920" y="2971800"/>
            <a:ext cx="1595160" cy="2666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08"/>
          <p:cNvPicPr/>
          <p:nvPr/>
        </p:nvPicPr>
        <p:blipFill>
          <a:blip r:embed="rId2"/>
          <a:stretch/>
        </p:blipFill>
        <p:spPr>
          <a:xfrm>
            <a:off x="127080" y="803160"/>
            <a:ext cx="6705360" cy="479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12" name="Picture 5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98040" y="6388200"/>
            <a:ext cx="282600" cy="299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1760" y="6388200"/>
            <a:ext cx="301680" cy="299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73920" y="6397560"/>
            <a:ext cx="2923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101520" y="5791320"/>
            <a:ext cx="7670880" cy="914400"/>
          </a:xfrm>
          <a:prstGeom prst="rect">
            <a:avLst/>
          </a:prstGeom>
          <a:solidFill>
            <a:srgbClr val="008000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221004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预防受伤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52280" y="5816520"/>
            <a:ext cx="7620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300" spc="-1" strike="noStrike">
                <a:solidFill>
                  <a:srgbClr val="ffff00"/>
                </a:solidFill>
                <a:latin typeface="Times New Roman"/>
                <a:ea typeface="黑体"/>
              </a:rPr>
              <a:t>放在高处的物品拿不着，可以请求家人帮助，千万不要自己去拿，这样很容易受伤！</a:t>
            </a:r>
            <a:endParaRPr b="0" lang="en-US" sz="2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18" name="Picture 5" descr="011"/>
          <p:cNvPicPr/>
          <p:nvPr/>
        </p:nvPicPr>
        <p:blipFill>
          <a:blip r:embed="rId1"/>
          <a:stretch/>
        </p:blipFill>
        <p:spPr>
          <a:xfrm>
            <a:off x="7243920" y="2971800"/>
            <a:ext cx="1595160" cy="2666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08"/>
          <p:cNvPicPr/>
          <p:nvPr/>
        </p:nvPicPr>
        <p:blipFill>
          <a:blip r:embed="rId2"/>
          <a:stretch/>
        </p:blipFill>
        <p:spPr>
          <a:xfrm>
            <a:off x="127080" y="803160"/>
            <a:ext cx="6705360" cy="479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20" name="Picture 7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98040" y="6388200"/>
            <a:ext cx="282600" cy="299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1760" y="6388200"/>
            <a:ext cx="301680" cy="299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9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73920" y="6397560"/>
            <a:ext cx="292320" cy="2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41200" y="990720"/>
            <a:ext cx="8686800" cy="5257800"/>
          </a:xfrm>
          <a:prstGeom prst="rect">
            <a:avLst/>
          </a:prstGeom>
          <a:solidFill>
            <a:srgbClr val="808080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80720" y="88920"/>
            <a:ext cx="487692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我是安全小警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546120" y="17510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乘车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……</a:t>
            </a: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539640" y="25653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课间活动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539640" y="3354480"/>
            <a:ext cx="61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看见剪刀放在沙发上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33520" y="4189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9" name="Picture 9" descr="011"/>
          <p:cNvPicPr/>
          <p:nvPr/>
        </p:nvPicPr>
        <p:blipFill>
          <a:blip r:embed="rId1"/>
          <a:stretch/>
        </p:blipFill>
        <p:spPr>
          <a:xfrm>
            <a:off x="6781680" y="3352680"/>
            <a:ext cx="1595520" cy="26672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0" descr="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32800" y="6400800"/>
            <a:ext cx="282600" cy="299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1" descr="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6520" y="6400800"/>
            <a:ext cx="301680" cy="299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2" descr="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09040" y="6410160"/>
            <a:ext cx="291960" cy="290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241200" y="1033560"/>
            <a:ext cx="8686800" cy="5257800"/>
          </a:xfrm>
          <a:prstGeom prst="rect">
            <a:avLst/>
          </a:prstGeom>
          <a:solidFill>
            <a:srgbClr val="969696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80720" y="88920"/>
            <a:ext cx="487692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怎样防止受伤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533520" y="123336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课间不猛跑；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533520" y="20829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上下楼梯靠右行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533520" y="2871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做危险游戏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33520" y="3662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到危险场所玩耍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533520" y="4189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457200" y="5257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请你说一说，还有哪些防止受伤的办法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41" name="Picture 10" descr="007"/>
          <p:cNvPicPr/>
          <p:nvPr/>
        </p:nvPicPr>
        <p:blipFill>
          <a:blip r:embed="rId1"/>
          <a:stretch/>
        </p:blipFill>
        <p:spPr>
          <a:xfrm>
            <a:off x="6832440" y="3733920"/>
            <a:ext cx="2025720" cy="22096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32800" y="6400800"/>
            <a:ext cx="282600" cy="2998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6520" y="6400800"/>
            <a:ext cx="301680" cy="299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3" descr="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09040" y="6410160"/>
            <a:ext cx="291960" cy="2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e53ecc7f11e5423129388a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0" y="260280"/>
            <a:ext cx="85694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小心，别伤着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小心小心别伤着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安全提醒记心上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行人车辆仔细看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家里学校礼相让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事事处处多留神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人人安全有保障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4A5-D2A8-47E5-9044-9337BD6040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01"/>
          <p:cNvPicPr/>
          <p:nvPr/>
        </p:nvPicPr>
        <p:blipFill>
          <a:blip r:embed="rId1"/>
          <a:stretch/>
        </p:blipFill>
        <p:spPr>
          <a:xfrm>
            <a:off x="228600" y="1828800"/>
            <a:ext cx="3979800" cy="403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11" name="Picture 3" descr="02"/>
          <p:cNvPicPr/>
          <p:nvPr/>
        </p:nvPicPr>
        <p:blipFill>
          <a:blip r:embed="rId2"/>
          <a:stretch/>
        </p:blipFill>
        <p:spPr>
          <a:xfrm>
            <a:off x="4965840" y="1828800"/>
            <a:ext cx="3970080" cy="403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12" name="AutoShape 4"/>
          <p:cNvSpPr/>
          <p:nvPr/>
        </p:nvSpPr>
        <p:spPr>
          <a:xfrm>
            <a:off x="4330800" y="3403440"/>
            <a:ext cx="533160" cy="762120"/>
          </a:xfrm>
          <a:prstGeom prst="rightArrow">
            <a:avLst>
              <a:gd name="adj1" fmla="val 50000"/>
              <a:gd name="adj2" fmla="val 5029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一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6324480" y="990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摔跤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5" name="Picture 7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9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4240" y="6473880"/>
            <a:ext cx="292320" cy="29052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0"/>
          <p:cNvSpPr/>
          <p:nvPr/>
        </p:nvSpPr>
        <p:spPr>
          <a:xfrm>
            <a:off x="914400" y="990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游戏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03"/>
          <p:cNvPicPr/>
          <p:nvPr/>
        </p:nvPicPr>
        <p:blipFill>
          <a:blip r:embed="rId1"/>
          <a:stretch/>
        </p:blipFill>
        <p:spPr>
          <a:xfrm>
            <a:off x="152280" y="1978200"/>
            <a:ext cx="3886200" cy="3584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二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52280" y="1096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说一说，他这样做有危险吗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2" name="Picture 5" descr="011"/>
          <p:cNvPicPr/>
          <p:nvPr/>
        </p:nvPicPr>
        <p:blipFill>
          <a:blip r:embed="rId2"/>
          <a:stretch/>
        </p:blipFill>
        <p:spPr>
          <a:xfrm>
            <a:off x="5867280" y="3124080"/>
            <a:ext cx="1595520" cy="2667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4240" y="6473880"/>
            <a:ext cx="2923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03"/>
          <p:cNvPicPr/>
          <p:nvPr/>
        </p:nvPicPr>
        <p:blipFill>
          <a:blip r:embed="rId1"/>
          <a:stretch/>
        </p:blipFill>
        <p:spPr>
          <a:xfrm>
            <a:off x="152280" y="1978200"/>
            <a:ext cx="3886200" cy="3584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27" name="Picture 3" descr="04"/>
          <p:cNvPicPr/>
          <p:nvPr/>
        </p:nvPicPr>
        <p:blipFill>
          <a:blip r:embed="rId2"/>
          <a:stretch/>
        </p:blipFill>
        <p:spPr>
          <a:xfrm>
            <a:off x="4876920" y="1978200"/>
            <a:ext cx="4114800" cy="358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28" name="AutoShape 4"/>
          <p:cNvSpPr/>
          <p:nvPr/>
        </p:nvSpPr>
        <p:spPr>
          <a:xfrm>
            <a:off x="4191120" y="3425760"/>
            <a:ext cx="533160" cy="762120"/>
          </a:xfrm>
          <a:prstGeom prst="rightArrow">
            <a:avLst>
              <a:gd name="adj1" fmla="val 50000"/>
              <a:gd name="adj2" fmla="val 5029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二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867280" y="11732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碰伤别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1" name="Picture 7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4240" y="6473880"/>
            <a:ext cx="292320" cy="2905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0"/>
          <p:cNvSpPr/>
          <p:nvPr/>
        </p:nvSpPr>
        <p:spPr>
          <a:xfrm>
            <a:off x="990720" y="1143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教室猛跑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05"/>
          <p:cNvPicPr/>
          <p:nvPr/>
        </p:nvPicPr>
        <p:blipFill>
          <a:blip r:embed="rId1"/>
          <a:stretch/>
        </p:blipFill>
        <p:spPr>
          <a:xfrm>
            <a:off x="152280" y="2062080"/>
            <a:ext cx="3962520" cy="3346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三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52280" y="110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说一说，他这样做有危险吗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8" name="Picture 5" descr="011"/>
          <p:cNvPicPr/>
          <p:nvPr/>
        </p:nvPicPr>
        <p:blipFill>
          <a:blip r:embed="rId2"/>
          <a:stretch/>
        </p:blipFill>
        <p:spPr>
          <a:xfrm>
            <a:off x="5867280" y="2971800"/>
            <a:ext cx="1595520" cy="2666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4240" y="6473880"/>
            <a:ext cx="2923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05"/>
          <p:cNvPicPr/>
          <p:nvPr/>
        </p:nvPicPr>
        <p:blipFill>
          <a:blip r:embed="rId1"/>
          <a:stretch/>
        </p:blipFill>
        <p:spPr>
          <a:xfrm>
            <a:off x="152280" y="2062080"/>
            <a:ext cx="3962520" cy="3346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43" name="Picture 3" descr="06"/>
          <p:cNvPicPr/>
          <p:nvPr/>
        </p:nvPicPr>
        <p:blipFill>
          <a:blip r:embed="rId2"/>
          <a:stretch/>
        </p:blipFill>
        <p:spPr>
          <a:xfrm>
            <a:off x="4927680" y="2062080"/>
            <a:ext cx="4064040" cy="334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544" name="AutoShape 4"/>
          <p:cNvSpPr/>
          <p:nvPr/>
        </p:nvSpPr>
        <p:spPr>
          <a:xfrm>
            <a:off x="4267080" y="3344760"/>
            <a:ext cx="533520" cy="762120"/>
          </a:xfrm>
          <a:prstGeom prst="rightArrow">
            <a:avLst>
              <a:gd name="adj1" fmla="val 50000"/>
              <a:gd name="adj2" fmla="val 5029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危险做法三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5562720" y="124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摔跤、烫伤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47" name="Picture 7" descr="0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58360" y="6464160"/>
            <a:ext cx="282600" cy="300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82080" y="64641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4240" y="6473880"/>
            <a:ext cx="292320" cy="2905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"/>
          <p:cNvSpPr/>
          <p:nvPr/>
        </p:nvSpPr>
        <p:spPr>
          <a:xfrm>
            <a:off x="762120" y="124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家里猛跑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02"/>
          <p:cNvPicPr/>
          <p:nvPr/>
        </p:nvPicPr>
        <p:blipFill>
          <a:blip r:embed="rId1"/>
          <a:stretch/>
        </p:blipFill>
        <p:spPr>
          <a:xfrm>
            <a:off x="539640" y="7650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3"/>
          <p:cNvSpPr/>
          <p:nvPr/>
        </p:nvSpPr>
        <p:spPr>
          <a:xfrm>
            <a:off x="1116000" y="1341360"/>
            <a:ext cx="4464000" cy="2951280"/>
          </a:xfrm>
          <a:prstGeom prst="cloudCallout">
            <a:avLst>
              <a:gd name="adj1" fmla="val 84101"/>
              <a:gd name="adj2" fmla="val 6231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是否因为不小心而受过伤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3" name="Picture 4" descr="011"/>
          <p:cNvPicPr/>
          <p:nvPr/>
        </p:nvPicPr>
        <p:blipFill>
          <a:blip r:embed="rId3"/>
          <a:stretch/>
        </p:blipFill>
        <p:spPr>
          <a:xfrm>
            <a:off x="7020000" y="3645000"/>
            <a:ext cx="17780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02"/>
          <p:cNvPicPr/>
          <p:nvPr/>
        </p:nvPicPr>
        <p:blipFill>
          <a:blip r:embed="rId1"/>
          <a:stretch/>
        </p:blipFill>
        <p:spPr>
          <a:xfrm>
            <a:off x="539640" y="7650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3"/>
          <p:cNvSpPr/>
          <p:nvPr/>
        </p:nvSpPr>
        <p:spPr>
          <a:xfrm>
            <a:off x="3924360" y="189000"/>
            <a:ext cx="4967280" cy="3168720"/>
          </a:xfrm>
          <a:prstGeom prst="cloudCallout">
            <a:avLst>
              <a:gd name="adj1" fmla="val 13981"/>
              <a:gd name="adj2" fmla="val 9098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受伤的时候是什么心情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6" name="Picture 4" descr="011"/>
          <p:cNvPicPr/>
          <p:nvPr/>
        </p:nvPicPr>
        <p:blipFill>
          <a:blip r:embed="rId3"/>
          <a:stretch/>
        </p:blipFill>
        <p:spPr>
          <a:xfrm>
            <a:off x="7020000" y="3645000"/>
            <a:ext cx="1778040" cy="2971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受伤5"/>
          <p:cNvPicPr/>
          <p:nvPr/>
        </p:nvPicPr>
        <p:blipFill>
          <a:blip r:embed="rId4"/>
          <a:stretch/>
        </p:blipFill>
        <p:spPr>
          <a:xfrm>
            <a:off x="395280" y="148428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哭泣"/>
          <p:cNvPicPr/>
          <p:nvPr/>
        </p:nvPicPr>
        <p:blipFill>
          <a:blip r:embed="rId5"/>
          <a:stretch/>
        </p:blipFill>
        <p:spPr>
          <a:xfrm>
            <a:off x="395280" y="3429000"/>
            <a:ext cx="482436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52:1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48:09Z</dcterms:modified>
  <cp:revision>1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