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151-A890-4BD8-B003-B00B5FAF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D28-3BB5-413D-8046-6C5C3AA0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DD385-25E1-4840-A614-B91BF033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7D2CA-2513-4F2B-A273-FDCD328B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88E58-0F62-497B-B682-155663A9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A7D89-7C45-4EEC-B2FC-40E6846E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D9468-ED7E-45D3-B554-3CAF43F2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6DCAC-F9CE-4869-85B1-B7CF7EF7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D7CB0-F2CD-41A5-9F44-10AB9225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6B58F-4338-42A7-B1F2-0D8BF523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CA015-3C7D-41C4-9E57-1E9AD93D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B5F69-A124-4903-B64F-E8B7DCAD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783-1BD6-472B-902F-64CB38A6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A139A-B420-4AB7-A426-D03CBDCA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4D001-4C86-4716-A628-1429ACA9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E548C-ADFD-4323-8EE5-EF0BB8BD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FEC0F-2433-45D9-8B1A-970E36A4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3390C-0927-4740-9E13-83955FEC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14E31-2887-478A-9790-564A2D6C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85D20-1618-4B4B-8BCD-65B080EF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E0205-6F70-4C12-AE84-EF25B8C0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2B894-8E61-4ADD-AC4C-3A929665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5769A-8970-45FB-BE29-01E1D9D0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D00-832E-4C48-A8FB-F0DD9B5C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97997-347B-4C3F-898E-5DF9610E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F20E1-3AB1-4468-8F08-8D5D34C9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EEC1F-71A7-4BC1-9397-1CDD3EE4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40F24-F688-40D8-B00B-B77D0600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6F832-F6C3-4D0C-85A3-38A615C6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E4AAE-ABB4-4381-9F34-AE53271C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70449-34AA-4E1D-9A10-9FF10872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55D38-D030-4C96-9947-60B97D68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15AE0-F1F0-41CA-BD31-BACA7613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15ADE-0B36-4415-9278-56B36D70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82B5-05E3-4B67-8F66-502389CC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B76DB-5E4F-4F4B-A57D-ED3D09B2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74424-AB48-4D12-9432-21CC3059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47DC5-28F0-4900-AD94-7C4D2A7C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00AD1-5B12-4455-A71B-350DD033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46A8D-7C84-4D40-A97E-7D91F9B6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0DFF1-451F-4729-9DCB-CEDE5770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B1400-6813-496F-9DB4-4D5B24EB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48B44-4553-4C1D-ABCC-AF00E6E6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FB54B-52A4-4115-8283-3A8395F2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2A3ED-F2C9-4676-A2F8-D7680F8E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E71B-9A6C-49E3-94E7-F0AF4955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C6F08-AD00-4A40-A01F-599D2FC7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BBE8A-BE04-4826-B5F7-635EF4A7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79C49-4BBE-47C6-9F3D-04822E98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D071C-CEAB-4133-85DE-7CD4806B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6FBC4-DFDD-4C02-A482-CDF8C8BD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2716-FA27-45D6-B09C-6C0BC424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C9D5-FC29-45DA-81F4-36406EE3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6214-0FF7-4263-B7CA-4D50302F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3590-4424-4C8A-BA65-A8468081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922F-9240-46C7-A0D8-AC9CCF11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663-B8DE-41BD-A762-A5874FCB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374D-964A-42EF-96AF-F93713FC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DB2A-3590-4947-BD12-359CEC3F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66EB-3928-46A7-9520-53FEA443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BE16-A1F4-4C70-A8A0-822C0B20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93A7-46CF-46B3-BA0C-DE1B1752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626F2-9BDB-4CB5-A8E9-90763D61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AB03F-44DF-47E9-B1BB-E3D680C1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7E750-82C4-49A3-ABAF-A6214674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CD8F9-BA8C-4125-859D-C689AB04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5BBA-50AE-4905-8089-E55FEBB4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46C-BBA6-40BF-970B-C3CB7D60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1ABAB-3E3B-4207-8C48-797777F2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1D101-822E-4FDD-9114-0283B45B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D4FF-0C7A-4CAF-BBF9-BCCBD05B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C6E0F-75AA-46FE-BAFB-D3F03811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3FF06-A722-4066-94AB-37CE0525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50074-0CCB-4542-9051-F6A19F79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2CF47-C00B-49C9-B366-482F3BEB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822F-CD77-45B1-9573-89FF37B1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CEBE8-BACC-4D62-8FF1-22AF70AE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87411-087D-4B4B-B57A-56A491EF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A69-F18A-4D1D-9652-BA464800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62239-122E-49F6-9C42-7F87B37F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15DBF-8EA1-4EA2-B806-82F04E8A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73F6A-40BF-4900-974A-01B45F55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17708-B436-4216-B3EF-21924385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D2D08-DA59-4AB7-9F86-143A10C5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BDBBC-7A05-47BB-8C94-D88092F8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10DFB-7F66-4B43-97F4-829C7E05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9AACF-A5D7-4EB7-B855-D560ADD3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0998F-4C7F-4D8B-9666-2A57F31C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FBC54-221E-4ABF-973B-E6F68CD0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04E-C0D8-431E-80E7-0B15D202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FE073-0E65-44A4-8A33-C4AC9E58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2386F-9C89-40BB-AF47-690FEC14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16C00-1229-4531-B6EF-05795FF8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15F79-D495-464E-9D67-61D69748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7D2C4-ECEF-4D7C-B787-EBC57A48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9915F-D8C2-43DA-A3F6-121A97AC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44AE0-5581-4856-B58E-32E603A7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31D3D-9EB8-497D-A042-B655EB1F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4D7F6-F35B-4B33-8ECF-D99299C0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CFB77-2A2A-491D-A06A-9F16B9A7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AE9-E3DD-46F6-89AA-6CC13F9A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B41FE-3E65-4836-A9D7-862F5707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7FB1A-0944-4D3D-BE2D-AE81AAE3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A5325-DB43-4E30-81A5-A2CC12F7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79803-6FF4-4C18-A7D5-48915BCF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D3622-7323-4757-AD9B-CA2CA9C5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FC365-6281-4391-80F1-74C706CD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62991-5BDF-4FE7-8484-FB2FB869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1E1F7-0F84-44C8-B42F-D7C60ED8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F7996-1BA1-4E61-AF8E-AD082075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8B8CA-5B41-4EBB-9E57-9FDA4D91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DFE-08DC-4DE1-BBB6-13D101B6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0ABC5-8825-47C2-BD6D-43F54FD3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52D51-5734-49A1-8285-3802F15C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4BC4A-9B30-4E8E-B58B-F8A6DA88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F3DCE-03B8-4ECD-BF4A-2236CC77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7F578-AFD6-4342-8EE4-9C6453F2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3B200-5F7D-4722-B8EC-D1C44E31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B49A2-8E84-4DD6-8FCA-F870AEAB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55C29-66C2-4999-8D51-81F3148A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720D4-5110-4961-A056-7621430D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04F8C-7E14-49C7-A14A-1F8747A9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916-BF5D-4858-8C18-5B6AA284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8B494-CFF2-41E2-B1A2-9DFAA837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9E9F1-DD82-4A51-9EDB-3BAE5142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F4519-8B0F-4D6B-B941-302BEDFA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68D45-6E97-43F4-8247-C84AF6FD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1F48A-0A7F-4318-8974-C08D362E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36845-026F-4E62-AB1A-EBBAC050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89D1A-FDE0-4FEB-BB98-95722744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E709F-C7D2-4D85-A2B2-9B027301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618E2-7272-4797-91EC-4B8544FA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FFA63-2071-40B2-B069-B66507EF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9AF-0CE3-423A-AE88-BCADC4C8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143000" y="143640"/>
            <a:ext cx="7772400" cy="66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9D0BA-F1C0-4744-A9BD-E0ACFC1C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27973-AED7-4740-93A9-603B9B79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4F740-0334-4545-8712-34AD6EDA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A768B-ED48-4C7B-8A38-4642D179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D55FB-277C-42A6-94A2-D507DD2F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5DFD2-E558-4D45-9202-C9343A7E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F7E21-E643-4420-A67A-64ED64DC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F0F94-B6CE-4B6C-B5DA-62B215B5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AFF44-82E5-4981-8FD3-F90416DC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068C4-23E1-4395-B4BD-05475429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8160" y="3165840"/>
              <a:ext cx="895680" cy="846360"/>
            </a:xfrm>
            <a:prstGeom prst="parallelogram">
              <a:avLst>
                <a:gd name="adj" fmla="val 5603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8160" y="41086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7440" y="50500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2120" y="5991480"/>
              <a:ext cx="885960" cy="846000"/>
            </a:xfrm>
            <a:prstGeom prst="parallelogram">
              <a:avLst>
                <a:gd name="adj" fmla="val 5545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8160" y="3384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7080" y="1275480"/>
              <a:ext cx="895680" cy="846000"/>
            </a:xfrm>
            <a:prstGeom prst="parallelogram">
              <a:avLst>
                <a:gd name="adj" fmla="val 5606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7440" y="22212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5" y="0"/>
                </a:lnTo>
                <a:lnTo>
                  <a:pt x="21600" y="10800"/>
                </a:lnTo>
                <a:lnTo>
                  <a:pt x="212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7800" y="36356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6000" y="5521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6000" y="174672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6000" y="26928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32A9-4505-4297-8DC7-A1B80B2C22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7A84-3F51-4B8C-A01A-EF8E6E962F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265E-2FFD-4E92-94B7-71A640DAD5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4DFC-4FF1-4320-91B8-FB0EE6D4B67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67" name="AutoShape 25"/>
            <p:cNvSpPr/>
            <p:nvPr/>
          </p:nvSpPr>
          <p:spPr>
            <a:xfrm rot="16200000">
              <a:off x="127800" y="36356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27"/>
            <p:cNvSpPr/>
            <p:nvPr/>
          </p:nvSpPr>
          <p:spPr>
            <a:xfrm rot="16200000">
              <a:off x="126000" y="5521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29"/>
            <p:cNvSpPr/>
            <p:nvPr/>
          </p:nvSpPr>
          <p:spPr>
            <a:xfrm rot="16200000">
              <a:off x="126000" y="174672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30"/>
            <p:cNvSpPr/>
            <p:nvPr/>
          </p:nvSpPr>
          <p:spPr>
            <a:xfrm rot="16200000">
              <a:off x="126000" y="26928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Group 10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81" name="AutoShape 11"/>
            <p:cNvSpPr/>
            <p:nvPr/>
          </p:nvSpPr>
          <p:spPr>
            <a:xfrm flipH="1" rot="5400000">
              <a:off x="128160" y="3165840"/>
              <a:ext cx="895680" cy="846360"/>
            </a:xfrm>
            <a:prstGeom prst="parallelogram">
              <a:avLst>
                <a:gd name="adj" fmla="val 5603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AutoShape 12"/>
            <p:cNvSpPr/>
            <p:nvPr/>
          </p:nvSpPr>
          <p:spPr>
            <a:xfrm flipH="1" rot="5400000">
              <a:off x="128160" y="41086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3"/>
            <p:cNvSpPr/>
            <p:nvPr/>
          </p:nvSpPr>
          <p:spPr>
            <a:xfrm flipH="1" rot="5400000">
              <a:off x="127440" y="50500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4"/>
            <p:cNvSpPr/>
            <p:nvPr/>
          </p:nvSpPr>
          <p:spPr>
            <a:xfrm flipH="1" rot="5400000">
              <a:off x="132120" y="5991480"/>
              <a:ext cx="885960" cy="846000"/>
            </a:xfrm>
            <a:prstGeom prst="parallelogram">
              <a:avLst>
                <a:gd name="adj" fmla="val 5545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5"/>
            <p:cNvSpPr/>
            <p:nvPr/>
          </p:nvSpPr>
          <p:spPr>
            <a:xfrm flipH="1" rot="5400000">
              <a:off x="128160" y="3384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6"/>
            <p:cNvSpPr/>
            <p:nvPr/>
          </p:nvSpPr>
          <p:spPr>
            <a:xfrm flipH="1" rot="5400000">
              <a:off x="127080" y="1275480"/>
              <a:ext cx="895680" cy="846000"/>
            </a:xfrm>
            <a:prstGeom prst="parallelogram">
              <a:avLst>
                <a:gd name="adj" fmla="val 5606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7"/>
            <p:cNvSpPr/>
            <p:nvPr/>
          </p:nvSpPr>
          <p:spPr>
            <a:xfrm flipH="1" rot="5400000">
              <a:off x="127440" y="22212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5" y="0"/>
                </a:lnTo>
                <a:lnTo>
                  <a:pt x="21600" y="10800"/>
                </a:lnTo>
                <a:lnTo>
                  <a:pt x="212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58DD-E902-4C28-A5E1-F141F1BFD3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44E7-4EC8-4F8A-8D37-09819BB62F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FF7B-6195-4962-B5D8-862E8F0201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4A65-F889-45C6-A0A3-DCC4917789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15BE-4D74-401A-B701-DF9E97C0A3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A5E4-8D4F-4A10-B620-CC30BB16E1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7864-5518-43D8-AC3A-18453EE8C2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1436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0EFA-2E31-4954-B63E-FB6BBE26A7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WordArt 6"/>
          <p:cNvSpPr txBox="1"/>
          <p:nvPr/>
        </p:nvSpPr>
        <p:spPr>
          <a:xfrm>
            <a:off x="6415200" y="4076640"/>
            <a:ext cx="1904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99ffcc"/>
                  </a:solidFill>
                  <a:round/>
                </a:ln>
                <a:solidFill>
                  <a:srgbClr val="6666ff"/>
                </a:solidFill>
                <a:latin typeface="华文行楷"/>
              </a:rPr>
              <a:t>贝多芬</a:t>
            </a:r>
            <a:endParaRPr b="1" lang="en-US" sz="3600" spc="1" strike="noStrike">
              <a:ln w="9360">
                <a:solidFill>
                  <a:srgbClr val="99ffcc"/>
                </a:solidFill>
                <a:round/>
              </a:ln>
              <a:solidFill>
                <a:srgbClr val="6666ff"/>
              </a:solidFill>
              <a:latin typeface="华文行楷"/>
              <a:ea typeface="华文行楷"/>
            </a:endParaRPr>
          </a:p>
        </p:txBody>
      </p:sp>
      <p:pic>
        <p:nvPicPr>
          <p:cNvPr id="542" name="矩形 1" descr=""/>
          <p:cNvPicPr/>
          <p:nvPr/>
        </p:nvPicPr>
        <p:blipFill>
          <a:blip r:embed="rId1"/>
          <a:stretch/>
        </p:blipFill>
        <p:spPr>
          <a:xfrm>
            <a:off x="1830240" y="523800"/>
            <a:ext cx="5697720" cy="2782800"/>
          </a:xfrm>
          <a:prstGeom prst="rect">
            <a:avLst/>
          </a:prstGeom>
          <a:ln w="0">
            <a:noFill/>
          </a:ln>
        </p:spPr>
      </p:pic>
      <p:sp>
        <p:nvSpPr>
          <p:cNvPr id="543" name="矩形 7"/>
          <p:cNvSpPr/>
          <p:nvPr/>
        </p:nvSpPr>
        <p:spPr>
          <a:xfrm>
            <a:off x="2500920" y="6165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12"/>
          <p:cNvSpPr/>
          <p:nvPr/>
        </p:nvSpPr>
        <p:spPr>
          <a:xfrm>
            <a:off x="4356000" y="534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344520" y="44280"/>
            <a:ext cx="331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课文朗读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6" name="《月光曲》课文朗读.MP3" descr=""/>
          <p:cNvPicPr/>
          <p:nvPr/>
        </p:nvPicPr>
        <p:blipFill>
          <a:blip r:embed="rId1"/>
          <a:stretch/>
        </p:blipFill>
        <p:spPr>
          <a:xfrm>
            <a:off x="8265960" y="24912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6">
            <a:hlinkClick r:id="rId2" action="ppaction://hlinksldjump"/>
          </p:cNvPr>
          <p:cNvSpPr/>
          <p:nvPr/>
        </p:nvSpPr>
        <p:spPr>
          <a:xfrm>
            <a:off x="363600" y="1125360"/>
            <a:ext cx="331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学习词语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7">
            <a:hlinkClick r:id="rId3" action="ppaction://hlinksldjump"/>
          </p:cNvPr>
          <p:cNvSpPr/>
          <p:nvPr/>
        </p:nvSpPr>
        <p:spPr>
          <a:xfrm>
            <a:off x="468360" y="2201760"/>
            <a:ext cx="331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阅读思考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8">
            <a:hlinkClick r:id="rId4" action="ppaction://hlinksldjump"/>
          </p:cNvPr>
          <p:cNvSpPr/>
          <p:nvPr/>
        </p:nvSpPr>
        <p:spPr>
          <a:xfrm>
            <a:off x="378000" y="3327480"/>
            <a:ext cx="331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情景学习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9">
            <a:hlinkClick r:id="rId5" action="ppaction://hlinksldjump"/>
          </p:cNvPr>
          <p:cNvSpPr/>
          <p:nvPr/>
        </p:nvSpPr>
        <p:spPr>
          <a:xfrm>
            <a:off x="465120" y="4437000"/>
            <a:ext cx="331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课堂练习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AutoShape 10">
            <a:hlinkClick r:id="" action="ppaction://hlinkshowjump?jump=endshow"/>
          </p:cNvPr>
          <p:cNvSpPr/>
          <p:nvPr/>
        </p:nvSpPr>
        <p:spPr>
          <a:xfrm>
            <a:off x="830592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2" name="图片 1" descr=""/>
          <p:cNvPicPr/>
          <p:nvPr/>
        </p:nvPicPr>
        <p:blipFill>
          <a:blip r:embed="rId6"/>
          <a:srcRect l="0" t="0" r="0" b="4446"/>
          <a:stretch/>
        </p:blipFill>
        <p:spPr>
          <a:xfrm>
            <a:off x="3940200" y="115920"/>
            <a:ext cx="5086440" cy="584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6000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1028"/>
          <p:cNvSpPr/>
          <p:nvPr/>
        </p:nvSpPr>
        <p:spPr>
          <a:xfrm>
            <a:off x="1295280" y="228600"/>
            <a:ext cx="398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学习生字新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1029"/>
          <p:cNvSpPr/>
          <p:nvPr/>
        </p:nvSpPr>
        <p:spPr>
          <a:xfrm>
            <a:off x="5889600" y="415908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莱   茵  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1030"/>
          <p:cNvSpPr/>
          <p:nvPr/>
        </p:nvSpPr>
        <p:spPr>
          <a:xfrm>
            <a:off x="1165320" y="28638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入场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1031"/>
          <p:cNvSpPr/>
          <p:nvPr/>
        </p:nvSpPr>
        <p:spPr>
          <a:xfrm>
            <a:off x="1165320" y="41590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盲姑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1032"/>
          <p:cNvSpPr/>
          <p:nvPr/>
        </p:nvSpPr>
        <p:spPr>
          <a:xfrm>
            <a:off x="3755880" y="150804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幽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1033"/>
          <p:cNvSpPr/>
          <p:nvPr/>
        </p:nvSpPr>
        <p:spPr>
          <a:xfrm>
            <a:off x="3755880" y="28638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蜡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1034"/>
          <p:cNvSpPr/>
          <p:nvPr/>
        </p:nvSpPr>
        <p:spPr>
          <a:xfrm>
            <a:off x="3755880" y="4175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陌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1035"/>
          <p:cNvSpPr/>
          <p:nvPr/>
        </p:nvSpPr>
        <p:spPr>
          <a:xfrm>
            <a:off x="5889600" y="150804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微波粼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1036"/>
          <p:cNvSpPr/>
          <p:nvPr/>
        </p:nvSpPr>
        <p:spPr>
          <a:xfrm>
            <a:off x="5889600" y="287964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波涛汹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1038"/>
          <p:cNvSpPr/>
          <p:nvPr/>
        </p:nvSpPr>
        <p:spPr>
          <a:xfrm>
            <a:off x="3751200" y="9810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yō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1039"/>
          <p:cNvSpPr/>
          <p:nvPr/>
        </p:nvSpPr>
        <p:spPr>
          <a:xfrm>
            <a:off x="6875640" y="981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í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1040"/>
          <p:cNvSpPr/>
          <p:nvPr/>
        </p:nvSpPr>
        <p:spPr>
          <a:xfrm>
            <a:off x="1981080" y="226224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qu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à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1041"/>
          <p:cNvSpPr/>
          <p:nvPr/>
        </p:nvSpPr>
        <p:spPr>
          <a:xfrm>
            <a:off x="3755880" y="2238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1042"/>
          <p:cNvSpPr/>
          <p:nvPr/>
        </p:nvSpPr>
        <p:spPr>
          <a:xfrm>
            <a:off x="6651720" y="223848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xiō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1043"/>
          <p:cNvSpPr/>
          <p:nvPr/>
        </p:nvSpPr>
        <p:spPr>
          <a:xfrm>
            <a:off x="900000" y="36417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á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 Box 1044"/>
          <p:cNvSpPr/>
          <p:nvPr/>
        </p:nvSpPr>
        <p:spPr>
          <a:xfrm>
            <a:off x="3637080" y="3686040"/>
            <a:ext cx="10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 Box 1046"/>
          <p:cNvSpPr/>
          <p:nvPr/>
        </p:nvSpPr>
        <p:spPr>
          <a:xfrm>
            <a:off x="5813280" y="3625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á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i    yī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1047"/>
          <p:cNvSpPr/>
          <p:nvPr/>
        </p:nvSpPr>
        <p:spPr>
          <a:xfrm>
            <a:off x="1165320" y="15238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眼睛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1048"/>
          <p:cNvSpPr/>
          <p:nvPr/>
        </p:nvSpPr>
        <p:spPr>
          <a:xfrm>
            <a:off x="2155680" y="10508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xi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4"/>
          <p:cNvSpPr/>
          <p:nvPr/>
        </p:nvSpPr>
        <p:spPr>
          <a:xfrm>
            <a:off x="6686640" y="181764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7219800" y="1344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l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3029040" y="18018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恬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4857840" y="18018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记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2876400" y="126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á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5315040" y="1268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1047600" y="181764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琴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1352520" y="126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j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à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1295280" y="333360"/>
            <a:ext cx="398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学习生字新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Group 31"/>
          <p:cNvGrpSpPr/>
          <p:nvPr/>
        </p:nvGrpSpPr>
        <p:grpSpPr>
          <a:xfrm>
            <a:off x="971640" y="3173400"/>
            <a:ext cx="7086600" cy="1557720"/>
            <a:chOff x="971640" y="3173400"/>
            <a:chExt cx="7086600" cy="1557720"/>
          </a:xfrm>
        </p:grpSpPr>
        <p:sp>
          <p:nvSpPr>
            <p:cNvPr id="582" name="Text Box 19"/>
            <p:cNvSpPr/>
            <p:nvPr/>
          </p:nvSpPr>
          <p:spPr>
            <a:xfrm>
              <a:off x="1047600" y="317340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曲子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Text Box 20"/>
            <p:cNvSpPr/>
            <p:nvPr/>
          </p:nvSpPr>
          <p:spPr>
            <a:xfrm>
              <a:off x="1047600" y="401148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弯曲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Text Box 21"/>
            <p:cNvSpPr/>
            <p:nvPr/>
          </p:nvSpPr>
          <p:spPr>
            <a:xfrm>
              <a:off x="2952720" y="318924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弹琴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Text Box 22"/>
            <p:cNvSpPr/>
            <p:nvPr/>
          </p:nvSpPr>
          <p:spPr>
            <a:xfrm>
              <a:off x="2952720" y="402768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子弹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Text Box 23"/>
            <p:cNvSpPr/>
            <p:nvPr/>
          </p:nvSpPr>
          <p:spPr>
            <a:xfrm>
              <a:off x="4857840" y="318924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音乐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Text Box 24"/>
            <p:cNvSpPr/>
            <p:nvPr/>
          </p:nvSpPr>
          <p:spPr>
            <a:xfrm>
              <a:off x="4857840" y="402768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快乐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Text Box 25"/>
            <p:cNvSpPr/>
            <p:nvPr/>
          </p:nvSpPr>
          <p:spPr>
            <a:xfrm>
              <a:off x="6686640" y="318924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难过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Text Box 26"/>
            <p:cNvSpPr/>
            <p:nvPr/>
          </p:nvSpPr>
          <p:spPr>
            <a:xfrm>
              <a:off x="6686640" y="402768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遇难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AutoShape 27"/>
            <p:cNvSpPr/>
            <p:nvPr/>
          </p:nvSpPr>
          <p:spPr>
            <a:xfrm>
              <a:off x="971640" y="35863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AutoShape 28"/>
            <p:cNvSpPr/>
            <p:nvPr/>
          </p:nvSpPr>
          <p:spPr>
            <a:xfrm>
              <a:off x="2876400" y="351000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AutoShape 29"/>
            <p:cNvSpPr/>
            <p:nvPr/>
          </p:nvSpPr>
          <p:spPr>
            <a:xfrm>
              <a:off x="4781520" y="35863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AutoShape 30"/>
            <p:cNvSpPr/>
            <p:nvPr/>
          </p:nvSpPr>
          <p:spPr>
            <a:xfrm>
              <a:off x="6610320" y="35863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4" name="AutoShape 32">
            <a:hlinkClick r:id="rId1" action="ppaction://hlinksldjump"/>
          </p:cNvPr>
          <p:cNvSpPr/>
          <p:nvPr/>
        </p:nvSpPr>
        <p:spPr>
          <a:xfrm>
            <a:off x="8381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4"/>
          <p:cNvSpPr/>
          <p:nvPr/>
        </p:nvSpPr>
        <p:spPr>
          <a:xfrm>
            <a:off x="1523880" y="404640"/>
            <a:ext cx="331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阅读思考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611280" y="1484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贝多芬走进茅屋，为什么弹完一曲，又弹一曲？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611280" y="29322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皮鞋匠听着琴声，好像看到了什么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他为什么会看到这样的景象？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611280" y="424188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盲姑娘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仿佛也看到了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月光照耀下大海的变化，这说明了什么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AutoShape 8">
            <a:hlinkClick r:id="rId1" action="ppaction://hlinksldjump"/>
          </p:cNvPr>
          <p:cNvSpPr/>
          <p:nvPr/>
        </p:nvSpPr>
        <p:spPr>
          <a:xfrm>
            <a:off x="830592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文本框 1"/>
          <p:cNvSpPr/>
          <p:nvPr/>
        </p:nvSpPr>
        <p:spPr>
          <a:xfrm>
            <a:off x="685800" y="6095880"/>
            <a:ext cx="70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更多免费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尽在：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4">
            <a:hlinkClick r:id="rId1" action="ppaction://hlinksldjump"/>
          </p:cNvPr>
          <p:cNvSpPr/>
          <p:nvPr/>
        </p:nvSpPr>
        <p:spPr>
          <a:xfrm>
            <a:off x="830592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2" name="《月光曲》情景剧.asf" descr=""/>
          <p:cNvPicPr/>
          <p:nvPr/>
        </p:nvPicPr>
        <p:blipFill>
          <a:blip r:embed="rId2"/>
          <a:stretch/>
        </p:blipFill>
        <p:spPr>
          <a:xfrm>
            <a:off x="1981080" y="560520"/>
            <a:ext cx="6096240" cy="49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574941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5"/>
          <p:cNvSpPr/>
          <p:nvPr/>
        </p:nvSpPr>
        <p:spPr>
          <a:xfrm>
            <a:off x="539640" y="11592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比一比，组词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692280" y="90792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茵（   ） 券（   ） 腊（   ） 屡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菌（   ） 卷（   ） 蜡（   ） 缕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692280" y="241452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吨（   ） 谱（   ） 盲（   ） 醒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纯（   ） 普（   ） 育（   ） 醉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692280" y="386244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瞎（   ） 恬（   ） 键（   ） 涛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割（   ） 括（   ） 健（   ） 滔（   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7" name="Group 33"/>
          <p:cNvGrpSpPr/>
          <p:nvPr/>
        </p:nvGrpSpPr>
        <p:grpSpPr>
          <a:xfrm>
            <a:off x="1301760" y="907920"/>
            <a:ext cx="1218960" cy="1144440"/>
            <a:chOff x="1301760" y="907920"/>
            <a:chExt cx="1218960" cy="1144440"/>
          </a:xfrm>
        </p:grpSpPr>
        <p:sp>
          <p:nvSpPr>
            <p:cNvPr id="608" name="Text Box 9"/>
            <p:cNvSpPr/>
            <p:nvPr/>
          </p:nvSpPr>
          <p:spPr>
            <a:xfrm>
              <a:off x="1301760" y="9079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绿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Text Box 10"/>
            <p:cNvSpPr/>
            <p:nvPr/>
          </p:nvSpPr>
          <p:spPr>
            <a:xfrm>
              <a:off x="1301760" y="15318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细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0" name="Group 34"/>
          <p:cNvGrpSpPr/>
          <p:nvPr/>
        </p:nvGrpSpPr>
        <p:grpSpPr>
          <a:xfrm>
            <a:off x="3054240" y="907920"/>
            <a:ext cx="1219320" cy="1144440"/>
            <a:chOff x="3054240" y="907920"/>
            <a:chExt cx="1219320" cy="1144440"/>
          </a:xfrm>
        </p:grpSpPr>
        <p:sp>
          <p:nvSpPr>
            <p:cNvPr id="611" name="Text Box 11"/>
            <p:cNvSpPr/>
            <p:nvPr/>
          </p:nvSpPr>
          <p:spPr>
            <a:xfrm>
              <a:off x="3054240" y="907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证券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Text Box 12"/>
            <p:cNvSpPr/>
            <p:nvPr/>
          </p:nvSpPr>
          <p:spPr>
            <a:xfrm>
              <a:off x="3054240" y="15318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画卷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3" name="Group 35"/>
          <p:cNvGrpSpPr/>
          <p:nvPr/>
        </p:nvGrpSpPr>
        <p:grpSpPr>
          <a:xfrm>
            <a:off x="4883040" y="907920"/>
            <a:ext cx="1219320" cy="1144440"/>
            <a:chOff x="4883040" y="907920"/>
            <a:chExt cx="1219320" cy="1144440"/>
          </a:xfrm>
        </p:grpSpPr>
        <p:sp>
          <p:nvSpPr>
            <p:cNvPr id="614" name="Text Box 13"/>
            <p:cNvSpPr/>
            <p:nvPr/>
          </p:nvSpPr>
          <p:spPr>
            <a:xfrm>
              <a:off x="4883040" y="907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腊月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Text Box 14"/>
            <p:cNvSpPr/>
            <p:nvPr/>
          </p:nvSpPr>
          <p:spPr>
            <a:xfrm>
              <a:off x="4883040" y="15318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蜡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6" name="Group 36"/>
          <p:cNvGrpSpPr/>
          <p:nvPr/>
        </p:nvGrpSpPr>
        <p:grpSpPr>
          <a:xfrm>
            <a:off x="6635880" y="907920"/>
            <a:ext cx="1218960" cy="1144440"/>
            <a:chOff x="6635880" y="907920"/>
            <a:chExt cx="1218960" cy="1144440"/>
          </a:xfrm>
        </p:grpSpPr>
        <p:sp>
          <p:nvSpPr>
            <p:cNvPr id="617" name="Text Box 15"/>
            <p:cNvSpPr/>
            <p:nvPr/>
          </p:nvSpPr>
          <p:spPr>
            <a:xfrm>
              <a:off x="6635880" y="9079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屡次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Text Box 16"/>
            <p:cNvSpPr/>
            <p:nvPr/>
          </p:nvSpPr>
          <p:spPr>
            <a:xfrm>
              <a:off x="6635880" y="15318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一缕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9" name="Group 37"/>
          <p:cNvGrpSpPr/>
          <p:nvPr/>
        </p:nvGrpSpPr>
        <p:grpSpPr>
          <a:xfrm>
            <a:off x="1301760" y="2432160"/>
            <a:ext cx="1218960" cy="1144440"/>
            <a:chOff x="1301760" y="2432160"/>
            <a:chExt cx="1218960" cy="1144440"/>
          </a:xfrm>
        </p:grpSpPr>
        <p:sp>
          <p:nvSpPr>
            <p:cNvPr id="620" name="Text Box 17"/>
            <p:cNvSpPr/>
            <p:nvPr/>
          </p:nvSpPr>
          <p:spPr>
            <a:xfrm>
              <a:off x="1301760" y="243216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吨位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Text Box 18"/>
            <p:cNvSpPr/>
            <p:nvPr/>
          </p:nvSpPr>
          <p:spPr>
            <a:xfrm>
              <a:off x="1301760" y="305604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纯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2" name="Group 38"/>
          <p:cNvGrpSpPr/>
          <p:nvPr/>
        </p:nvGrpSpPr>
        <p:grpSpPr>
          <a:xfrm>
            <a:off x="3054240" y="2432160"/>
            <a:ext cx="1219320" cy="1144440"/>
            <a:chOff x="3054240" y="2432160"/>
            <a:chExt cx="1219320" cy="1144440"/>
          </a:xfrm>
        </p:grpSpPr>
        <p:sp>
          <p:nvSpPr>
            <p:cNvPr id="623" name="Text Box 19"/>
            <p:cNvSpPr/>
            <p:nvPr/>
          </p:nvSpPr>
          <p:spPr>
            <a:xfrm>
              <a:off x="3054240" y="24321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谱写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Text Box 20"/>
            <p:cNvSpPr/>
            <p:nvPr/>
          </p:nvSpPr>
          <p:spPr>
            <a:xfrm>
              <a:off x="3054240" y="305604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普照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5" name="Group 39"/>
          <p:cNvGrpSpPr/>
          <p:nvPr/>
        </p:nvGrpSpPr>
        <p:grpSpPr>
          <a:xfrm>
            <a:off x="4883040" y="2432160"/>
            <a:ext cx="1219320" cy="1130040"/>
            <a:chOff x="4883040" y="2432160"/>
            <a:chExt cx="1219320" cy="1130040"/>
          </a:xfrm>
        </p:grpSpPr>
        <p:sp>
          <p:nvSpPr>
            <p:cNvPr id="626" name="Text Box 21"/>
            <p:cNvSpPr/>
            <p:nvPr/>
          </p:nvSpPr>
          <p:spPr>
            <a:xfrm>
              <a:off x="4883040" y="24321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盲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Text Box 22"/>
            <p:cNvSpPr/>
            <p:nvPr/>
          </p:nvSpPr>
          <p:spPr>
            <a:xfrm>
              <a:off x="4883040" y="304164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培育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8" name="Group 40"/>
          <p:cNvGrpSpPr/>
          <p:nvPr/>
        </p:nvGrpSpPr>
        <p:grpSpPr>
          <a:xfrm>
            <a:off x="6635880" y="2432160"/>
            <a:ext cx="1218960" cy="1144440"/>
            <a:chOff x="6635880" y="2432160"/>
            <a:chExt cx="1218960" cy="1144440"/>
          </a:xfrm>
        </p:grpSpPr>
        <p:sp>
          <p:nvSpPr>
            <p:cNvPr id="629" name="Text Box 23"/>
            <p:cNvSpPr/>
            <p:nvPr/>
          </p:nvSpPr>
          <p:spPr>
            <a:xfrm>
              <a:off x="6635880" y="243216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苏醒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Text Box 24"/>
            <p:cNvSpPr/>
            <p:nvPr/>
          </p:nvSpPr>
          <p:spPr>
            <a:xfrm>
              <a:off x="6635880" y="305604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陶醉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1" name="Group 41"/>
          <p:cNvGrpSpPr/>
          <p:nvPr/>
        </p:nvGrpSpPr>
        <p:grpSpPr>
          <a:xfrm>
            <a:off x="1301760" y="3879720"/>
            <a:ext cx="1218960" cy="1144440"/>
            <a:chOff x="1301760" y="3879720"/>
            <a:chExt cx="1218960" cy="1144440"/>
          </a:xfrm>
        </p:grpSpPr>
        <p:sp>
          <p:nvSpPr>
            <p:cNvPr id="632" name="Text Box 25"/>
            <p:cNvSpPr/>
            <p:nvPr/>
          </p:nvSpPr>
          <p:spPr>
            <a:xfrm>
              <a:off x="1301760" y="38797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瞎闹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Text Box 26"/>
            <p:cNvSpPr/>
            <p:nvPr/>
          </p:nvSpPr>
          <p:spPr>
            <a:xfrm>
              <a:off x="1301760" y="45036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割舍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4" name="Group 42"/>
          <p:cNvGrpSpPr/>
          <p:nvPr/>
        </p:nvGrpSpPr>
        <p:grpSpPr>
          <a:xfrm>
            <a:off x="3054240" y="3879720"/>
            <a:ext cx="1219320" cy="1144440"/>
            <a:chOff x="3054240" y="3879720"/>
            <a:chExt cx="1219320" cy="1144440"/>
          </a:xfrm>
        </p:grpSpPr>
        <p:sp>
          <p:nvSpPr>
            <p:cNvPr id="635" name="Text Box 27"/>
            <p:cNvSpPr/>
            <p:nvPr/>
          </p:nvSpPr>
          <p:spPr>
            <a:xfrm>
              <a:off x="3054240" y="38797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恬静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Text Box 28"/>
            <p:cNvSpPr/>
            <p:nvPr/>
          </p:nvSpPr>
          <p:spPr>
            <a:xfrm>
              <a:off x="3054240" y="45036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概括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7" name="Group 43"/>
          <p:cNvGrpSpPr/>
          <p:nvPr/>
        </p:nvGrpSpPr>
        <p:grpSpPr>
          <a:xfrm>
            <a:off x="4883040" y="3879720"/>
            <a:ext cx="1219320" cy="1144440"/>
            <a:chOff x="4883040" y="3879720"/>
            <a:chExt cx="1219320" cy="1144440"/>
          </a:xfrm>
        </p:grpSpPr>
        <p:sp>
          <p:nvSpPr>
            <p:cNvPr id="638" name="Text Box 29"/>
            <p:cNvSpPr/>
            <p:nvPr/>
          </p:nvSpPr>
          <p:spPr>
            <a:xfrm>
              <a:off x="4883040" y="38797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关键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Text Box 30"/>
            <p:cNvSpPr/>
            <p:nvPr/>
          </p:nvSpPr>
          <p:spPr>
            <a:xfrm>
              <a:off x="4883040" y="45036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健美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0" name="Group 44"/>
          <p:cNvGrpSpPr/>
          <p:nvPr/>
        </p:nvGrpSpPr>
        <p:grpSpPr>
          <a:xfrm>
            <a:off x="6635880" y="3879720"/>
            <a:ext cx="1218960" cy="1130040"/>
            <a:chOff x="6635880" y="3879720"/>
            <a:chExt cx="1218960" cy="1130040"/>
          </a:xfrm>
        </p:grpSpPr>
        <p:sp>
          <p:nvSpPr>
            <p:cNvPr id="641" name="Text Box 31"/>
            <p:cNvSpPr/>
            <p:nvPr/>
          </p:nvSpPr>
          <p:spPr>
            <a:xfrm>
              <a:off x="6635880" y="387972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波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Text Box 32"/>
            <p:cNvSpPr/>
            <p:nvPr/>
          </p:nvSpPr>
          <p:spPr>
            <a:xfrm>
              <a:off x="6635880" y="44892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滔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4"/>
          <p:cNvSpPr/>
          <p:nvPr/>
        </p:nvSpPr>
        <p:spPr>
          <a:xfrm>
            <a:off x="1295280" y="8380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用直线连接可以搭配的词语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2057400" y="2362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幽静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2057400" y="3200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微弱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2057400" y="4038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清幽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2057400" y="4876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雪亮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2057400" y="5759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美妙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Text Box 10"/>
          <p:cNvSpPr/>
          <p:nvPr/>
        </p:nvSpPr>
        <p:spPr>
          <a:xfrm>
            <a:off x="5486400" y="2362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烛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Text Box 11"/>
          <p:cNvSpPr/>
          <p:nvPr/>
        </p:nvSpPr>
        <p:spPr>
          <a:xfrm>
            <a:off x="5486400" y="3200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月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12"/>
          <p:cNvSpPr/>
          <p:nvPr/>
        </p:nvSpPr>
        <p:spPr>
          <a:xfrm>
            <a:off x="5486400" y="4038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琴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13"/>
          <p:cNvSpPr/>
          <p:nvPr/>
        </p:nvSpPr>
        <p:spPr>
          <a:xfrm>
            <a:off x="5486400" y="4876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14"/>
          <p:cNvSpPr/>
          <p:nvPr/>
        </p:nvSpPr>
        <p:spPr>
          <a:xfrm>
            <a:off x="5486400" y="5791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浪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Line 15"/>
          <p:cNvSpPr/>
          <p:nvPr/>
        </p:nvSpPr>
        <p:spPr>
          <a:xfrm>
            <a:off x="3657600" y="5181480"/>
            <a:ext cx="1828800" cy="990720"/>
          </a:xfrm>
          <a:prstGeom prst="line">
            <a:avLst/>
          </a:prstGeom>
          <a:ln w="28440">
            <a:solidFill>
              <a:srgbClr val="99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Line 20"/>
          <p:cNvSpPr/>
          <p:nvPr/>
        </p:nvSpPr>
        <p:spPr>
          <a:xfrm flipV="1">
            <a:off x="3581280" y="2743200"/>
            <a:ext cx="1905120" cy="990720"/>
          </a:xfrm>
          <a:prstGeom prst="line">
            <a:avLst/>
          </a:prstGeom>
          <a:ln w="28440">
            <a:solidFill>
              <a:srgbClr val="99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Line 21"/>
          <p:cNvSpPr/>
          <p:nvPr/>
        </p:nvSpPr>
        <p:spPr>
          <a:xfrm>
            <a:off x="3581280" y="2666880"/>
            <a:ext cx="2057400" cy="2438640"/>
          </a:xfrm>
          <a:prstGeom prst="line">
            <a:avLst/>
          </a:prstGeom>
          <a:ln w="28440">
            <a:solidFill>
              <a:srgbClr val="99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Line 22"/>
          <p:cNvSpPr/>
          <p:nvPr/>
        </p:nvSpPr>
        <p:spPr>
          <a:xfrm flipV="1">
            <a:off x="3581280" y="3657600"/>
            <a:ext cx="1981440" cy="838080"/>
          </a:xfrm>
          <a:prstGeom prst="line">
            <a:avLst/>
          </a:prstGeom>
          <a:ln w="28440">
            <a:solidFill>
              <a:srgbClr val="99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Line 23"/>
          <p:cNvSpPr/>
          <p:nvPr/>
        </p:nvSpPr>
        <p:spPr>
          <a:xfrm flipV="1">
            <a:off x="3657600" y="4495320"/>
            <a:ext cx="1828800" cy="1676520"/>
          </a:xfrm>
          <a:prstGeom prst="line">
            <a:avLst/>
          </a:prstGeom>
          <a:ln w="28440">
            <a:solidFill>
              <a:srgbClr val="99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AutoShape 24">
            <a:hlinkClick r:id="rId1" action="ppaction://hlinksldjump"/>
          </p:cNvPr>
          <p:cNvSpPr/>
          <p:nvPr/>
        </p:nvSpPr>
        <p:spPr>
          <a:xfrm>
            <a:off x="8305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95400"/>
            <a:ext cx="8207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 Black"/>
              </a:rPr>
              <a:t> </a:t>
            </a:r>
            <a:r>
              <a:rPr b="0" lang="zh-CN" sz="1400" spc="-1" strike="noStrike" u="sng">
                <a:solidFill>
                  <a:srgbClr val="6666ff"/>
                </a:solidFill>
                <a:uFillTx/>
                <a:latin typeface="Arial Black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66ff"/>
                </a:solidFill>
                <a:uFillTx/>
                <a:latin typeface="Arial Black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ff"/>
                </a:solidFill>
                <a:uFillTx/>
                <a:latin typeface="Arial Black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           </a:t>
            </a:r>
            <a:r>
              <a:rPr b="0" lang="zh-CN" sz="1200" spc="-1" strike="noStrike" u="sng">
                <a:solidFill>
                  <a:srgbClr val="6666ff"/>
                </a:solidFill>
                <a:uFillTx/>
                <a:latin typeface="Arial Black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ff"/>
                </a:solidFill>
                <a:uFillTx/>
                <a:latin typeface="Arial Black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66ff"/>
                </a:solidFill>
                <a:uFillTx/>
                <a:latin typeface="Arial Black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ff"/>
                </a:solidFill>
                <a:uFillTx/>
                <a:latin typeface="Arial Black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66ff"/>
                </a:solidFill>
                <a:uFillTx/>
                <a:latin typeface="Arial Black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ff"/>
                </a:solidFill>
                <a:uFillTx/>
                <a:latin typeface="Arial Black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66ff"/>
                </a:solidFill>
                <a:uFillTx/>
                <a:latin typeface="Arial Black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 Black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ff"/>
                </a:solidFill>
                <a:uFillTx/>
                <a:latin typeface="Arial Black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66ff"/>
                </a:solidFill>
                <a:uFillTx/>
                <a:latin typeface="Arial Black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ff"/>
                </a:solidFill>
                <a:uFillTx/>
                <a:latin typeface="Arial Black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66ff"/>
                </a:solidFill>
                <a:uFillTx/>
                <a:latin typeface="Arial Black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66ff"/>
                </a:solidFill>
                <a:uFillTx/>
                <a:latin typeface="Arial Black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666ff"/>
                </a:solidFill>
                <a:uFillTx/>
                <a:latin typeface="Arial Black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8C66-89D2-418F-86FB-09A49297CA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5:24:46Z</dcterms:created>
  <dc:creator>六十铺中小学教育网http://www.lspjy.com</dc:creator>
  <dc:description>第一PPT模板网-WWW.1PPT.COM</dc:description>
  <cp:keywords>六十铺中小学教育网http://www.lspjy.com</cp:keywords>
  <dc:language>en-US</dc:language>
  <cp:lastModifiedBy>xinxing</cp:lastModifiedBy>
  <dcterms:modified xsi:type="dcterms:W3CDTF">2017-04-16T15:56:48Z</dcterms:modified>
  <cp:revision>16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