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183-877A-4651-8CE1-BEB46743FE7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7.xml"/><Relationship Id="rId18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BADF-22C6-404D-B176-31A11706ADE2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188-E19F-492D-8A0C-9A729866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8D3-6B8D-4D31-A85F-D36CD7B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F9A-A25D-4209-BC42-8CDE712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DAB-0377-408C-9CB1-4CE312C0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F18-A734-4B06-9005-6AA0822B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B39-72B5-4B0F-8A93-A26C42C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05A-A7C3-4896-8845-5A5870B5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335-1961-4120-9917-BCD06247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62D-8D92-45C1-9BEC-7B160F01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3F5-D971-4588-AF5A-5BEF383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E79-F7B5-4BF1-991C-D28D627D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27B-6522-4E5A-A734-A648C4D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056-CB66-43A3-B5F7-0FA2F07E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393023519759258647&amp;pos=120&amp;num=36&amp;q=&#39118;&#36710;&amp;fm=QH36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Lenovo\Desktop\新建文件夹\背景\408128_093411086_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463680" y="1219320"/>
            <a:ext cx="8215200" cy="161748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2209320" y="5945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=2740552391,1618325686&amp;fm=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1905120" y="533520"/>
            <a:ext cx="486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谁也没有见过风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1143000"/>
            <a:ext cx="4038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风在哪儿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乌云在四处跑动的时侯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风要生气了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风在哪儿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空气或物体发出尖叫声的时候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风要恶作剧了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风在哪儿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小草翩翩起舞的时候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风来做客了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114800" y="1143000"/>
            <a:ext cx="46483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风在哪儿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湖水波光荡漾的时候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风儿张开了笑脸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风在哪儿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你感觉一阵凉爽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风要与你交朋友了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也没有见过风，但我们能感觉到风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风是我们的朋友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有时也是我们的仇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Lenovo\Desktop\新建文件夹\背景\408128_093411086_2[1]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4296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457200" y="609480"/>
            <a:ext cx="2324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感受风：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2057400"/>
            <a:ext cx="8839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谁也没有见过风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在哪儿呢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（         ）的时侯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知道（              ）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Lenovo\Desktop\新建文件夹\背景\20092200214570851[1]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img.shenmo.com/upload/data1/sns/fck/2009/11/19/17_07_38_809738.gif"/>
          <p:cNvPicPr/>
          <p:nvPr/>
        </p:nvPicPr>
        <p:blipFill>
          <a:blip r:embed="rId2"/>
          <a:stretch/>
        </p:blipFill>
        <p:spPr>
          <a:xfrm>
            <a:off x="0" y="3500280"/>
            <a:ext cx="3622680" cy="3357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3886200" y="685800"/>
            <a:ext cx="20574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一说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4956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年四季的风姑娘带给我们的感受吧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enovo\Desktop\新建文件夹\背景\2009220021457085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g.shenmo.com/upload/data1/sns/fck/2009/11/19/17_07_38_809738.gif"/>
          <p:cNvPicPr/>
          <p:nvPr/>
        </p:nvPicPr>
        <p:blipFill>
          <a:blip r:embed="rId2"/>
          <a:stretch/>
        </p:blipFill>
        <p:spPr>
          <a:xfrm>
            <a:off x="0" y="3500280"/>
            <a:ext cx="3622680" cy="335772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6"/>
          <p:cNvGrpSpPr/>
          <p:nvPr/>
        </p:nvGrpSpPr>
        <p:grpSpPr>
          <a:xfrm>
            <a:off x="3286080" y="0"/>
            <a:ext cx="5857920" cy="3643200"/>
            <a:chOff x="3286080" y="0"/>
            <a:chExt cx="5857920" cy="3643200"/>
          </a:xfrm>
        </p:grpSpPr>
        <p:sp>
          <p:nvSpPr>
            <p:cNvPr id="85" name="云形标注 4"/>
            <p:cNvSpPr/>
            <p:nvPr/>
          </p:nvSpPr>
          <p:spPr>
            <a:xfrm>
              <a:off x="3286080" y="0"/>
              <a:ext cx="5857920" cy="36432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5"/>
            <p:cNvSpPr/>
            <p:nvPr/>
          </p:nvSpPr>
          <p:spPr>
            <a:xfrm>
              <a:off x="4214520" y="571320"/>
              <a:ext cx="428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空气流动形成了风。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Lenovo\Desktop\新建文件夹\背景\408128_093411086_2[1].jpg"/>
          <p:cNvPicPr/>
          <p:nvPr/>
        </p:nvPicPr>
        <p:blipFill>
          <a:blip r:embed="rId1"/>
          <a:stretch/>
        </p:blipFill>
        <p:spPr>
          <a:xfrm>
            <a:off x="-214200" y="-152280"/>
            <a:ext cx="9358200" cy="742932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380880" y="457200"/>
            <a:ext cx="247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一比：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95280" y="167652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想办法，让其他同学也在你的指导下也能感受到风的存在，看谁的办法最多最好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701640" y="634032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u=2159468120,865442101&amp;fm=59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83560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2514600" y="457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风    李峤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438280" y="170496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解落三秋叶，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能开二月花。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过江千尺浪，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入竹万竿斜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get?name=T1txVuBQLC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1828800" y="762120"/>
            <a:ext cx="61912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把风带进我们的生活：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371600" y="1600200"/>
            <a:ext cx="67816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：我们生活中风的       用处与危害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一做：准备制作风车的工具：彩纸、剪刀、胶棒、摁钉、木棒等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462-8AB2-4BAC-88BC-F904062481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图片1"/>
          <p:cNvPicPr/>
          <p:nvPr/>
        </p:nvPicPr>
        <p:blipFill>
          <a:blip r:embed="rId1"/>
          <a:srcRect l="0" t="0" r="0" b="-5847"/>
          <a:stretch/>
        </p:blipFill>
        <p:spPr>
          <a:xfrm>
            <a:off x="139680" y="457200"/>
            <a:ext cx="8831160" cy="6234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838080" y="990720"/>
            <a:ext cx="304812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猜一猜：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362320" y="1828800"/>
            <a:ext cx="5257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树儿见它把头摇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苗儿见它就弯腰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儿见它浪花起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云儿见它快快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get?name=T1gLbRB5LX1RCvBVdK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taopic.com/uploads/allimg/100414/14-1004141024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ica.nipic.com/2008-03-19/2008319101415161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ic14.nipic.com/20110528/5485385_074532201317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chinajilin.com.cn/zhuanti/images/attachement/jpg/site1/20090302/001ec92b91bf0b157fe8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图片1"/>
          <p:cNvPicPr/>
          <p:nvPr/>
        </p:nvPicPr>
        <p:blipFill>
          <a:blip r:embed="rId1"/>
          <a:srcRect l="0" t="0" r="0" b="-5847"/>
          <a:stretch/>
        </p:blipFill>
        <p:spPr>
          <a:xfrm>
            <a:off x="139680" y="457200"/>
            <a:ext cx="8831160" cy="623412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1103400" y="609480"/>
            <a:ext cx="34862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寻找风姑娘：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66680" y="2514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标注发现：用笔在风姑娘的足迹处标上小记号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219320" y="4421160"/>
            <a:ext cx="7010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成果：风姑娘藏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因为我发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64" name="Picture 4" descr="课本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348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课本3"/>
            <p:cNvPicPr/>
            <p:nvPr/>
          </p:nvPicPr>
          <p:blipFill>
            <a:blip r:embed="rId2"/>
            <a:stretch/>
          </p:blipFill>
          <p:spPr>
            <a:xfrm rot="10800000">
              <a:off x="4211280" y="0"/>
              <a:ext cx="493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WordArt 5"/>
          <p:cNvSpPr txBox="1"/>
          <p:nvPr/>
        </p:nvSpPr>
        <p:spPr>
          <a:xfrm>
            <a:off x="304920" y="152280"/>
            <a:ext cx="23241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寻找风姑娘：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58:0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35:45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