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1.gif" ContentType="image/gif"/>
  <Override PartName="/ppt/media/image4.wmf" ContentType="image/x-wmf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4C9-4202-42DE-BE78-D3BE8EC8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457-BFF2-4C54-A99C-ED295232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F34-8BFC-41AF-805C-3E788F7A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19EA-33DA-460D-8F78-A3A1E0AE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991D-26F3-4A02-9FCA-144D7CA0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A47E-CDA7-4B75-92A2-FEF4ACC2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4F97-A1DE-4578-B2DC-D98ABE9E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1F88-674D-4396-B625-3D197D77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6E219-7BB1-4A17-BD62-63E9AFC0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678A-E507-48D1-A93B-299C9BD9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EA4-11DA-4099-A290-F1E4493A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69F-AD7A-43A4-A430-D609D81C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A51-6F78-4449-9C32-8C948B3B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B14-632A-4105-B086-53186B90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2B06-ED3A-4D06-B1E9-134DD198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3CB5-D72E-4689-9E98-9B1E05580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8BE9-646A-4220-9067-F5979559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A13-DDC0-4096-86CC-2AA6A078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EC1-33E7-43F3-9B7B-12CB020B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C72-E1AF-4B2B-B905-853A84E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87D6-1664-41A8-A2F3-4013AD6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6A12-7C4F-41E4-B4E9-4200AA7E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FD7-5A7E-40FA-80D3-028CCD65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6BF-881F-47D2-A656-4803A495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5400"/>
                <a:ext cx="1833480" cy="1663560"/>
                <a:chOff x="852480" y="4055400"/>
                <a:chExt cx="1833480" cy="166356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4160"/>
                  <a:ext cx="474480" cy="12186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7400" y="4973040"/>
                  <a:ext cx="10872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360" y="5569560"/>
                  <a:ext cx="19836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A796-A7BD-417C-9DBB-0735CEABEAD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720" y="296280"/>
              <a:ext cx="888840" cy="833760"/>
              <a:chOff x="5643720" y="296280"/>
              <a:chExt cx="88884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999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3840" y="4795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2760" y="396720"/>
                <a:ext cx="32004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7840" y="431640"/>
              <a:ext cx="1693440" cy="1148040"/>
              <a:chOff x="357840" y="431640"/>
              <a:chExt cx="1693440" cy="11480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0600" y="1050480"/>
                <a:ext cx="356040" cy="531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6560" y="575280"/>
                <a:ext cx="60948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0280" y="1089720"/>
                <a:ext cx="637200" cy="225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FF3C-257C-463E-86A7-F08DC24D00ED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gi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" Target="slide6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9"/>
          <p:cNvSpPr/>
          <p:nvPr/>
        </p:nvSpPr>
        <p:spPr>
          <a:xfrm>
            <a:off x="1403280" y="59515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99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609480"/>
            <a:ext cx="44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华文细黑"/>
              </a:rPr>
              <a:t>九年义务教育小学语文第三册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2362320" y="5867280"/>
            <a:ext cx="586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温州市广场路小学  “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课时锦囊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”开发小组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2743200" y="5410080"/>
            <a:ext cx="5429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华文细黑"/>
              </a:rPr>
              <a:t>教学设计：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郑颖        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华文细黑"/>
              </a:rPr>
              <a:t>课件制作：</a:t>
            </a:r>
            <a:r>
              <a:rPr b="1" lang="zh-CN" sz="20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戴晓萍     </a:t>
            </a:r>
            <a:r>
              <a:rPr b="1" lang="zh-CN" sz="1800" spc="-1" strike="noStrike">
                <a:solidFill>
                  <a:srgbClr val="006699"/>
                </a:solidFill>
                <a:latin typeface="Verdana"/>
              </a:rPr>
              <a:t>郑颖</a:t>
            </a: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WordArt 6"/>
          <p:cNvSpPr txBox="1"/>
          <p:nvPr/>
        </p:nvSpPr>
        <p:spPr>
          <a:xfrm>
            <a:off x="1523880" y="2117880"/>
            <a:ext cx="5867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语文园地一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solidFill>
                <a:srgbClr val="99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119840" y="35002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99"/>
                </a:solidFill>
                <a:latin typeface="Times New Roman"/>
                <a:ea typeface="方正姚体"/>
              </a:rPr>
              <a:t>（第一课时）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8" descr="AG00370_"/>
          <p:cNvPicPr/>
          <p:nvPr/>
        </p:nvPicPr>
        <p:blipFill>
          <a:blip r:embed="rId16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  <p:sp>
        <p:nvSpPr>
          <p:cNvPr id="175" name="矩形 11"/>
          <p:cNvSpPr/>
          <p:nvPr/>
        </p:nvSpPr>
        <p:spPr>
          <a:xfrm>
            <a:off x="2154960" y="49989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甲鱼"/>
          <p:cNvPicPr/>
          <p:nvPr/>
        </p:nvPicPr>
        <p:blipFill>
          <a:blip r:embed="rId1"/>
          <a:stretch/>
        </p:blipFill>
        <p:spPr>
          <a:xfrm>
            <a:off x="1187280" y="893880"/>
            <a:ext cx="6409080" cy="41590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5">
            <a:hlinkClick r:id="rId2" action="ppaction://hlinksldjump"/>
          </p:cNvPr>
          <p:cNvSpPr/>
          <p:nvPr/>
        </p:nvSpPr>
        <p:spPr>
          <a:xfrm>
            <a:off x="8101080" y="609444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564000" y="544500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Verdana"/>
              </a:rPr>
              <a:t>甲  鱼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伞3"/>
          <p:cNvPicPr/>
          <p:nvPr/>
        </p:nvPicPr>
        <p:blipFill>
          <a:blip r:embed="rId1"/>
          <a:stretch/>
        </p:blipFill>
        <p:spPr>
          <a:xfrm>
            <a:off x="826920" y="333360"/>
            <a:ext cx="5113440" cy="61657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6">
            <a:hlinkClick r:id="rId2" action="ppaction://hlinksldjump"/>
          </p:cNvPr>
          <p:cNvSpPr/>
          <p:nvPr/>
        </p:nvSpPr>
        <p:spPr>
          <a:xfrm>
            <a:off x="8101080" y="609444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6737040" y="1413000"/>
            <a:ext cx="9115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</a:rPr>
              <a:t>降  落  伞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大雁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瓜果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红叶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红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42800" y="103320"/>
            <a:ext cx="82440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文本框 1"/>
          <p:cNvSpPr/>
          <p:nvPr/>
        </p:nvSpPr>
        <p:spPr>
          <a:xfrm>
            <a:off x="2246400" y="605628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5"/>
                </a:solidFill>
                <a:latin typeface="Verdana"/>
              </a:rPr>
              <a:t>更多免费</a:t>
            </a:r>
            <a:r>
              <a:rPr b="0" lang="zh-CN" sz="1800" spc="-1" strike="noStrike">
                <a:solidFill>
                  <a:srgbClr val="fffff5"/>
                </a:solidFill>
                <a:latin typeface="Verdana"/>
              </a:rPr>
              <a:t>PPT</a:t>
            </a:r>
            <a:r>
              <a:rPr b="0" lang="zh-CN" sz="1800" spc="-1" strike="noStrike">
                <a:solidFill>
                  <a:srgbClr val="fffff5"/>
                </a:solidFill>
                <a:latin typeface="Verdana"/>
              </a:rPr>
              <a:t>模板尽在：</a:t>
            </a:r>
            <a:r>
              <a:rPr b="0" lang="zh-CN" sz="1800" spc="-1" strike="noStrike">
                <a:solidFill>
                  <a:srgbClr val="fffff5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玉米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0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00000" y="907920"/>
            <a:ext cx="4680000" cy="48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听听</a:t>
            </a: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3600" spc="-1" strike="noStrike">
                <a:solidFill>
                  <a:srgbClr val="006699"/>
                </a:solidFill>
                <a:latin typeface="Verdana"/>
              </a:rPr>
              <a:t>秋的声音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听听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秋的声音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大树抖抖手臂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刷刷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是黄叶道别的话音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听听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秋的声音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蟋蟀鼓鼓翅膀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蠼蠼</a:t>
            </a:r>
            <a:r>
              <a:rPr b="1" lang="zh-CN" sz="2000" spc="-1" strike="noStrike">
                <a:solidFill>
                  <a:srgbClr val="006699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是和阳台告别的歌韵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4327920" y="1844640"/>
            <a:ext cx="19911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一排排大雁追上白云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撒下一阵暖暖的叮咛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一阵阵秋风掠过田野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送来一片丰收的歌吟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听听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走进秋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走进这辽阔透明的音乐厅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你好好的去听听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99"/>
                </a:solidFill>
                <a:latin typeface="Verdana"/>
              </a:rPr>
              <a:t>秋的声音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9" name="WordArt 13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577800" cy="19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Verdana"/>
              </a:rPr>
              <a:t>使用规范说明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dongt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chuangy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ongzu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Verdan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kejia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shangw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sucai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ff"/>
                </a:solidFill>
                <a:uFillTx/>
                <a:latin typeface="Verdan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fengjing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njie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jiaoyu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lunwen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Verdana"/>
              </a:rPr>
              <a:t>http://www.eeppt.com/moban/yiliao/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A59B-76A8-4137-8A28-1216ABA341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7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WordArt 8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577800" cy="19940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1"/>
          <p:cNvSpPr/>
          <p:nvPr/>
        </p:nvSpPr>
        <p:spPr>
          <a:xfrm>
            <a:off x="900000" y="1773720"/>
            <a:ext cx="5616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99"/>
                </a:solidFill>
                <a:latin typeface="Verdana"/>
              </a:rPr>
              <a:t>郊    枝    笼</a:t>
            </a:r>
            <a:br>
              <a:rPr sz="6600"/>
            </a:br>
            <a:br>
              <a:rPr sz="6600"/>
            </a:br>
            <a:r>
              <a:rPr b="1" lang="zh-CN" sz="6600" spc="-1" strike="noStrike">
                <a:solidFill>
                  <a:srgbClr val="006699"/>
                </a:solidFill>
                <a:latin typeface="Verdana"/>
              </a:rPr>
              <a:t>球    帆    梨</a:t>
            </a:r>
            <a:endParaRPr b="0" lang="en-US" sz="6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3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WordArt 34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577800" cy="199404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1787760" y="1773360"/>
            <a:ext cx="353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</a:rPr>
              <a:t>交     支     龙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99"/>
                </a:solidFill>
                <a:latin typeface="Arial"/>
              </a:rPr>
              <a:t>求     凡     利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476360" y="98100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Object 16" descr=""/>
          <p:cNvPicPr/>
          <p:nvPr/>
        </p:nvPicPr>
        <p:blipFill>
          <a:blip r:embed="rId3"/>
          <a:stretch/>
        </p:blipFill>
        <p:spPr>
          <a:xfrm>
            <a:off x="6973920" y="3645000"/>
            <a:ext cx="54432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32"/>
          <p:cNvGrpSpPr/>
          <p:nvPr/>
        </p:nvGrpSpPr>
        <p:grpSpPr>
          <a:xfrm>
            <a:off x="1187280" y="1052640"/>
            <a:ext cx="5329440" cy="3457800"/>
            <a:chOff x="1187280" y="1052640"/>
            <a:chExt cx="5329440" cy="3457800"/>
          </a:xfrm>
        </p:grpSpPr>
        <p:sp>
          <p:nvSpPr>
            <p:cNvPr id="186" name="Text Box 23"/>
            <p:cNvSpPr/>
            <p:nvPr/>
          </p:nvSpPr>
          <p:spPr>
            <a:xfrm>
              <a:off x="4716360" y="1052640"/>
              <a:ext cx="158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l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ó</a:t>
              </a: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ng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1189080" y="1052640"/>
              <a:ext cx="1366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ji</a:t>
              </a:r>
              <a:r>
                <a:rPr b="1" lang="en-US" sz="4000" spc="-1" strike="noStrike">
                  <a:solidFill>
                    <a:srgbClr val="006699"/>
                  </a:solidFill>
                  <a:latin typeface="Verdana"/>
                </a:rPr>
                <a:t>ā</a:t>
              </a: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o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8" name="Text Box 27"/>
            <p:cNvSpPr/>
            <p:nvPr/>
          </p:nvSpPr>
          <p:spPr>
            <a:xfrm>
              <a:off x="3060720" y="1052640"/>
              <a:ext cx="151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zh</a:t>
              </a:r>
              <a:r>
                <a:rPr b="1" lang="en-US" sz="4000" spc="-1" strike="noStrike">
                  <a:solidFill>
                    <a:srgbClr val="006699"/>
                  </a:solidFill>
                  <a:latin typeface="Verdana"/>
                </a:rPr>
                <a:t>ī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89" name="Text Box 28"/>
            <p:cNvSpPr/>
            <p:nvPr/>
          </p:nvSpPr>
          <p:spPr>
            <a:xfrm>
              <a:off x="1187280" y="371664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qi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ú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0" name="Text Box 29"/>
            <p:cNvSpPr/>
            <p:nvPr/>
          </p:nvSpPr>
          <p:spPr>
            <a:xfrm>
              <a:off x="2989080" y="380700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f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á</a:t>
              </a: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n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5219640" y="3787920"/>
              <a:ext cx="1297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6699"/>
                  </a:solidFill>
                  <a:latin typeface="Verdana"/>
                </a:rPr>
                <a:t>l</a:t>
              </a:r>
              <a:r>
                <a:rPr b="0" lang="en-US" sz="4000" spc="-1" strike="noStrike">
                  <a:solidFill>
                    <a:srgbClr val="006699"/>
                  </a:solidFill>
                  <a:latin typeface="Arial"/>
                </a:rPr>
                <a:t>ì</a:t>
              </a:r>
              <a:endParaRPr b="0" lang="en-US" sz="4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250920" y="33336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火眼金睛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3132000" y="1052640"/>
            <a:ext cx="2808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枝　　支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455840" y="2924280"/>
            <a:ext cx="612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一（　　）花　　　　一（　　）军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</a:rPr>
              <a:t>一（　　）钢笔　　　一（　　）铅笔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1856880" y="285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Verdana"/>
              </a:rPr>
              <a:t>枝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856880" y="45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Verdana"/>
              </a:rPr>
              <a:t>枝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393960" y="2852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Verdana"/>
              </a:rPr>
              <a:t>支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465240" y="4581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Verdana"/>
              </a:rPr>
              <a:t>枝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9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WordArt 1030" descr=""/>
          <p:cNvPicPr/>
          <p:nvPr/>
        </p:nvPicPr>
        <p:blipFill>
          <a:blip r:embed="rId2"/>
          <a:stretch/>
        </p:blipFill>
        <p:spPr>
          <a:xfrm>
            <a:off x="7924680" y="228600"/>
            <a:ext cx="577800" cy="1994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468360" y="836640"/>
            <a:ext cx="6300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娃娃   胳膊   光盘   名片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山峰   巨石   枫树   菊花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翠鸟   甲鱼   高粱   橘子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勤劳   观察   认识   尤其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奇形怪状    旅游团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风景区      降落伞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光盘"/>
          <p:cNvPicPr/>
          <p:nvPr/>
        </p:nvPicPr>
        <p:blipFill>
          <a:blip r:embed="rId1"/>
          <a:stretch/>
        </p:blipFill>
        <p:spPr>
          <a:xfrm>
            <a:off x="971640" y="233280"/>
            <a:ext cx="6624720" cy="538812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5">
            <a:hlinkClick r:id="rId2" action="ppaction://hlinksldjump"/>
          </p:cNvPr>
          <p:cNvSpPr/>
          <p:nvPr/>
        </p:nvSpPr>
        <p:spPr>
          <a:xfrm>
            <a:off x="8101080" y="609444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419640" y="57340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Verdana"/>
              </a:rPr>
              <a:t>光  盘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枫树"/>
          <p:cNvPicPr/>
          <p:nvPr/>
        </p:nvPicPr>
        <p:blipFill>
          <a:blip r:embed="rId1"/>
          <a:stretch/>
        </p:blipFill>
        <p:spPr>
          <a:xfrm>
            <a:off x="1042920" y="404640"/>
            <a:ext cx="6840720" cy="478800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5">
            <a:hlinkClick r:id="rId2" action="ppaction://hlinksldjump"/>
          </p:cNvPr>
          <p:cNvSpPr/>
          <p:nvPr/>
        </p:nvSpPr>
        <p:spPr>
          <a:xfrm>
            <a:off x="8101080" y="609444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708360" y="5589720"/>
            <a:ext cx="18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枫 树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菊4"/>
          <p:cNvPicPr/>
          <p:nvPr/>
        </p:nvPicPr>
        <p:blipFill>
          <a:blip r:embed="rId1"/>
          <a:stretch/>
        </p:blipFill>
        <p:spPr>
          <a:xfrm>
            <a:off x="468360" y="654120"/>
            <a:ext cx="1871640" cy="1444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菊5"/>
          <p:cNvPicPr/>
          <p:nvPr/>
        </p:nvPicPr>
        <p:blipFill>
          <a:blip r:embed="rId2"/>
          <a:stretch/>
        </p:blipFill>
        <p:spPr>
          <a:xfrm>
            <a:off x="2700360" y="655560"/>
            <a:ext cx="1800360" cy="13924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菊6"/>
          <p:cNvPicPr/>
          <p:nvPr/>
        </p:nvPicPr>
        <p:blipFill>
          <a:blip r:embed="rId3"/>
          <a:stretch/>
        </p:blipFill>
        <p:spPr>
          <a:xfrm>
            <a:off x="4716360" y="639720"/>
            <a:ext cx="1727280" cy="1335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菊7"/>
          <p:cNvPicPr/>
          <p:nvPr/>
        </p:nvPicPr>
        <p:blipFill>
          <a:blip r:embed="rId4"/>
          <a:stretch/>
        </p:blipFill>
        <p:spPr>
          <a:xfrm>
            <a:off x="6877080" y="692280"/>
            <a:ext cx="1728720" cy="1334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菊8"/>
          <p:cNvPicPr/>
          <p:nvPr/>
        </p:nvPicPr>
        <p:blipFill>
          <a:blip r:embed="rId5"/>
          <a:stretch/>
        </p:blipFill>
        <p:spPr>
          <a:xfrm>
            <a:off x="6659640" y="2421000"/>
            <a:ext cx="1800000" cy="1390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菊9"/>
          <p:cNvPicPr/>
          <p:nvPr/>
        </p:nvPicPr>
        <p:blipFill>
          <a:blip r:embed="rId6"/>
          <a:stretch/>
        </p:blipFill>
        <p:spPr>
          <a:xfrm>
            <a:off x="6443640" y="4149720"/>
            <a:ext cx="2232000" cy="172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菊花2"/>
          <p:cNvPicPr/>
          <p:nvPr/>
        </p:nvPicPr>
        <p:blipFill>
          <a:blip r:embed="rId7"/>
          <a:stretch/>
        </p:blipFill>
        <p:spPr>
          <a:xfrm>
            <a:off x="395280" y="2708280"/>
            <a:ext cx="2217600" cy="3168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菊花1"/>
          <p:cNvPicPr/>
          <p:nvPr/>
        </p:nvPicPr>
        <p:blipFill>
          <a:blip r:embed="rId8"/>
          <a:stretch/>
        </p:blipFill>
        <p:spPr>
          <a:xfrm>
            <a:off x="3419640" y="3789360"/>
            <a:ext cx="2160360" cy="1511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2" descr="菊花3"/>
          <p:cNvPicPr/>
          <p:nvPr/>
        </p:nvPicPr>
        <p:blipFill>
          <a:blip r:embed="rId9"/>
          <a:stretch/>
        </p:blipFill>
        <p:spPr>
          <a:xfrm>
            <a:off x="3635280" y="2133720"/>
            <a:ext cx="1581120" cy="155088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3">
            <a:hlinkClick r:id="rId10" action="ppaction://hlinksldjump"/>
          </p:cNvPr>
          <p:cNvSpPr/>
          <p:nvPr/>
        </p:nvSpPr>
        <p:spPr>
          <a:xfrm>
            <a:off x="8101080" y="609444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780000" y="558972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Verdana"/>
              </a:rPr>
              <a:t>菊 花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2003921_144130_2092d"/>
          <p:cNvPicPr/>
          <p:nvPr/>
        </p:nvPicPr>
        <p:blipFill>
          <a:blip r:embed="rId1"/>
          <a:stretch/>
        </p:blipFill>
        <p:spPr>
          <a:xfrm>
            <a:off x="0" y="0"/>
            <a:ext cx="5435640" cy="3968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20040314_003935_54786"/>
          <p:cNvPicPr/>
          <p:nvPr/>
        </p:nvPicPr>
        <p:blipFill>
          <a:blip r:embed="rId2"/>
          <a:stretch/>
        </p:blipFill>
        <p:spPr>
          <a:xfrm>
            <a:off x="3635280" y="3137040"/>
            <a:ext cx="5508720" cy="372096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>
            <a:hlinkClick r:id="rId3" action="ppaction://hlinksldjump"/>
          </p:cNvPr>
          <p:cNvSpPr/>
          <p:nvPr/>
        </p:nvSpPr>
        <p:spPr>
          <a:xfrm>
            <a:off x="8278920" y="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Verdana"/>
              </a:rPr>
              <a:t>返回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116000" y="508464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Verdana"/>
              </a:rPr>
              <a:t>翠 鸟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6:24:0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4:40Z</dcterms:modified>
  <cp:revision>5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9</vt:r8>
  </property>
</Properties>
</file>