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6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0.wmf" ContentType="image/x-wmf"/>
  <Override PartName="/ppt/media/image30.wmf" ContentType="image/x-wmf"/>
  <Override PartName="/ppt/media/image33.png" ContentType="image/png"/>
  <Override PartName="/ppt/media/image31.wmf" ContentType="image/x-wmf"/>
  <Override PartName="/ppt/media/image5.gif" ContentType="image/gif"/>
  <Override PartName="/ppt/media/image1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7A1-7B13-4FA6-A043-22790B90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DA44-BBD1-4ACE-8502-4B33C494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69C-CDBD-470F-8E75-A9135FFD3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7519-8DD0-4CAB-B389-BD9BA1C8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A7C-6DD1-4FCF-AE91-115B641B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7F1-DFEF-46EF-8291-785973C9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96D-3D73-4EAC-9EA5-A6CFF38B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E99-C14C-49F4-B50C-0FB8DBEB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86FD-5A31-4A23-B672-FAAB0D28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679-8769-44F0-B52A-C93C8DDD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B17-A44D-4EF1-9C33-9953A4B1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4FC-2B62-44EC-A597-277E7188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0D6-C5ED-4342-8618-E1B93DF4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815C-71C4-4279-9BAC-9BC81C21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B3E-BD0F-4033-B730-F912EAAC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506-081F-4CBE-96A5-BFAF8DC4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6DD7-65EE-410A-9EB8-9CEB0A1A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8B6-E522-4A30-B3B4-524E143D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22EA-0484-4EBD-885B-2F68F25C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E34-5DC3-4D8E-831A-5AC007BC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CE6-0137-4AE1-86DE-1540197D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066EC-C967-42F7-B4FD-8C74B31E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916C-E57E-4BC2-AB5B-7EB01D7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6C47F-6AB4-4F6B-AE6B-DC8E0D60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1254-1A0D-49D4-9D80-0604D15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4F26-5009-45C0-96D4-7A4A782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84863-1698-4F4B-929C-BD0D72A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AB8F-7B2B-4C1D-A0AD-455AA1B1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4728-D396-4479-B1EB-80F902C2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F0415-63BB-4296-8F90-9CE03C34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4CB4A-0958-4D94-894A-825E3CF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B2F-E8D2-4CD3-92F9-A7603FF1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EBCF-876D-44F2-A9FA-94530332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AE4C-7E07-4617-AF34-89CD496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5E82-56B4-47AD-A878-FFB254A2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2A5A3-2FEA-4E96-ABD1-D094891E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63B54-0E32-41BF-8D0A-BA6180BC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DD24B-1F54-41A7-A93B-B338868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8738-5C42-49D5-ABDF-B69DDA1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6CB02-C8B8-44D1-AC05-5CBCADD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3B684-DDB9-4C8C-80F9-B46DA0EF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19BD-A4A6-4C12-85DE-DAEA71FB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A74-EAD2-4569-B376-DF1B4A83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7AAE2-958D-40F2-8CBC-F0359D1F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0976A-CE5D-4DB1-86CB-6E7FB121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8611A-B967-428B-9E5F-C57F39EA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68B8-2B4D-43C3-A1C1-3DC1CCF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52119-2FC8-4690-B0C6-0EB4B3F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A0E0A-3A45-44B6-948D-68FDE55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8B3A-CF1B-4AC7-84CB-493079C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DBEF-5981-4E96-A354-2FEFD85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A11CF-99F0-4EBD-BAA8-7AE320F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96B8-5B11-454E-A283-755B000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8B9E-D325-4367-AE41-74C26A7C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3EF1D-6CA6-4399-88AE-4D95144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AA91F-7E3C-4A45-9E13-7A22AF64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2E9B5-9536-43D3-8CB3-39A64522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9A0D5-7821-423D-A3ED-417D471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2654B-8A64-4C69-9128-8BBB880F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31F12-8D6D-475B-A382-33AC2DF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12B60-16C1-466F-AB83-8EC3AD8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FA051-BB2F-4929-BE11-7907113F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ECE61-06D7-4D5D-81A2-1471F96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781F3-0322-4956-BF10-199FB03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CE3-0615-4E83-80E7-5E9F602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AB22-E7D9-44A7-8BE1-14C757D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6F178-3C3A-4F49-8A5A-7BC53A7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5CEF5-348B-43BC-89CC-4A0F5C2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C19C2-7378-4082-BF6A-1CADEF96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67C7B-B5E6-4DF7-BD7F-B9914BB1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F8647-E5E5-4DB9-9FDF-CB7C13CA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2A124-CE20-4AB4-89F4-45AC431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3B7E4-0BCA-43EF-A2C8-E566DDE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F2261-5562-436F-B4F2-055DD58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9978A-58F9-4682-AEEA-5A56FC8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3F0-EE88-407C-9244-D18C21F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28383-6DA1-4ECA-931A-3285076B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5D31A-1765-471B-8693-859234C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5379D-ADF5-45C3-9B2C-312E356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93EAA-F656-4720-B900-A936A7D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34F8E-9458-4408-B4FC-BA2F4FC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A9E5B-2ED6-4885-9306-5BBD3775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52142-D28C-45EE-84A2-A6EE096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334B-233E-44D0-91A8-1F08FEDD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FB8-62BF-4FDE-ABC3-05F77068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A6F0-163F-4444-A814-36B7E8F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808A-A685-4C88-8ABD-89915AA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293-1109-4DA5-82D1-95480B68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FD0C-9979-4F3E-A227-2E40CC3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535-051B-4EA2-89F0-EB27698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6869-3CD0-49AE-AD31-249E129F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8A63-490B-43B4-8F7D-6179CDDE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CED-EAA9-4312-A04C-39206FDA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EF39-0634-4D42-83A1-C0403B69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0199-8338-4763-96D9-FCC9EB53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2BE7-6408-49D5-A52E-A6ECB944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7FF5-8A64-4F3C-9AB7-AE275A53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FA99-092D-451D-ADEC-792403C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BCA-22E4-4833-A762-3D0EB9BE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310B-8D58-4C9E-A095-9C25D5B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7BCA-A2D3-44C0-9FD3-4AC3E5C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151C-1E78-4BAD-971D-DC1584A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C802-E9BB-485A-95B1-3A93C5E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C0B4-DB5C-4330-B17F-6595C34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40BC-18C0-471E-81AD-7382E744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713D-5347-4E3C-A0C2-0E2E2D2A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1FEB-04D4-4ABA-8562-E3186602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07A1-A5E6-4FEB-AA8B-DFFEE058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01EA4-80FC-43D5-AC4B-DAE24D9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B49-1BD3-4EA5-A214-59D7F1E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D267-112F-4BC7-B74F-A0D0C8F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AF10-669E-4631-A32D-2CBB5941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6673-494B-429D-BBBE-68075454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2938-75CA-4A47-A44B-950BBDF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FDB2-BB84-432D-A2AB-510ABAD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B743-3739-455C-A796-1A10768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AC3A-2AB7-4937-AA77-0A5C7C4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DA15-C2F5-4057-A3BF-1566C97B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BACA-291A-436C-A91D-120795C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E7D0-5E06-4BC9-9324-9718A9C5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E9B-FA29-4231-A65E-552BEBD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F1E8-A28E-484D-B61A-4A9D7865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AADA-6492-4F54-8D41-C50481F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9710-94FD-4720-84AB-A0AB4A1C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4589-854F-4923-B5C9-4387689C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B3FE-A425-4BEF-9FA1-FE8755F7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83E2-2659-4111-8D07-EBDCC6E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3A48-844F-4203-804E-9DE347B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23FE-2DE4-4D83-BBED-D6C6015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C537-09AC-4563-9346-DFE351D1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D667-8BF4-4FC3-8DE8-1209A5E8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6E7-2200-4582-B2C4-F60A7D3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1DF3-CEC0-43C3-B279-379496FC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1CF9-8050-47E3-893B-0371BBF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1662-A8FE-404A-B9C9-0A47E9F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E05F-E933-4F72-9119-97882C3B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7BCF-0CD9-432B-A7A4-5188EA2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464C-1C44-425C-8D47-AC2AACD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A92C-D40D-4467-A2EC-BE5035C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5352C-0017-464C-8EFE-12F44BA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63EB-B74C-44BB-938F-1D3CA1C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6072-CC52-4E4F-8833-329DAEA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DE5-3D5D-4D53-B494-46BCE9D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5F401-E980-43AA-9FA8-C526E9A5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5BB5-81C0-4863-A57B-6C287BD0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1C66A-B676-452F-8BD9-7C933EE7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75E7E-868C-4C8A-A601-FB9524BA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61C6-6DD0-4086-8FE7-D1EAB8D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595C7-C570-4B7C-B064-521B9EEF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5C3D-BF9B-4675-AC44-428F776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E8C2-A512-455A-8634-AAFD516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05E6-31A6-4BB0-A6EB-4C5446BC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C546-A37E-4440-B109-9D399A6A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EA0-D0F7-46D0-BBBC-D440ACB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7B06-A59F-4A9F-B356-F279128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BCD8-0BCF-426D-B1C6-2D84197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0BC6B-2474-4F34-8FEA-8B4717F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4B0C-2CFF-49AD-ADB9-87BD11FB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3D4C4-8478-4F04-AC81-9786708B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28D6-9170-4CA6-82FC-9BDEF74C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8AAF5-0440-4705-A223-65D2DEC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88AE9-7E52-4E4F-9B00-6CDD93E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A7B5-2595-42C2-A822-418179F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00A33-BA04-4336-AA4A-39265DA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375-12EB-4E56-ABF8-5D4CC32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A27D-F658-4F35-AE8C-FE70883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573DD-42D7-4478-B652-3894C95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5967-2CC1-4EC4-85BA-434C789F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2904E-5702-4C4F-ABE2-08CBE4C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BC203-0443-4AC4-9587-19DEF520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918E-FF2D-4A93-8E72-4B7D55B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266A-C91C-41B9-930F-38EDF3EA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13201-35EB-4014-9B34-731DE740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9802-6001-480C-85E1-CFE9BCD5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024E7-5731-48D1-8367-CAD716BE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413-5626-401C-BB95-2AF77B358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孔隆教育PPT模板(下)副本"/>
          <p:cNvPicPr/>
          <p:nvPr/>
        </p:nvPicPr>
        <p:blipFill>
          <a:blip r:embed="rId3"/>
          <a:stretch/>
        </p:blipFill>
        <p:spPr>
          <a:xfrm>
            <a:off x="0" y="6670800"/>
            <a:ext cx="914400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孔隆教育PPT模板(上)空"/>
          <p:cNvPicPr/>
          <p:nvPr/>
        </p:nvPicPr>
        <p:blipFill>
          <a:blip r:embed="rId4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孔隆教育LOGO"/>
          <p:cNvPicPr/>
          <p:nvPr/>
        </p:nvPicPr>
        <p:blipFill>
          <a:blip r:embed="rId5"/>
          <a:stretch/>
        </p:blipFill>
        <p:spPr>
          <a:xfrm>
            <a:off x="8172360" y="0"/>
            <a:ext cx="576360" cy="26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828F-4374-4CA6-9FED-EE259ED6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883-599A-408E-9A5F-0C3C9BFD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B96B-EFA8-4CD8-A6B4-9578F9B61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8FD0-61AF-4704-8C15-0EC33C88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91C-37F4-4C0A-B5D4-AB1D9957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4F9-27A2-4DE2-BA9E-D65DAFBE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B65-B2AC-4516-911B-B701CEC5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6790-3214-47F7-B344-425B7F78F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295A-F242-4D8B-A94B-18833C7E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D8F-4EC0-4E67-BE50-9C2387F2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E34-DBD3-4BFE-B4BE-838E43D1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A10-EA88-435D-989A-EE353965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33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977760" y="1844640"/>
            <a:ext cx="67471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元二次方程课件</a:t>
            </a: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9585360" y="-8460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3"/>
          <p:cNvGrpSpPr/>
          <p:nvPr/>
        </p:nvGrpSpPr>
        <p:grpSpPr>
          <a:xfrm>
            <a:off x="6227640" y="5013360"/>
            <a:ext cx="2448000" cy="1557000"/>
            <a:chOff x="6227640" y="5013360"/>
            <a:chExt cx="2448000" cy="1557000"/>
          </a:xfrm>
        </p:grpSpPr>
        <p:pic>
          <p:nvPicPr>
            <p:cNvPr id="615" name="Picture 4" descr="PE02604_"/>
            <p:cNvPicPr/>
            <p:nvPr/>
          </p:nvPicPr>
          <p:blipFill>
            <a:blip r:embed="rId2"/>
            <a:stretch/>
          </p:blipFill>
          <p:spPr>
            <a:xfrm>
              <a:off x="6227640" y="5013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5"/>
            <p:cNvSpPr/>
            <p:nvPr/>
          </p:nvSpPr>
          <p:spPr>
            <a:xfrm>
              <a:off x="7667640" y="5013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8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620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3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625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6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7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ject 19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7775280" cy="381636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0"/>
          <p:cNvSpPr/>
          <p:nvPr/>
        </p:nvSpPr>
        <p:spPr>
          <a:xfrm>
            <a:off x="4089240" y="1905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1"/>
          <p:cNvSpPr/>
          <p:nvPr/>
        </p:nvSpPr>
        <p:spPr>
          <a:xfrm>
            <a:off x="5459400" y="190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元二次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88360" cy="61927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32767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8200"/>
          <p:cNvSpPr/>
          <p:nvPr/>
        </p:nvSpPr>
        <p:spPr>
          <a:xfrm>
            <a:off x="2832120" y="2013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9585360" y="-8460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6227640" y="5013360"/>
            <a:ext cx="2448000" cy="1557000"/>
            <a:chOff x="6227640" y="5013360"/>
            <a:chExt cx="2448000" cy="1557000"/>
          </a:xfrm>
        </p:grpSpPr>
        <p:pic>
          <p:nvPicPr>
            <p:cNvPr id="638" name="Picture 4" descr="PE02604_"/>
            <p:cNvPicPr/>
            <p:nvPr/>
          </p:nvPicPr>
          <p:blipFill>
            <a:blip r:embed="rId2"/>
            <a:stretch/>
          </p:blipFill>
          <p:spPr>
            <a:xfrm>
              <a:off x="6227640" y="5013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7667640" y="5013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6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643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3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648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6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Rectangle 17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Object 19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8766000" cy="36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Object 2" descr=""/>
          <p:cNvPicPr/>
          <p:nvPr/>
        </p:nvPicPr>
        <p:blipFill>
          <a:blip r:embed="rId2"/>
          <a:stretch/>
        </p:blipFill>
        <p:spPr>
          <a:xfrm>
            <a:off x="603360" y="160200"/>
            <a:ext cx="69976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148"/>
          <p:cNvSpPr/>
          <p:nvPr/>
        </p:nvSpPr>
        <p:spPr>
          <a:xfrm>
            <a:off x="3059280" y="333360"/>
            <a:ext cx="2879640" cy="7192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隶书"/>
              </a:rPr>
              <a:t>拓展提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14200" y="1500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已知方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2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一个根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6"/>
          <p:cNvSpPr/>
          <p:nvPr/>
        </p:nvSpPr>
        <p:spPr>
          <a:xfrm>
            <a:off x="228600" y="37339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)(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5)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解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285840" y="259092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3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)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解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214200" y="47862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方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9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一个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516040" y="19810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=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270480" y="2666880"/>
            <a:ext cx="23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,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-3,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5355720" y="3809880"/>
            <a:ext cx="255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,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-1,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355560" y="5257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148"/>
          <p:cNvSpPr/>
          <p:nvPr/>
        </p:nvSpPr>
        <p:spPr>
          <a:xfrm>
            <a:off x="3059280" y="333360"/>
            <a:ext cx="2879640" cy="71928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隶书"/>
              </a:rPr>
              <a:t>拓展提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"/>
          <p:cNvSpPr/>
          <p:nvPr/>
        </p:nvSpPr>
        <p:spPr>
          <a:xfrm>
            <a:off x="142920" y="135720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方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解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                B. 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       D. 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142920" y="321480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和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某一个方程的两个根，则该方程可以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6)=0              B.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6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42=0                 D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6097320" y="1295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1496880" y="3686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closeddoor1"/>
          <p:cNvPicPr/>
          <p:nvPr/>
        </p:nvPicPr>
        <p:blipFill>
          <a:blip r:embed="rId2"/>
          <a:stretch/>
        </p:blipFill>
        <p:spPr>
          <a:xfrm>
            <a:off x="8172360" y="4581360"/>
            <a:ext cx="755640" cy="184500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3" descr=""/>
          <p:cNvPicPr/>
          <p:nvPr/>
        </p:nvPicPr>
        <p:blipFill>
          <a:blip r:embed="rId3"/>
          <a:stretch/>
        </p:blipFill>
        <p:spPr>
          <a:xfrm>
            <a:off x="0" y="1587600"/>
            <a:ext cx="8893080" cy="1847880"/>
          </a:xfrm>
          <a:prstGeom prst="rect">
            <a:avLst/>
          </a:prstGeom>
          <a:ln w="0">
            <a:noFill/>
          </a:ln>
        </p:spPr>
      </p:pic>
      <p:pic>
        <p:nvPicPr>
          <p:cNvPr id="672" name="Object 4" descr=""/>
          <p:cNvPicPr/>
          <p:nvPr/>
        </p:nvPicPr>
        <p:blipFill>
          <a:blip r:embed="rId4"/>
          <a:stretch/>
        </p:blipFill>
        <p:spPr>
          <a:xfrm>
            <a:off x="-52560" y="3675240"/>
            <a:ext cx="8999640" cy="18493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693432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162920" y="2590920"/>
            <a:ext cx="9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948240" y="533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Object 2" descr=""/>
          <p:cNvPicPr/>
          <p:nvPr/>
        </p:nvPicPr>
        <p:blipFill>
          <a:blip r:embed="rId2"/>
          <a:stretch/>
        </p:blipFill>
        <p:spPr>
          <a:xfrm>
            <a:off x="250920" y="781200"/>
            <a:ext cx="8675640" cy="1620720"/>
          </a:xfrm>
          <a:prstGeom prst="rect">
            <a:avLst/>
          </a:prstGeom>
          <a:ln w="0">
            <a:noFill/>
          </a:ln>
        </p:spPr>
      </p:pic>
      <p:pic>
        <p:nvPicPr>
          <p:cNvPr id="677" name="Object 3" descr=""/>
          <p:cNvPicPr/>
          <p:nvPr/>
        </p:nvPicPr>
        <p:blipFill>
          <a:blip r:embed="rId3"/>
          <a:stretch/>
        </p:blipFill>
        <p:spPr>
          <a:xfrm>
            <a:off x="0" y="2349360"/>
            <a:ext cx="896472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826920" y="4005360"/>
          <a:ext cx="6913440" cy="115236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2400"/>
                <a:gridCol w="13827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0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9" name="Object 24" descr=""/>
          <p:cNvPicPr/>
          <p:nvPr/>
        </p:nvPicPr>
        <p:blipFill>
          <a:blip r:embed="rId4"/>
          <a:stretch/>
        </p:blipFill>
        <p:spPr>
          <a:xfrm>
            <a:off x="900000" y="4673520"/>
            <a:ext cx="1150920" cy="33984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5"/>
          <p:cNvSpPr/>
          <p:nvPr/>
        </p:nvSpPr>
        <p:spPr>
          <a:xfrm>
            <a:off x="971640" y="5734080"/>
            <a:ext cx="583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Object 26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7"/>
          <p:cNvSpPr/>
          <p:nvPr/>
        </p:nvSpPr>
        <p:spPr>
          <a:xfrm>
            <a:off x="900000" y="551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900000" y="602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284720" y="59500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4211640" y="544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8317080" y="3213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6781680" y="1600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8200"/>
          <p:cNvSpPr/>
          <p:nvPr/>
        </p:nvSpPr>
        <p:spPr>
          <a:xfrm>
            <a:off x="1165320" y="569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9585360" y="-8460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4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8534160" cy="40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WordArt 2"/>
          <p:cNvSpPr txBox="1"/>
          <p:nvPr/>
        </p:nvSpPr>
        <p:spPr>
          <a:xfrm rot="5400000">
            <a:off x="-146160" y="1235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提高题：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1403280" y="620640"/>
            <a:ext cx="68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方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a+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a-b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3=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关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一元二次方程，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值各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Object 4" descr=""/>
          <p:cNvPicPr/>
          <p:nvPr/>
        </p:nvPicPr>
        <p:blipFill>
          <a:blip r:embed="rId2"/>
          <a:stretch/>
        </p:blipFill>
        <p:spPr>
          <a:xfrm>
            <a:off x="1054080" y="3176640"/>
            <a:ext cx="2082960" cy="131616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5" descr=""/>
          <p:cNvPicPr/>
          <p:nvPr/>
        </p:nvPicPr>
        <p:blipFill>
          <a:blip r:embed="rId3"/>
          <a:stretch/>
        </p:blipFill>
        <p:spPr>
          <a:xfrm>
            <a:off x="3719520" y="3176640"/>
            <a:ext cx="2082960" cy="131616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6" descr=""/>
          <p:cNvPicPr/>
          <p:nvPr/>
        </p:nvPicPr>
        <p:blipFill>
          <a:blip r:embed="rId4"/>
          <a:stretch/>
        </p:blipFill>
        <p:spPr>
          <a:xfrm>
            <a:off x="6527880" y="3176640"/>
            <a:ext cx="208260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7" descr=""/>
          <p:cNvPicPr/>
          <p:nvPr/>
        </p:nvPicPr>
        <p:blipFill>
          <a:blip r:embed="rId5"/>
          <a:stretch/>
        </p:blipFill>
        <p:spPr>
          <a:xfrm>
            <a:off x="3770280" y="5105520"/>
            <a:ext cx="2170080" cy="136980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8" descr=""/>
          <p:cNvPicPr/>
          <p:nvPr/>
        </p:nvPicPr>
        <p:blipFill>
          <a:blip r:embed="rId6"/>
          <a:stretch/>
        </p:blipFill>
        <p:spPr>
          <a:xfrm>
            <a:off x="1152360" y="5092560"/>
            <a:ext cx="2009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slide0001_image005"/>
          <p:cNvPicPr/>
          <p:nvPr/>
        </p:nvPicPr>
        <p:blipFill>
          <a:blip r:embed="rId2"/>
          <a:stretch/>
        </p:blipFill>
        <p:spPr>
          <a:xfrm>
            <a:off x="6842160" y="0"/>
            <a:ext cx="2301840" cy="17622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3"/>
          <p:cNvSpPr/>
          <p:nvPr/>
        </p:nvSpPr>
        <p:spPr>
          <a:xfrm>
            <a:off x="0" y="1125360"/>
            <a:ext cx="66247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元二次方程的概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0" y="1844640"/>
            <a:ext cx="85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含有一个未知数，并且未知数的最高次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整式方程叫做一元二次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87480" y="27288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一元二次方程的一般形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-36360" y="3213000"/>
            <a:ext cx="849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任何一个关于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一元二次方程都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化为                             的形式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a,b,c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常数，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称为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元二次方程的一般形式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900000" y="3789360"/>
            <a:ext cx="7350120" cy="541080"/>
            <a:chOff x="900000" y="3789360"/>
            <a:chExt cx="7350120" cy="541080"/>
          </a:xfrm>
        </p:grpSpPr>
        <p:pic>
          <p:nvPicPr>
            <p:cNvPr id="551" name="Object 8" descr=""/>
            <p:cNvPicPr/>
            <p:nvPr/>
          </p:nvPicPr>
          <p:blipFill>
            <a:blip r:embed="rId3"/>
            <a:stretch/>
          </p:blipFill>
          <p:spPr>
            <a:xfrm>
              <a:off x="900000" y="3789360"/>
              <a:ext cx="21132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Object 9" descr=""/>
            <p:cNvPicPr/>
            <p:nvPr/>
          </p:nvPicPr>
          <p:blipFill>
            <a:blip r:embed="rId4"/>
            <a:stretch/>
          </p:blipFill>
          <p:spPr>
            <a:xfrm>
              <a:off x="5651640" y="3789360"/>
              <a:ext cx="25984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Text Box 10"/>
          <p:cNvSpPr/>
          <p:nvPr/>
        </p:nvSpPr>
        <p:spPr>
          <a:xfrm>
            <a:off x="786960" y="5000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复习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slide0001_image005"/>
          <p:cNvPicPr/>
          <p:nvPr/>
        </p:nvPicPr>
        <p:blipFill>
          <a:blip r:embed="rId2"/>
          <a:stretch/>
        </p:blipFill>
        <p:spPr>
          <a:xfrm>
            <a:off x="6842160" y="0"/>
            <a:ext cx="2301840" cy="1762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小结与思考"/>
          <p:cNvPicPr/>
          <p:nvPr/>
        </p:nvPicPr>
        <p:blipFill>
          <a:blip r:embed="rId3"/>
          <a:stretch/>
        </p:blipFill>
        <p:spPr>
          <a:xfrm>
            <a:off x="0" y="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0" y="1125360"/>
            <a:ext cx="66247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元二次方程的概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0" y="1844640"/>
            <a:ext cx="85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含有一个未知数，并且未知数的最高次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整式方程叫做一元二次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87480" y="27288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一元二次方程的一般形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-36360" y="3213000"/>
            <a:ext cx="849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任何一个关于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一元二次方程都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化为                          的形式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a,b,c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常数，</a:t>
            </a:r>
            <a:r>
              <a:rPr b="1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称为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元二次方程的一般形式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8"/>
          <p:cNvGrpSpPr/>
          <p:nvPr/>
        </p:nvGrpSpPr>
        <p:grpSpPr>
          <a:xfrm>
            <a:off x="900000" y="3789360"/>
            <a:ext cx="7350120" cy="541080"/>
            <a:chOff x="900000" y="3789360"/>
            <a:chExt cx="7350120" cy="541080"/>
          </a:xfrm>
        </p:grpSpPr>
        <p:pic>
          <p:nvPicPr>
            <p:cNvPr id="706" name="Object 9" descr=""/>
            <p:cNvPicPr/>
            <p:nvPr/>
          </p:nvPicPr>
          <p:blipFill>
            <a:blip r:embed="rId4"/>
            <a:stretch/>
          </p:blipFill>
          <p:spPr>
            <a:xfrm>
              <a:off x="900000" y="3789360"/>
              <a:ext cx="21132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Object 10" descr=""/>
            <p:cNvPicPr/>
            <p:nvPr/>
          </p:nvPicPr>
          <p:blipFill>
            <a:blip r:embed="rId5"/>
            <a:stretch/>
          </p:blipFill>
          <p:spPr>
            <a:xfrm>
              <a:off x="5651640" y="3789360"/>
              <a:ext cx="25984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11"/>
          <p:cNvSpPr/>
          <p:nvPr/>
        </p:nvSpPr>
        <p:spPr>
          <a:xfrm>
            <a:off x="0" y="54450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模仿一元二次方程的定义你能对一元三次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下个定义吗？请你试试看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1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11CE-888B-47A0-8F24-C6040B673C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684360" y="1557360"/>
            <a:ext cx="79261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上一节我们认识了一元二次方程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接下来我们就要探求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元二次方程的解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方程解的定义是怎样的呢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042920" y="4724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能使方程左右两边相等的未知数的值就叫方程的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332000" y="47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华文新魏"/>
                <a:ea typeface="华文新魏"/>
              </a:rPr>
              <a:t>探    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Oval 2"/>
          <p:cNvSpPr/>
          <p:nvPr/>
        </p:nvSpPr>
        <p:spPr>
          <a:xfrm>
            <a:off x="6019920" y="5181480"/>
            <a:ext cx="6094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"/>
          <p:cNvSpPr/>
          <p:nvPr/>
        </p:nvSpPr>
        <p:spPr>
          <a:xfrm>
            <a:off x="6067440" y="4572000"/>
            <a:ext cx="30492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2819520" y="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悬而未解的问题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0" y="914400"/>
            <a:ext cx="91440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问题  要组织一次排球邀请赛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参赛的每两队之间都要比赛一场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根据场地和时间等条件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赛程计划安排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天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每天安排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场比赛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比赛组织者应邀请多少个队参加比赛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685800" y="2895480"/>
            <a:ext cx="76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邀请了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队参加比赛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得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Object 7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3087720" cy="12031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8"/>
          <p:cNvSpPr/>
          <p:nvPr/>
        </p:nvSpPr>
        <p:spPr>
          <a:xfrm>
            <a:off x="4724280" y="3886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新魏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5800" y="4572000"/>
          <a:ext cx="7924680" cy="1050840"/>
        </p:xfrm>
        <a:graphic>
          <a:graphicData uri="http://schemas.openxmlformats.org/drawingml/2006/table">
            <a:tbl>
              <a:tblPr/>
              <a:tblGrid>
                <a:gridCol w="914400"/>
                <a:gridCol w="571680"/>
                <a:gridCol w="571320"/>
                <a:gridCol w="609480"/>
                <a:gridCol w="609840"/>
                <a:gridCol w="685800"/>
                <a:gridCol w="761760"/>
                <a:gridCol w="609840"/>
                <a:gridCol w="685800"/>
                <a:gridCol w="609480"/>
                <a:gridCol w="60948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X</a:t>
                      </a:r>
                      <a:r>
                        <a:rPr b="1" lang="en-US" sz="2800" spc="-1" strike="noStrike" baseline="42000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 Box 50"/>
          <p:cNvSpPr/>
          <p:nvPr/>
        </p:nvSpPr>
        <p:spPr>
          <a:xfrm>
            <a:off x="380880" y="5791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表中数值可以发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是方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42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x=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1194840" y="620064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否只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方程的根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2"/>
          <p:cNvSpPr/>
          <p:nvPr/>
        </p:nvSpPr>
        <p:spPr>
          <a:xfrm>
            <a:off x="5404320" y="617220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 </a:t>
            </a:r>
            <a:r>
              <a:rPr b="1" lang="en-US" sz="2800" spc="-1" strike="noStrike" baseline="2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未知"/>
          <p:cNvSpPr/>
          <p:nvPr/>
        </p:nvSpPr>
        <p:spPr>
          <a:xfrm>
            <a:off x="2556000" y="692280"/>
            <a:ext cx="5040360" cy="65700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能否说出下列方程的解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5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3024000" cy="77796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6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2663640" cy="94788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7" descr=""/>
          <p:cNvPicPr/>
          <p:nvPr/>
        </p:nvPicPr>
        <p:blipFill>
          <a:blip r:embed="rId4"/>
          <a:stretch/>
        </p:blipFill>
        <p:spPr>
          <a:xfrm>
            <a:off x="1835280" y="3284640"/>
            <a:ext cx="2509560" cy="9349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8"/>
          <p:cNvSpPr/>
          <p:nvPr/>
        </p:nvSpPr>
        <p:spPr>
          <a:xfrm>
            <a:off x="755640" y="4941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元二次方程的根的情况与一元一次方程有什么不同吗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未知"/>
          <p:cNvSpPr/>
          <p:nvPr/>
        </p:nvSpPr>
        <p:spPr>
          <a:xfrm>
            <a:off x="2556000" y="692280"/>
            <a:ext cx="5040360" cy="65700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)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下面哪些数是方程                   的根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-4  -3  -2   -1   0  1   2  3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)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能写出方程                   的根吗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2663640" cy="939600"/>
          </a:xfrm>
          <a:prstGeom prst="rect">
            <a:avLst/>
          </a:prstGeom>
          <a:ln w="0">
            <a:noFill/>
          </a:ln>
        </p:spPr>
      </p:pic>
      <p:pic>
        <p:nvPicPr>
          <p:cNvPr id="579" name="Object 6" descr=""/>
          <p:cNvPicPr/>
          <p:nvPr/>
        </p:nvPicPr>
        <p:blipFill>
          <a:blip r:embed="rId3"/>
          <a:stretch/>
        </p:blipFill>
        <p:spPr>
          <a:xfrm>
            <a:off x="4356000" y="3357720"/>
            <a:ext cx="2449440" cy="86508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7"/>
          <p:cNvSpPr/>
          <p:nvPr/>
        </p:nvSpPr>
        <p:spPr>
          <a:xfrm>
            <a:off x="1042920" y="4724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后是它本身的数是哪些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916360" y="2781360"/>
            <a:ext cx="79200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443640" y="2565360"/>
            <a:ext cx="720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219640" y="407664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PE02604_"/>
          <p:cNvPicPr/>
          <p:nvPr/>
        </p:nvPicPr>
        <p:blipFill>
          <a:blip r:embed="rId2"/>
          <a:stretch/>
        </p:blipFill>
        <p:spPr>
          <a:xfrm>
            <a:off x="6516720" y="5451480"/>
            <a:ext cx="1843200" cy="12906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7380360" y="53020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Object 7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25956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457200" y="487692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1     B.-1   C.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1    D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2666880" y="41148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9585360" y="-8460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6227640" y="5013360"/>
            <a:ext cx="2448000" cy="1557000"/>
            <a:chOff x="6227640" y="5013360"/>
            <a:chExt cx="2448000" cy="1557000"/>
          </a:xfrm>
        </p:grpSpPr>
        <p:pic>
          <p:nvPicPr>
            <p:cNvPr id="594" name="Picture 4" descr="PE02604_"/>
            <p:cNvPicPr/>
            <p:nvPr/>
          </p:nvPicPr>
          <p:blipFill>
            <a:blip r:embed="rId2"/>
            <a:stretch/>
          </p:blipFill>
          <p:spPr>
            <a:xfrm>
              <a:off x="6227640" y="5013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5"/>
            <p:cNvSpPr/>
            <p:nvPr/>
          </p:nvSpPr>
          <p:spPr>
            <a:xfrm>
              <a:off x="7667640" y="5013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8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599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3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604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6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17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例题讲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Object 19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7775280" cy="38163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20"/>
          <p:cNvSpPr/>
          <p:nvPr/>
        </p:nvSpPr>
        <p:spPr>
          <a:xfrm>
            <a:off x="5459400" y="190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元二次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bject 2" descr=""/>
          <p:cNvPicPr/>
          <p:nvPr/>
        </p:nvPicPr>
        <p:blipFill>
          <a:blip r:embed="rId2"/>
          <a:stretch/>
        </p:blipFill>
        <p:spPr>
          <a:xfrm>
            <a:off x="838080" y="1023840"/>
            <a:ext cx="7488360" cy="46022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32767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5:3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