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8.gif" ContentType="image/gif"/>
  <Override PartName="/ppt/media/image18.jpeg" ContentType="image/jpeg"/>
  <Override PartName="/ppt/media/image12.wmf" ContentType="image/x-wmf"/>
  <Override PartName="/ppt/media/image7.wmf" ContentType="image/x-wmf"/>
  <Override PartName="/ppt/media/image10.wmf" ContentType="image/x-wmf"/>
  <Override PartName="/ppt/media/image19.gif" ContentType="image/gif"/>
  <Override PartName="/ppt/media/image1.jpeg" ContentType="image/jpeg"/>
  <Override PartName="/ppt/media/image4.wmf" ContentType="image/x-wmf"/>
  <Override PartName="/ppt/media/chimes.wav" ContentType="audio/x-wav"/>
  <Override PartName="/ppt/media/image17.wmf" ContentType="image/x-wmf"/>
  <Override PartName="/ppt/media/image16.wmf" ContentType="image/x-wmf"/>
  <Override PartName="/ppt/media/image15.png" ContentType="image/png"/>
  <Override PartName="/ppt/media/image2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8BB-5B76-42F8-B1D2-D8BCFE9B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213-630F-41A7-9EFB-216D94F7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177-7035-468C-9341-816074F1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E28-D301-4122-94FD-45710733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834-ED42-4BD9-91BB-C80BEC24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A59-7024-4C36-8310-1446D42A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A65F-5617-4A35-B611-DA84A4C7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886E-82A6-4D17-8CEA-6B406E1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74D2-DED1-4457-91CC-7D6F631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F263-377A-4C34-803B-22CF083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7C8B-ECFA-44C0-8E22-058AAA4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812-EF7D-4B55-9948-FE31686B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F160-9C2E-4018-8087-3FE2A0A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1C9C-4216-40B8-A510-5197B98A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09E2-52B0-4E74-B8BA-2E5F285D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08C7-27E7-40B8-A8B3-E9961E65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06EE-C945-45F4-A957-A3DE1C1D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0431-BE2D-4859-A2A0-1BBD6E5C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260F-2301-4EB8-88FC-F0B95D67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E8A9-FB7D-491A-800D-75BE222E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F5A4-9D63-4198-8A38-849CEC77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724B-C705-48CC-82CB-52FEEABF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B49-CED6-4EED-B14C-549AE41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2807-2623-408B-9C10-75C8F287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D4E8-E27A-4FFC-B2EA-BC0E742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6F26-9A9A-4935-A629-33BBB182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E5F4-A5E2-4F06-8AA1-6706A45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D9CB-AF45-4A5C-868E-BC59F655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6326-0970-4BC3-B01E-1EECD93F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CBAE-C24D-45DD-BDD2-9455FA17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E0F8-C262-41A4-A5DA-9C6FEE28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AFF6-7C6B-4FAF-939E-37DE30F5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1F89-56E0-4956-A237-45DBDE06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C03-9015-4A4B-9AFC-D2F25A0C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1290-06DD-4988-9032-29EDB347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3A57-FCA9-473F-B6FE-7E1007D0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C4F7-1257-4B44-ABF1-193A6381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D982-0D72-42BE-81F2-5756D0F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72AAD-6CA2-46A4-875E-B2795C8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B814-9B2E-4BCB-90EE-382E8650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4294-B92C-4AEC-B0FF-E54AF720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2DD1-511B-45F8-9196-67AEC240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8787-3A97-41C0-A1F0-93F4AF2D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F7A-179F-4834-822D-C903696B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4B7-B06C-42A4-8FEE-7FD86745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217-3006-4E1B-9A21-B8DABFFB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68F-37CB-4148-A67A-159E4E6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27E-8465-4183-9A14-92ABF5C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2F6E-214D-4C6E-9979-1C6CF240B8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9EA-9642-42F8-B089-EE9E9F2B5A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DDB-777B-4C7B-8311-94675085C0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A5E2-6719-4B0C-8523-AEF869C712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gi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3"/>
          <p:cNvPicPr/>
          <p:nvPr/>
        </p:nvPicPr>
        <p:blipFill>
          <a:blip r:embed="rId1"/>
          <a:stretch/>
        </p:blipFill>
        <p:spPr>
          <a:xfrm>
            <a:off x="23760" y="0"/>
            <a:ext cx="9145800" cy="6859440"/>
          </a:xfrm>
          <a:prstGeom prst="rect">
            <a:avLst/>
          </a:prstGeom>
          <a:ln w="0">
            <a:noFill/>
          </a:ln>
        </p:spPr>
      </p:pic>
      <p:sp>
        <p:nvSpPr>
          <p:cNvPr id="165" name="WordArt 3"/>
          <p:cNvSpPr txBox="1"/>
          <p:nvPr/>
        </p:nvSpPr>
        <p:spPr>
          <a:xfrm>
            <a:off x="1849320" y="2581200"/>
            <a:ext cx="612144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rnd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正比例函数</a:t>
            </a:r>
            <a:r>
              <a:rPr b="1" lang="en-US" sz="4000" spc="1" strike="noStrike">
                <a:ln cap="rnd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cap="rnd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cap="rnd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6" name="Picture 4" descr="飞舞的蝴蝶"/>
          <p:cNvPicPr/>
          <p:nvPr/>
        </p:nvPicPr>
        <p:blipFill>
          <a:blip r:embed="rId2"/>
          <a:stretch/>
        </p:blipFill>
        <p:spPr>
          <a:xfrm>
            <a:off x="7236000" y="544500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438800" y="3200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9440" y="1600200"/>
            <a:ext cx="903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关系中的两个量成正比例的是（     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甲地到乙地，所用的时间和速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正方形的面积与边长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买同样的作业本所要的钱和作业本的数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的体重和身高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0" y="0"/>
            <a:ext cx="1979640" cy="1483920"/>
            <a:chOff x="0" y="0"/>
            <a:chExt cx="1979640" cy="1483920"/>
          </a:xfrm>
        </p:grpSpPr>
        <p:pic>
          <p:nvPicPr>
            <p:cNvPr id="255" name="Picture 4" descr="云朵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7964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395280" y="3027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57" name="文本框 8199"/>
          <p:cNvSpPr/>
          <p:nvPr/>
        </p:nvSpPr>
        <p:spPr>
          <a:xfrm>
            <a:off x="1979640" y="100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835280" y="4724280"/>
            <a:ext cx="433080" cy="1009800"/>
          </a:xfrm>
          <a:custGeom>
            <a:avLst/>
            <a:gdLst>
              <a:gd name="textAreaLeft" fmla="*/ 276840 w 433080"/>
              <a:gd name="textAreaRight" fmla="*/ 433440 w 433080"/>
              <a:gd name="textAreaTop" fmla="*/ 48600 h 1009800"/>
              <a:gd name="textAreaBottom" fmla="*/ 96120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64"/>
                  <a:pt x="10800" y="3327"/>
                </a:cubicBezTo>
                <a:lnTo>
                  <a:pt x="10800" y="8458"/>
                </a:lnTo>
                <a:cubicBezTo>
                  <a:pt x="10800" y="10122"/>
                  <a:pt x="5400" y="11785"/>
                  <a:pt x="0" y="11785"/>
                </a:cubicBezTo>
                <a:cubicBezTo>
                  <a:pt x="5400" y="11785"/>
                  <a:pt x="10800" y="13449"/>
                  <a:pt x="10800" y="15112"/>
                </a:cubicBezTo>
                <a:lnTo>
                  <a:pt x="10800" y="18273"/>
                </a:lnTo>
                <a:cubicBezTo>
                  <a:pt x="10800" y="1993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0" y="0"/>
            <a:ext cx="2124000" cy="1267920"/>
            <a:chOff x="0" y="0"/>
            <a:chExt cx="2124000" cy="1267920"/>
          </a:xfrm>
        </p:grpSpPr>
        <p:pic>
          <p:nvPicPr>
            <p:cNvPr id="260" name="Picture 4" descr="云朵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2400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5"/>
            <p:cNvSpPr/>
            <p:nvPr/>
          </p:nvSpPr>
          <p:spPr>
            <a:xfrm>
              <a:off x="538200" y="172080"/>
              <a:ext cx="131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例题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252360" y="1196640"/>
            <a:ext cx="4249800" cy="2410200"/>
            <a:chOff x="252360" y="1196640"/>
            <a:chExt cx="4249800" cy="2410200"/>
          </a:xfrm>
        </p:grpSpPr>
        <p:sp>
          <p:nvSpPr>
            <p:cNvPr id="263" name="Rectangle 7"/>
            <p:cNvSpPr/>
            <p:nvPr/>
          </p:nvSpPr>
          <p:spPr>
            <a:xfrm>
              <a:off x="252360" y="1196640"/>
              <a:ext cx="4176720" cy="24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例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</a:rPr>
                <a:t>.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已知函数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求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</a:rPr>
                <a:t>的值。 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264" name="Object 8" descr=""/>
            <p:cNvPicPr/>
            <p:nvPr/>
          </p:nvPicPr>
          <p:blipFill>
            <a:blip r:embed="rId2"/>
            <a:stretch/>
          </p:blipFill>
          <p:spPr>
            <a:xfrm>
              <a:off x="541440" y="1527840"/>
              <a:ext cx="396072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Rectangle 9"/>
          <p:cNvSpPr/>
          <p:nvPr/>
        </p:nvSpPr>
        <p:spPr>
          <a:xfrm>
            <a:off x="179280" y="4508640"/>
            <a:ext cx="3957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函数是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正比例函数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1835280" y="5346360"/>
            <a:ext cx="590544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函数解析式可转化为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y=kx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是常数，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</a:rPr>
              <a:t> ≠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）的形式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4645080" y="2735640"/>
            <a:ext cx="325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即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m≠1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m=±1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645080" y="4298760"/>
            <a:ext cx="29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∴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宋体"/>
              </a:rPr>
              <a:t>m=-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9" name="Group 13"/>
          <p:cNvGrpSpPr/>
          <p:nvPr/>
        </p:nvGrpSpPr>
        <p:grpSpPr>
          <a:xfrm>
            <a:off x="4572000" y="402480"/>
            <a:ext cx="4174920" cy="1739880"/>
            <a:chOff x="4572000" y="402480"/>
            <a:chExt cx="4174920" cy="1739880"/>
          </a:xfrm>
        </p:grpSpPr>
        <p:pic>
          <p:nvPicPr>
            <p:cNvPr id="270" name="Object 14" descr=""/>
            <p:cNvPicPr/>
            <p:nvPr/>
          </p:nvPicPr>
          <p:blipFill>
            <a:blip r:embed="rId3"/>
            <a:stretch/>
          </p:blipFill>
          <p:spPr>
            <a:xfrm>
              <a:off x="6012000" y="691200"/>
              <a:ext cx="2734920" cy="96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15"/>
            <p:cNvSpPr/>
            <p:nvPr/>
          </p:nvSpPr>
          <p:spPr>
            <a:xfrm>
              <a:off x="4572000" y="402480"/>
              <a:ext cx="3960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解：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∵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函数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72" name="AutoShape 16"/>
          <p:cNvSpPr/>
          <p:nvPr/>
        </p:nvSpPr>
        <p:spPr>
          <a:xfrm>
            <a:off x="5364000" y="242100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5364000" y="357336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4500720" y="213228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∴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m-1≠0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m</a:t>
            </a:r>
            <a:r>
              <a:rPr b="1" lang="zh-CN" sz="3600" spc="-1" strike="noStrike" baseline="30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=1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052720" y="117360"/>
            <a:ext cx="7127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 =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m-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正比例函数，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则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 =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34920" y="1590840"/>
            <a:ext cx="8534520" cy="1341360"/>
            <a:chOff x="34920" y="1590840"/>
            <a:chExt cx="8534520" cy="1341360"/>
          </a:xfrm>
        </p:grpSpPr>
        <p:sp>
          <p:nvSpPr>
            <p:cNvPr id="277" name="Text Box 4"/>
            <p:cNvSpPr/>
            <p:nvPr/>
          </p:nvSpPr>
          <p:spPr>
            <a:xfrm>
              <a:off x="34920" y="1674720"/>
              <a:ext cx="853452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若                             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 =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278" name="Picture 5" descr=""/>
            <p:cNvPicPr/>
            <p:nvPr/>
          </p:nvPicPr>
          <p:blipFill>
            <a:blip r:embed="rId1"/>
            <a:stretch/>
          </p:blipFill>
          <p:spPr>
            <a:xfrm>
              <a:off x="1863720" y="1590840"/>
              <a:ext cx="312408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Text Box 6"/>
          <p:cNvSpPr/>
          <p:nvPr/>
        </p:nvSpPr>
        <p:spPr>
          <a:xfrm>
            <a:off x="4957920" y="692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762280" y="2179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34920" y="3124080"/>
            <a:ext cx="8534520" cy="1392480"/>
            <a:chOff x="34920" y="3124080"/>
            <a:chExt cx="8534520" cy="1392480"/>
          </a:xfrm>
        </p:grpSpPr>
        <p:sp>
          <p:nvSpPr>
            <p:cNvPr id="282" name="Text Box 9"/>
            <p:cNvSpPr/>
            <p:nvPr/>
          </p:nvSpPr>
          <p:spPr>
            <a:xfrm>
              <a:off x="34920" y="3259080"/>
              <a:ext cx="853452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若                              是正比例函数，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 =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283" name="Picture 10" descr=""/>
            <p:cNvPicPr/>
            <p:nvPr/>
          </p:nvPicPr>
          <p:blipFill>
            <a:blip r:embed="rId2"/>
            <a:stretch/>
          </p:blipFill>
          <p:spPr>
            <a:xfrm>
              <a:off x="1692360" y="3124080"/>
              <a:ext cx="34671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Text Box 11"/>
          <p:cNvSpPr/>
          <p:nvPr/>
        </p:nvSpPr>
        <p:spPr>
          <a:xfrm>
            <a:off x="2843280" y="3860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5" name="Picture 12" descr="lanhua5"/>
          <p:cNvPicPr/>
          <p:nvPr/>
        </p:nvPicPr>
        <p:blipFill>
          <a:blip r:embed="rId3"/>
          <a:stretch/>
        </p:blipFill>
        <p:spPr>
          <a:xfrm>
            <a:off x="7162920" y="5272200"/>
            <a:ext cx="1981080" cy="158580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13"/>
          <p:cNvGrpSpPr/>
          <p:nvPr/>
        </p:nvGrpSpPr>
        <p:grpSpPr>
          <a:xfrm>
            <a:off x="73080" y="71280"/>
            <a:ext cx="1977840" cy="1484640"/>
            <a:chOff x="73080" y="71280"/>
            <a:chExt cx="1977840" cy="1484640"/>
          </a:xfrm>
        </p:grpSpPr>
        <p:pic>
          <p:nvPicPr>
            <p:cNvPr id="287" name="Picture 14" descr="云朵"/>
            <p:cNvPicPr/>
            <p:nvPr/>
          </p:nvPicPr>
          <p:blipFill>
            <a:blip r:embed="rId4"/>
            <a:stretch/>
          </p:blipFill>
          <p:spPr>
            <a:xfrm>
              <a:off x="73080" y="71280"/>
              <a:ext cx="1977840" cy="14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15"/>
            <p:cNvSpPr/>
            <p:nvPr/>
          </p:nvSpPr>
          <p:spPr>
            <a:xfrm>
              <a:off x="479520" y="436320"/>
              <a:ext cx="12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89" name="Rectangle 16"/>
          <p:cNvSpPr/>
          <p:nvPr/>
        </p:nvSpPr>
        <p:spPr>
          <a:xfrm>
            <a:off x="108000" y="4672080"/>
            <a:ext cx="84996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）若一个正比例函数的比例系数是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-5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endParaRPr b="1" lang="en-US" sz="3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则它的解析式为（            ）</a:t>
            </a:r>
            <a:endParaRPr b="1" lang="en-US" sz="3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4791240" y="519264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y=-5x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6360" y="644400"/>
            <a:ext cx="910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宋体"/>
              </a:rPr>
              <a:t>例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成正比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且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之间的函数关系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39640" y="2852640"/>
            <a:ext cx="80787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解：设解析式为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y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kx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因为  当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x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－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时，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y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－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所以  有－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6=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－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k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,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     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k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6.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所以，函数解析式为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y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=6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宋体"/>
              </a:rPr>
              <a:t>x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0" y="0"/>
            <a:ext cx="2124000" cy="1268280"/>
            <a:chOff x="0" y="0"/>
            <a:chExt cx="2124000" cy="1268280"/>
          </a:xfrm>
        </p:grpSpPr>
        <p:pic>
          <p:nvPicPr>
            <p:cNvPr id="294" name="Picture 5" descr="云朵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2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"/>
            <p:cNvSpPr/>
            <p:nvPr/>
          </p:nvSpPr>
          <p:spPr>
            <a:xfrm>
              <a:off x="464040" y="222120"/>
              <a:ext cx="131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例题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2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07640" y="278136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设正比例函数解析式是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=k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" y="3357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把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x =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4, y =2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代入上式，得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156360" y="34336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 =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4k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9" name="Group 5"/>
          <p:cNvGrpSpPr/>
          <p:nvPr/>
        </p:nvGrpSpPr>
        <p:grpSpPr>
          <a:xfrm>
            <a:off x="974880" y="4653000"/>
            <a:ext cx="6981480" cy="901440"/>
            <a:chOff x="974880" y="4653000"/>
            <a:chExt cx="6981480" cy="901440"/>
          </a:xfrm>
        </p:grpSpPr>
        <p:sp>
          <p:nvSpPr>
            <p:cNvPr id="300" name="Text Box 6"/>
            <p:cNvSpPr/>
            <p:nvPr/>
          </p:nvSpPr>
          <p:spPr>
            <a:xfrm>
              <a:off x="974880" y="4714920"/>
              <a:ext cx="69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</a:rPr>
                <a:t>∴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</a:rPr>
                <a:t>所求的正比例函数解析式是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</a:rPr>
                <a:t>y=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</a:rPr>
                <a:t>-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7035840" y="5033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>
              <a:off x="701640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x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093800" y="5110200"/>
              <a:ext cx="235080" cy="360"/>
              <a:chOff x="7093800" y="5110200"/>
              <a:chExt cx="235080" cy="360"/>
            </a:xfrm>
          </p:grpSpPr>
          <p:sp>
            <p:nvSpPr>
              <p:cNvPr id="304" name="Line 9"/>
              <p:cNvSpPr/>
              <p:nvPr/>
            </p:nvSpPr>
            <p:spPr>
              <a:xfrm>
                <a:off x="7093800" y="5110200"/>
                <a:ext cx="235080" cy="0"/>
              </a:xfrm>
              <a:prstGeom prst="line">
                <a:avLst/>
              </a:prstGeom>
              <a:ln w="349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7093800" y="5110200"/>
                <a:ext cx="23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10"/>
          <p:cNvGrpSpPr/>
          <p:nvPr/>
        </p:nvGrpSpPr>
        <p:grpSpPr>
          <a:xfrm>
            <a:off x="1763640" y="3976560"/>
            <a:ext cx="3048120" cy="901440"/>
            <a:chOff x="1763640" y="3976560"/>
            <a:chExt cx="3048120" cy="901440"/>
          </a:xfrm>
        </p:grpSpPr>
        <p:sp>
          <p:nvSpPr>
            <p:cNvPr id="307" name="Text Box 11"/>
            <p:cNvSpPr/>
            <p:nvPr/>
          </p:nvSpPr>
          <p:spPr>
            <a:xfrm>
              <a:off x="1763640" y="40384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解得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k= 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-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3670200" y="4357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3651120" y="39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725640" y="4433760"/>
              <a:ext cx="228600" cy="360"/>
              <a:chOff x="3725640" y="4433760"/>
              <a:chExt cx="228600" cy="360"/>
            </a:xfrm>
          </p:grpSpPr>
          <p:sp>
            <p:nvSpPr>
              <p:cNvPr id="311" name="Line 14"/>
              <p:cNvSpPr/>
              <p:nvPr/>
            </p:nvSpPr>
            <p:spPr>
              <a:xfrm>
                <a:off x="3725640" y="4433760"/>
                <a:ext cx="228600" cy="0"/>
              </a:xfrm>
              <a:prstGeom prst="line">
                <a:avLst/>
              </a:prstGeom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3725640" y="443376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Rectangle 15"/>
          <p:cNvSpPr/>
          <p:nvPr/>
        </p:nvSpPr>
        <p:spPr>
          <a:xfrm>
            <a:off x="1620000" y="5383080"/>
            <a:ext cx="25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x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为任何实数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393840" y="5967360"/>
            <a:ext cx="5257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当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x=6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,  y =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2027160" y="117360"/>
            <a:ext cx="700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正比例函数当自变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等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时，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值等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正比例函数的解析式和自变量的取值范围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x=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时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值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7543440" y="2743200"/>
            <a:ext cx="1371960" cy="703440"/>
            <a:chOff x="7543440" y="2743200"/>
            <a:chExt cx="1371960" cy="703440"/>
          </a:xfrm>
        </p:grpSpPr>
        <p:grpSp>
          <p:nvGrpSpPr>
            <p:cNvPr id="317" name=""/>
            <p:cNvGrpSpPr/>
            <p:nvPr/>
          </p:nvGrpSpPr>
          <p:grpSpPr>
            <a:xfrm>
              <a:off x="7543440" y="3139920"/>
              <a:ext cx="609840" cy="360"/>
              <a:chOff x="7543440" y="3139920"/>
              <a:chExt cx="609840" cy="360"/>
            </a:xfrm>
          </p:grpSpPr>
          <p:sp>
            <p:nvSpPr>
              <p:cNvPr id="318" name="Line 19"/>
              <p:cNvSpPr/>
              <p:nvPr/>
            </p:nvSpPr>
            <p:spPr>
              <a:xfrm flipH="1">
                <a:off x="7543440" y="313992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7543800" y="31399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20"/>
            <p:cNvSpPr/>
            <p:nvPr/>
          </p:nvSpPr>
          <p:spPr>
            <a:xfrm>
              <a:off x="8153280" y="27432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设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7543440" y="3413160"/>
            <a:ext cx="1371960" cy="703440"/>
            <a:chOff x="7543440" y="3413160"/>
            <a:chExt cx="1371960" cy="703440"/>
          </a:xfrm>
        </p:grpSpPr>
        <p:grpSp>
          <p:nvGrpSpPr>
            <p:cNvPr id="322" name=""/>
            <p:cNvGrpSpPr/>
            <p:nvPr/>
          </p:nvGrpSpPr>
          <p:grpSpPr>
            <a:xfrm>
              <a:off x="7543440" y="3809880"/>
              <a:ext cx="609840" cy="360"/>
              <a:chOff x="7543440" y="3809880"/>
              <a:chExt cx="609840" cy="360"/>
            </a:xfrm>
          </p:grpSpPr>
          <p:sp>
            <p:nvSpPr>
              <p:cNvPr id="323" name="Line 22"/>
              <p:cNvSpPr/>
              <p:nvPr/>
            </p:nvSpPr>
            <p:spPr>
              <a:xfrm flipH="1">
                <a:off x="7543440" y="380988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7543800" y="38098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25" name="Text Box 23"/>
            <p:cNvSpPr/>
            <p:nvPr/>
          </p:nvSpPr>
          <p:spPr>
            <a:xfrm>
              <a:off x="8153280" y="3413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代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6" name="Group 24"/>
          <p:cNvGrpSpPr/>
          <p:nvPr/>
        </p:nvGrpSpPr>
        <p:grpSpPr>
          <a:xfrm>
            <a:off x="7543440" y="4098960"/>
            <a:ext cx="1371960" cy="703440"/>
            <a:chOff x="7543440" y="4098960"/>
            <a:chExt cx="1371960" cy="703440"/>
          </a:xfrm>
        </p:grpSpPr>
        <p:grpSp>
          <p:nvGrpSpPr>
            <p:cNvPr id="327" name=""/>
            <p:cNvGrpSpPr/>
            <p:nvPr/>
          </p:nvGrpSpPr>
          <p:grpSpPr>
            <a:xfrm>
              <a:off x="7543440" y="4495680"/>
              <a:ext cx="609840" cy="360"/>
              <a:chOff x="7543440" y="4495680"/>
              <a:chExt cx="609840" cy="360"/>
            </a:xfrm>
          </p:grpSpPr>
          <p:sp>
            <p:nvSpPr>
              <p:cNvPr id="328" name="Line 25"/>
              <p:cNvSpPr/>
              <p:nvPr/>
            </p:nvSpPr>
            <p:spPr>
              <a:xfrm flipH="1">
                <a:off x="7543440" y="449568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7543800" y="44956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26"/>
            <p:cNvSpPr/>
            <p:nvPr/>
          </p:nvSpPr>
          <p:spPr>
            <a:xfrm>
              <a:off x="8153280" y="40989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求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1" name="Group 27"/>
          <p:cNvGrpSpPr/>
          <p:nvPr/>
        </p:nvGrpSpPr>
        <p:grpSpPr>
          <a:xfrm>
            <a:off x="7543440" y="4724280"/>
            <a:ext cx="1371960" cy="703440"/>
            <a:chOff x="7543440" y="4724280"/>
            <a:chExt cx="1371960" cy="703440"/>
          </a:xfrm>
        </p:grpSpPr>
        <p:grpSp>
          <p:nvGrpSpPr>
            <p:cNvPr id="332" name=""/>
            <p:cNvGrpSpPr/>
            <p:nvPr/>
          </p:nvGrpSpPr>
          <p:grpSpPr>
            <a:xfrm>
              <a:off x="7543440" y="5121000"/>
              <a:ext cx="609840" cy="360"/>
              <a:chOff x="7543440" y="5121000"/>
              <a:chExt cx="609840" cy="360"/>
            </a:xfrm>
          </p:grpSpPr>
          <p:sp>
            <p:nvSpPr>
              <p:cNvPr id="333" name="Line 28"/>
              <p:cNvSpPr/>
              <p:nvPr/>
            </p:nvSpPr>
            <p:spPr>
              <a:xfrm flipH="1">
                <a:off x="7543440" y="5121000"/>
                <a:ext cx="609480" cy="0"/>
              </a:xfrm>
              <a:prstGeom prst="line">
                <a:avLst/>
              </a:prstGeom>
              <a:ln w="63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7543800" y="512100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29"/>
            <p:cNvSpPr/>
            <p:nvPr/>
          </p:nvSpPr>
          <p:spPr>
            <a:xfrm>
              <a:off x="8153280" y="47242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写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6" name="Group 30"/>
          <p:cNvGrpSpPr/>
          <p:nvPr/>
        </p:nvGrpSpPr>
        <p:grpSpPr>
          <a:xfrm>
            <a:off x="5410080" y="5638680"/>
            <a:ext cx="3733920" cy="1219320"/>
            <a:chOff x="5410080" y="5638680"/>
            <a:chExt cx="3733920" cy="1219320"/>
          </a:xfrm>
        </p:grpSpPr>
        <p:sp>
          <p:nvSpPr>
            <p:cNvPr id="337" name="AutoShape 31"/>
            <p:cNvSpPr/>
            <p:nvPr/>
          </p:nvSpPr>
          <p:spPr>
            <a:xfrm>
              <a:off x="5410080" y="5638680"/>
              <a:ext cx="3733920" cy="1219320"/>
            </a:xfrm>
            <a:prstGeom prst="wedgeEllipseCallout">
              <a:avLst>
                <a:gd name="adj1" fmla="val -60078"/>
                <a:gd name="adj2" fmla="val -6900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8" name="Text Box 32"/>
            <p:cNvSpPr/>
            <p:nvPr/>
          </p:nvSpPr>
          <p:spPr>
            <a:xfrm>
              <a:off x="5790960" y="585144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待定系数法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9" name="Group 33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40" name="Picture 34" descr="云朵"/>
            <p:cNvPicPr/>
            <p:nvPr/>
          </p:nvPicPr>
          <p:blipFill>
            <a:blip r:embed="rId1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35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04920" y="152280"/>
            <a:ext cx="84582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底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8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 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高线从小到大变化时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积也随之变化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写出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(c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高线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(cm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函数解析式，并指明它是什么函数；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当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=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时，求出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值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04920" y="3929040"/>
            <a:ext cx="22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5562720" cy="11444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98720" y="5734080"/>
            <a:ext cx="72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x=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y=4x=4×7=28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6" name="Group 6"/>
          <p:cNvGrpSpPr/>
          <p:nvPr/>
        </p:nvGrpSpPr>
        <p:grpSpPr>
          <a:xfrm>
            <a:off x="2295360" y="4797360"/>
            <a:ext cx="2044440" cy="642600"/>
            <a:chOff x="2295360" y="4797360"/>
            <a:chExt cx="2044440" cy="642600"/>
          </a:xfrm>
        </p:grpSpPr>
        <p:pic>
          <p:nvPicPr>
            <p:cNvPr id="347" name="Picture 7" descr=""/>
            <p:cNvPicPr/>
            <p:nvPr/>
          </p:nvPicPr>
          <p:blipFill>
            <a:blip r:embed="rId2"/>
            <a:stretch/>
          </p:blipFill>
          <p:spPr>
            <a:xfrm>
              <a:off x="3057840" y="4851360"/>
              <a:ext cx="128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8"/>
            <p:cNvSpPr/>
            <p:nvPr/>
          </p:nvSpPr>
          <p:spPr>
            <a:xfrm>
              <a:off x="2295360" y="4797360"/>
              <a:ext cx="76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即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49" name="Text Box 9"/>
          <p:cNvSpPr/>
          <p:nvPr/>
        </p:nvSpPr>
        <p:spPr>
          <a:xfrm>
            <a:off x="4695840" y="4797360"/>
            <a:ext cx="37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正比例函数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50" name="Picture 10" descr="lanhua5"/>
          <p:cNvPicPr/>
          <p:nvPr/>
        </p:nvPicPr>
        <p:blipFill>
          <a:blip r:embed="rId3"/>
          <a:stretch/>
        </p:blipFill>
        <p:spPr>
          <a:xfrm>
            <a:off x="7315200" y="5394240"/>
            <a:ext cx="1828800" cy="146376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11"/>
          <p:cNvGrpSpPr/>
          <p:nvPr/>
        </p:nvGrpSpPr>
        <p:grpSpPr>
          <a:xfrm>
            <a:off x="34920" y="44280"/>
            <a:ext cx="1978200" cy="1484280"/>
            <a:chOff x="34920" y="44280"/>
            <a:chExt cx="1978200" cy="1484280"/>
          </a:xfrm>
        </p:grpSpPr>
        <p:pic>
          <p:nvPicPr>
            <p:cNvPr id="352" name="Picture 12" descr="云朵"/>
            <p:cNvPicPr/>
            <p:nvPr/>
          </p:nvPicPr>
          <p:blipFill>
            <a:blip r:embed="rId4"/>
            <a:stretch/>
          </p:blipFill>
          <p:spPr>
            <a:xfrm>
              <a:off x="34920" y="44280"/>
              <a:ext cx="197820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3"/>
            <p:cNvSpPr/>
            <p:nvPr/>
          </p:nvSpPr>
          <p:spPr>
            <a:xfrm>
              <a:off x="429840" y="347400"/>
              <a:ext cx="122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719880" y="692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彩云"/>
              </a:rPr>
              <a:t>课堂总结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340000" y="2060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正比例函数的概念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2340000" y="342900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待定系数法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求正比例函数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解析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2340000" y="2349360"/>
            <a:ext cx="431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这节课你学到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了什么？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文本框 8199"/>
          <p:cNvSpPr/>
          <p:nvPr/>
        </p:nvSpPr>
        <p:spPr>
          <a:xfrm>
            <a:off x="2735280" y="431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853560"/>
            <a:ext cx="903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下列个题中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关系式，并判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否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正比例函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2006640"/>
            <a:ext cx="90345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电报收费标准是每个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电报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元）与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个）之间的函数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地面气温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8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如果每升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k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气温下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摄氏度，则气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℃）与高度民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的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圆面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）与半径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的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4920" y="5319720"/>
            <a:ext cx="91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 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成正比例，当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写出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间函数关系式，并分别求出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值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3041640" y="41958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㎡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WordArt 6"/>
          <p:cNvSpPr txBox="1"/>
          <p:nvPr/>
        </p:nvSpPr>
        <p:spPr>
          <a:xfrm>
            <a:off x="34920" y="44280"/>
            <a:ext cx="2881440" cy="73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作业布置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: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28"/>
          <p:cNvPicPr/>
          <p:nvPr/>
        </p:nvPicPr>
        <p:blipFill>
          <a:blip r:embed="rId1"/>
          <a:stretch/>
        </p:blipFill>
        <p:spPr>
          <a:xfrm>
            <a:off x="1440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WordArt 3"/>
          <p:cNvSpPr txBox="1"/>
          <p:nvPr/>
        </p:nvSpPr>
        <p:spPr>
          <a:xfrm>
            <a:off x="0" y="1052640"/>
            <a:ext cx="1692360" cy="24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RingInside">
              <a:avLst>
                <a:gd name="adj" fmla="val 6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黑体"/>
              </a:rPr>
              <a:t>作业</a:t>
            </a:r>
            <a:endParaRPr b="1" lang="en-US" sz="40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195640" y="692280"/>
            <a:ext cx="633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2124000" y="1628640"/>
            <a:ext cx="6553440" cy="453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正比例函数图象的画法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正比例函数的性质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正比例函数的实际应用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3059280" y="620640"/>
            <a:ext cx="4608360" cy="136836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0 h 1368360"/>
              <a:gd name="textAreaBottom" fmla="*/ 1197360 h 1368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4881600" y="692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预习</a:t>
            </a:r>
            <a:endParaRPr b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732720" y="3573360"/>
            <a:ext cx="360" cy="360"/>
            <a:chOff x="6732720" y="3573360"/>
            <a:chExt cx="360" cy="360"/>
          </a:xfrm>
        </p:grpSpPr>
        <p:sp>
          <p:nvSpPr>
            <p:cNvPr id="371" name="Line 8"/>
            <p:cNvSpPr/>
            <p:nvPr/>
          </p:nvSpPr>
          <p:spPr>
            <a:xfrm>
              <a:off x="6732720" y="3573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732720" y="3573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020000" y="3573360"/>
            <a:ext cx="360" cy="360"/>
            <a:chOff x="7020000" y="3573360"/>
            <a:chExt cx="360" cy="360"/>
          </a:xfrm>
        </p:grpSpPr>
        <p:sp>
          <p:nvSpPr>
            <p:cNvPr id="374" name="Line 9"/>
            <p:cNvSpPr/>
            <p:nvPr/>
          </p:nvSpPr>
          <p:spPr>
            <a:xfrm>
              <a:off x="7020000" y="3573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7020000" y="3573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804000" y="4078440"/>
            <a:ext cx="1800360" cy="360"/>
            <a:chOff x="6804000" y="4078440"/>
            <a:chExt cx="1800360" cy="360"/>
          </a:xfrm>
        </p:grpSpPr>
        <p:sp>
          <p:nvSpPr>
            <p:cNvPr id="377" name="Line 10"/>
            <p:cNvSpPr/>
            <p:nvPr/>
          </p:nvSpPr>
          <p:spPr>
            <a:xfrm>
              <a:off x="6804000" y="407844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6804000" y="40784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594200" y="2782440"/>
            <a:ext cx="360" cy="2374920"/>
            <a:chOff x="7594200" y="2782440"/>
            <a:chExt cx="360" cy="2374920"/>
          </a:xfrm>
        </p:grpSpPr>
        <p:sp>
          <p:nvSpPr>
            <p:cNvPr id="380" name="Line 11"/>
            <p:cNvSpPr/>
            <p:nvPr/>
          </p:nvSpPr>
          <p:spPr>
            <a:xfrm flipV="1">
              <a:off x="7594560" y="2782440"/>
              <a:ext cx="0" cy="2374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 rot="10800000">
              <a:off x="7594200" y="2782440"/>
              <a:ext cx="360" cy="23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308720" y="3214800"/>
            <a:ext cx="1079640" cy="1224000"/>
            <a:chOff x="7308720" y="3214800"/>
            <a:chExt cx="1079640" cy="1224000"/>
          </a:xfrm>
        </p:grpSpPr>
        <p:sp>
          <p:nvSpPr>
            <p:cNvPr id="383" name="Line 12"/>
            <p:cNvSpPr/>
            <p:nvPr/>
          </p:nvSpPr>
          <p:spPr>
            <a:xfrm>
              <a:off x="7308720" y="3214800"/>
              <a:ext cx="1079640" cy="1224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308720" y="3214800"/>
              <a:ext cx="107964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85" name="Text Box 13"/>
          <p:cNvSpPr/>
          <p:nvPr/>
        </p:nvSpPr>
        <p:spPr>
          <a:xfrm>
            <a:off x="8440560" y="409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7288200" y="26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himes.wav"/>
      </p:stSnd>
    </p:sndAc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88" name="Picture 2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WordArt 3"/>
          <p:cNvSpPr txBox="1"/>
          <p:nvPr/>
        </p:nvSpPr>
        <p:spPr>
          <a:xfrm>
            <a:off x="2270160" y="1241280"/>
            <a:ext cx="2517840" cy="8906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90" name="WordArt 4"/>
          <p:cNvSpPr txBox="1"/>
          <p:nvPr/>
        </p:nvSpPr>
        <p:spPr>
          <a:xfrm>
            <a:off x="1403280" y="3213000"/>
            <a:ext cx="4824360" cy="209736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3000"/>
                    </a:srgbClr>
                  </a:outerShdw>
                </a:effectLst>
                <a:latin typeface="宋体"/>
              </a:rPr>
              <a:t>再见</a:t>
            </a:r>
            <a:endParaRPr b="1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3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971640" y="981000"/>
            <a:ext cx="914400" cy="914400"/>
          </a:xfrm>
          <a:custGeom>
            <a:avLst/>
            <a:gdLst>
              <a:gd name="textAreaLeft" fmla="*/ 295200 w 914400"/>
              <a:gd name="textAreaRight" fmla="*/ 619200 w 914400"/>
              <a:gd name="textAreaTop" fmla="*/ 295200 h 914400"/>
              <a:gd name="textAreaBottom" fmla="*/ 619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74" y="6974"/>
                </a:lnTo>
                <a:lnTo>
                  <a:pt x="10800" y="0"/>
                </a:lnTo>
                <a:lnTo>
                  <a:pt x="14626" y="6974"/>
                </a:lnTo>
                <a:lnTo>
                  <a:pt x="21600" y="10800"/>
                </a:lnTo>
                <a:lnTo>
                  <a:pt x="14626" y="14626"/>
                </a:lnTo>
                <a:lnTo>
                  <a:pt x="10800" y="21600"/>
                </a:lnTo>
                <a:lnTo>
                  <a:pt x="6974" y="146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5292720" y="981000"/>
            <a:ext cx="914400" cy="914400"/>
          </a:xfrm>
          <a:custGeom>
            <a:avLst/>
            <a:gdLst>
              <a:gd name="textAreaLeft" fmla="*/ 295200 w 914400"/>
              <a:gd name="textAreaRight" fmla="*/ 619200 w 914400"/>
              <a:gd name="textAreaTop" fmla="*/ 295200 h 914400"/>
              <a:gd name="textAreaBottom" fmla="*/ 619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74" y="6974"/>
                </a:lnTo>
                <a:lnTo>
                  <a:pt x="10800" y="0"/>
                </a:lnTo>
                <a:lnTo>
                  <a:pt x="14626" y="6974"/>
                </a:lnTo>
                <a:lnTo>
                  <a:pt x="21600" y="10800"/>
                </a:lnTo>
                <a:lnTo>
                  <a:pt x="14626" y="14626"/>
                </a:lnTo>
                <a:lnTo>
                  <a:pt x="10800" y="21600"/>
                </a:lnTo>
                <a:lnTo>
                  <a:pt x="6974" y="1462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42920" y="206064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34920" y="189000"/>
            <a:ext cx="4249800" cy="20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思考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1917720"/>
            <a:ext cx="77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</a:rPr>
              <a:t>下列问题中的变量对应规律可用怎样的函数表示？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57080" y="34290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圆的周长 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l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随半径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大小变化而变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556000" y="486900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解： 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l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=2π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r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EA3A-97C1-45BB-9496-C0D35F961C2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2560" y="54936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铁的密度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.8g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铁块的质量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随它的体积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V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的大小变化而变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629080" y="4365720"/>
            <a:ext cx="41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解：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m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=7.8 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V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39640" y="549360"/>
            <a:ext cx="8136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每个练习本的厚度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5 c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一些练习本摞在一起的总厚度 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h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随这些练习本的本数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变化而变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700360" y="436572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解：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h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= 0.5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n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368960" y="18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08000" y="33336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）冷冻一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物体，使它每分下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物体的温度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℃）随冷冻时间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（单位：分）的变化而变化．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556000" y="4005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解：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</a:rPr>
              <a:t>T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=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2t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81080" y="260280"/>
            <a:ext cx="896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认真观察以上出现的四个函数解析式，分别说出哪些是函数、常数和自变量．</a:t>
            </a:r>
            <a:endParaRPr b="1" lang="en-US" sz="3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24000" y="1700280"/>
          <a:ext cx="5256000" cy="3781440"/>
        </p:xfrm>
        <a:graphic>
          <a:graphicData uri="http://schemas.openxmlformats.org/drawingml/2006/table">
            <a:tbl>
              <a:tblPr/>
              <a:tblGrid>
                <a:gridCol w="2015640"/>
                <a:gridCol w="1008360"/>
                <a:gridCol w="936360"/>
                <a:gridCol w="1295640"/>
              </a:tblGrid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函数解析式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函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数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变量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宋体"/>
                        </a:rPr>
                        <a:t>l 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2</a:t>
                      </a: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π</a:t>
                      </a:r>
                      <a:r>
                        <a:rPr b="0" i="1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r</a:t>
                      </a:r>
                      <a:endParaRPr b="1" lang="en-US" sz="3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m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7.8</a:t>
                      </a: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h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 0.5</a:t>
                      </a: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n</a:t>
                      </a:r>
                      <a:endParaRPr b="1" lang="en-US" sz="3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T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 -2</a:t>
                      </a: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t</a:t>
                      </a:r>
                      <a:endParaRPr b="1" lang="en-US" sz="3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AutoShape 35"/>
          <p:cNvSpPr/>
          <p:nvPr/>
        </p:nvSpPr>
        <p:spPr>
          <a:xfrm>
            <a:off x="6227640" y="1628640"/>
            <a:ext cx="2521080" cy="1729080"/>
          </a:xfrm>
          <a:prstGeom prst="wedgeRoundRectCallout">
            <a:avLst>
              <a:gd name="adj1" fmla="val -68388"/>
              <a:gd name="adj2" fmla="val 88842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些函数解析式有什么共同点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5651640" y="155736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这些函数解析式都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变量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乘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的形式！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341964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643280" y="2565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2700360" y="249228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3421080" y="3357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Rectangle 41"/>
          <p:cNvSpPr/>
          <p:nvPr/>
        </p:nvSpPr>
        <p:spPr>
          <a:xfrm>
            <a:off x="464508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2558160" y="33577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Rectangle 43"/>
          <p:cNvSpPr/>
          <p:nvPr/>
        </p:nvSpPr>
        <p:spPr>
          <a:xfrm>
            <a:off x="2628720" y="4149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Rectangle 44"/>
          <p:cNvSpPr/>
          <p:nvPr/>
        </p:nvSpPr>
        <p:spPr>
          <a:xfrm>
            <a:off x="2557080" y="48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Rectangle 45"/>
          <p:cNvSpPr/>
          <p:nvPr/>
        </p:nvSpPr>
        <p:spPr>
          <a:xfrm>
            <a:off x="4645080" y="4869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3421080" y="4076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3565080" y="486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Rectangle 48"/>
          <p:cNvSpPr/>
          <p:nvPr/>
        </p:nvSpPr>
        <p:spPr>
          <a:xfrm>
            <a:off x="464472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5724360" y="378936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常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自变量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98" name="Group 50"/>
          <p:cNvGrpSpPr/>
          <p:nvPr/>
        </p:nvGrpSpPr>
        <p:grpSpPr>
          <a:xfrm>
            <a:off x="5797440" y="4365720"/>
            <a:ext cx="2806920" cy="1206000"/>
            <a:chOff x="5797440" y="4365720"/>
            <a:chExt cx="2806920" cy="1206000"/>
          </a:xfrm>
        </p:grpSpPr>
        <p:sp>
          <p:nvSpPr>
            <p:cNvPr id="199" name="Text Box 51"/>
            <p:cNvSpPr/>
            <p:nvPr/>
          </p:nvSpPr>
          <p:spPr>
            <a:xfrm>
              <a:off x="5797440" y="479664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0" name="Text Box 52"/>
            <p:cNvSpPr/>
            <p:nvPr/>
          </p:nvSpPr>
          <p:spPr>
            <a:xfrm>
              <a:off x="7021800" y="486828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1" name="Text Box 53"/>
            <p:cNvSpPr/>
            <p:nvPr/>
          </p:nvSpPr>
          <p:spPr>
            <a:xfrm>
              <a:off x="8101440" y="4868280"/>
              <a:ext cx="50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085080" y="4365720"/>
              <a:ext cx="360" cy="575640"/>
              <a:chOff x="6085080" y="4365720"/>
              <a:chExt cx="360" cy="575640"/>
            </a:xfrm>
          </p:grpSpPr>
          <p:sp>
            <p:nvSpPr>
              <p:cNvPr id="203" name="Line 54"/>
              <p:cNvSpPr/>
              <p:nvPr/>
            </p:nvSpPr>
            <p:spPr>
              <a:xfrm>
                <a:off x="6085080" y="4365720"/>
                <a:ext cx="0" cy="57564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6085080" y="4365720"/>
                <a:ext cx="360" cy="57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237800" y="4365720"/>
              <a:ext cx="360" cy="575640"/>
              <a:chOff x="7237800" y="4365720"/>
              <a:chExt cx="360" cy="575640"/>
            </a:xfrm>
          </p:grpSpPr>
          <p:sp>
            <p:nvSpPr>
              <p:cNvPr id="206" name="Line 55"/>
              <p:cNvSpPr/>
              <p:nvPr/>
            </p:nvSpPr>
            <p:spPr>
              <a:xfrm>
                <a:off x="7237800" y="4365720"/>
                <a:ext cx="0" cy="57564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7237800" y="4365720"/>
                <a:ext cx="360" cy="57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8390520" y="4365720"/>
              <a:ext cx="360" cy="646560"/>
              <a:chOff x="8390520" y="4365720"/>
              <a:chExt cx="360" cy="646560"/>
            </a:xfrm>
          </p:grpSpPr>
          <p:sp>
            <p:nvSpPr>
              <p:cNvPr id="209" name="Line 56"/>
              <p:cNvSpPr/>
              <p:nvPr/>
            </p:nvSpPr>
            <p:spPr>
              <a:xfrm>
                <a:off x="8390520" y="4365720"/>
                <a:ext cx="0" cy="64656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8390520" y="4365720"/>
                <a:ext cx="360" cy="64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57"/>
            <p:cNvSpPr/>
            <p:nvPr/>
          </p:nvSpPr>
          <p:spPr>
            <a:xfrm>
              <a:off x="6229080" y="48682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2" name="Oval 58"/>
            <p:cNvSpPr/>
            <p:nvPr/>
          </p:nvSpPr>
          <p:spPr>
            <a:xfrm>
              <a:off x="7669440" y="5227560"/>
              <a:ext cx="14400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539640" y="404640"/>
            <a:ext cx="288144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归纳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900000" y="1413000"/>
            <a:ext cx="7704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般地，形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y=k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常数，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的函数，叫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正比例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其中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叫做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比例系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4192560"/>
            <a:ext cx="686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</a:rPr>
              <a:t>想一想，为什么 </a:t>
            </a:r>
            <a:r>
              <a:rPr b="1" i="1" lang="zh-CN" sz="4800" spc="-1" strike="noStrike">
                <a:solidFill>
                  <a:srgbClr val="ff0066"/>
                </a:solidFill>
                <a:latin typeface="黑体"/>
              </a:rPr>
              <a:t>k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</a:rPr>
              <a:t>≠0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</a:rPr>
              <a:t>？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763640" y="5054760"/>
            <a:ext cx="610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0=0 ·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116000" y="3092040"/>
            <a:ext cx="70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cc66ff"/>
                </a:solidFill>
                <a:latin typeface="Times New Roman"/>
                <a:ea typeface="楷体_GB2312"/>
              </a:rPr>
              <a:t>注</a:t>
            </a:r>
            <a:r>
              <a:rPr b="1" lang="en-US" sz="3600" spc="-1" strike="noStrike">
                <a:solidFill>
                  <a:srgbClr val="cc66ff"/>
                </a:solidFill>
                <a:latin typeface="Times New Roman"/>
                <a:ea typeface="宋体"/>
              </a:rPr>
              <a:t>: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正比例函数解析式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y=k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</a:rPr>
              <a:t>k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）的结构特征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Wingdings"/>
                <a:ea typeface="Wingdings"/>
              </a:rPr>
              <a:t>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  <a:ea typeface="宋体"/>
              </a:rPr>
              <a:t>k</a:t>
            </a:r>
            <a:r>
              <a:rPr b="1" lang="en-US" sz="4800" spc="-1" strike="noStrike">
                <a:solidFill>
                  <a:srgbClr val="ff5050"/>
                </a:solidFill>
                <a:latin typeface="Times New Roman"/>
                <a:ea typeface="宋体"/>
              </a:rPr>
              <a:t>≠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Wingdings"/>
                <a:ea typeface="Wingdings"/>
              </a:rPr>
              <a:t></a:t>
            </a:r>
            <a:r>
              <a:rPr b="1" i="1" lang="en-US" sz="4800" spc="-1" strike="noStrike">
                <a:solidFill>
                  <a:srgbClr val="ff5050"/>
                </a:solidFill>
                <a:latin typeface="黑体"/>
              </a:rPr>
              <a:t>x</a:t>
            </a:r>
            <a:r>
              <a:rPr b="1" lang="zh-CN" sz="4800" spc="-1" strike="noStrike">
                <a:solidFill>
                  <a:srgbClr val="ff5050"/>
                </a:solidFill>
                <a:latin typeface="黑体"/>
                <a:ea typeface="宋体"/>
              </a:rPr>
              <a:t>的指数是</a:t>
            </a:r>
            <a:r>
              <a:rPr b="1" lang="en-US" sz="4800" spc="-1" strike="noStrike">
                <a:solidFill>
                  <a:srgbClr val="ff5050"/>
                </a:solidFill>
                <a:latin typeface="黑体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Wingdings"/>
                <a:ea typeface="Wingdings"/>
              </a:rPr>
              <a:t></a:t>
            </a:r>
            <a:r>
              <a:rPr b="1" i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k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与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x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是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宋体"/>
              </a:rPr>
              <a:t>乘积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宋体"/>
              </a:rPr>
              <a:t>关系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527640" y="260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正比例函数解析式的一般式：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127160" y="1724040"/>
            <a:ext cx="251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·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11280" y="1773360"/>
            <a:ext cx="360" cy="360"/>
            <a:chOff x="2411280" y="1773360"/>
            <a:chExt cx="360" cy="360"/>
          </a:xfrm>
        </p:grpSpPr>
        <p:sp>
          <p:nvSpPr>
            <p:cNvPr id="222" name="Line 5"/>
            <p:cNvSpPr/>
            <p:nvPr/>
          </p:nvSpPr>
          <p:spPr>
            <a:xfrm>
              <a:off x="2411280" y="1773360"/>
              <a:ext cx="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411280" y="1773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24" name="Text Box 6"/>
          <p:cNvSpPr/>
          <p:nvPr/>
        </p:nvSpPr>
        <p:spPr>
          <a:xfrm>
            <a:off x="4140360" y="1268280"/>
            <a:ext cx="3600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常数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≠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339640" y="1454040"/>
            <a:ext cx="1755720" cy="488880"/>
            <a:chOff x="2339640" y="1454040"/>
            <a:chExt cx="1755720" cy="488880"/>
          </a:xfrm>
        </p:grpSpPr>
        <p:grpSp>
          <p:nvGrpSpPr>
            <p:cNvPr id="226" name=""/>
            <p:cNvGrpSpPr/>
            <p:nvPr/>
          </p:nvGrpSpPr>
          <p:grpSpPr>
            <a:xfrm>
              <a:off x="2339640" y="1454040"/>
              <a:ext cx="360" cy="488880"/>
              <a:chOff x="2339640" y="1454040"/>
              <a:chExt cx="360" cy="488880"/>
            </a:xfrm>
          </p:grpSpPr>
          <p:sp>
            <p:nvSpPr>
              <p:cNvPr id="227" name="Line 8"/>
              <p:cNvSpPr/>
              <p:nvPr/>
            </p:nvSpPr>
            <p:spPr>
              <a:xfrm flipV="1">
                <a:off x="2340000" y="1454040"/>
                <a:ext cx="0" cy="488880"/>
              </a:xfrm>
              <a:prstGeom prst="line">
                <a:avLst/>
              </a:prstGeom>
              <a:ln w="3816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0800000">
                <a:off x="2339640" y="1454040"/>
                <a:ext cx="360" cy="48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340000" y="1575360"/>
              <a:ext cx="1755360" cy="360"/>
              <a:chOff x="2340000" y="1575360"/>
              <a:chExt cx="1755360" cy="360"/>
            </a:xfrm>
          </p:grpSpPr>
          <p:sp>
            <p:nvSpPr>
              <p:cNvPr id="230" name="Line 9"/>
              <p:cNvSpPr/>
              <p:nvPr/>
            </p:nvSpPr>
            <p:spPr>
              <a:xfrm>
                <a:off x="2340000" y="1575360"/>
                <a:ext cx="175536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2340000" y="1575360"/>
                <a:ext cx="1755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0"/>
          <p:cNvGrpSpPr/>
          <p:nvPr/>
        </p:nvGrpSpPr>
        <p:grpSpPr>
          <a:xfrm>
            <a:off x="3132000" y="2419200"/>
            <a:ext cx="1295280" cy="433440"/>
            <a:chOff x="3132000" y="2419200"/>
            <a:chExt cx="1295280" cy="433440"/>
          </a:xfrm>
        </p:grpSpPr>
        <p:grpSp>
          <p:nvGrpSpPr>
            <p:cNvPr id="233" name=""/>
            <p:cNvGrpSpPr/>
            <p:nvPr/>
          </p:nvGrpSpPr>
          <p:grpSpPr>
            <a:xfrm>
              <a:off x="3132000" y="2419200"/>
              <a:ext cx="360" cy="433440"/>
              <a:chOff x="3132000" y="2419200"/>
              <a:chExt cx="360" cy="433440"/>
            </a:xfrm>
          </p:grpSpPr>
          <p:sp>
            <p:nvSpPr>
              <p:cNvPr id="234" name="Line 11"/>
              <p:cNvSpPr/>
              <p:nvPr/>
            </p:nvSpPr>
            <p:spPr>
              <a:xfrm>
                <a:off x="3132000" y="2419200"/>
                <a:ext cx="0" cy="433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3132000" y="2419200"/>
                <a:ext cx="360" cy="43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132000" y="2779560"/>
              <a:ext cx="1295280" cy="360"/>
              <a:chOff x="3132000" y="2779560"/>
              <a:chExt cx="1295280" cy="360"/>
            </a:xfrm>
          </p:grpSpPr>
          <p:sp>
            <p:nvSpPr>
              <p:cNvPr id="237" name="Line 12"/>
              <p:cNvSpPr/>
              <p:nvPr/>
            </p:nvSpPr>
            <p:spPr>
              <a:xfrm>
                <a:off x="3132000" y="2779560"/>
                <a:ext cx="12952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132000" y="277956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xt Box 13"/>
          <p:cNvSpPr/>
          <p:nvPr/>
        </p:nvSpPr>
        <p:spPr>
          <a:xfrm>
            <a:off x="4500720" y="2467080"/>
            <a:ext cx="29509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指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063880" y="1773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k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2765520" y="17733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836720" y="332280"/>
            <a:ext cx="7201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判断下列函数解析式是否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正比例函数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？如果是，指出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比例系数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是多少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3" name="Object 3" descr=""/>
          <p:cNvPicPr/>
          <p:nvPr/>
        </p:nvPicPr>
        <p:blipFill>
          <a:blip r:embed="rId1"/>
          <a:stretch/>
        </p:blipFill>
        <p:spPr>
          <a:xfrm>
            <a:off x="4791240" y="1560600"/>
            <a:ext cx="2877840" cy="173664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4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735280" cy="113364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5" descr=""/>
          <p:cNvPicPr/>
          <p:nvPr/>
        </p:nvPicPr>
        <p:blipFill>
          <a:blip r:embed="rId3"/>
          <a:stretch/>
        </p:blipFill>
        <p:spPr>
          <a:xfrm>
            <a:off x="4861080" y="4726080"/>
            <a:ext cx="3671640" cy="80172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6" descr=""/>
          <p:cNvPicPr/>
          <p:nvPr/>
        </p:nvPicPr>
        <p:blipFill>
          <a:blip r:embed="rId4"/>
          <a:stretch/>
        </p:blipFill>
        <p:spPr>
          <a:xfrm>
            <a:off x="888840" y="1631880"/>
            <a:ext cx="2159280" cy="150804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7"/>
          <p:cNvGrpSpPr/>
          <p:nvPr/>
        </p:nvGrpSpPr>
        <p:grpSpPr>
          <a:xfrm>
            <a:off x="0" y="0"/>
            <a:ext cx="1979640" cy="1483920"/>
            <a:chOff x="0" y="0"/>
            <a:chExt cx="1979640" cy="1483920"/>
          </a:xfrm>
        </p:grpSpPr>
        <p:pic>
          <p:nvPicPr>
            <p:cNvPr id="248" name="Picture 8" descr="云朵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979640" cy="14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9"/>
            <p:cNvSpPr/>
            <p:nvPr/>
          </p:nvSpPr>
          <p:spPr>
            <a:xfrm>
              <a:off x="395280" y="3027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66"/>
                  </a:solidFill>
                  <a:latin typeface="Arial"/>
                </a:rPr>
                <a:t>练习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250" name="Object 10" descr=""/>
          <p:cNvPicPr/>
          <p:nvPr/>
        </p:nvPicPr>
        <p:blipFill>
          <a:blip r:embed="rId6"/>
          <a:stretch/>
        </p:blipFill>
        <p:spPr>
          <a:xfrm>
            <a:off x="4789440" y="3432240"/>
            <a:ext cx="3586320" cy="925560"/>
          </a:xfrm>
          <a:prstGeom prst="rect">
            <a:avLst/>
          </a:prstGeom>
          <a:ln w="0">
            <a:noFill/>
          </a:ln>
        </p:spPr>
      </p:pic>
      <p:pic>
        <p:nvPicPr>
          <p:cNvPr id="251" name="Object 11" descr=""/>
          <p:cNvPicPr/>
          <p:nvPr/>
        </p:nvPicPr>
        <p:blipFill>
          <a:blip r:embed="rId7"/>
          <a:stretch/>
        </p:blipFill>
        <p:spPr>
          <a:xfrm>
            <a:off x="828720" y="4654440"/>
            <a:ext cx="2736720" cy="8668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2"/>
          <p:cNvSpPr/>
          <p:nvPr/>
        </p:nvSpPr>
        <p:spPr>
          <a:xfrm>
            <a:off x="3348000" y="47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k≠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1:41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411-12-30T00:00:00Z</cp:lastPrinted>
  <dcterms:modified xsi:type="dcterms:W3CDTF">2017-04-16T16:00:00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