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80B8-B681-4D58-A0B7-F913E48C561A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0A6C-31E1-47F0-957B-934E95B267A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828800" y="2135160"/>
            <a:ext cx="42703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最小公倍数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663640" cy="29196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616560" y="6035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小组合作，探究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340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总结提升：通过解决这个问题你有哪些收获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11280" y="22845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拼成的所有正方形里边长最小是几分米？你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加强应用，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9640" y="1844640"/>
            <a:ext cx="8136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一堆糖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颗地数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颗地数，都能刚好数完。这堆糖至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多少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13" descr="20111228100833_Y5SzC"/>
          <p:cNvPicPr/>
          <p:nvPr/>
        </p:nvPicPr>
        <p:blipFill>
          <a:blip r:embed="rId1"/>
          <a:stretch/>
        </p:blipFill>
        <p:spPr>
          <a:xfrm>
            <a:off x="2627280" y="2867040"/>
            <a:ext cx="3960720" cy="243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332000" y="551664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这堆糖至少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4" descr="{B634BB4F-F198-49A5-89EE-868EF9FA0B70}副本"/>
          <p:cNvPicPr/>
          <p:nvPr/>
        </p:nvPicPr>
        <p:blipFill>
          <a:blip r:embed="rId1"/>
          <a:stretch/>
        </p:blipFill>
        <p:spPr>
          <a:xfrm>
            <a:off x="0" y="1700280"/>
            <a:ext cx="6697800" cy="3295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加强应用，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14842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这些学生的总人数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人以内，可能是多少人？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AutoShape 27"/>
          <p:cNvSpPr/>
          <p:nvPr/>
        </p:nvSpPr>
        <p:spPr>
          <a:xfrm>
            <a:off x="468360" y="5445000"/>
            <a:ext cx="3359160" cy="1079640"/>
          </a:xfrm>
          <a:prstGeom prst="wedgeRoundRectCallout">
            <a:avLst>
              <a:gd name="adj1" fmla="val 54680"/>
              <a:gd name="adj2" fmla="val -14411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咱们可以分成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6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人一组，也可以分成</a:t>
            </a: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9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</a:rPr>
              <a:t>人一组，都正好分成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4680000" y="5589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答：可能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5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2676600"/>
            <a:ext cx="853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七，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2595-C2A5-4C17-B47C-450DD629ED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出研究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3970440"/>
            <a:ext cx="828036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仔细看看小明家装修的要求，你获得了哪些有价值的信息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用这种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墙砖铺一个正方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使用的墙砖必须都是整块的，不能切割开用半块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问题是铺好的正方形的边长可以是多少分米，最小是多少分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572000" y="177336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用这种墙砖铺一个正方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用的墙砖必须都是整块）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的边长可以是多少分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最小是多少分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14" descr="未标题-29"/>
          <p:cNvPicPr/>
          <p:nvPr/>
        </p:nvPicPr>
        <p:blipFill>
          <a:blip r:embed="rId1"/>
          <a:stretch/>
        </p:blipFill>
        <p:spPr>
          <a:xfrm>
            <a:off x="395280" y="1125360"/>
            <a:ext cx="40323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757080" y="1773360"/>
            <a:ext cx="8136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们先来研究正方形的边长可以是多少分米。你有办法解决这个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55640" y="2924280"/>
            <a:ext cx="7272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具：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宽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长方形纸片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手来实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19"/>
          <p:cNvGrpSpPr/>
          <p:nvPr/>
        </p:nvGrpSpPr>
        <p:grpSpPr>
          <a:xfrm>
            <a:off x="6156360" y="2349360"/>
            <a:ext cx="1800360" cy="1078200"/>
            <a:chOff x="6156360" y="2349360"/>
            <a:chExt cx="1800360" cy="1078200"/>
          </a:xfrm>
        </p:grpSpPr>
        <p:sp>
          <p:nvSpPr>
            <p:cNvPr id="93" name="Rectangle 15"/>
            <p:cNvSpPr/>
            <p:nvPr/>
          </p:nvSpPr>
          <p:spPr>
            <a:xfrm>
              <a:off x="6877080" y="2708280"/>
              <a:ext cx="1079640" cy="7192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7021440" y="2349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6156360" y="2781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6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出研究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文本框 2"/>
          <p:cNvSpPr/>
          <p:nvPr/>
        </p:nvSpPr>
        <p:spPr>
          <a:xfrm>
            <a:off x="1041480" y="6100920"/>
            <a:ext cx="58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小组合作，探究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28720" y="170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要求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69840" y="2276640"/>
            <a:ext cx="77788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长方形纸片代替墙砖拼一个正方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523880" indent="-15238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和你的同桌进行交流，说说你摆出的正方形边长是多少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小组合作，探究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900000" y="1700280"/>
            <a:ext cx="79200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探究结果交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第一行摆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长方形，摆了这样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，拼成了一个边长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方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826920" y="3500280"/>
            <a:ext cx="7921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第一行摆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长方形，摆了这样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行，拼成了一个边长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262160" indent="-12621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方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476360" y="5084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还能拼成不一样的大正方形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214200" y="195120"/>
            <a:ext cx="87156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204840" y="195120"/>
            <a:ext cx="873432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小组合作，探究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11280" y="1773360"/>
            <a:ext cx="820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我们有足够多的小长方形的话，还可以拼出边长是其他数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11280" y="2924280"/>
            <a:ext cx="813744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这样的小长方形可以拼出边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方形吗？小组内讨论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小组合作，探究解决问题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84360" y="1773360"/>
            <a:ext cx="7848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们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长方形可以拼出多少个边长不一样的大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呢？说说理由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4360" y="2997360"/>
            <a:ext cx="845964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9280" indent="-13492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这样的长方形可以拼成边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方形吗？说说理由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349280" indent="-13492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不能。因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倍数，不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倍数，拼不成边长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方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349280" indent="-13492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实际动手操作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7" descr="未标题-30"/>
          <p:cNvPicPr/>
          <p:nvPr/>
        </p:nvPicPr>
        <p:blipFill>
          <a:blip r:embed="rId1"/>
          <a:stretch/>
        </p:blipFill>
        <p:spPr>
          <a:xfrm>
            <a:off x="5651640" y="4221000"/>
            <a:ext cx="24476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3:33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36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