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applause.wav" ContentType="audio/x-wav"/>
  <Override PartName="/ppt/media/camera.wav" ContentType="audio/x-wav"/>
  <Override PartName="/ppt/media/image6.png" ContentType="image/pn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F8E-667E-4AAD-884E-69C18130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2321-5C96-437A-9C7A-F6656195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DA9E-CC4B-4EDB-8FF2-DE5F48C3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198A-E8F2-4913-910A-5F5CC91A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1F0-13D5-4237-AF40-8D6250A6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F82B-70F7-435F-8F11-A1CCBC92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697-2CC0-4888-A653-89E0B9C7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492-0914-4E6F-A71B-33B0D015E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AA65-BE9F-45AE-ACAA-388021F9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1D4-3658-4860-951F-18DFED69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E97-4C96-416F-A477-2A691FAA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A9E8-6A1C-49DC-A9A4-6C45DE90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E7D2-E949-430C-8B5A-07FF27F2C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1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814760" y="1565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WordArt 4"/>
          <p:cNvSpPr txBox="1"/>
          <p:nvPr/>
        </p:nvSpPr>
        <p:spPr>
          <a:xfrm>
            <a:off x="1219320" y="1523880"/>
            <a:ext cx="6248160" cy="1900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66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中国石拱桥</a:t>
            </a:r>
            <a:endParaRPr b="0" lang="en-US" sz="2400" spc="1" strike="noStrike">
              <a:ln w="9360">
                <a:solidFill>
                  <a:srgbClr val="ff0066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372120" y="3200400"/>
            <a:ext cx="20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茅   以   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247068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1675080" y="561960"/>
            <a:ext cx="583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本文以赵州桥、卢沟桥为例说明中国石拱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原因是（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都是闻名世界的古代石拱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都具有中国石拱桥的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各具特点：一为独拱，一为联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既有我国石拱桥的共同特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又各具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424600" y="9874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赵州桥3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416320" y="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重点研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试以赵州桥和卢沟桥为例，分别说说它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是如何体现中国石拱桥的特点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4211640" y="1752480"/>
            <a:ext cx="93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说明文的语言要求准确、周密，作者用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哪些准确、周密的语言来写赵州桥和卢沟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的特征？请找出几句抄写下来，并加以分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卢沟桥2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306360" y="198108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50200" y="92160"/>
            <a:ext cx="8757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桥洞不是普通半圆形，而是像一张弓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桥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6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半圆形的石拱组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个石拱长度不一，自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1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永定河发水时，来势很猛，以前两岸河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被冲毁，但是这座桥从未出过事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这些石刻狮子，有的母子相抱，有的交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接耳，有的像倾听水声，千态万状，惟妙惟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861680" y="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7441200" y="1523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列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7059960" y="3048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作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441200" y="487692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摹状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0" y="556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2902320" y="5334120"/>
            <a:ext cx="30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唐朝的张鷟说，远望这座桥就像“初月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云，长虹饮涧”。（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5388480" y="57913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引用、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1598760" y="457200"/>
            <a:ext cx="570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为了准确说明事物，说明文用语很讲究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寸。如果把括号中的词语去掉，表达的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有什么变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044960" y="205740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石拱桥在世界桥梁史上出现得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比较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659600" y="2743200"/>
            <a:ext cx="580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水经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里提到的“旅人桥”，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大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成于公元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8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可能是有记载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早的石拱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415600" y="4572000"/>
            <a:ext cx="292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我国的石拱桥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几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到处都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220760" y="5302080"/>
            <a:ext cx="56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全桥只有一个大拱，长达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7.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米，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当时可算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世界上最长的石拱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464120" y="380880"/>
            <a:ext cx="620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仿照下列句式的特点进行仿句练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这些石刻狮子，有的母子相抱，有的交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接耳，有的像倾听水声，有的像注视行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千态万状，惟妙惟肖。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描写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、全桥只有一个大拱，长达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7.4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米，在当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可算是世界上最大的石拱。（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说明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评价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卢沟桥4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416600" y="457200"/>
            <a:ext cx="652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了解常用的说明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为了把事物特征说清楚，或把事理阐述明白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要有相适应的说明方法。常见的说明方法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举例子   分类别   列数据      作比较      画图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下定义    作诠释    打比方     摹状貌  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54E8-589F-42BA-8462-2FD340DA8D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卢沟桥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文本框 1"/>
          <p:cNvSpPr/>
          <p:nvPr/>
        </p:nvSpPr>
        <p:spPr>
          <a:xfrm>
            <a:off x="609480" y="2602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赵州桥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卢沟桥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26"/>
          <p:cNvSpPr/>
          <p:nvPr/>
        </p:nvSpPr>
        <p:spPr>
          <a:xfrm>
            <a:off x="831240" y="223920"/>
            <a:ext cx="7525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茅以升（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896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—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8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，我国近代桥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程学的奠基人，著名的桥梁学专家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获美国加里基工学院博士学位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3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持设计并领导建造了中国第一座现代化的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桥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48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当选为中央研究院院士。五十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代有参加设计了规模更大的武汉长江大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5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，在首都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十大建筑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建设中，茅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升担任人民大会堂结构审查组组长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8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美国科学院授予外籍院士称号。他编写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中国桥梁史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》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他为中国的桥梁事业做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了杰出的贡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给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黄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字注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匀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称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推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崇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巧妙绝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伦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残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损                    雄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跨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弧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形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惟妙惟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肖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桥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墩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雄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姿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02960" y="53352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è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020840" y="53352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ó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7665840" y="457200"/>
            <a:ext cx="8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l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ú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102680" y="114300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á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4294080" y="1066680"/>
            <a:ext cx="9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ku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292880" y="1143000"/>
            <a:ext cx="7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026800" y="167652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xi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4389840" y="16765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d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7238520" y="16765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z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701520" y="3048120"/>
            <a:ext cx="1744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下列词语解释有误的一项是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惟妙惟肖：形容描写得十分精妙逼真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巧妙绝伦：独一无二，没有什么可比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千态万状：形容各种各样奇怪的事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就地取材：就在原地选用需要的材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6255360" y="312408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pic_11983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-2133720" y="-685800"/>
            <a:ext cx="11734920" cy="75438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0" y="0"/>
            <a:ext cx="9360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体感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中国石拱桥的共同特点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赵州桥和卢沟桥的特点分别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章为什么只重点介绍赵州桥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卢沟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试理清本文的说明顺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26"/>
          <p:cNvSpPr/>
          <p:nvPr/>
        </p:nvSpPr>
        <p:spPr>
          <a:xfrm>
            <a:off x="4413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609480"/>
          <a:ext cx="8991720" cy="556272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2743200"/>
                <a:gridCol w="3962520"/>
              </a:tblGrid>
              <a:tr h="901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056"/>
          <p:cNvSpPr/>
          <p:nvPr/>
        </p:nvSpPr>
        <p:spPr>
          <a:xfrm>
            <a:off x="186120" y="68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57"/>
          <p:cNvSpPr/>
          <p:nvPr/>
        </p:nvSpPr>
        <p:spPr>
          <a:xfrm>
            <a:off x="1252800" y="68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58"/>
          <p:cNvSpPr/>
          <p:nvPr/>
        </p:nvSpPr>
        <p:spPr>
          <a:xfrm>
            <a:off x="2867400" y="685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历史和修建年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60"/>
          <p:cNvSpPr/>
          <p:nvPr/>
        </p:nvSpPr>
        <p:spPr>
          <a:xfrm>
            <a:off x="6009480" y="685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61"/>
          <p:cNvSpPr/>
          <p:nvPr/>
        </p:nvSpPr>
        <p:spPr>
          <a:xfrm>
            <a:off x="322560" y="144792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62"/>
          <p:cNvSpPr/>
          <p:nvPr/>
        </p:nvSpPr>
        <p:spPr>
          <a:xfrm>
            <a:off x="398880" y="36576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63"/>
          <p:cNvSpPr/>
          <p:nvPr/>
        </p:nvSpPr>
        <p:spPr>
          <a:xfrm>
            <a:off x="1329120" y="152388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横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64"/>
          <p:cNvSpPr/>
          <p:nvPr/>
        </p:nvSpPr>
        <p:spPr>
          <a:xfrm>
            <a:off x="1329120" y="358128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位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永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65"/>
          <p:cNvSpPr/>
          <p:nvPr/>
        </p:nvSpPr>
        <p:spPr>
          <a:xfrm>
            <a:off x="2689200" y="1371600"/>
            <a:ext cx="192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建于公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0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左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到现在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3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多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66"/>
          <p:cNvSpPr/>
          <p:nvPr/>
        </p:nvSpPr>
        <p:spPr>
          <a:xfrm>
            <a:off x="2564280" y="3581280"/>
            <a:ext cx="242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建于公元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至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19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间，至今已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多年的历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67"/>
          <p:cNvSpPr/>
          <p:nvPr/>
        </p:nvSpPr>
        <p:spPr>
          <a:xfrm>
            <a:off x="6058800" y="1523880"/>
            <a:ext cx="2236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一个大拱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大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肩各有两个小拱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大拱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道拱圈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成；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全桥结构匀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074"/>
          <p:cNvSpPr/>
          <p:nvPr/>
        </p:nvSpPr>
        <p:spPr>
          <a:xfrm>
            <a:off x="5666400" y="3505320"/>
            <a:ext cx="2841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半圆形石拱组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石拱长度不一，几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河面平行。每两个石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之间有石砌桥墩，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石拱联成一个整体，是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座联拱石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dur="indefinite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dur="indefinite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dur="indefinite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733320" y="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常用的说明顺序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空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828800" y="762120"/>
            <a:ext cx="152280" cy="1676160"/>
          </a:xfrm>
          <a:custGeom>
            <a:avLst/>
            <a:gdLst>
              <a:gd name="textAreaLeft" fmla="*/ 97200 w 152280"/>
              <a:gd name="textAreaRight" fmla="*/ 152640 w 152280"/>
              <a:gd name="textAreaTop" fmla="*/ 49320 h 1676160"/>
              <a:gd name="textAreaBottom" fmla="*/ 162684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8"/>
                  <a:pt x="10800" y="2035"/>
                </a:cubicBezTo>
                <a:lnTo>
                  <a:pt x="10800" y="8765"/>
                </a:lnTo>
                <a:cubicBezTo>
                  <a:pt x="10800" y="9783"/>
                  <a:pt x="5400" y="10800"/>
                  <a:pt x="0" y="10800"/>
                </a:cubicBezTo>
                <a:cubicBezTo>
                  <a:pt x="5400" y="10800"/>
                  <a:pt x="10800" y="11818"/>
                  <a:pt x="10800" y="12835"/>
                </a:cubicBezTo>
                <a:lnTo>
                  <a:pt x="10800" y="19565"/>
                </a:lnTo>
                <a:cubicBezTo>
                  <a:pt x="10800" y="2058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089440" y="45720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外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45240" y="914400"/>
            <a:ext cx="10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上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42080" y="1295280"/>
            <a:ext cx="11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前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2120040" y="182880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总体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870480" y="2438280"/>
            <a:ext cx="210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一般用于说明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对静止的事物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863280" y="4191120"/>
            <a:ext cx="237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时间顺序：以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间先后作为说明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顺序，用于说明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物的发展变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399200" y="1295280"/>
            <a:ext cx="155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逻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顺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095880" y="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4710960" y="2362320"/>
            <a:ext cx="127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按事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内部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系或人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认识事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过程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安排说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顺序。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6584040" y="0"/>
            <a:ext cx="21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整体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6692040" y="8380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原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6768360" y="152388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特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用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6692040" y="228600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主要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次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9"/>
          <p:cNvSpPr/>
          <p:nvPr/>
        </p:nvSpPr>
        <p:spPr>
          <a:xfrm>
            <a:off x="6768360" y="304812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概括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具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6768360" y="4114800"/>
            <a:ext cx="17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现象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—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本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37:45Z</dcterms:modified>
  <cp:revision>1</cp:revision>
  <dc:subject/>
  <dc:title>幻灯片 1</dc:title>
</cp:coreProperties>
</file>