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6.jpeg" ContentType="image/jpeg"/>
  <Override PartName="/ppt/media/image7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18C-1EA0-491E-A784-74BB8B38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CC6-AFAE-4041-BC59-5550F949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B5A-C271-4953-9C58-5160D49E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042-CEC4-4475-9493-C279DC81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EA29-5E42-4678-BBE3-EC93BA4C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D7AC-FB25-4B76-90F3-429C6E5D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EC61-AA7A-4294-9096-131D5005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DC2B-3BF6-46CF-851A-5E2FE797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BF2F-9A7C-4410-8E17-EF0DD2DD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E0A7-1875-4D93-91DF-E035C1AB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2744-17A3-424D-A16F-0456A98F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6B9-77DD-4B4D-8EFF-B1BD2BF0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2C6A-C67A-42E5-AF1C-0CC542E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DE9A-A304-4C28-96EB-10F5E028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AFC1-FA2B-44C5-A84F-846E0408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F115-C7EB-4D5B-B63C-81C21787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C7B5-C490-42D9-90A4-4C1B6CB5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C20-1B7E-4F5F-9BE8-7D3BCA10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A2C-CE14-4985-AABB-BB35EBDD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797-0A30-42F8-B34D-1F4198E3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FE6-44D4-430C-B60F-7FB618ED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E59-EF14-493F-B881-0C169F57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DEA-5734-4403-AAFD-FC844301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B0B-5BAE-4B70-9873-8866A92A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9797-347E-46F8-BAF5-D84EA4367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114B-35E5-4316-A414-27F919B61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21.babidou.com/pic/2008/3/5/appara/&#19996;&#26041;&#32418;/&#19996;&#26041;&#32418;&#36855;&#20320;&#32452;&#21512;&#22270;&#29255;/&#26329;&#20809;32/M8012&#19979;&#38754;&#24038;&#20391;.jpg&amp;imgrefurl=http://product.dangdang.com/Product.aspx%3Fproduct_id%3D400432600&amp;usg=__E_zIjm2I6CWi-XsIPVwXUsayERg=&amp;h=523&amp;w=730&amp;sz=283&amp;hl=zh-CN&amp;start=33&amp;um=1&amp;tbnid=8heJXZtb8NQRxM:&amp;tbnh=101&amp;tbnw=141&amp;prev=/images%3Fq%3D%25E7%2594%259F%25E6%25B4%25BB%25E4%25B8%25AD%25E7%259A%2584%25E7%25BB%2584%25E5%2590%2588%25E5%259B%25BE%25E5%25BD%25A2%26ndsp%3D20%26hl%3Dzh-CN%26sa%3DN%26start%3D20%26um%3D1%26newwindow%3D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n/imgres?imgurl=http://x.bbs.sina.com.cn/forum/pic/5f779ca50107m87x&amp;imgrefurl=http://bbs.club.sina.com.cn/thread-272-0/table-174017-5295.html&amp;usg=__JWFp7Kar274Z2A-Bq5Gv7VkZIuA=&amp;h=308&amp;w=471&amp;sz=18&amp;hl=zh-CN&amp;start=70&amp;um=1&amp;tbnid=tnGODYVm81NPSM:&amp;tbnh=84&amp;tbnw=129&amp;prev=/images%3Fq%3D%25E7%2594%259F%25E6%25B4%25BB%25E4%25B8%25AD%25E7%259A%2584%25E7%25BB%2584%25E5%2590%2588%25E5%259B%25BE%25E5%25BD%25A2%26ndsp%3D20%26hl%3Dzh-CN%26sa%3DN%26start%3D60%26um%3D1%26newwindow%3D1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n/imgres?imgurl=http://www.cdedu.gov.cn/subject/yuanjiao/dzja/xiaoxue/128/pic/image004.jpg&amp;imgrefurl=http://www.cdedu.gov.cn/subject/yuanjiao/dzja/xiaoxue/128/htm/jxgc.htm&amp;usg=__cHpn7vn5OXXDvbyx5mQRjjzqpoA=&amp;h=474&amp;w=629&amp;sz=49&amp;hl=zh-CN&amp;start=1&amp;um=1&amp;tbnid=zFZkOERNdMKZ4M:&amp;tbnh=103&amp;tbnw=137&amp;prev=/images%3Fq%3D%25E5%259B%25BE%25E5%25BD%25A2%25E7%25BB%2584%25E5%2590%2588%26ndsp%3D20%26hl%3Dzh-CN%26sa%3DX%26um%3D1%26newwindow%3D1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n/imgres?imgurl=http://www.hbep.com/applications/sysapp86/upload/BP21069137451.jpg&amp;imgrefurl=http://www.hbep.com/applications/sysapp4/ListPic.php%3Fsubid%3D1069137451&amp;usg=__qZoHOAiIzf0Tf2fLH1MMl6Hz0cQ=&amp;h=994&amp;w=907&amp;sz=36&amp;hl=zh-CN&amp;start=7&amp;um=1&amp;tbnid=O-vHiPl48C_0NM:&amp;tbnh=149&amp;tbnw=136&amp;prev=/images%3Fq%3D%25E7%25BB%2584%25E5%2590%2588%25E5%259B%25BE%25E5%25BD%25A2%26hl%3Dzh-CN%26sa%3DN%26um%3D1%26newwindow%3D1" TargetMode="External"/><Relationship Id="rId8" Type="http://schemas.openxmlformats.org/officeDocument/2006/relationships/image" Target="../media/image8.jpeg"/><Relationship Id="rId9" Type="http://schemas.openxmlformats.org/officeDocument/2006/relationships/image" Target="../media/image3.wmf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582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中宋"/>
              </a:rPr>
              <a:t>人教版五年级上册五单元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187280" y="2060640"/>
            <a:ext cx="6453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组合图形的面积</a:t>
            </a:r>
            <a:endParaRPr b="0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4" name="Picture 7" descr="MCj02903500000[1]"/>
          <p:cNvPicPr/>
          <p:nvPr/>
        </p:nvPicPr>
        <p:blipFill>
          <a:blip r:embed="rId1"/>
          <a:stretch/>
        </p:blipFill>
        <p:spPr>
          <a:xfrm>
            <a:off x="422280" y="4264200"/>
            <a:ext cx="2303280" cy="197316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263124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167796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幼圆"/>
              </a:rPr>
              <a:t>试一试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计算下面图形的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组讨论怎样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方法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左图分割成两个长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=4×3=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=3×7=21(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=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=12+21=33(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2"/>
          <p:cNvGrpSpPr/>
          <p:nvPr/>
        </p:nvGrpSpPr>
        <p:grpSpPr>
          <a:xfrm>
            <a:off x="5364000" y="3284640"/>
            <a:ext cx="2953080" cy="2305080"/>
            <a:chOff x="5364000" y="3284640"/>
            <a:chExt cx="2953080" cy="2305080"/>
          </a:xfrm>
        </p:grpSpPr>
        <p:sp>
          <p:nvSpPr>
            <p:cNvPr id="273" name="Line 4"/>
            <p:cNvSpPr/>
            <p:nvPr/>
          </p:nvSpPr>
          <p:spPr>
            <a:xfrm>
              <a:off x="5364000" y="3284640"/>
              <a:ext cx="0" cy="2305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>
              <a:off x="5364000" y="5589720"/>
              <a:ext cx="2953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5364000" y="3284640"/>
              <a:ext cx="1729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7"/>
            <p:cNvSpPr/>
            <p:nvPr/>
          </p:nvSpPr>
          <p:spPr>
            <a:xfrm>
              <a:off x="7093080" y="3284640"/>
              <a:ext cx="0" cy="1152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7093080" y="443736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8317080" y="443736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3"/>
          <p:cNvSpPr/>
          <p:nvPr/>
        </p:nvSpPr>
        <p:spPr>
          <a:xfrm>
            <a:off x="5921640" y="2873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 rot="10800000">
            <a:off x="4819680" y="4187880"/>
            <a:ext cx="454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615816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 rot="10800000">
            <a:off x="8244000" y="4677480"/>
            <a:ext cx="454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>
            <a:off x="5364000" y="4437000"/>
            <a:ext cx="1729080" cy="0"/>
          </a:xfrm>
          <a:prstGeom prst="line">
            <a:avLst/>
          </a:prstGeom>
          <a:ln w="2844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0" descr="MCj04462500000[1]"/>
          <p:cNvPicPr/>
          <p:nvPr/>
        </p:nvPicPr>
        <p:blipFill>
          <a:blip r:embed="rId1"/>
          <a:stretch/>
        </p:blipFill>
        <p:spPr>
          <a:xfrm>
            <a:off x="250920" y="189000"/>
            <a:ext cx="1152360" cy="1119240"/>
          </a:xfrm>
          <a:prstGeom prst="rect">
            <a:avLst/>
          </a:prstGeom>
          <a:ln w="0">
            <a:noFill/>
          </a:ln>
        </p:spPr>
      </p:pic>
      <p:sp>
        <p:nvSpPr>
          <p:cNvPr id="285" name="文本框 1"/>
          <p:cNvSpPr/>
          <p:nvPr/>
        </p:nvSpPr>
        <p:spPr>
          <a:xfrm>
            <a:off x="250920" y="638028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17496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幼圆"/>
              </a:rPr>
              <a:t>试一试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79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方法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左图分割成一个长方形和一个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长方形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=4×6=2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正方形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=3×3=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=24+9=33(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5364000" y="3284640"/>
            <a:ext cx="2953080" cy="2305080"/>
            <a:chOff x="5364000" y="3284640"/>
            <a:chExt cx="2953080" cy="2305080"/>
          </a:xfrm>
        </p:grpSpPr>
        <p:sp>
          <p:nvSpPr>
            <p:cNvPr id="289" name="Line 5"/>
            <p:cNvSpPr/>
            <p:nvPr/>
          </p:nvSpPr>
          <p:spPr>
            <a:xfrm>
              <a:off x="5364000" y="3284640"/>
              <a:ext cx="0" cy="2305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5364000" y="5589720"/>
              <a:ext cx="2953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>
              <a:off x="5364000" y="3284640"/>
              <a:ext cx="1729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8"/>
            <p:cNvSpPr/>
            <p:nvPr/>
          </p:nvSpPr>
          <p:spPr>
            <a:xfrm>
              <a:off x="7093080" y="3284640"/>
              <a:ext cx="0" cy="1152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9"/>
            <p:cNvSpPr/>
            <p:nvPr/>
          </p:nvSpPr>
          <p:spPr>
            <a:xfrm>
              <a:off x="7093080" y="443736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0"/>
            <p:cNvSpPr/>
            <p:nvPr/>
          </p:nvSpPr>
          <p:spPr>
            <a:xfrm>
              <a:off x="8317080" y="443736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1"/>
          <p:cNvSpPr/>
          <p:nvPr/>
        </p:nvSpPr>
        <p:spPr>
          <a:xfrm>
            <a:off x="7093080" y="4437000"/>
            <a:ext cx="0" cy="1152720"/>
          </a:xfrm>
          <a:prstGeom prst="line">
            <a:avLst/>
          </a:prstGeom>
          <a:ln w="2844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586908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5705640" y="27288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 rot="10800000">
            <a:off x="8314920" y="4750560"/>
            <a:ext cx="454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 rot="10674000">
            <a:off x="4932000" y="4389840"/>
            <a:ext cx="454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6" descr="MCj04462500000[1]"/>
          <p:cNvPicPr/>
          <p:nvPr/>
        </p:nvPicPr>
        <p:blipFill>
          <a:blip r:embed="rId1"/>
          <a:stretch/>
        </p:blipFill>
        <p:spPr>
          <a:xfrm>
            <a:off x="539640" y="189000"/>
            <a:ext cx="1081080" cy="1049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18223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幼圆"/>
              </a:rPr>
              <a:t>想一想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还有什么方法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1476360" y="3284640"/>
            <a:ext cx="2952720" cy="2305080"/>
            <a:chOff x="1476360" y="3284640"/>
            <a:chExt cx="2952720" cy="2305080"/>
          </a:xfrm>
        </p:grpSpPr>
        <p:sp>
          <p:nvSpPr>
            <p:cNvPr id="304" name="Line 5"/>
            <p:cNvSpPr/>
            <p:nvPr/>
          </p:nvSpPr>
          <p:spPr>
            <a:xfrm>
              <a:off x="1476360" y="3284640"/>
              <a:ext cx="0" cy="2305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6"/>
            <p:cNvSpPr/>
            <p:nvPr/>
          </p:nvSpPr>
          <p:spPr>
            <a:xfrm>
              <a:off x="1476360" y="5589720"/>
              <a:ext cx="2952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1476360" y="328464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3205080" y="3284640"/>
              <a:ext cx="0" cy="1152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3205080" y="4437360"/>
              <a:ext cx="12236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429080" y="443736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Line 11"/>
          <p:cNvSpPr/>
          <p:nvPr/>
        </p:nvSpPr>
        <p:spPr>
          <a:xfrm flipV="1">
            <a:off x="5580000" y="4652640"/>
            <a:ext cx="1728720" cy="1152360"/>
          </a:xfrm>
          <a:prstGeom prst="line">
            <a:avLst/>
          </a:prstGeom>
          <a:ln w="2844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3"/>
          <p:cNvGrpSpPr/>
          <p:nvPr/>
        </p:nvGrpSpPr>
        <p:grpSpPr>
          <a:xfrm>
            <a:off x="5580000" y="3500280"/>
            <a:ext cx="2952720" cy="2305080"/>
            <a:chOff x="5580000" y="3500280"/>
            <a:chExt cx="2952720" cy="2305080"/>
          </a:xfrm>
        </p:grpSpPr>
        <p:sp>
          <p:nvSpPr>
            <p:cNvPr id="312" name="Line 14"/>
            <p:cNvSpPr/>
            <p:nvPr/>
          </p:nvSpPr>
          <p:spPr>
            <a:xfrm>
              <a:off x="5580000" y="3500280"/>
              <a:ext cx="0" cy="2305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5580000" y="5805360"/>
              <a:ext cx="2952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>
              <a:off x="5580000" y="35002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7"/>
            <p:cNvSpPr/>
            <p:nvPr/>
          </p:nvSpPr>
          <p:spPr>
            <a:xfrm>
              <a:off x="7308720" y="3500280"/>
              <a:ext cx="0" cy="1152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7308720" y="4653000"/>
              <a:ext cx="12236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9"/>
            <p:cNvSpPr/>
            <p:nvPr/>
          </p:nvSpPr>
          <p:spPr>
            <a:xfrm>
              <a:off x="8532720" y="465300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Line 20"/>
          <p:cNvSpPr/>
          <p:nvPr/>
        </p:nvSpPr>
        <p:spPr>
          <a:xfrm>
            <a:off x="3203640" y="3284640"/>
            <a:ext cx="1224000" cy="0"/>
          </a:xfrm>
          <a:prstGeom prst="line">
            <a:avLst/>
          </a:prstGeom>
          <a:ln w="2844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1"/>
          <p:cNvSpPr/>
          <p:nvPr/>
        </p:nvSpPr>
        <p:spPr>
          <a:xfrm>
            <a:off x="4427640" y="3284640"/>
            <a:ext cx="0" cy="1152360"/>
          </a:xfrm>
          <a:prstGeom prst="line">
            <a:avLst/>
          </a:prstGeom>
          <a:ln w="2844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 rot="16200000">
            <a:off x="827280" y="4363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 rot="16054200">
            <a:off x="5026680" y="43444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5"/>
          <p:cNvSpPr/>
          <p:nvPr/>
        </p:nvSpPr>
        <p:spPr>
          <a:xfrm>
            <a:off x="2341800" y="5877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6805800" y="5877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2249640" y="28004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6086520" y="2924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9"/>
          <p:cNvSpPr/>
          <p:nvPr/>
        </p:nvSpPr>
        <p:spPr>
          <a:xfrm rot="10800000">
            <a:off x="8531280" y="5037840"/>
            <a:ext cx="454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0"/>
          <p:cNvSpPr/>
          <p:nvPr/>
        </p:nvSpPr>
        <p:spPr>
          <a:xfrm rot="10800000">
            <a:off x="4355640" y="4723560"/>
            <a:ext cx="454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2" descr="MCj00889780000[1]"/>
          <p:cNvPicPr/>
          <p:nvPr/>
        </p:nvPicPr>
        <p:blipFill>
          <a:blip r:embed="rId1"/>
          <a:stretch/>
        </p:blipFill>
        <p:spPr>
          <a:xfrm>
            <a:off x="1908000" y="189000"/>
            <a:ext cx="89712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CFCE-2CA2-4821-9216-B6CBB2D8ED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7"/>
          <p:cNvSpPr/>
          <p:nvPr/>
        </p:nvSpPr>
        <p:spPr>
          <a:xfrm>
            <a:off x="5076720" y="36450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MCj04361610000[1]"/>
          <p:cNvPicPr/>
          <p:nvPr/>
        </p:nvPicPr>
        <p:blipFill>
          <a:blip r:embed="rId1"/>
          <a:stretch/>
        </p:blipFill>
        <p:spPr>
          <a:xfrm>
            <a:off x="4427640" y="2708280"/>
            <a:ext cx="4716360" cy="4149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彩云"/>
              </a:rPr>
              <a:t>本节课同学们将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道什么是组合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怎样计算组合图形的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生活中的组合图形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2880000" cy="2062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1413000"/>
            <a:ext cx="2916360" cy="1900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968640"/>
            <a:ext cx="2590920" cy="1946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66960" y="3716280"/>
            <a:ext cx="2103480" cy="2305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MCj02903500000[1]"/>
          <p:cNvPicPr/>
          <p:nvPr/>
        </p:nvPicPr>
        <p:blipFill>
          <a:blip r:embed="rId9"/>
          <a:stretch/>
        </p:blipFill>
        <p:spPr>
          <a:xfrm>
            <a:off x="6156360" y="3645000"/>
            <a:ext cx="2303280" cy="1973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住房1"/>
          <p:cNvPicPr/>
          <p:nvPr/>
        </p:nvPicPr>
        <p:blipFill>
          <a:blip r:embed="rId10"/>
          <a:stretch/>
        </p:blipFill>
        <p:spPr>
          <a:xfrm>
            <a:off x="3276720" y="1341360"/>
            <a:ext cx="2592360" cy="189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彩云"/>
              </a:rPr>
              <a:t>什么是组合图形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0920" y="1628640"/>
            <a:ext cx="8540640" cy="449928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的图形都是由几个独立的几何图形组成的，这样的图形我们就把它们叫做组合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90000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3276720" y="3933720"/>
            <a:ext cx="1368360" cy="1727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 rot="8253000">
            <a:off x="3456720" y="3499920"/>
            <a:ext cx="1027080" cy="9367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5651640" y="4797360"/>
            <a:ext cx="2160360" cy="1008000"/>
          </a:xfrm>
          <a:prstGeom prst="parallelogram">
            <a:avLst>
              <a:gd name="adj" fmla="val 535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5435640" y="3500280"/>
            <a:ext cx="31669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6"/>
          <p:cNvGrpSpPr/>
          <p:nvPr/>
        </p:nvGrpSpPr>
        <p:grpSpPr>
          <a:xfrm>
            <a:off x="900000" y="3141720"/>
            <a:ext cx="1296720" cy="2304720"/>
            <a:chOff x="900000" y="3141720"/>
            <a:chExt cx="1296720" cy="2304720"/>
          </a:xfrm>
        </p:grpSpPr>
        <p:sp>
          <p:nvSpPr>
            <p:cNvPr id="106" name="Line 4"/>
            <p:cNvSpPr/>
            <p:nvPr/>
          </p:nvSpPr>
          <p:spPr>
            <a:xfrm>
              <a:off x="900000" y="3141720"/>
              <a:ext cx="0" cy="23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5"/>
            <p:cNvSpPr/>
            <p:nvPr/>
          </p:nvSpPr>
          <p:spPr>
            <a:xfrm>
              <a:off x="900000" y="3141720"/>
              <a:ext cx="129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 flipH="1">
              <a:off x="1763280" y="314172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>
              <a:off x="1763640" y="4149720"/>
              <a:ext cx="0" cy="129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>
              <a:off x="900000" y="407808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18" descr="MPj01828340000[1]"/>
          <p:cNvPicPr/>
          <p:nvPr/>
        </p:nvPicPr>
        <p:blipFill>
          <a:blip r:embed="rId1"/>
          <a:stretch/>
        </p:blipFill>
        <p:spPr>
          <a:xfrm>
            <a:off x="1476360" y="189000"/>
            <a:ext cx="86508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18223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幼圆"/>
              </a:rPr>
              <a:t>找一找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谁能联系实际想一想，请你说出生活中哪些地方有组合图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MCj04457320000[1]"/>
          <p:cNvPicPr/>
          <p:nvPr/>
        </p:nvPicPr>
        <p:blipFill>
          <a:blip r:embed="rId1"/>
          <a:stretch/>
        </p:blipFill>
        <p:spPr>
          <a:xfrm>
            <a:off x="5003640" y="3141720"/>
            <a:ext cx="295308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彩云"/>
              </a:rPr>
              <a:t>组合图形面积怎样计算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你能计算出下面组合图形的面积吗？同学们分组讨论，四人一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6804000" y="364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34"/>
          <p:cNvGrpSpPr/>
          <p:nvPr/>
        </p:nvGrpSpPr>
        <p:grpSpPr>
          <a:xfrm>
            <a:off x="4645440" y="2081160"/>
            <a:ext cx="3007440" cy="4111560"/>
            <a:chOff x="4645440" y="2081160"/>
            <a:chExt cx="3007440" cy="4111560"/>
          </a:xfrm>
        </p:grpSpPr>
        <p:sp>
          <p:nvSpPr>
            <p:cNvPr id="119" name="Line 4"/>
            <p:cNvSpPr/>
            <p:nvPr/>
          </p:nvSpPr>
          <p:spPr>
            <a:xfrm>
              <a:off x="5219640" y="2637000"/>
              <a:ext cx="0" cy="302544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5219640" y="5661000"/>
              <a:ext cx="158436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"/>
            <p:cNvSpPr/>
            <p:nvPr/>
          </p:nvSpPr>
          <p:spPr>
            <a:xfrm>
              <a:off x="5219640" y="2637000"/>
              <a:ext cx="201636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 flipH="1">
              <a:off x="6804000" y="2637000"/>
              <a:ext cx="432000" cy="100800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6804000" y="3645000"/>
              <a:ext cx="0" cy="201600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5219640" y="5661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6804000" y="5661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4788000" y="2637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4716360" y="566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5219640" y="2276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7236000" y="22050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6804000" y="5661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6443640" y="234936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 flipH="1">
              <a:off x="5219640" y="2349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 flipV="1">
              <a:off x="4859280" y="26366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>
              <a:off x="4859280" y="4653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6300720" y="60213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 flipH="1">
              <a:off x="5219280" y="602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7308720" y="4797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 flipV="1">
              <a:off x="7308720" y="3645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9"/>
            <p:cNvSpPr/>
            <p:nvPr/>
          </p:nvSpPr>
          <p:spPr>
            <a:xfrm>
              <a:off x="5634360" y="5824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0"/>
            <p:cNvSpPr/>
            <p:nvPr/>
          </p:nvSpPr>
          <p:spPr>
            <a:xfrm>
              <a:off x="4645440" y="41497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1"/>
            <p:cNvSpPr/>
            <p:nvPr/>
          </p:nvSpPr>
          <p:spPr>
            <a:xfrm>
              <a:off x="7219080" y="42400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2"/>
            <p:cNvSpPr/>
            <p:nvPr/>
          </p:nvSpPr>
          <p:spPr>
            <a:xfrm>
              <a:off x="5922000" y="2081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33"/>
          <p:cNvSpPr/>
          <p:nvPr/>
        </p:nvSpPr>
        <p:spPr>
          <a:xfrm>
            <a:off x="7831440" y="25131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位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5" descr="MPj04395600000[1]"/>
          <p:cNvPicPr/>
          <p:nvPr/>
        </p:nvPicPr>
        <p:blipFill>
          <a:blip r:embed="rId1"/>
          <a:stretch/>
        </p:blipFill>
        <p:spPr>
          <a:xfrm>
            <a:off x="395280" y="1773360"/>
            <a:ext cx="4248000" cy="2835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5294880" y="836640"/>
            <a:ext cx="3006720" cy="4111560"/>
            <a:chOff x="5294880" y="836640"/>
            <a:chExt cx="3006720" cy="4111560"/>
          </a:xfrm>
        </p:grpSpPr>
        <p:sp>
          <p:nvSpPr>
            <p:cNvPr id="147" name="Line 5"/>
            <p:cNvSpPr/>
            <p:nvPr/>
          </p:nvSpPr>
          <p:spPr>
            <a:xfrm>
              <a:off x="5868720" y="1392480"/>
              <a:ext cx="0" cy="302544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"/>
            <p:cNvSpPr/>
            <p:nvPr/>
          </p:nvSpPr>
          <p:spPr>
            <a:xfrm>
              <a:off x="5868720" y="4416480"/>
              <a:ext cx="158400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5868720" y="1392480"/>
              <a:ext cx="201600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 flipH="1">
              <a:off x="7452720" y="1392480"/>
              <a:ext cx="431640" cy="100800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7453080" y="2400480"/>
              <a:ext cx="0" cy="201600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5868720" y="44164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>
              <a:off x="7453080" y="44164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5437080" y="139248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3"/>
            <p:cNvSpPr/>
            <p:nvPr/>
          </p:nvSpPr>
          <p:spPr>
            <a:xfrm>
              <a:off x="5365440" y="441648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5868720" y="10321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>
              <a:off x="7885080" y="9604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7453080" y="441648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7092720" y="11048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H="1">
              <a:off x="5868360" y="11048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 flipV="1">
              <a:off x="5508360" y="139212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>
              <a:off x="5508360" y="34084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6949800" y="477684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2"/>
            <p:cNvSpPr/>
            <p:nvPr/>
          </p:nvSpPr>
          <p:spPr>
            <a:xfrm flipH="1">
              <a:off x="5868720" y="47768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3"/>
            <p:cNvSpPr/>
            <p:nvPr/>
          </p:nvSpPr>
          <p:spPr>
            <a:xfrm>
              <a:off x="7957800" y="35528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V="1">
              <a:off x="7957800" y="24004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5"/>
            <p:cNvSpPr/>
            <p:nvPr/>
          </p:nvSpPr>
          <p:spPr>
            <a:xfrm>
              <a:off x="6283440" y="4579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6"/>
            <p:cNvSpPr/>
            <p:nvPr/>
          </p:nvSpPr>
          <p:spPr>
            <a:xfrm>
              <a:off x="5294880" y="2905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7"/>
            <p:cNvSpPr/>
            <p:nvPr/>
          </p:nvSpPr>
          <p:spPr>
            <a:xfrm>
              <a:off x="7867800" y="299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8"/>
            <p:cNvSpPr/>
            <p:nvPr/>
          </p:nvSpPr>
          <p:spPr>
            <a:xfrm>
              <a:off x="6570720" y="836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Line 29"/>
          <p:cNvSpPr/>
          <p:nvPr/>
        </p:nvSpPr>
        <p:spPr>
          <a:xfrm>
            <a:off x="745164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7255440" y="503244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位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1"/>
          <p:cNvSpPr/>
          <p:nvPr/>
        </p:nvSpPr>
        <p:spPr>
          <a:xfrm>
            <a:off x="5867280" y="2349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2"/>
          <p:cNvSpPr/>
          <p:nvPr/>
        </p:nvSpPr>
        <p:spPr>
          <a:xfrm>
            <a:off x="755640" y="17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808200" y="228276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4"/>
          <p:cNvSpPr/>
          <p:nvPr/>
        </p:nvSpPr>
        <p:spPr>
          <a:xfrm>
            <a:off x="395280" y="907920"/>
            <a:ext cx="4824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法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解成一个长方形和一个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由长方形面积公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×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5×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梯形面积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a+b) ×h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8+18) ×(20-15) 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65(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= 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20+65=18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5"/>
          <p:cNvSpPr/>
          <p:nvPr/>
        </p:nvSpPr>
        <p:spPr>
          <a:xfrm>
            <a:off x="1258920" y="260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幼圆"/>
              </a:rPr>
              <a:t>与老师一起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7" descr="MCj04462560000[1]"/>
          <p:cNvPicPr/>
          <p:nvPr/>
        </p:nvPicPr>
        <p:blipFill>
          <a:blip r:embed="rId1"/>
          <a:stretch/>
        </p:blipFill>
        <p:spPr>
          <a:xfrm>
            <a:off x="395280" y="49320"/>
            <a:ext cx="1008000" cy="97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4"/>
          <p:cNvGrpSpPr/>
          <p:nvPr/>
        </p:nvGrpSpPr>
        <p:grpSpPr>
          <a:xfrm>
            <a:off x="5437800" y="836640"/>
            <a:ext cx="3006720" cy="4111560"/>
            <a:chOff x="5437800" y="836640"/>
            <a:chExt cx="3006720" cy="4111560"/>
          </a:xfrm>
        </p:grpSpPr>
        <p:sp>
          <p:nvSpPr>
            <p:cNvPr id="180" name="Line 5"/>
            <p:cNvSpPr/>
            <p:nvPr/>
          </p:nvSpPr>
          <p:spPr>
            <a:xfrm>
              <a:off x="6011640" y="1392480"/>
              <a:ext cx="0" cy="302544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6"/>
            <p:cNvSpPr/>
            <p:nvPr/>
          </p:nvSpPr>
          <p:spPr>
            <a:xfrm>
              <a:off x="6011640" y="4416480"/>
              <a:ext cx="158400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6011640" y="1392480"/>
              <a:ext cx="201600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8"/>
            <p:cNvSpPr/>
            <p:nvPr/>
          </p:nvSpPr>
          <p:spPr>
            <a:xfrm flipH="1">
              <a:off x="7595640" y="1392480"/>
              <a:ext cx="431640" cy="100800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9"/>
            <p:cNvSpPr/>
            <p:nvPr/>
          </p:nvSpPr>
          <p:spPr>
            <a:xfrm>
              <a:off x="7596000" y="2400480"/>
              <a:ext cx="0" cy="201600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0"/>
            <p:cNvSpPr/>
            <p:nvPr/>
          </p:nvSpPr>
          <p:spPr>
            <a:xfrm>
              <a:off x="6011640" y="44164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1"/>
            <p:cNvSpPr/>
            <p:nvPr/>
          </p:nvSpPr>
          <p:spPr>
            <a:xfrm>
              <a:off x="7596000" y="44164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>
              <a:off x="5580000" y="139248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>
              <a:off x="5508360" y="441648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4"/>
            <p:cNvSpPr/>
            <p:nvPr/>
          </p:nvSpPr>
          <p:spPr>
            <a:xfrm>
              <a:off x="6011640" y="10321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8028000" y="9604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7596000" y="441648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7235640" y="11048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8"/>
            <p:cNvSpPr/>
            <p:nvPr/>
          </p:nvSpPr>
          <p:spPr>
            <a:xfrm flipH="1">
              <a:off x="6011280" y="11048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 flipV="1">
              <a:off x="5651280" y="139212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>
              <a:off x="5651280" y="34084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>
              <a:off x="7092720" y="477684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 flipH="1">
              <a:off x="6011640" y="47768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8100720" y="35528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 flipV="1">
              <a:off x="8100720" y="24004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5"/>
            <p:cNvSpPr/>
            <p:nvPr/>
          </p:nvSpPr>
          <p:spPr>
            <a:xfrm>
              <a:off x="6426360" y="4579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5437800" y="2905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8010720" y="299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8"/>
            <p:cNvSpPr/>
            <p:nvPr/>
          </p:nvSpPr>
          <p:spPr>
            <a:xfrm>
              <a:off x="6713640" y="836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Line 29"/>
          <p:cNvSpPr/>
          <p:nvPr/>
        </p:nvSpPr>
        <p:spPr>
          <a:xfrm>
            <a:off x="7596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7255080" y="51768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位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324000" y="981000"/>
            <a:ext cx="4108320" cy="5749560"/>
          </a:xfrm>
          <a:prstGeom prst="rect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法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解成一个长方形和一个三角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：由长方形面积公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0×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60(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由三角形面积公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三角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ah ÷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18-8=10(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=20-15=5(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三角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ah ÷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×5÷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S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三角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60+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8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2"/>
          <p:cNvSpPr/>
          <p:nvPr/>
        </p:nvSpPr>
        <p:spPr>
          <a:xfrm>
            <a:off x="7596360" y="141300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3"/>
          <p:cNvSpPr/>
          <p:nvPr/>
        </p:nvSpPr>
        <p:spPr>
          <a:xfrm>
            <a:off x="2560680" y="189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与老师一起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4" descr="MCj04462560000[1]"/>
          <p:cNvPicPr/>
          <p:nvPr/>
        </p:nvPicPr>
        <p:blipFill>
          <a:blip r:embed="rId1"/>
          <a:stretch/>
        </p:blipFill>
        <p:spPr>
          <a:xfrm>
            <a:off x="250920" y="0"/>
            <a:ext cx="1008000" cy="97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21826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幼圆"/>
              </a:rPr>
              <a:t>想一想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528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还有没有其它方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5437800" y="1557360"/>
            <a:ext cx="3006720" cy="4111560"/>
            <a:chOff x="5437800" y="1557360"/>
            <a:chExt cx="3006720" cy="4111560"/>
          </a:xfrm>
        </p:grpSpPr>
        <p:sp>
          <p:nvSpPr>
            <p:cNvPr id="213" name="Line 5"/>
            <p:cNvSpPr/>
            <p:nvPr/>
          </p:nvSpPr>
          <p:spPr>
            <a:xfrm>
              <a:off x="6011640" y="2113200"/>
              <a:ext cx="0" cy="302544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6011640" y="5137200"/>
              <a:ext cx="158400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6011640" y="2113200"/>
              <a:ext cx="201600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8"/>
            <p:cNvSpPr/>
            <p:nvPr/>
          </p:nvSpPr>
          <p:spPr>
            <a:xfrm flipH="1">
              <a:off x="7595640" y="2113200"/>
              <a:ext cx="431640" cy="100800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7596000" y="3121200"/>
              <a:ext cx="0" cy="201600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6011640" y="5137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7596000" y="5137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5580000" y="211320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>
              <a:off x="5508360" y="513720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>
              <a:off x="6011640" y="1752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>
              <a:off x="8028000" y="1681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7596000" y="513720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7235640" y="18255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 flipH="1">
              <a:off x="6011280" y="18255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 flipV="1">
              <a:off x="5651280" y="21128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0"/>
            <p:cNvSpPr/>
            <p:nvPr/>
          </p:nvSpPr>
          <p:spPr>
            <a:xfrm>
              <a:off x="5651280" y="41292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1"/>
            <p:cNvSpPr/>
            <p:nvPr/>
          </p:nvSpPr>
          <p:spPr>
            <a:xfrm>
              <a:off x="7092720" y="54975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2"/>
            <p:cNvSpPr/>
            <p:nvPr/>
          </p:nvSpPr>
          <p:spPr>
            <a:xfrm flipH="1">
              <a:off x="6011640" y="549756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3"/>
            <p:cNvSpPr/>
            <p:nvPr/>
          </p:nvSpPr>
          <p:spPr>
            <a:xfrm>
              <a:off x="8100720" y="4273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4"/>
            <p:cNvSpPr/>
            <p:nvPr/>
          </p:nvSpPr>
          <p:spPr>
            <a:xfrm flipV="1">
              <a:off x="8100720" y="3121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5"/>
            <p:cNvSpPr/>
            <p:nvPr/>
          </p:nvSpPr>
          <p:spPr>
            <a:xfrm>
              <a:off x="6426360" y="530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6"/>
            <p:cNvSpPr/>
            <p:nvPr/>
          </p:nvSpPr>
          <p:spPr>
            <a:xfrm>
              <a:off x="5437800" y="362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8010720" y="3716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6713640" y="1557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Line 29"/>
          <p:cNvSpPr/>
          <p:nvPr/>
        </p:nvSpPr>
        <p:spPr>
          <a:xfrm>
            <a:off x="7596360" y="3141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6012000" y="2133720"/>
            <a:ext cx="1584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1"/>
          <p:cNvGrpSpPr/>
          <p:nvPr/>
        </p:nvGrpSpPr>
        <p:grpSpPr>
          <a:xfrm>
            <a:off x="829080" y="1700280"/>
            <a:ext cx="3007440" cy="4111560"/>
            <a:chOff x="829080" y="1700280"/>
            <a:chExt cx="3007440" cy="4111560"/>
          </a:xfrm>
        </p:grpSpPr>
        <p:sp>
          <p:nvSpPr>
            <p:cNvPr id="240" name="Line 32"/>
            <p:cNvSpPr/>
            <p:nvPr/>
          </p:nvSpPr>
          <p:spPr>
            <a:xfrm>
              <a:off x="1403280" y="2256120"/>
              <a:ext cx="0" cy="302544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3"/>
            <p:cNvSpPr/>
            <p:nvPr/>
          </p:nvSpPr>
          <p:spPr>
            <a:xfrm>
              <a:off x="1403280" y="5280120"/>
              <a:ext cx="158436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4"/>
            <p:cNvSpPr/>
            <p:nvPr/>
          </p:nvSpPr>
          <p:spPr>
            <a:xfrm>
              <a:off x="1403280" y="2256120"/>
              <a:ext cx="201636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5"/>
            <p:cNvSpPr/>
            <p:nvPr/>
          </p:nvSpPr>
          <p:spPr>
            <a:xfrm flipH="1">
              <a:off x="2987640" y="2256120"/>
              <a:ext cx="432000" cy="100800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2987640" y="3264120"/>
              <a:ext cx="0" cy="201600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1403280" y="52801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>
              <a:off x="2987640" y="52801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971640" y="22561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0"/>
            <p:cNvSpPr/>
            <p:nvPr/>
          </p:nvSpPr>
          <p:spPr>
            <a:xfrm>
              <a:off x="900000" y="5280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1403280" y="18957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2"/>
            <p:cNvSpPr/>
            <p:nvPr/>
          </p:nvSpPr>
          <p:spPr>
            <a:xfrm>
              <a:off x="3419640" y="18241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2987640" y="5280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4"/>
            <p:cNvSpPr/>
            <p:nvPr/>
          </p:nvSpPr>
          <p:spPr>
            <a:xfrm>
              <a:off x="2627280" y="196848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H="1">
              <a:off x="1403280" y="19684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46"/>
            <p:cNvSpPr/>
            <p:nvPr/>
          </p:nvSpPr>
          <p:spPr>
            <a:xfrm flipV="1">
              <a:off x="1042920" y="22557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47"/>
            <p:cNvSpPr/>
            <p:nvPr/>
          </p:nvSpPr>
          <p:spPr>
            <a:xfrm>
              <a:off x="1042920" y="42721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48"/>
            <p:cNvSpPr/>
            <p:nvPr/>
          </p:nvSpPr>
          <p:spPr>
            <a:xfrm>
              <a:off x="2484360" y="564048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49"/>
            <p:cNvSpPr/>
            <p:nvPr/>
          </p:nvSpPr>
          <p:spPr>
            <a:xfrm flipH="1">
              <a:off x="1402920" y="5640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50"/>
            <p:cNvSpPr/>
            <p:nvPr/>
          </p:nvSpPr>
          <p:spPr>
            <a:xfrm>
              <a:off x="3492360" y="44164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51"/>
            <p:cNvSpPr/>
            <p:nvPr/>
          </p:nvSpPr>
          <p:spPr>
            <a:xfrm flipV="1">
              <a:off x="3492360" y="32641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1818000" y="5443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53"/>
            <p:cNvSpPr/>
            <p:nvPr/>
          </p:nvSpPr>
          <p:spPr>
            <a:xfrm>
              <a:off x="829080" y="3768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54"/>
            <p:cNvSpPr/>
            <p:nvPr/>
          </p:nvSpPr>
          <p:spPr>
            <a:xfrm>
              <a:off x="3402720" y="3859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2105640" y="1700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Line 56"/>
          <p:cNvSpPr/>
          <p:nvPr/>
        </p:nvSpPr>
        <p:spPr>
          <a:xfrm>
            <a:off x="2916360" y="32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7"/>
          <p:cNvSpPr/>
          <p:nvPr/>
        </p:nvSpPr>
        <p:spPr>
          <a:xfrm>
            <a:off x="3419640" y="2276640"/>
            <a:ext cx="0" cy="3025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8"/>
          <p:cNvSpPr/>
          <p:nvPr/>
        </p:nvSpPr>
        <p:spPr>
          <a:xfrm>
            <a:off x="2987640" y="5300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9"/>
          <p:cNvSpPr/>
          <p:nvPr/>
        </p:nvSpPr>
        <p:spPr>
          <a:xfrm>
            <a:off x="1866960" y="5810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长方形和一个梯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0"/>
          <p:cNvSpPr/>
          <p:nvPr/>
        </p:nvSpPr>
        <p:spPr>
          <a:xfrm>
            <a:off x="6640560" y="5661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三角形和一个梯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1" descr="MCj04344110000[1]"/>
          <p:cNvPicPr/>
          <p:nvPr/>
        </p:nvPicPr>
        <p:blipFill>
          <a:blip r:embed="rId1"/>
          <a:stretch/>
        </p:blipFill>
        <p:spPr>
          <a:xfrm>
            <a:off x="611280" y="189000"/>
            <a:ext cx="742680" cy="836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8:10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3:12Z</dcterms:modified>
  <cp:revision>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