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A62B-8335-4A27-A163-0CD8DDE8D23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30AD-1CCB-466D-B3A9-7BDA2EDEC3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BCA-C772-4FDB-A68F-716694FF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6FA-EC20-4543-9617-9C42D95D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713-F6A5-46C1-8DE3-3C989F7C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8BC-E6E8-44F1-B2D5-BC78B216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3D4-1F4F-42FC-8D55-DDDBCF01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447-AA6A-4DA5-8BCA-61554586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E2C-F670-4007-B4D3-B35B80EC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768-7EBC-4CFE-985B-DE09E428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D9F-9624-46CC-9CB9-1122FB91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864-0E3A-4721-8FD4-684E92A2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39D-DB64-4516-B466-88362C10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763-9C60-4511-A21E-D8B6AC40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5DED-F48B-4B7A-BDF9-D7C7109B0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qhwz.com/pp/dm/azmh/index2.htm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52tuku.com/dm/azmh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yisou.com/searchdtl.html?srcp=&#21345;&#36890;&#20154;&#29289;&amp;msgttl=18&amp;p=&#21345;&#36890;&#20154;&#29289;&amp;n=d3b4091b2d22c7c2efca262c6c4134b4&amp;act=detail&amp;b=23&amp;lang=chn&amp;nailurl=http%3A%2F%2Fm2.mk.cnb.yahoo.com%2Fcgi-bin%2FImage%2Ftnc3%2F1247%2C1bf7f39%2Cc3b%2C1&amp;source=top_img_local_d3b4091b2d22c7c2efca262c6c4134b4_&#21345;&#36890;&#20154;&#29289;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258920" y="2637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自己的事情自己干课件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钢琴.mp3" descr=""/>
          <p:cNvPicPr/>
          <p:nvPr/>
        </p:nvPicPr>
        <p:blipFill>
          <a:blip r:embed="rId2"/>
          <a:stretch/>
        </p:blipFill>
        <p:spPr>
          <a:xfrm>
            <a:off x="8748720" y="1341360"/>
            <a:ext cx="71280" cy="7164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4427640" y="1413000"/>
            <a:ext cx="31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走向自立人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328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126440" y="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资料欣赏与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55640" y="765000"/>
            <a:ext cx="7632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在原联邦德国的法律条文中，有一个有趣的规定。条文内容是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岁之前可以只玩耍，不必做家务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6~1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岁偶然帮助父母洗碗，扫地，买东西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0~1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岁要剪草坪，洗碗扫地，给全家人擦皮鞋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4~1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要洗汽车，整理花园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6~1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如父母上班，要每周给家里大扫除一次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对于不愿做家务的孩子，父母有权利向法院申诉，以求法律督促孩子履行法律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84360" y="4437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联邦德国为什么要用法律条文规定孩子必须帮父母做家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14"/>
          <p:cNvSpPr/>
          <p:nvPr/>
        </p:nvSpPr>
        <p:spPr>
          <a:xfrm>
            <a:off x="5715000" y="3200400"/>
            <a:ext cx="3429000" cy="32767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3" descr="SO01871_"/>
          <p:cNvPicPr/>
          <p:nvPr/>
        </p:nvPicPr>
        <p:blipFill>
          <a:blip r:embed="rId1"/>
          <a:stretch/>
        </p:blipFill>
        <p:spPr>
          <a:xfrm>
            <a:off x="0" y="0"/>
            <a:ext cx="914400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556000" y="3860640"/>
            <a:ext cx="302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57200" y="3304800"/>
            <a:ext cx="838836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的家庭教育是以培养孩子富有开拓精神、能够成为一个自食其力的人为出发点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母从孩子小时侯就采取种种方法，让他们认识到劳动的价值，比如让孩子自己动手装配自行车，修理小家电，做简易木工，到外边参加义务劳动等。即使是富有的父母，也十分注重对孩子进行自谋生路的能力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2"/>
          <p:cNvSpPr txBox="1"/>
          <p:nvPr/>
        </p:nvSpPr>
        <p:spPr>
          <a:xfrm>
            <a:off x="2514600" y="762120"/>
            <a:ext cx="3657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00cc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自谋生路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solidFill>
                <a:srgbClr val="9900cc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2"/>
          <p:cNvSpPr/>
          <p:nvPr/>
        </p:nvSpPr>
        <p:spPr>
          <a:xfrm>
            <a:off x="609480" y="380880"/>
            <a:ext cx="4648320" cy="35053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284720" y="3042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日本教育孩子有句名言：除了空气和阳光是大自然的赐予，其余一切都要通过劳动才能获得。父母在教育孩子学好功课的同时，要求他们利用课余时间做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力所能及的家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到外面打工挣钱。孩子很小时，父母们就要给他们灌输一种思想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要给别人添麻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家人外出旅行，不论多么小的孩子，都要无一例外地背上一个小背包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287280" y="449280"/>
            <a:ext cx="43560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不要给别人添麻烦</a:t>
            </a:r>
            <a:endParaRPr b="0" lang="en-US" sz="2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" name="Picture 7" descr="020"/>
          <p:cNvPicPr/>
          <p:nvPr/>
        </p:nvPicPr>
        <p:blipFill>
          <a:blip r:embed="rId3"/>
          <a:stretch/>
        </p:blipFill>
        <p:spPr>
          <a:xfrm>
            <a:off x="0" y="1916280"/>
            <a:ext cx="4284720" cy="3931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19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为什么日本的少年有饭吃，而中国的孩子饿肚子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2852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你认为一个自立的人应该具备哪些条件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怎样培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自己的自立能力才能赢取下一次较量的胜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08000" y="10476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结合中日少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夏令营中的较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外国孩子的自立教育，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042920" y="400536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自立能力的条件：独立生活；有责任心；有自主性，有主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：从小事做起，立足于现在生活；亲自尝试，反复练习；多参加社会实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问题少年"/>
          <p:cNvPicPr/>
          <p:nvPr/>
        </p:nvPicPr>
        <p:blipFill>
          <a:blip r:embed="rId1"/>
          <a:stretch/>
        </p:blipFill>
        <p:spPr>
          <a:xfrm rot="1120800">
            <a:off x="6857640" y="233280"/>
            <a:ext cx="20160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55640" y="1988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１、赵敏是沈阳百乐家具厂的老板，拥有资产５００多万元。２００２年，赵敏的儿子、１８周岁的徐建国没能考上大学。在他看来，母亲是拥有百万资产的富婆，他的前程不成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351000" y="4863600"/>
            <a:ext cx="8037360" cy="1596240"/>
            <a:chOff x="351000" y="4863600"/>
            <a:chExt cx="8037360" cy="1596240"/>
          </a:xfrm>
        </p:grpSpPr>
        <p:sp>
          <p:nvSpPr>
            <p:cNvPr id="95" name="WordArt 4"/>
            <p:cNvSpPr txBox="1"/>
            <p:nvPr/>
          </p:nvSpPr>
          <p:spPr>
            <a:xfrm rot="20374200">
              <a:off x="468000" y="5157360"/>
              <a:ext cx="186696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猜一猜：</a:t>
              </a:r>
              <a:endParaRPr b="1" lang="en-US" sz="2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96" name="Text Box 6"/>
            <p:cNvSpPr/>
            <p:nvPr/>
          </p:nvSpPr>
          <p:spPr>
            <a:xfrm>
              <a:off x="2484360" y="5157720"/>
              <a:ext cx="590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赵敏将如何安排徐建国的前程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WordArt 9"/>
          <p:cNvSpPr txBox="1"/>
          <p:nvPr/>
        </p:nvSpPr>
        <p:spPr>
          <a:xfrm>
            <a:off x="2268360" y="549360"/>
            <a:ext cx="46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猜我猜我猜猜猜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32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２、但是母亲对他的安排大大出乎他的预料：“我打下的江山凭啥要白白送给你？你自己到外面闯去，一年后活着回来就行了。在这一年中，你不能回家，更不能向家里要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493920" y="4503240"/>
            <a:ext cx="8037360" cy="1596240"/>
            <a:chOff x="493920" y="4503240"/>
            <a:chExt cx="8037360" cy="1596240"/>
          </a:xfrm>
        </p:grpSpPr>
        <p:sp>
          <p:nvSpPr>
            <p:cNvPr id="100" name="WordArt 8"/>
            <p:cNvSpPr txBox="1"/>
            <p:nvPr/>
          </p:nvSpPr>
          <p:spPr>
            <a:xfrm rot="20374200">
              <a:off x="610920" y="4797000"/>
              <a:ext cx="186696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猜一猜：</a:t>
              </a:r>
              <a:endParaRPr b="1" lang="en-US" sz="2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627280" y="4797360"/>
              <a:ext cx="590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徐建国将会做出怎样的反映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1268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３、徐建国见母亲这么绝情，接过母亲递来的１０００元钱，强忍着泪水奔出了家门。那天是２００２年９月２２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8"/>
          <p:cNvGrpSpPr/>
          <p:nvPr/>
        </p:nvGrpSpPr>
        <p:grpSpPr>
          <a:xfrm>
            <a:off x="422640" y="4214520"/>
            <a:ext cx="8037000" cy="1595880"/>
            <a:chOff x="422640" y="4214520"/>
            <a:chExt cx="8037000" cy="1595880"/>
          </a:xfrm>
        </p:grpSpPr>
        <p:sp>
          <p:nvSpPr>
            <p:cNvPr id="104" name="WordArt 9"/>
            <p:cNvSpPr txBox="1"/>
            <p:nvPr/>
          </p:nvSpPr>
          <p:spPr>
            <a:xfrm rot="20374200">
              <a:off x="539640" y="4508280"/>
              <a:ext cx="1866960" cy="100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猜一猜：</a:t>
              </a:r>
              <a:endParaRPr b="1" lang="en-US" sz="2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2555640" y="4508640"/>
              <a:ext cx="590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徐建国将如何谋生？他可能遇到哪些事情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5564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４、历经千辛万苦后，到了２００３年８月，徐建国已经挣了２０万元，２００３年９月２２日，一个叫张哥的人忽然出现了：“一年到了，你不想回去看看你妈？”一提起这个话题，一年来的酸甜苦辣涌上心头，张哥沉默了一会儿才说：“给，这是你妈写给你的信。你自己好好看看吧。”放下信的时候，泪水已经打湿了衣襟，徐建国哭喊着跑出酒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351000" y="4790520"/>
            <a:ext cx="8037360" cy="1596240"/>
            <a:chOff x="351000" y="4790520"/>
            <a:chExt cx="8037360" cy="1596240"/>
          </a:xfrm>
        </p:grpSpPr>
        <p:sp>
          <p:nvSpPr>
            <p:cNvPr id="108" name="WordArt 5"/>
            <p:cNvSpPr txBox="1"/>
            <p:nvPr/>
          </p:nvSpPr>
          <p:spPr>
            <a:xfrm rot="20374200">
              <a:off x="468000" y="5084280"/>
              <a:ext cx="186696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猜一猜：</a:t>
              </a:r>
              <a:endParaRPr b="1" lang="en-US" sz="2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109" name="Text Box 6"/>
            <p:cNvSpPr/>
            <p:nvPr/>
          </p:nvSpPr>
          <p:spPr>
            <a:xfrm>
              <a:off x="2484360" y="5084640"/>
              <a:ext cx="590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赵敏在信中会说些什么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55640" y="90792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原来，徐建国离开的那天，母亲就跟在他身后。此后，为了防止发生意外，她事先以高薪聘请了３个人跟着儿子，张哥就是其中的一个。２００３年６月２７日，病重的她离开了人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8194"/>
          <p:cNvSpPr/>
          <p:nvPr/>
        </p:nvSpPr>
        <p:spPr>
          <a:xfrm>
            <a:off x="2400480" y="4292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用心良苦的遗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8064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　建国，我的好儿子，当你看到这封信的时候，我已经在另一个世界了。在你离开我的时候，我已经患了癌症。我最放心不下的就是你的生存问题，现在知道你能适应最艰苦的生活，而且活得挺坚强的，我终于可以闭上眼睛了。当妈的没有不疼爱自己孩子的，但是如果把什么都给孩子事先准备好，那只能是害了孩子。一个没有艰苦卓绝精神和没有经历过社会磨练的人是很危险的，早晚会被淘汰。我的好儿子，你离家的一举一动都在我的掌握之中，我曾经动摇过多次，难受的时候不是一般的心疼，而是万箭穿心，我甚至怀疑自己是不是精神出了毛病。但我庆幸，我最终战胜了自己。我的好儿子，现在我可以放心地把公司交给你了。我的遗嘱和移交手续都已办妥了，相信你定能成为出色的企业家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今天学校做卫生"/>
          <p:cNvPicPr/>
          <p:nvPr/>
        </p:nvPicPr>
        <p:blipFill>
          <a:blip r:embed="rId1"/>
          <a:stretch/>
        </p:blipFill>
        <p:spPr>
          <a:xfrm>
            <a:off x="324000" y="476280"/>
            <a:ext cx="6691320" cy="6095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7600680" y="1700280"/>
            <a:ext cx="729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今天我当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89000"/>
            <a:ext cx="7056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彩云"/>
                <a:ea typeface="华文彩云"/>
              </a:rPr>
              <a:t>小辩论：</a:t>
            </a:r>
            <a:r>
              <a:rPr b="1" lang="zh-CN" sz="3200" spc="-1" strike="noStrike">
                <a:solidFill>
                  <a:srgbClr val="808080"/>
                </a:solidFill>
                <a:latin typeface="华文彩云"/>
                <a:ea typeface="华文彩云"/>
              </a:rPr>
              <a:t>联系教材上的材料，以如下两种观点进行辩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44640"/>
            <a:ext cx="212400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3780000" y="3284640"/>
            <a:ext cx="172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V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2771640" y="1557360"/>
            <a:ext cx="2160720" cy="1366920"/>
          </a:xfrm>
          <a:prstGeom prst="wedgeRoundRectCallout">
            <a:avLst>
              <a:gd name="adj1" fmla="val -74319"/>
              <a:gd name="adj2" fmla="val 493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母应当支付子女上学的费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4581360"/>
            <a:ext cx="1908360" cy="19814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4"/>
          <p:cNvSpPr/>
          <p:nvPr/>
        </p:nvSpPr>
        <p:spPr>
          <a:xfrm>
            <a:off x="3780000" y="4437000"/>
            <a:ext cx="3024000" cy="1656000"/>
          </a:xfrm>
          <a:prstGeom prst="cloudCallout">
            <a:avLst>
              <a:gd name="adj1" fmla="val 61967"/>
              <a:gd name="adj2" fmla="val 36768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母不应当支付子女上大学的费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1844640"/>
            <a:ext cx="69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一个人不可能一辈子都靠他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必须靠他自己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应自觉的储备自立的知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锻炼自立的能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培养自立的精神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SP_01M1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2"/>
          <p:cNvSpPr txBox="1"/>
          <p:nvPr/>
        </p:nvSpPr>
        <p:spPr>
          <a:xfrm>
            <a:off x="1258920" y="90792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拓展作业——生活方案</a:t>
            </a:r>
            <a:endParaRPr b="0" i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3" name="WordArt 3"/>
          <p:cNvSpPr txBox="1"/>
          <p:nvPr/>
        </p:nvSpPr>
        <p:spPr>
          <a:xfrm>
            <a:off x="1600200" y="2819520"/>
            <a:ext cx="6648480" cy="11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1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今天我远行课件</a:t>
            </a:r>
            <a:r>
              <a:rPr b="0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免费下载</a:t>
            </a:r>
            <a:endParaRPr b="0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DA6A-61C6-41F5-81C7-2CA967F45C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新生"/>
          <p:cNvPicPr/>
          <p:nvPr/>
        </p:nvPicPr>
        <p:blipFill>
          <a:blip r:embed="rId1"/>
          <a:stretch/>
        </p:blipFill>
        <p:spPr>
          <a:xfrm>
            <a:off x="611280" y="765000"/>
            <a:ext cx="6548400" cy="54039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684200" y="2637000"/>
            <a:ext cx="7898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新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1476360" y="2205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自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2700360" y="2205000"/>
            <a:ext cx="7559640" cy="885960"/>
            <a:chOff x="2700360" y="2205000"/>
            <a:chExt cx="7559640" cy="885960"/>
          </a:xfrm>
        </p:grpSpPr>
        <p:sp>
          <p:nvSpPr>
            <p:cNvPr id="58" name="Text Box 5"/>
            <p:cNvSpPr/>
            <p:nvPr/>
          </p:nvSpPr>
          <p:spPr>
            <a:xfrm>
              <a:off x="3348000" y="2205000"/>
              <a:ext cx="6912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　　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自己的事自己干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2700360" y="2781360"/>
              <a:ext cx="1584360" cy="360"/>
              <a:chOff x="2700360" y="2781360"/>
              <a:chExt cx="1584360" cy="360"/>
            </a:xfrm>
          </p:grpSpPr>
          <p:sp>
            <p:nvSpPr>
              <p:cNvPr id="60" name="Line 7"/>
              <p:cNvSpPr/>
              <p:nvPr/>
            </p:nvSpPr>
            <p:spPr>
              <a:xfrm>
                <a:off x="2700360" y="278136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2700360" y="2781360"/>
                <a:ext cx="158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0"/>
          <p:cNvSpPr/>
          <p:nvPr/>
        </p:nvSpPr>
        <p:spPr>
          <a:xfrm>
            <a:off x="3635280" y="765000"/>
            <a:ext cx="527688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　　滴自己的汗，吃自己的饭，自己的事情自己干，靠天靠地靠祖上，不算是好汉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－－陶行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1247,1bf7f39,c3b,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765000"/>
            <a:ext cx="316872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1476360" y="263700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　　自立对自己各方面的成长有哪些好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7"/>
          <p:cNvSpPr txBox="1"/>
          <p:nvPr/>
        </p:nvSpPr>
        <p:spPr>
          <a:xfrm rot="241800">
            <a:off x="898200" y="468360"/>
            <a:ext cx="432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想一想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5"/>
          <p:cNvSpPr txBox="1"/>
          <p:nvPr/>
        </p:nvSpPr>
        <p:spPr>
          <a:xfrm>
            <a:off x="2340000" y="836640"/>
            <a:ext cx="424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自立的好处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7" name="秋色.mp3" descr=""/>
          <p:cNvPicPr/>
          <p:nvPr/>
        </p:nvPicPr>
        <p:blipFill>
          <a:blip r:embed="rId2"/>
          <a:stretch/>
        </p:blipFill>
        <p:spPr>
          <a:xfrm>
            <a:off x="8604360" y="5084640"/>
            <a:ext cx="71280" cy="71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1258920" y="2349360"/>
            <a:ext cx="705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可以培养吃苦耐劳、珍惜劳动成果、注重家庭亲情、尊重他人等品质，并且还能提高动手能力和解决问题的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2911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 rot="20500800">
            <a:off x="2268000" y="333000"/>
            <a:ext cx="2887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隶书"/>
              </a:rPr>
              <a:t>自立赛场</a:t>
            </a:r>
            <a:endParaRPr b="1" lang="en-US" sz="2800" spc="-1" strike="noStrike">
              <a:ln w="0">
                <a:noFill/>
              </a:ln>
              <a:solidFill>
                <a:srgbClr val="ff0000">
                  <a:alpha val="90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1908000" y="1773360"/>
            <a:ext cx="59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1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华文新魏"/>
              </a:rPr>
              <a:t>你会做哪些事？ 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68360" y="3284640"/>
            <a:ext cx="54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　　教材</a:t>
            </a:r>
            <a:r>
              <a:rPr b="1" lang="en-US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35</a:t>
            </a:r>
            <a:r>
              <a:rPr b="1" lang="zh-CN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页的自测题中的项目，你能做到哪几条？哪几条不容易做到？你还能做到哪些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笑"/>
          <p:cNvPicPr/>
          <p:nvPr/>
        </p:nvPicPr>
        <p:blipFill>
          <a:blip r:embed="rId2"/>
          <a:stretch/>
        </p:blipFill>
        <p:spPr>
          <a:xfrm flipH="1" rot="18273600">
            <a:off x="643320" y="289440"/>
            <a:ext cx="1540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99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月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7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名日本孩子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名中国孩子曾经引起全国范围的大讨论。当时，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10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名儿童在内蒙古举行草原探险夏令营。上路时，日本孩子背包鼓鼓囊囊，装满食品和野营用具；中国孩子只是装装样子，背包几乎是空的。探险之路才走一半，中国儿童因将水喝光、干粮吃尽而向别人求援。中国孩子病了，回大本营睡觉；日本孩子病了硬挺着走到目的地。日本家长乘车而去，把鼓励留给发高烧的孙子；中国家长在艰难路段把儿子拉上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1523880" y="0"/>
            <a:ext cx="6248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847"/>
                <a:gd name="adj2" fmla="val -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中日少年《夏令营中的较量》</a:t>
            </a:r>
            <a:endParaRPr b="0" lang="en-US" sz="4400" spc="1" strike="noStrike">
              <a:ln w="0">
                <a:noFill/>
              </a:ln>
              <a:solidFill>
                <a:srgbClr val="3333cc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75" name="文本框 8194"/>
          <p:cNvSpPr/>
          <p:nvPr/>
        </p:nvSpPr>
        <p:spPr>
          <a:xfrm>
            <a:off x="1523880" y="6272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0:48:37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7:36Z</dcterms:modified>
  <cp:revision>5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