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7.gif" ContentType="image/gif"/>
  <Override PartName="/ppt/media/image11.jpeg" ContentType="image/jpeg"/>
  <Override PartName="/ppt/media/chimes.wav" ContentType="audio/x-wav"/>
  <Override PartName="/ppt/media/image2.jpeg" ContentType="image/jpeg"/>
  <Override PartName="/ppt/media/image3.png" ContentType="image/png"/>
  <Override PartName="/ppt/media/image4.gif" ContentType="image/gif"/>
  <Override PartName="/ppt/media/image1.jpeg" ContentType="image/jpeg"/>
  <Override PartName="/ppt/media/camera.wav" ContentType="audio/x-wav"/>
  <Override PartName="/ppt/media/image5.gif" ContentType="image/gif"/>
  <Override PartName="/ppt/media/image12.jpeg" ContentType="image/jpeg"/>
  <Override PartName="/ppt/media/cashreg.wav" ContentType="audio/x-wav"/>
  <Override PartName="/ppt/media/image8.gif" ContentType="image/gif"/>
  <Override PartName="/ppt/media/image6.gif" ContentType="image/gif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4CF-8AFD-4572-B062-EFF9F078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D05-B754-4172-9335-FDF1F9E3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B404B-DF5B-4F92-A2E9-93E2FA7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1569C-417E-4BE9-9F2C-7395F51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CEC63-2802-4894-9FB7-776B5A4F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3BF8C-2F71-496E-8A49-18D5E6BA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26CF0-D083-4C9E-8E7C-367A274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CD164-28CB-4DA5-A0A4-4701E4F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D8246-D90B-4B8F-940C-62B374D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5F69-0962-44C7-9ED2-B9BC72E4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C2319-16C9-4F09-9C5D-7CF28A83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8A988-DF62-40DF-A39E-064CEE17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B1F-2F24-4D57-AA8F-A82EF5E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475D3-1E66-41DF-92D7-71BEE52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25C35-E6D9-4FA6-9C8E-8734A827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7B828-57FC-4AE9-9617-197ED5AD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84AED-55DF-4D93-B4E5-23BD0D83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2D7F1-2D9F-4422-88EF-0962B76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5F97-7E21-4AEC-942E-AE1D2DD6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805D0-798F-4897-AF65-86B3D41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DF5F2-1E26-4CEA-8029-8329D38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7CF5F-D297-408B-AC78-315FB7F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A121C-0EC6-4C19-A3FB-9AD37388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1D7-1530-4098-A1CC-157C2D89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84265-C0B2-4BA7-88CF-BD065BE0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E06BB-3735-4331-8840-D2A4C01A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C9A4-5854-4301-BEC8-BD950C8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50D68-89DE-47B5-8CA9-D3A3038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AD30F-1D4A-4BD3-91F2-5CE12DB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19DB0-B238-4167-A279-77E2996A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D41DD-1198-4548-8575-77A775E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F02C-2435-467E-9532-273A8C7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C1EFB-EBD7-4AAB-8A72-E662A79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2843-8EF9-44B2-9289-B8E577E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AFE0-144E-4F81-94E9-17215DB6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A0522-7F2D-4C05-93A1-2AEFFA6D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2368-DF82-41A1-B872-0A65CB9E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C48A5-7821-4FAC-9ABF-C31C6395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EFA6-0CEF-4EF2-9366-EB023499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1FCA4-6D82-4C60-9A0D-A5764904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6CFE-BAD6-4666-8C4D-3C186A1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7BE7B-627C-4D99-B6A4-5BCC3E1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016B7-0D35-4CA6-B8ED-AE0F7B2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C95AE-01AB-4D22-8BEA-B58FFD1D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1CBF7-3E44-4BBE-845F-6D28802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AF52-9B1E-42DB-BF17-D596626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2200-9C2D-44B2-B125-EDFB9D6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C1A95-92E3-44E2-B519-A8E67BC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86CAD-686C-4ECD-AC47-BF7A6B00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4DA15-BA68-4679-8EFB-28F4A19B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4AD23-DB61-4176-A0B3-CBEC4A1F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9B9F0-E8E7-448A-9965-C28B86E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1B35D-D872-4920-983F-4F88A97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59E5E-4002-44AE-850E-904D7B9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A0E0F-68BD-41A3-A58A-AE2696C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75658-196F-4352-9820-229DC063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EF41-2F8F-4421-B0A3-A16952B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D6DB3-BAD0-4075-BEA9-C9E3F65E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E6303-FC04-4C89-A320-7883384C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600AB-2786-45FB-BE38-A8422B8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B9669-DD1C-412C-AC70-0FE47B7F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2D142-9D7B-49D8-B36A-AE0D7F30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2B9D8-D02B-4689-832D-8D39A471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BE54F-4191-47A2-B83F-F333626E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922-5412-45F1-A985-044A3E40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916-14A5-460D-B9DD-0047369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55E-7ECC-469F-B97A-00AEC00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7C2-825D-4EB2-BC84-8E29B7E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A8E-B86D-4FC5-A3CC-E215F218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28D3-2868-43A1-B359-E695C46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C0B6-2709-429B-8F22-8517F11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34F-DF41-443E-80C5-86C85994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C7C-5D6A-4003-A153-5AB898B8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EE96-0B8D-4D3B-B612-9283E9CF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755D-2338-4DCD-AB73-14CFA1DF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9704-3FD4-4601-8522-CBECF25C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4162-FBBE-4E8E-87B8-FDE5C1A6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2A31-1558-474D-89F9-293C62E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0F75-EE56-4B47-8592-A6CE05C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88F-BDC0-4B39-B41B-C4763D3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B1F8-DACB-4D22-A85F-53434495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6E1B-754E-4CA7-9E50-8A716CF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5E5B-2541-41E0-AA8B-6B74C89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7A84-A573-4D65-BF77-4BCA0CC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5F82-03AF-4509-94C3-A1415415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D02F-42A3-49B0-9C01-A3551251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71F9-E235-4008-9B74-083881A9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DBBF-96F0-4B62-8CC3-3140D18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8303-D6A1-4711-AD1F-007EE585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6C5B-4AA6-4DA1-9A4E-57D00F3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7CE-ABC7-434C-8E60-1B1BDA9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DE09-AD4C-47F4-84CD-BB02FB2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0534-8CF6-4C05-9907-A39F4E19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7C99-FC12-491B-AC44-35D79DD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DA2D-D56B-476D-BF4A-90EDFB7F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F5DC-ABCB-4E10-B996-81619CD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30375-905D-4037-AEF3-893B22A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61D8-01F3-4299-8515-EE1CD80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4363-86F5-47CE-83A0-047F6E3B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5D16-9164-4036-B6F0-A835347D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8C26-D72A-429E-A374-97AB8733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B10-3347-4729-8DDE-B2025825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BE19-4278-4B9F-A5F2-BA3FB786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86BD-0FA9-4967-AC48-C684E7D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AE01-5268-4577-A400-FB9CED0D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8A8D-87A3-4789-9B17-C1EDE1B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46ADB-DFA7-4E81-A720-E48A264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378B-9161-4A17-B1A3-A0BEB14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A240-8201-4480-882B-56A1B0F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2A67-E790-423F-B1DB-3BE5399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3048-6C5F-4D3D-8560-97EDB55C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D5CF-6775-482D-9B6C-5B8B0535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8DB-7460-44A7-9454-171C984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25BC-BD6D-494B-A472-73C7FBBD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B97E-C9A7-4145-A9ED-0AF040E9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11ED-8D4C-48B1-AEBB-092A5EC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ED325-F42F-4A67-ABA3-8E15A0D0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43FD-475C-4579-ACFE-04FE8C0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C6C08-2AAE-42EB-BE95-EE3422A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1C08-FA1B-477D-8A97-3C5E5E7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9907-E199-4C12-8452-6D55EFD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DD79-41D4-4B07-B363-F7BD213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32D9-76A3-48FF-904E-82861EC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439-E950-42CA-9028-BC0F516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9F701-3054-498D-A3CB-BADC5E8D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278A-B653-466A-9458-22A79A42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EFD2-94EA-4437-9C1D-225023BE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1606A-CBEE-40AF-9509-15BCC952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E77A-C89B-4F98-8CF8-986D3E41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0AD7-6D1B-40CA-869B-C97C96CA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6CE1D-4960-4061-96F8-C0CA35C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44EF9-62C4-4742-B92B-4EEFCD3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ED60-301D-4050-BF37-7F390F3E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3987-44B3-4900-B168-02A9730C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B00-80C6-4093-897A-CF38249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DCC3-4A35-4A9D-B203-F1564F3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528D-5CE8-482D-B1AC-64F8FD93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EFA5-2F3F-42B0-A3B6-DE0647C7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51D7-CE05-431A-842F-41228139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8D51-FA9B-4EC0-BF92-8E05AC98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56D8-093B-4EB1-90D4-7BA28654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BF715-CE90-44DD-BA1D-209C541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3C05-089C-485A-8264-4C52C77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674C9-4E27-4C77-AA90-32878D1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6AB4-6DF4-4E51-ACCA-6F08BC69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5DC-6054-40D3-A3A1-BA8A9867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7EF8-FF36-43C1-9CEB-6509BA7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55B8-DD02-49E3-83B0-36B0D747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38D83-8FC2-4B94-B6B5-E41B0CF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3576-D179-48D0-9F63-303B9AF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34CB6-614D-41F6-B084-A1D23667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0F864-0DAB-4E89-B791-136F8C80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16AA-86CF-4728-BC53-55098252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DE73D-9237-4DFB-86B1-EE257813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0A9B6-3C5F-499E-AD5F-2246FE5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EBB82-FC0B-42BF-B708-08DD8E5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912-E8D2-449E-9576-4CD4BB6B666C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63CC-0495-4AEA-B65C-4DCEC718241E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8166-9CA1-4ED3-804F-54DDE1950383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95A-6BA2-4322-9506-0390BB1A120C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2AC-25CE-4E3D-8854-B6A1D5075296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F885-AD74-4616-B747-D59BFAB87A4F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A0F8-E751-4C85-9B60-F2A681E6E5EB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B0D-69DF-4F77-A160-F5CB3155FE9C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0B4D-8A08-43BA-BD46-706F5B17FFCD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C78-32CB-4D97-9916-10A25D1100C6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C84D-8FD5-41E6-906C-3867899A3B5E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32EF-2546-407A-A733-C23C9EE8DD0A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BF8B-FDAE-47D3-B435-74B30C0350A8}" type="slidenum">
              <a:rPr b="0" lang="zh-CN" sz="1400" spc="-1" strike="noStrike">
                <a:solidFill>
                  <a:srgbClr val="9966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slide" Target="slide5.xml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022400" y="1101600"/>
            <a:ext cx="66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走进青春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图片 1" descr=""/>
          <p:cNvPicPr/>
          <p:nvPr/>
        </p:nvPicPr>
        <p:blipFill>
          <a:blip r:embed="rId2"/>
          <a:stretch/>
        </p:blipFill>
        <p:spPr>
          <a:xfrm>
            <a:off x="2165400" y="3043080"/>
            <a:ext cx="4897440" cy="294336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905120" y="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排忧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：长痘痘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609480" y="685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原因：进入青春期，皮脂分泌特别旺盛，产生油脂增多，油脂在毛囊被汗垢阻塞，积聚起来，就形成青春痘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066680" y="2438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对策：如何预防青春痘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5" descr="长不高"/>
          <p:cNvPicPr/>
          <p:nvPr/>
        </p:nvPicPr>
        <p:blipFill>
          <a:blip r:embed="rId2"/>
          <a:stretch/>
        </p:blipFill>
        <p:spPr>
          <a:xfrm>
            <a:off x="7467480" y="5257800"/>
            <a:ext cx="1128960" cy="13780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"/>
          <p:cNvSpPr/>
          <p:nvPr/>
        </p:nvSpPr>
        <p:spPr>
          <a:xfrm>
            <a:off x="304920" y="3048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常用温水洗脸，保持皮肤清洁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04920" y="3733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尽量少吃对皮肤有刺激性的事物，如辛辣、油炸食品、奶油、巧克力等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1793880" y="4800600"/>
            <a:ext cx="57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不要用手去挤压，严重的话可以用药物治疗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228600" y="5410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尽量不要熬夜，睡眠要充足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0">
            <a:hlinkClick r:id="rId3" action="ppaction://hlinksldjump"/>
          </p:cNvPr>
          <p:cNvSpPr/>
          <p:nvPr/>
        </p:nvSpPr>
        <p:spPr>
          <a:xfrm>
            <a:off x="304920" y="6019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保持情绪稳定，心情开朗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3"/>
          <p:cNvSpPr txBox="1"/>
          <p:nvPr/>
        </p:nvSpPr>
        <p:spPr>
          <a:xfrm>
            <a:off x="1143000" y="380880"/>
            <a:ext cx="5334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青春期的心理变化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39640" y="177336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课堂小调查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以下每个问题请选择回答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、不一定、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826920" y="26370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特别不喜欢大人们夸我是个乖孩子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684360" y="328464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变得爱顶撞家长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685800" y="3962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不屑于玩小学生热衷的游戏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755640" y="4653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想独自决定与自己有关的事情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85800" y="53341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愿意模仿自己崇拜的人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0" descr="191"/>
          <p:cNvPicPr/>
          <p:nvPr/>
        </p:nvPicPr>
        <p:blipFill>
          <a:blip r:embed="rId2"/>
          <a:stretch/>
        </p:blipFill>
        <p:spPr>
          <a:xfrm>
            <a:off x="7543800" y="5334120"/>
            <a:ext cx="44604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1430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对新鲜事特别感兴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143000" y="18288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在和他人争论时，明知自己输了，还是要撑下去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116000" y="299736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有心里话不爱和大人说了，但与好朋友谈起话来却没完没了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1143000" y="41911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希望自己更整洁、漂亮、潇洒，因此照镜子的次数也多起来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1066680" y="54864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我突然发现异性同学变得陌生了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8" descr="168"/>
          <p:cNvPicPr/>
          <p:nvPr/>
        </p:nvPicPr>
        <p:blipFill>
          <a:blip r:embed="rId2"/>
          <a:stretch/>
        </p:blipFill>
        <p:spPr>
          <a:xfrm>
            <a:off x="7696080" y="579132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3"/>
          <p:cNvSpPr/>
          <p:nvPr/>
        </p:nvSpPr>
        <p:spPr>
          <a:xfrm>
            <a:off x="838080" y="2286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心理的变化有：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914400" y="1844640"/>
            <a:ext cx="82296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自我意识的产生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性意识的觉醒与发展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情感更深刻、认识能力进一                                步发展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智力逐步发展到高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gisxs077"/>
          <p:cNvPicPr/>
          <p:nvPr/>
        </p:nvPicPr>
        <p:blipFill>
          <a:blip r:embed="rId2"/>
          <a:stretch/>
        </p:blipFill>
        <p:spPr>
          <a:xfrm>
            <a:off x="7543800" y="51814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250920" y="0"/>
            <a:ext cx="2449440" cy="151128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684360" y="18900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203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位女生的自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468360" y="18464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是谁？我不过是一个普通的女孩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我比较关注自己的言行和外表形象，想给老师和同学留下一个好印象；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我喜欢我自己的事由我自己做主，不希望父母亲过多的“唠叨”；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但我在男孩面前变得越来越害羞；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我与周围的人不一样，时常变得忧郁，爱发脾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11280" y="45846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问：该自述分别反映了我们在进入青春期后，心理上的哪些变化？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2843280" y="189000"/>
            <a:ext cx="2665440" cy="792000"/>
          </a:xfrm>
          <a:prstGeom prst="wedgeRoundRectCallout">
            <a:avLst>
              <a:gd name="adj1" fmla="val -82101"/>
              <a:gd name="adj2" fmla="val 238175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7020000" y="404640"/>
            <a:ext cx="1512720" cy="792360"/>
          </a:xfrm>
          <a:prstGeom prst="wedgeRoundRectCallout">
            <a:avLst>
              <a:gd name="adj1" fmla="val 39819"/>
              <a:gd name="adj2" fmla="val 313328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0"/>
          <p:cNvSpPr/>
          <p:nvPr/>
        </p:nvSpPr>
        <p:spPr>
          <a:xfrm flipV="1">
            <a:off x="6443640" y="5012640"/>
            <a:ext cx="2305080" cy="863640"/>
          </a:xfrm>
          <a:prstGeom prst="wedgeRoundRectCallout">
            <a:avLst>
              <a:gd name="adj1" fmla="val -34782"/>
              <a:gd name="adj2" fmla="val 179041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6588000" y="5157720"/>
            <a:ext cx="20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情绪情感丰富强烈而不稳定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7093080" y="58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性意识萌动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2987640" y="260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自我意识迅速发展，成人感强烈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684360" y="4724280"/>
            <a:ext cx="3671640" cy="1729080"/>
          </a:xfrm>
          <a:prstGeom prst="wedgeEllipseCallout">
            <a:avLst>
              <a:gd name="adj1" fmla="val 85925"/>
              <a:gd name="adj2" fmla="val -14614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1258920" y="501336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自我意识）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容易产生逆反心理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2550600" y="32544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参考与总结：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763640" y="4076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心理自画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5">
            <a:hlinkClick r:id="" action="ppaction://hlinkshowjump?jump=nextslide"/>
          </p:cNvPr>
          <p:cNvSpPr/>
          <p:nvPr/>
        </p:nvSpPr>
        <p:spPr>
          <a:xfrm>
            <a:off x="7740720" y="414972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3236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4724" h="21600">
                <a:moveTo>
                  <a:pt x="3236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4724" h="21600">
                <a:moveTo>
                  <a:pt x="29785" y="8224"/>
                </a:moveTo>
                <a:lnTo>
                  <a:pt x="33650" y="8224"/>
                </a:lnTo>
                <a:lnTo>
                  <a:pt x="33650" y="15221"/>
                </a:lnTo>
                <a:lnTo>
                  <a:pt x="34938" y="15221"/>
                </a:lnTo>
                <a:lnTo>
                  <a:pt x="34938" y="16144"/>
                </a:lnTo>
                <a:lnTo>
                  <a:pt x="29785" y="16144"/>
                </a:lnTo>
                <a:lnTo>
                  <a:pt x="29785" y="15221"/>
                </a:lnTo>
                <a:lnTo>
                  <a:pt x="31074" y="15221"/>
                </a:lnTo>
                <a:lnTo>
                  <a:pt x="31074" y="9129"/>
                </a:lnTo>
                <a:lnTo>
                  <a:pt x="29785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1619280" y="501336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青春期的矛盾心理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1">
            <a:hlinkClick r:id="rId2" action="ppaction://hlinksldjump"/>
          </p:cNvPr>
          <p:cNvSpPr/>
          <p:nvPr/>
        </p:nvSpPr>
        <p:spPr>
          <a:xfrm>
            <a:off x="7812000" y="515772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3236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4724" h="21600">
                <a:moveTo>
                  <a:pt x="3236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4724" h="21600">
                <a:moveTo>
                  <a:pt x="29785" y="8224"/>
                </a:moveTo>
                <a:lnTo>
                  <a:pt x="33650" y="8224"/>
                </a:lnTo>
                <a:lnTo>
                  <a:pt x="33650" y="15221"/>
                </a:lnTo>
                <a:lnTo>
                  <a:pt x="34938" y="15221"/>
                </a:lnTo>
                <a:lnTo>
                  <a:pt x="34938" y="16144"/>
                </a:lnTo>
                <a:lnTo>
                  <a:pt x="29785" y="16144"/>
                </a:lnTo>
                <a:lnTo>
                  <a:pt x="29785" y="15221"/>
                </a:lnTo>
                <a:lnTo>
                  <a:pt x="31074" y="15221"/>
                </a:lnTo>
                <a:lnTo>
                  <a:pt x="31074" y="9129"/>
                </a:lnTo>
                <a:lnTo>
                  <a:pt x="29785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1476360" y="1844640"/>
            <a:ext cx="597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春期生理变化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身体外形型的变化、身体内部器官的完善、性机能的成熟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青春期心理变化：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自我意识的产生、性意识的觉醒与发展、情感更深刻、认识能力进一步发展、智力逐步发展到高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8194"/>
          <p:cNvSpPr/>
          <p:nvPr/>
        </p:nvSpPr>
        <p:spPr>
          <a:xfrm>
            <a:off x="838080" y="5864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1219320" y="914400"/>
          <a:ext cx="7619760" cy="5668920"/>
        </p:xfrm>
        <a:graphic>
          <a:graphicData uri="http://schemas.openxmlformats.org/drawingml/2006/table">
            <a:tbl>
              <a:tblPr/>
              <a:tblGrid>
                <a:gridCol w="3847680"/>
                <a:gridCol w="3772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富有理想，追求真理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追求理想容易脱离现实，沉湎于幻想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朝气蓬勃，勇于探索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遇到挫折容易失去自信，悲观失望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思维活跃，想象丰富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观察处理问题时，容易固执己见，易走向片面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渴望独立，有“成人”感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未能摆脱依赖，难以完全承担自己行为责任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情感丰富，热情高涨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情绪波动较大，容易失去控制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珍惜友谊，渴望交际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感到孤独，不愿与人交往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AutoShape 54">
            <a:hlinkClick r:id="" action="ppaction://hlinkshowjump?jump=previousslide"/>
          </p:cNvPr>
          <p:cNvSpPr/>
          <p:nvPr/>
        </p:nvSpPr>
        <p:spPr>
          <a:xfrm>
            <a:off x="22860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600200" y="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u="sng">
                <a:solidFill>
                  <a:srgbClr val="ff6600"/>
                </a:solidFill>
                <a:uFillTx/>
                <a:latin typeface="Times New Roman"/>
              </a:rPr>
              <a:t>出主意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762120" y="160020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解决好心理矛盾的好方法：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066680" y="2438280"/>
            <a:ext cx="6705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向他人倾诉，寻求帮助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转移注意力，如：听音乐、打打球等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在适当场合宣泄，如：放声歌唱等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记日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去郊外踏青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…………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.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41"/>
          <p:cNvPicPr/>
          <p:nvPr/>
        </p:nvPicPr>
        <p:blipFill>
          <a:blip r:embed="rId2"/>
          <a:stretch/>
        </p:blipFill>
        <p:spPr>
          <a:xfrm>
            <a:off x="0" y="228600"/>
            <a:ext cx="1314360" cy="15588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48"/>
          <p:cNvPicPr/>
          <p:nvPr/>
        </p:nvPicPr>
        <p:blipFill>
          <a:blip r:embed="rId3"/>
          <a:stretch/>
        </p:blipFill>
        <p:spPr>
          <a:xfrm>
            <a:off x="7162920" y="5410080"/>
            <a:ext cx="13716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1026"/>
          <p:cNvSpPr/>
          <p:nvPr/>
        </p:nvSpPr>
        <p:spPr>
          <a:xfrm>
            <a:off x="1523880" y="40464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Times New Roman"/>
              </a:rPr>
              <a:t>春天是播种的季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27">
            <a:hlinkClick r:id="rId2" action="ppaction://hlinksldjump"/>
          </p:cNvPr>
          <p:cNvSpPr/>
          <p:nvPr/>
        </p:nvSpPr>
        <p:spPr>
          <a:xfrm>
            <a:off x="1573200" y="1916280"/>
            <a:ext cx="75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人生的春天里，许多聪明的年轻人不恋美景，不贪美酒，乘着旺盛的精力，刻意学习，苦练技能，为的是有一个丰收的秋季。自然的春天，今年过了明年依然来到；人生的春天，这次错过，以后再也找不回来，正如一支歌中唱的“太阳下山明天依然爬上来，花儿谢了明年一样开；美丽的小鸟飞去无踪影，我的青春小鸟还是不回来……”歌词中透露出淡淡地忧伤，这是因为作者在感慨人生的短暂，青春年华如流水逝去不返。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28"/>
          <p:cNvSpPr/>
          <p:nvPr/>
        </p:nvSpPr>
        <p:spPr>
          <a:xfrm>
            <a:off x="73080" y="1989000"/>
            <a:ext cx="118584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结束语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20760" y="62028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春期的矛盾心理</a:t>
            </a:r>
            <a:endParaRPr b="0" i="1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独立性和依赖性的矛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成人感与幼稚感的矛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开放性与封闭性的矛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渴求感与压抑感的矛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自制性和冲动性的矛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7" descr="青春期"/>
          <p:cNvPicPr/>
          <p:nvPr/>
        </p:nvPicPr>
        <p:blipFill>
          <a:blip r:embed="rId2"/>
          <a:stretch/>
        </p:blipFill>
        <p:spPr>
          <a:xfrm>
            <a:off x="5407200" y="1844640"/>
            <a:ext cx="3736800" cy="33768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8"/>
          <p:cNvSpPr/>
          <p:nvPr/>
        </p:nvSpPr>
        <p:spPr>
          <a:xfrm>
            <a:off x="1476360" y="511812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青春期的心理就是在这样的矛盾中形成并慢慢趋于成熟的，这是一个自然过程。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5008680" y="4005360"/>
            <a:ext cx="42372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993366"/>
                </a:solidFill>
                <a:latin typeface="Times New Roman"/>
              </a:rPr>
              <a:t>青春期油画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">
            <a:hlinkClick r:id="rId3" action="ppaction://hlinksldjump"/>
          </p:cNvPr>
          <p:cNvSpPr/>
          <p:nvPr/>
        </p:nvSpPr>
        <p:spPr>
          <a:xfrm>
            <a:off x="25092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187280" y="9604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前提问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042920" y="266076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俗话说得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年之季在于春”。春天是一年中最美好的季节，请同学们用最好的语言来描述春天？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青春期</a:t>
            </a:r>
            <a:r>
              <a:rPr b="1" i="1" lang="en-US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: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66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春期年龄段，在世界各地稍有差别，世界卫生组织规定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中国一般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男孩进入青春期较女孩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。多数学者认为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前为青春前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为青春中期或性征发育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之后为青春后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9" descr="3"/>
          <p:cNvPicPr/>
          <p:nvPr/>
        </p:nvPicPr>
        <p:blipFill>
          <a:blip r:embed="rId2"/>
          <a:stretch/>
        </p:blipFill>
        <p:spPr>
          <a:xfrm>
            <a:off x="6767640" y="4753080"/>
            <a:ext cx="2376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生长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AutoShape 3">
            <a:hlinkClick r:id="rId3" action="ppaction://hlinksldjump"/>
          </p:cNvPr>
          <p:cNvSpPr/>
          <p:nvPr/>
        </p:nvSpPr>
        <p:spPr>
          <a:xfrm>
            <a:off x="25092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A42D-8C18-476D-B41C-D24AA6CDC4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9"/>
          <p:cNvPicPr/>
          <p:nvPr/>
        </p:nvPicPr>
        <p:blipFill>
          <a:blip r:embed="rId2"/>
          <a:stretch/>
        </p:blipFill>
        <p:spPr>
          <a:xfrm>
            <a:off x="250920" y="549360"/>
            <a:ext cx="2808360" cy="187164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3"/>
          <p:cNvSpPr/>
          <p:nvPr/>
        </p:nvSpPr>
        <p:spPr>
          <a:xfrm>
            <a:off x="3132000" y="260280"/>
            <a:ext cx="5543640" cy="2160720"/>
          </a:xfrm>
          <a:prstGeom prst="wedgeRoundRectCallout">
            <a:avLst>
              <a:gd name="adj1" fmla="val -56759"/>
              <a:gd name="adj2" fmla="val -3490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276720" y="1052640"/>
            <a:ext cx="53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的一生可分为哪几个阶段？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4500720" y="404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宋体"/>
              </a:rPr>
              <a:t>你知道吗？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611280" y="3213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乳儿时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771640" y="3716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908000" y="3716280"/>
            <a:ext cx="1368720" cy="287280"/>
          </a:xfrm>
          <a:prstGeom prst="rightArrow">
            <a:avLst>
              <a:gd name="adj1" fmla="val 50000"/>
              <a:gd name="adj2" fmla="val 119088"/>
            </a:avLst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幼儿时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716360" y="3716280"/>
            <a:ext cx="1295640" cy="287280"/>
          </a:xfrm>
          <a:prstGeom prst="rightArrow">
            <a:avLst>
              <a:gd name="adj1" fmla="val 50000"/>
              <a:gd name="adj2" fmla="val 112730"/>
            </a:avLst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227640" y="33577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儿童时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2"/>
          <p:cNvSpPr/>
          <p:nvPr/>
        </p:nvSpPr>
        <p:spPr>
          <a:xfrm>
            <a:off x="7380360" y="371628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755640" y="4797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青春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1835280" y="5157720"/>
            <a:ext cx="1152360" cy="358920"/>
          </a:xfrm>
          <a:prstGeom prst="rightArrow">
            <a:avLst>
              <a:gd name="adj1" fmla="val 50000"/>
              <a:gd name="adj2" fmla="val 80251"/>
            </a:avLst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3059280" y="4869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成年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6"/>
          <p:cNvSpPr/>
          <p:nvPr/>
        </p:nvSpPr>
        <p:spPr>
          <a:xfrm>
            <a:off x="4140360" y="5300640"/>
            <a:ext cx="1441440" cy="289080"/>
          </a:xfrm>
          <a:prstGeom prst="rightArrow">
            <a:avLst>
              <a:gd name="adj1" fmla="val 50000"/>
              <a:gd name="adj2" fmla="val 124634"/>
            </a:avLst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5651640" y="4869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壮年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8"/>
          <p:cNvSpPr/>
          <p:nvPr/>
        </p:nvSpPr>
        <p:spPr>
          <a:xfrm>
            <a:off x="6659640" y="5300640"/>
            <a:ext cx="1224000" cy="289080"/>
          </a:xfrm>
          <a:prstGeom prst="rightArrow">
            <a:avLst>
              <a:gd name="adj1" fmla="val 50000"/>
              <a:gd name="adj2" fmla="val 105833"/>
            </a:avLst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7812000" y="4797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老年期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676520" y="380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考考你：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187280" y="2770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那青春期处于人生的哪个阶段呢？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6">
            <a:hlinkClick r:id="rId2" action="ppaction://hlinksldjump"/>
          </p:cNvPr>
          <p:cNvSpPr/>
          <p:nvPr/>
        </p:nvSpPr>
        <p:spPr>
          <a:xfrm>
            <a:off x="7696080" y="3962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80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6152" h="21600">
                <a:moveTo>
                  <a:pt x="280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6152" h="21600">
                <a:moveTo>
                  <a:pt x="25500" y="8224"/>
                </a:moveTo>
                <a:lnTo>
                  <a:pt x="29364" y="8224"/>
                </a:lnTo>
                <a:lnTo>
                  <a:pt x="29364" y="15221"/>
                </a:lnTo>
                <a:lnTo>
                  <a:pt x="30652" y="15221"/>
                </a:lnTo>
                <a:lnTo>
                  <a:pt x="30652" y="16144"/>
                </a:lnTo>
                <a:lnTo>
                  <a:pt x="25500" y="16144"/>
                </a:lnTo>
                <a:lnTo>
                  <a:pt x="25500" y="15221"/>
                </a:lnTo>
                <a:lnTo>
                  <a:pt x="26788" y="15221"/>
                </a:lnTo>
                <a:lnTo>
                  <a:pt x="26788" y="9129"/>
                </a:lnTo>
                <a:lnTo>
                  <a:pt x="25500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8194"/>
          <p:cNvSpPr/>
          <p:nvPr/>
        </p:nvSpPr>
        <p:spPr>
          <a:xfrm>
            <a:off x="1362240" y="2282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026"/>
          <p:cNvSpPr/>
          <p:nvPr/>
        </p:nvSpPr>
        <p:spPr>
          <a:xfrm>
            <a:off x="1676520" y="4572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探究：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27"/>
          <p:cNvSpPr/>
          <p:nvPr/>
        </p:nvSpPr>
        <p:spPr>
          <a:xfrm>
            <a:off x="1523880" y="2590920"/>
            <a:ext cx="7315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与儿童时期相比，处于青春期中的我们有哪些变化呢？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4"/>
          <p:cNvSpPr/>
          <p:nvPr/>
        </p:nvSpPr>
        <p:spPr>
          <a:xfrm>
            <a:off x="250920" y="1889280"/>
            <a:ext cx="85341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是一名初一的学生，最近，我发现我的个子长得特别快，而且，原本帅气的脸上莫名其妙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长了许多小痘痘。声音也开始变得沙哑、粗声粗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。最让人烦恼的是，我的脾气也变得越来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暴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，经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和别人怄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缘无故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发脾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尤其是特别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反感父母和老师的唠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时候还会感到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莫名的孤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思  考：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、这名学生遇到了哪些烦恼？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、是什么原因使这名初一学生感到烦恼？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                          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>
            <a:off x="1828800" y="1752480"/>
            <a:ext cx="670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1908000" y="69228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成长的烦恼：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676520" y="4572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主题探讨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1752480" y="21337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生理上的变化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835280" y="3068640"/>
            <a:ext cx="70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身体外型的变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：身高、体重迅速增加）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835280" y="414972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身体内部器官的完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、肺脏、  脑 已接近成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905120" y="54864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性机能的成熟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排忧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：变声期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3352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因：在变声期，正在迅速发育的声带，都会有轻度的炎性水肿，如有外界不良刺激容易造成声带的永久性损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长不高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300640"/>
            <a:ext cx="1128960" cy="137808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685800" y="3276720"/>
            <a:ext cx="815328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33520" y="29718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对策：在变声期如何保护嗓子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380880" y="396252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注意唱歌和阅读卫生，不要大声高声喊叫或长时间唱歌、“吊嗓子”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380880" y="4952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不吃过酸、辛辣刺激性较大的食物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9">
            <a:hlinkClick r:id="rId4" action="ppaction://hlinksldjump"/>
          </p:cNvPr>
          <p:cNvSpPr/>
          <p:nvPr/>
        </p:nvSpPr>
        <p:spPr>
          <a:xfrm>
            <a:off x="380880" y="5638680"/>
            <a:ext cx="7467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不要吸烟、喝酒，要多饮白开水、淡茶水或泡（煎）菊花茶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排忧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：个子矮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240" y="4343040"/>
            <a:ext cx="9448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4" descr="长不高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16640"/>
            <a:ext cx="952560" cy="11620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990720" y="10666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99072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原因：进入青春期，同学们身体发育的速度是不一样的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762120" y="1981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对策：如何让自己长个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609480" y="2590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遗传因素（先天）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609480" y="3200400"/>
            <a:ext cx="7696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积极进行体育锻炼（如打篮球、跳远、游泳等）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533520" y="41148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体育锻炼后注意休息，保证充足的睡眠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57200" y="4724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饮食多样化，多吃富含维生素和矿物质的食品，对长个关系极大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>
            <a:hlinkClick r:id="rId4" action="ppaction://hlinksldjump"/>
          </p:cNvPr>
          <p:cNvSpPr/>
          <p:nvPr/>
        </p:nvSpPr>
        <p:spPr>
          <a:xfrm>
            <a:off x="457200" y="5791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心情开朗。精神状态良好能通过内分泌系统对身高发生积极影响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4:55:21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10:44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