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7B2C-F150-46B2-8CEE-5EBFA50249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8DEB-2579-4367-873A-36EAD4039E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30E-1E92-4F68-8DEE-061A7EF0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86B-24A0-4F42-8644-F96AB6EE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EAC6-343E-4DEA-8E61-897CF1B7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520-4AB7-4251-90D8-D29F1BDC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8A4-C715-4B22-9ACF-715A858A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870-E7B5-4BBC-9DA0-668941BA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7D7-9152-4209-8B16-59E95675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F14-922A-4BEE-B09C-F91DABDD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A3D-8D8B-4779-A00C-6758C2BF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678-36BB-419E-8F01-C4DC5039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DB1-110C-4EA0-89FF-E265EB3E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20F-E438-4C2E-B3FD-F0B21445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70E0-AEA8-43F9-8DE0-5D2A9756F9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看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2428560" y="175248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我们的天气观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490760" y="53434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看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228600" y="76320"/>
            <a:ext cx="2286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2362320" y="1219320"/>
            <a:ext cx="4267080" cy="121896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小小气象员播报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456280" y="2819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怎样描述这段时间的天气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371600" y="38098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一段时间里的气温、降水量、风和云量给我们的生活带来了什么影响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DA50-7BAD-4DA9-A88C-B593F7C2A78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52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Oval 5"/>
          <p:cNvSpPr/>
          <p:nvPr/>
        </p:nvSpPr>
        <p:spPr>
          <a:xfrm>
            <a:off x="3295800" y="1522440"/>
            <a:ext cx="2211120" cy="2211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3605040" y="1824120"/>
            <a:ext cx="1624320" cy="162252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576600" y="2133720"/>
            <a:ext cx="16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细黑"/>
              </a:rPr>
              <a:t>天气观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5997600" y="3171960"/>
            <a:ext cx="1440000" cy="14256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314100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9"/>
          <p:cNvGrpSpPr/>
          <p:nvPr/>
        </p:nvGrpSpPr>
        <p:grpSpPr>
          <a:xfrm>
            <a:off x="5954760" y="3174840"/>
            <a:ext cx="1517760" cy="1295280"/>
            <a:chOff x="5954760" y="3174840"/>
            <a:chExt cx="1517760" cy="1295280"/>
          </a:xfrm>
        </p:grpSpPr>
        <p:pic>
          <p:nvPicPr>
            <p:cNvPr id="59" name="Picture 10" descr="cir_lighteffect0"/>
            <p:cNvPicPr/>
            <p:nvPr/>
          </p:nvPicPr>
          <p:blipFill>
            <a:blip r:embed="rId3"/>
            <a:stretch/>
          </p:blipFill>
          <p:spPr>
            <a:xfrm>
              <a:off x="5954760" y="3174840"/>
              <a:ext cx="1511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11"/>
            <p:cNvSpPr/>
            <p:nvPr/>
          </p:nvSpPr>
          <p:spPr>
            <a:xfrm>
              <a:off x="5978520" y="3692520"/>
              <a:ext cx="149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8f8f8"/>
                  </a:solidFill>
                  <a:latin typeface="华文细黑"/>
                  <a:ea typeface="华文细黑"/>
                </a:rPr>
                <a:t>降雨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Oval 12"/>
          <p:cNvSpPr/>
          <p:nvPr/>
        </p:nvSpPr>
        <p:spPr>
          <a:xfrm>
            <a:off x="5894280" y="3054240"/>
            <a:ext cx="1649520" cy="1648080"/>
          </a:xfrm>
          <a:prstGeom prst="ellipse">
            <a:avLst/>
          </a:prstGeom>
          <a:noFill/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3"/>
          <p:cNvSpPr/>
          <p:nvPr/>
        </p:nvSpPr>
        <p:spPr>
          <a:xfrm>
            <a:off x="3152880" y="1382760"/>
            <a:ext cx="2481120" cy="2482920"/>
          </a:xfrm>
          <a:prstGeom prst="ellipse">
            <a:avLst/>
          </a:prstGeom>
          <a:noFill/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V="1">
            <a:off x="2898720" y="3349800"/>
            <a:ext cx="487440" cy="30456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 flipV="1">
            <a:off x="2814480" y="3198960"/>
            <a:ext cx="486000" cy="30456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 flipV="1">
            <a:off x="5465880" y="1709280"/>
            <a:ext cx="487080" cy="3049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 flipV="1">
            <a:off x="5380200" y="1558440"/>
            <a:ext cx="488880" cy="3049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"/>
          <p:cNvSpPr/>
          <p:nvPr/>
        </p:nvSpPr>
        <p:spPr>
          <a:xfrm>
            <a:off x="1414440" y="3475080"/>
            <a:ext cx="1441440" cy="14256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3131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"/>
          <p:cNvSpPr/>
          <p:nvPr/>
        </p:nvSpPr>
        <p:spPr>
          <a:xfrm>
            <a:off x="1287360" y="3343320"/>
            <a:ext cx="1648080" cy="1646280"/>
          </a:xfrm>
          <a:prstGeom prst="ellipse">
            <a:avLst/>
          </a:prstGeom>
          <a:noFill/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0"/>
          <p:cNvSpPr/>
          <p:nvPr/>
        </p:nvSpPr>
        <p:spPr>
          <a:xfrm>
            <a:off x="1365120" y="500040"/>
            <a:ext cx="1440000" cy="142416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03100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1"/>
          <p:cNvGrpSpPr/>
          <p:nvPr/>
        </p:nvGrpSpPr>
        <p:grpSpPr>
          <a:xfrm>
            <a:off x="1351080" y="3406680"/>
            <a:ext cx="1511280" cy="1295280"/>
            <a:chOff x="1351080" y="3406680"/>
            <a:chExt cx="1511280" cy="1295280"/>
          </a:xfrm>
        </p:grpSpPr>
        <p:pic>
          <p:nvPicPr>
            <p:cNvPr id="71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1351080" y="3406680"/>
              <a:ext cx="1511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23"/>
            <p:cNvSpPr/>
            <p:nvPr/>
          </p:nvSpPr>
          <p:spPr>
            <a:xfrm>
              <a:off x="1422360" y="3908160"/>
              <a:ext cx="134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风向风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4"/>
          <p:cNvGrpSpPr/>
          <p:nvPr/>
        </p:nvGrpSpPr>
        <p:grpSpPr>
          <a:xfrm>
            <a:off x="1324080" y="434880"/>
            <a:ext cx="1511280" cy="1293840"/>
            <a:chOff x="1324080" y="434880"/>
            <a:chExt cx="1511280" cy="1293840"/>
          </a:xfrm>
        </p:grpSpPr>
        <p:pic>
          <p:nvPicPr>
            <p:cNvPr id="74" name="Picture 25" descr="cir_lighteffect0"/>
            <p:cNvPicPr/>
            <p:nvPr/>
          </p:nvPicPr>
          <p:blipFill>
            <a:blip r:embed="rId5"/>
            <a:stretch/>
          </p:blipFill>
          <p:spPr>
            <a:xfrm>
              <a:off x="1324080" y="434880"/>
              <a:ext cx="151128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26"/>
            <p:cNvSpPr/>
            <p:nvPr/>
          </p:nvSpPr>
          <p:spPr>
            <a:xfrm>
              <a:off x="1341720" y="952560"/>
              <a:ext cx="14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66ff99"/>
                  </a:solidFill>
                  <a:latin typeface="华文细黑"/>
                  <a:ea typeface="华文细黑"/>
                </a:rPr>
                <a:t>气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Oval 27"/>
          <p:cNvSpPr/>
          <p:nvPr/>
        </p:nvSpPr>
        <p:spPr>
          <a:xfrm>
            <a:off x="1284120" y="380880"/>
            <a:ext cx="1649520" cy="1646280"/>
          </a:xfrm>
          <a:prstGeom prst="ellipse">
            <a:avLst/>
          </a:prstGeom>
          <a:noFill/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2786040" y="1601640"/>
            <a:ext cx="561960" cy="34308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2700360" y="1746360"/>
            <a:ext cx="563400" cy="3427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0"/>
          <p:cNvSpPr/>
          <p:nvPr/>
        </p:nvSpPr>
        <p:spPr>
          <a:xfrm>
            <a:off x="5872320" y="500040"/>
            <a:ext cx="1439640" cy="14241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3b4748"/>
              </a:gs>
            </a:gsLst>
            <a:lin ang="5400000"/>
          </a:gradFill>
          <a:ln w="38160">
            <a:solidFill>
              <a:srgbClr val="f8f8f8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5830920" y="434880"/>
            <a:ext cx="1511280" cy="1293840"/>
            <a:chOff x="5830920" y="434880"/>
            <a:chExt cx="1511280" cy="1293840"/>
          </a:xfrm>
        </p:grpSpPr>
        <p:pic>
          <p:nvPicPr>
            <p:cNvPr id="81" name="Picture 32" descr="cir_lighteffect0"/>
            <p:cNvPicPr/>
            <p:nvPr/>
          </p:nvPicPr>
          <p:blipFill>
            <a:blip r:embed="rId6"/>
            <a:stretch/>
          </p:blipFill>
          <p:spPr>
            <a:xfrm>
              <a:off x="5830920" y="434880"/>
              <a:ext cx="151128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33"/>
            <p:cNvSpPr/>
            <p:nvPr/>
          </p:nvSpPr>
          <p:spPr>
            <a:xfrm>
              <a:off x="5878440" y="95256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66"/>
                  </a:solidFill>
                  <a:latin typeface="华文细黑"/>
                  <a:ea typeface="华文细黑"/>
                </a:rPr>
                <a:t>云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Oval 34"/>
          <p:cNvSpPr/>
          <p:nvPr/>
        </p:nvSpPr>
        <p:spPr>
          <a:xfrm>
            <a:off x="5734080" y="414360"/>
            <a:ext cx="1647720" cy="1646280"/>
          </a:xfrm>
          <a:prstGeom prst="ellipse">
            <a:avLst/>
          </a:prstGeom>
          <a:noFill/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5"/>
          <p:cNvSpPr/>
          <p:nvPr/>
        </p:nvSpPr>
        <p:spPr>
          <a:xfrm>
            <a:off x="5549760" y="3063960"/>
            <a:ext cx="561960" cy="3427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6"/>
          <p:cNvSpPr/>
          <p:nvPr/>
        </p:nvSpPr>
        <p:spPr>
          <a:xfrm>
            <a:off x="5464080" y="3208320"/>
            <a:ext cx="563760" cy="344520"/>
          </a:xfrm>
          <a:prstGeom prst="line">
            <a:avLst/>
          </a:prstGeom>
          <a:ln w="127080">
            <a:solidFill>
              <a:srgbClr val="eaeaea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267080" y="40384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8"/>
          <p:cNvSpPr/>
          <p:nvPr/>
        </p:nvSpPr>
        <p:spPr>
          <a:xfrm>
            <a:off x="2286000" y="502920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整理、总结和分析记录的天气信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认识天气的某些特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了解天气变化的一些规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89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Rectangle 5"/>
          <p:cNvSpPr/>
          <p:nvPr/>
        </p:nvSpPr>
        <p:spPr>
          <a:xfrm>
            <a:off x="3526920" y="12952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总结天气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335680" y="2590920"/>
            <a:ext cx="4589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方案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用自己记录的天气月历，分小组分别统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977480" y="4191120"/>
            <a:ext cx="4234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方案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用老师提供的样本数据，分项统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95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5"/>
          <p:cNvSpPr/>
          <p:nvPr/>
        </p:nvSpPr>
        <p:spPr>
          <a:xfrm>
            <a:off x="3701160" y="2286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气月历样本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1066680" y="914400"/>
            <a:ext cx="7162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8"/>
          <p:cNvSpPr/>
          <p:nvPr/>
        </p:nvSpPr>
        <p:spPr>
          <a:xfrm>
            <a:off x="2133720" y="8128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5"/>
          <p:cNvSpPr/>
          <p:nvPr/>
        </p:nvSpPr>
        <p:spPr>
          <a:xfrm>
            <a:off x="228600" y="380880"/>
            <a:ext cx="28954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统计气温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352680" y="14479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气温统计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2209680"/>
          <a:ext cx="7862760" cy="4071960"/>
        </p:xfrm>
        <a:graphic>
          <a:graphicData uri="http://schemas.openxmlformats.org/drawingml/2006/table">
            <a:tbl>
              <a:tblPr/>
              <a:tblGrid>
                <a:gridCol w="1631880"/>
                <a:gridCol w="6230880"/>
              </a:tblGrid>
              <a:tr h="102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和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从   月  日至  月   日，共计算   次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最高气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最低气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平均气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107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Rectangle 5"/>
          <p:cNvSpPr/>
          <p:nvPr/>
        </p:nvSpPr>
        <p:spPr>
          <a:xfrm>
            <a:off x="228600" y="380880"/>
            <a:ext cx="28954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析云量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1905120"/>
          <a:ext cx="8049960" cy="2636640"/>
        </p:xfrm>
        <a:graphic>
          <a:graphicData uri="http://schemas.openxmlformats.org/drawingml/2006/table">
            <a:tbl>
              <a:tblPr/>
              <a:tblGrid>
                <a:gridCol w="2941200"/>
                <a:gridCol w="5108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各种天气状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晴天            天；阴天         天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云天        天；其他         天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常见的天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晴天□          阴天□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多云天□      其他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现过哪些类型的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积云□   层云□   卷云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20"/>
          <p:cNvSpPr/>
          <p:nvPr/>
        </p:nvSpPr>
        <p:spPr>
          <a:xfrm>
            <a:off x="3790080" y="10666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云的统计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838080" y="5027400"/>
            <a:ext cx="742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多少天是晴天？多少天是阴天或多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哪种天气最多？哪种天气最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哪种类型的云最常见？哪种类型的云最少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114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6" name=""/>
          <p:cNvGraphicFramePr/>
          <p:nvPr/>
        </p:nvGraphicFramePr>
        <p:xfrm>
          <a:off x="990720" y="2133720"/>
          <a:ext cx="7873920" cy="2460600"/>
        </p:xfrm>
        <a:graphic>
          <a:graphicData uri="http://schemas.openxmlformats.org/drawingml/2006/table">
            <a:tbl>
              <a:tblPr/>
              <a:tblGrid>
                <a:gridCol w="3063960"/>
                <a:gridCol w="480996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风的统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方位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风速范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1.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Rectangle 16"/>
          <p:cNvSpPr/>
          <p:nvPr/>
        </p:nvSpPr>
        <p:spPr>
          <a:xfrm>
            <a:off x="228600" y="380880"/>
            <a:ext cx="4343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析风向和风速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3733920" y="1371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风的统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8"/>
          <p:cNvSpPr/>
          <p:nvPr/>
        </p:nvSpPr>
        <p:spPr>
          <a:xfrm>
            <a:off x="1927080" y="4952880"/>
            <a:ext cx="295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段时间里刮风的天气多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常刮大风还是微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刮哪个方向的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121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Rectangle 5"/>
          <p:cNvSpPr/>
          <p:nvPr/>
        </p:nvSpPr>
        <p:spPr>
          <a:xfrm>
            <a:off x="228600" y="38088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析降水量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143000" y="2666880"/>
          <a:ext cx="6678720" cy="2108160"/>
        </p:xfrm>
        <a:graphic>
          <a:graphicData uri="http://schemas.openxmlformats.org/drawingml/2006/table">
            <a:tbl>
              <a:tblPr/>
              <a:tblGrid>
                <a:gridCol w="1612800"/>
                <a:gridCol w="1282680"/>
                <a:gridCol w="1255680"/>
                <a:gridCol w="1256040"/>
                <a:gridCol w="127152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降水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毫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6"/>
          <p:cNvSpPr/>
          <p:nvPr/>
        </p:nvSpPr>
        <p:spPr>
          <a:xfrm>
            <a:off x="3741840" y="167652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周的降水总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2153520" y="5409360"/>
            <a:ext cx="32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一季节的降水量有什么特点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811080" y="6043680"/>
            <a:ext cx="66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2880" y="-360"/>
            <a:ext cx="9141120" cy="6857640"/>
            <a:chOff x="2880" y="-360"/>
            <a:chExt cx="9141120" cy="6857640"/>
          </a:xfrm>
        </p:grpSpPr>
        <p:pic>
          <p:nvPicPr>
            <p:cNvPr id="129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2880" y="-360"/>
              <a:ext cx="9140760" cy="349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" descr=""/>
            <p:cNvPicPr/>
            <p:nvPr/>
          </p:nvPicPr>
          <p:blipFill>
            <a:blip r:embed="rId2"/>
            <a:stretch/>
          </p:blipFill>
          <p:spPr>
            <a:xfrm>
              <a:off x="3240" y="2856240"/>
              <a:ext cx="9140760" cy="4001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31" name=""/>
          <p:cNvGraphicFramePr/>
          <p:nvPr/>
        </p:nvGraphicFramePr>
        <p:xfrm>
          <a:off x="250920" y="893880"/>
          <a:ext cx="8642160" cy="1239840"/>
        </p:xfrm>
        <a:graphic>
          <a:graphicData uri="http://schemas.openxmlformats.org/drawingml/2006/table">
            <a:tbl>
              <a:tblPr/>
              <a:tblGrid>
                <a:gridCol w="1726920"/>
                <a:gridCol w="1730160"/>
                <a:gridCol w="1727280"/>
                <a:gridCol w="1730520"/>
                <a:gridCol w="1727280"/>
              </a:tblGrid>
              <a:tr h="72144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降水量（毫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7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1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—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2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WordArt 24"/>
          <p:cNvSpPr txBox="1"/>
          <p:nvPr/>
        </p:nvSpPr>
        <p:spPr>
          <a:xfrm>
            <a:off x="250920" y="2276640"/>
            <a:ext cx="5029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绘制降水量变化的柱状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00000" y="2781360"/>
          <a:ext cx="7740720" cy="5616360"/>
        </p:xfrm>
        <a:graphic>
          <a:graphicData uri="http://schemas.openxmlformats.org/drawingml/2006/table">
            <a:tbl>
              <a:tblPr/>
              <a:tblGrid>
                <a:gridCol w="309600"/>
                <a:gridCol w="307800"/>
                <a:gridCol w="312840"/>
                <a:gridCol w="308160"/>
                <a:gridCol w="309240"/>
                <a:gridCol w="311400"/>
                <a:gridCol w="264960"/>
                <a:gridCol w="365040"/>
                <a:gridCol w="297000"/>
                <a:gridCol w="309600"/>
                <a:gridCol w="311040"/>
                <a:gridCol w="308160"/>
                <a:gridCol w="311040"/>
                <a:gridCol w="308160"/>
                <a:gridCol w="311040"/>
                <a:gridCol w="309600"/>
                <a:gridCol w="307800"/>
                <a:gridCol w="311400"/>
                <a:gridCol w="307800"/>
                <a:gridCol w="311040"/>
                <a:gridCol w="309600"/>
                <a:gridCol w="308160"/>
                <a:gridCol w="312480"/>
                <a:gridCol w="308160"/>
                <a:gridCol w="309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Line 365"/>
          <p:cNvSpPr/>
          <p:nvPr/>
        </p:nvSpPr>
        <p:spPr>
          <a:xfrm>
            <a:off x="900000" y="6453360"/>
            <a:ext cx="824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66"/>
          <p:cNvSpPr/>
          <p:nvPr/>
        </p:nvSpPr>
        <p:spPr>
          <a:xfrm>
            <a:off x="0" y="2565360"/>
            <a:ext cx="90000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降水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毫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67"/>
          <p:cNvSpPr/>
          <p:nvPr/>
        </p:nvSpPr>
        <p:spPr>
          <a:xfrm>
            <a:off x="468360" y="3068640"/>
            <a:ext cx="4316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68"/>
          <p:cNvGrpSpPr/>
          <p:nvPr/>
        </p:nvGrpSpPr>
        <p:grpSpPr>
          <a:xfrm>
            <a:off x="0" y="2565000"/>
            <a:ext cx="9144000" cy="4266360"/>
            <a:chOff x="0" y="2565000"/>
            <a:chExt cx="9144000" cy="4266360"/>
          </a:xfrm>
        </p:grpSpPr>
        <p:sp>
          <p:nvSpPr>
            <p:cNvPr id="138" name="Line 369"/>
            <p:cNvSpPr/>
            <p:nvPr/>
          </p:nvSpPr>
          <p:spPr>
            <a:xfrm flipV="1">
              <a:off x="900000" y="2565000"/>
              <a:ext cx="0" cy="38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370"/>
            <p:cNvGrpSpPr/>
            <p:nvPr/>
          </p:nvGrpSpPr>
          <p:grpSpPr>
            <a:xfrm>
              <a:off x="0" y="2636640"/>
              <a:ext cx="9144000" cy="4194720"/>
              <a:chOff x="0" y="2636640"/>
              <a:chExt cx="9144000" cy="4194720"/>
            </a:xfrm>
          </p:grpSpPr>
          <p:sp>
            <p:nvSpPr>
              <p:cNvPr id="140" name="Text Box 371"/>
              <p:cNvSpPr/>
              <p:nvPr/>
            </p:nvSpPr>
            <p:spPr>
              <a:xfrm>
                <a:off x="971640" y="6524280"/>
                <a:ext cx="817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1    2     3    4     5    6    7    8    9    10   11  12   13  14  15   16  17  18   19   20   21  22   23   24 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日期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372"/>
              <p:cNvSpPr/>
              <p:nvPr/>
            </p:nvSpPr>
            <p:spPr>
              <a:xfrm>
                <a:off x="0" y="2636640"/>
                <a:ext cx="900000" cy="504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降水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（毫米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373"/>
              <p:cNvSpPr/>
              <p:nvPr/>
            </p:nvSpPr>
            <p:spPr>
              <a:xfrm>
                <a:off x="468360" y="3438360"/>
                <a:ext cx="431640" cy="264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Rectangle 374"/>
          <p:cNvSpPr/>
          <p:nvPr/>
        </p:nvSpPr>
        <p:spPr>
          <a:xfrm>
            <a:off x="228600" y="7632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析降水量的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07:57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9:29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