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gif" ContentType="image/gif"/>
  <Override PartName="/ppt/media/image5.jpeg" ContentType="image/jpeg"/>
  <Override PartName="/ppt/media/image6.png" ContentType="image/png"/>
  <Override PartName="/ppt/media/image7.jpeg" ContentType="image/jpeg"/>
  <Override PartName="/ppt/media/image8.gif" ContentType="image/gif"/>
  <Override PartName="/ppt/media/image9.gif" ContentType="image/gi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8857-224E-4C1C-9CBD-6E6AE2134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58B0-DD0C-444E-9A39-414EDDC3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873E-2A27-4C4D-A3D2-D200A7D02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1D0F-D439-4C99-9444-D3289E3EA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496E-BA12-486A-B2EC-69F2B289D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69E9-35F6-4ED3-9A5D-77534D5E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2DCC-F360-4DD7-88C4-A82EDEE3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7249-4823-40F7-A3DA-8C9CB067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64CD-A075-4A4D-96E5-33AECDD9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7862-9BD1-4ED8-8A3D-E6145F11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3E14-26F6-426E-92A7-42088030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528B-3DB3-4A64-A451-87CDE6F1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A05D-FF61-4CBF-8C0E-70CE1412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2D4E-04DD-4C22-9F77-8F795907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B9FB-8F92-4BD7-BF44-55205711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A8A4-FE2D-49ED-802B-AFCE666EA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6173-2FB6-4744-BEFE-A5BDBFA6B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426E1-43A7-428C-8F24-88A43195A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E5E35-9037-4D83-A319-DC7E2996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D04A4-8413-43A9-9639-956588FC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2347A-6C38-4D66-92FD-2A3E9E40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6A4A8-6AB8-44F4-9989-13F70C94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DC4D-4328-41D8-8B88-AFCF410F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8C1F2-8106-4CF6-BEDF-597504A1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39998-E06A-4A32-828C-754583C2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AC872-34BA-40F6-911E-F71A9CDC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A7203-6F78-48EB-8F85-FC0B968D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8AAFD-B6CD-41D9-AFDB-12041F5B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DAAD1-C12F-4848-A590-05D846219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18444-00B5-4187-9624-3AB277AE6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10306-FCFE-4520-8184-B8EB3FB87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75F9E-B184-4E7E-9338-5EC55165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D4D74-4E2E-4E90-8CAD-EB363D37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C717-C7FA-414F-ABFA-78EA1322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088F0-59E7-4CA4-A270-21740259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9061E-36F7-4B4D-AE9B-C7CDC13B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4D810-AEE5-4D27-9BD4-F722668B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7426A-08B2-4762-B56D-E1EA64B5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324A3-9A22-4D80-A421-9729226E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9D951-390D-4308-91A7-61A680CA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3AB4D-FFA3-4A0D-AA16-71AC2A9A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7E778-7404-40A1-B774-44266EAA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BB2C1-A07F-435D-8518-38B353AD8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FFBEB-5337-4C3A-A318-19968C14E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6FC7-9C65-4899-AB89-B65EC47F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58B5E-2A6C-4013-9F72-64F3884E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9584C-02D1-4BA0-B119-8ECA09D1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A96F4-8B39-4EC9-8ABE-77BBD678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9522A-0D8C-4BED-8528-26593C62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7A08B-2BB3-4C9C-80DA-7566AF5A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1518E-2359-47D0-9E19-14F59B66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53148-BD30-48FA-A470-DD5E923C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8F24A-DAE0-4F35-B358-8BC64F2C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6FC08-5CA5-4BA7-BCD4-31F07FB7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64DE6-0795-4408-89DF-D3E0E57A4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8259-7DE0-46DD-8B4B-02084B61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28222-92D8-46E1-9FBB-E494F7E97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FDDA-FD42-457A-8E29-555C43F8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C0A9-D5F7-4336-9F5E-82C2DE2E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FC76-0A6B-4E75-859D-F82D0DB8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7a77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7a77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2703-62C8-4579-A799-5956A4F99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7a77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7a77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B329-F49E-4396-A508-1FB5F071F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pic>
          <p:nvPicPr>
            <p:cNvPr id="83" name="Picture 3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2560" cy="17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Arc 4"/>
            <p:cNvSpPr/>
            <p:nvPr/>
          </p:nvSpPr>
          <p:spPr>
            <a:xfrm>
              <a:off x="914400" y="539640"/>
              <a:ext cx="7391520" cy="1292400"/>
            </a:xfrm>
            <a:custGeom>
              <a:avLst/>
              <a:gdLst/>
              <a:ahLst/>
              <a:rect l="l" t="t" r="r" b="b"/>
              <a:pathLst>
                <a:path fill="none" w="43200" h="21680">
                  <a:moveTo>
                    <a:pt x="0" y="21679"/>
                  </a:moveTo>
                  <a:cubicBezTo>
                    <a:pt x="0" y="21653"/>
                    <a:pt x="0" y="216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18" y="-1"/>
                    <a:pt x="43185" y="9654"/>
                    <a:pt x="43199" y="21573"/>
                  </a:cubicBezTo>
                </a:path>
                <a:path stroke="0" w="43200" h="21680">
                  <a:moveTo>
                    <a:pt x="0" y="21679"/>
                  </a:moveTo>
                  <a:cubicBezTo>
                    <a:pt x="0" y="21653"/>
                    <a:pt x="0" y="216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18" y="-1"/>
                    <a:pt x="43185" y="9654"/>
                    <a:pt x="43199" y="21573"/>
                  </a:cubicBezTo>
                  <a:lnTo>
                    <a:pt x="21600" y="21600"/>
                  </a:lnTo>
                  <a:lnTo>
                    <a:pt x="0" y="21679"/>
                  </a:lnTo>
                  <a:close/>
                </a:path>
              </a:pathLst>
            </a:custGeom>
            <a:solidFill>
              <a:srgbClr val="fcce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7a77"/>
                </a:solidFill>
                <a:latin typeface="Book Antiqua"/>
              </a:endParaRPr>
            </a:p>
          </p:txBody>
        </p:sp>
        <p:sp>
          <p:nvSpPr>
            <p:cNvPr id="85" name="Rectangle 5"/>
            <p:cNvSpPr/>
            <p:nvPr/>
          </p:nvSpPr>
          <p:spPr>
            <a:xfrm>
              <a:off x="0" y="1752480"/>
              <a:ext cx="9142560" cy="51040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7a77"/>
                </a:solidFill>
                <a:latin typeface="Book Antiqua"/>
              </a:endParaRPr>
            </a:p>
          </p:txBody>
        </p:sp>
        <p:sp>
          <p:nvSpPr>
            <p:cNvPr id="86" name="Rectangle 6"/>
            <p:cNvSpPr/>
            <p:nvPr/>
          </p:nvSpPr>
          <p:spPr>
            <a:xfrm>
              <a:off x="0" y="1752480"/>
              <a:ext cx="9142560" cy="228600"/>
            </a:xfrm>
            <a:prstGeom prst="rect">
              <a:avLst/>
            </a:prstGeom>
            <a:solidFill>
              <a:srgbClr val="fcce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7a77"/>
                </a:solidFill>
                <a:latin typeface="Book Antiqua"/>
              </a:endParaRPr>
            </a:p>
          </p:txBody>
        </p:sp>
        <p:sp>
          <p:nvSpPr>
            <p:cNvPr id="87" name="Rectangle 7"/>
            <p:cNvSpPr/>
            <p:nvPr/>
          </p:nvSpPr>
          <p:spPr>
            <a:xfrm>
              <a:off x="6856560" y="1752480"/>
              <a:ext cx="2286000" cy="228600"/>
            </a:xfrm>
            <a:prstGeom prst="rect">
              <a:avLst/>
            </a:prstGeom>
            <a:gradFill rotWithShape="0">
              <a:gsLst>
                <a:gs pos="0">
                  <a:srgbClr val="fccea7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7a77"/>
                </a:solidFill>
                <a:latin typeface="Book Antiqua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>
              <a:off x="0" y="1752480"/>
              <a:ext cx="2286000" cy="228600"/>
            </a:xfrm>
            <a:prstGeom prst="rect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fccea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7a77"/>
                </a:solidFill>
                <a:latin typeface="Book Antiqua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7a77"/>
              </a:solidFill>
              <a:latin typeface="Book Antiqu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7a77"/>
              </a:solidFill>
              <a:latin typeface="Book Antiqu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1F17-0DAB-4DDE-898E-555BEA083EFD}" type="slidenum">
              <a:rPr b="0" lang="en-US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7a77"/>
              </a:solidFill>
              <a:latin typeface="Book Antiq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7a77"/>
              </a:solidFill>
              <a:latin typeface="Book Antiq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5D4F-437B-4D40-B54E-EAC182ABC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0066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0" y="1752480"/>
            <a:ext cx="9142560" cy="1981440"/>
            <a:chOff x="0" y="1752480"/>
            <a:chExt cx="9142560" cy="1981440"/>
          </a:xfrm>
        </p:grpSpPr>
        <p:pic>
          <p:nvPicPr>
            <p:cNvPr id="172" name="Picture 3" descr=""/>
            <p:cNvPicPr/>
            <p:nvPr/>
          </p:nvPicPr>
          <p:blipFill>
            <a:blip r:embed="rId2"/>
            <a:stretch/>
          </p:blipFill>
          <p:spPr>
            <a:xfrm>
              <a:off x="0" y="1752480"/>
              <a:ext cx="9142560" cy="17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Arc 4"/>
            <p:cNvSpPr/>
            <p:nvPr/>
          </p:nvSpPr>
          <p:spPr>
            <a:xfrm>
              <a:off x="914400" y="2292480"/>
              <a:ext cx="7391520" cy="1292040"/>
            </a:xfrm>
            <a:custGeom>
              <a:avLst/>
              <a:gdLst/>
              <a:ahLst/>
              <a:rect l="l" t="t" r="r" b="b"/>
              <a:pathLst>
                <a:path fill="none" w="43200" h="21680">
                  <a:moveTo>
                    <a:pt x="0" y="21679"/>
                  </a:moveTo>
                  <a:cubicBezTo>
                    <a:pt x="0" y="21653"/>
                    <a:pt x="0" y="216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18" y="-1"/>
                    <a:pt x="43185" y="9654"/>
                    <a:pt x="43199" y="21573"/>
                  </a:cubicBezTo>
                </a:path>
                <a:path stroke="0" w="43200" h="21680">
                  <a:moveTo>
                    <a:pt x="0" y="21679"/>
                  </a:moveTo>
                  <a:cubicBezTo>
                    <a:pt x="0" y="21653"/>
                    <a:pt x="0" y="2162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18" y="-1"/>
                    <a:pt x="43185" y="9654"/>
                    <a:pt x="43199" y="21573"/>
                  </a:cubicBezTo>
                  <a:lnTo>
                    <a:pt x="21600" y="21600"/>
                  </a:lnTo>
                  <a:lnTo>
                    <a:pt x="0" y="21679"/>
                  </a:lnTo>
                  <a:close/>
                </a:path>
              </a:pathLst>
            </a:custGeom>
            <a:solidFill>
              <a:srgbClr val="fcce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7a77"/>
                </a:solidFill>
                <a:latin typeface="Book Antiqua"/>
              </a:endParaRPr>
            </a:p>
          </p:txBody>
        </p:sp>
        <p:grpSp>
          <p:nvGrpSpPr>
            <p:cNvPr id="174" name="Group 5"/>
            <p:cNvGrpSpPr/>
            <p:nvPr/>
          </p:nvGrpSpPr>
          <p:grpSpPr>
            <a:xfrm>
              <a:off x="0" y="3505320"/>
              <a:ext cx="9142560" cy="228600"/>
              <a:chOff x="0" y="3505320"/>
              <a:chExt cx="9142560" cy="228600"/>
            </a:xfrm>
          </p:grpSpPr>
          <p:sp>
            <p:nvSpPr>
              <p:cNvPr id="175" name="Rectangle 6"/>
              <p:cNvSpPr/>
              <p:nvPr/>
            </p:nvSpPr>
            <p:spPr>
              <a:xfrm>
                <a:off x="0" y="3505320"/>
                <a:ext cx="9142560" cy="228600"/>
              </a:xfrm>
              <a:prstGeom prst="rect">
                <a:avLst/>
              </a:prstGeom>
              <a:solidFill>
                <a:srgbClr val="fcce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007a77"/>
                  </a:solidFill>
                  <a:latin typeface="Book Antiqua"/>
                </a:endParaRPr>
              </a:p>
            </p:txBody>
          </p:sp>
          <p:sp>
            <p:nvSpPr>
              <p:cNvPr id="176" name="Rectangle 7"/>
              <p:cNvSpPr/>
              <p:nvPr/>
            </p:nvSpPr>
            <p:spPr>
              <a:xfrm>
                <a:off x="6856560" y="3505320"/>
                <a:ext cx="2286000" cy="228600"/>
              </a:xfrm>
              <a:prstGeom prst="rect">
                <a:avLst/>
              </a:prstGeom>
              <a:gradFill rotWithShape="0">
                <a:gsLst>
                  <a:gs pos="0">
                    <a:srgbClr val="fccea7"/>
                  </a:gs>
                  <a:gs pos="100000">
                    <a:srgbClr val="66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007a77"/>
                  </a:solidFill>
                  <a:latin typeface="Book Antiqua"/>
                </a:endParaRPr>
              </a:p>
            </p:txBody>
          </p:sp>
          <p:sp>
            <p:nvSpPr>
              <p:cNvPr id="177" name="Rectangle 8"/>
              <p:cNvSpPr/>
              <p:nvPr/>
            </p:nvSpPr>
            <p:spPr>
              <a:xfrm>
                <a:off x="0" y="3505320"/>
                <a:ext cx="2286000" cy="228600"/>
              </a:xfrm>
              <a:prstGeom prst="rect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fccea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007a77"/>
                  </a:solidFill>
                  <a:latin typeface="Book Antiqua"/>
                </a:endParaRPr>
              </a:p>
            </p:txBody>
          </p:sp>
        </p:grp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7a77"/>
              </a:solidFill>
              <a:latin typeface="Book Antiqu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7a77"/>
              </a:solidFill>
              <a:latin typeface="Book Antiqu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B1E8-9C6B-4516-8EAA-BF2C8DD92FE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237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0099"/>
                </a:solidFill>
                <a:latin typeface="宋体"/>
              </a:rPr>
              <a:t>紫藤萝瀑布</a:t>
            </a:r>
            <a:endParaRPr b="0" lang="en-US" sz="60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2268360" y="5981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eaeaea"/>
              </a:solidFill>
              <a:latin typeface="宋体"/>
            </a:endParaRPr>
          </a:p>
        </p:txBody>
      </p:sp>
      <p:pic>
        <p:nvPicPr>
          <p:cNvPr id="221" name="Picture 4" descr="20051105155634368"/>
          <p:cNvPicPr/>
          <p:nvPr/>
        </p:nvPicPr>
        <p:blipFill>
          <a:blip r:embed="rId1"/>
          <a:stretch/>
        </p:blipFill>
        <p:spPr>
          <a:xfrm>
            <a:off x="5364000" y="1125360"/>
            <a:ext cx="4067280" cy="2797200"/>
          </a:xfrm>
          <a:prstGeom prst="rect">
            <a:avLst/>
          </a:prstGeom>
          <a:ln w="0">
            <a:noFill/>
          </a:ln>
        </p:spPr>
      </p:pic>
    </p:spTree>
  </p:cSld>
  <p:transition advTm="6000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2268360" y="2147400"/>
            <a:ext cx="4896000" cy="17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eaeaea"/>
                </a:solidFill>
                <a:latin typeface="宋体"/>
              </a:rPr>
              <a:t>谢谢大家</a:t>
            </a:r>
            <a:endParaRPr b="0" lang="en-US" sz="8000" spc="-1" strike="noStrike">
              <a:solidFill>
                <a:srgbClr val="eaeaea"/>
              </a:solidFill>
              <a:latin typeface="宋体"/>
            </a:endParaRPr>
          </a:p>
        </p:txBody>
      </p:sp>
      <p:pic>
        <p:nvPicPr>
          <p:cNvPr id="245" name="Picture 8" descr="20051027190345818"/>
          <p:cNvPicPr/>
          <p:nvPr/>
        </p:nvPicPr>
        <p:blipFill>
          <a:blip r:embed="rId1"/>
          <a:stretch/>
        </p:blipFill>
        <p:spPr>
          <a:xfrm>
            <a:off x="0" y="3068640"/>
            <a:ext cx="4707000" cy="342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0099"/>
                </a:solidFill>
                <a:latin typeface="宋体"/>
              </a:rPr>
              <a:t>使用规范说明</a:t>
            </a:r>
            <a:endParaRPr b="0" lang="en-US" sz="4400" spc="-1" strike="noStrike">
              <a:solidFill>
                <a:srgbClr val="330099"/>
              </a:solidFill>
              <a:latin typeface="宋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站点介绍：</a:t>
            </a:r>
            <a:endParaRPr b="0" lang="en-US" sz="1400" spc="-1" strike="noStrike">
              <a:solidFill>
                <a:srgbClr val="eaeaea"/>
              </a:solidFill>
              <a:latin typeface="宋体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宋体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宋体"/>
              </a:rPr>
              <a:t> </a:t>
            </a:r>
            <a:r>
              <a:rPr b="0" lang="zh-CN" sz="1400" spc="-1" strike="noStrike" u="sng">
                <a:solidFill>
                  <a:srgbClr val="6600cc"/>
                </a:solidFill>
                <a:uFillTx/>
                <a:latin typeface="宋体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6600cc"/>
                </a:solidFill>
                <a:uFillTx/>
                <a:latin typeface="宋体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宋体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宋体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宋体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特别说明：</a:t>
            </a:r>
            <a:endParaRPr b="0" lang="en-US" sz="1400" spc="-1" strike="noStrike">
              <a:solidFill>
                <a:srgbClr val="eaeaea"/>
              </a:solidFill>
              <a:latin typeface="宋体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宋体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eaeaea"/>
              </a:solidFill>
              <a:latin typeface="宋体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宋体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宋体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栏目推荐：</a:t>
            </a:r>
            <a:endParaRPr b="0" lang="en-US" sz="1400" spc="-1" strike="noStrike">
              <a:solidFill>
                <a:srgbClr val="eaeaea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00cc"/>
                </a:solidFill>
                <a:uFillTx/>
                <a:latin typeface="宋体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             </a:t>
            </a:r>
            <a:r>
              <a:rPr b="0" lang="zh-CN" sz="1200" spc="-1" strike="noStrike" u="sng">
                <a:solidFill>
                  <a:srgbClr val="6600cc"/>
                </a:solidFill>
                <a:uFillTx/>
                <a:latin typeface="宋体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http://www.eeppt.com/dongtai/</a:t>
            </a:r>
            <a:endParaRPr b="0" lang="en-US" sz="1200" spc="-1" strike="noStrike">
              <a:solidFill>
                <a:srgbClr val="eaeaea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00cc"/>
                </a:solidFill>
                <a:uFillTx/>
                <a:latin typeface="宋体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6600cc"/>
                </a:solidFill>
                <a:uFillTx/>
                <a:latin typeface="宋体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http://www.eeppt.com/moban/chuangyi/</a:t>
            </a:r>
            <a:endParaRPr b="0" lang="en-US" sz="1200" spc="-1" strike="noStrike">
              <a:solidFill>
                <a:srgbClr val="eaeaea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00cc"/>
                </a:solidFill>
                <a:uFillTx/>
                <a:latin typeface="宋体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6600cc"/>
                </a:solidFill>
                <a:uFillTx/>
                <a:latin typeface="宋体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http://www.eeppt.com/moban/gongzuo/</a:t>
            </a:r>
            <a:endParaRPr b="0" lang="en-US" sz="1200" spc="-1" strike="noStrike">
              <a:solidFill>
                <a:srgbClr val="eaeaea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00cc"/>
                </a:solidFill>
                <a:uFillTx/>
                <a:latin typeface="宋体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6600cc"/>
                </a:solidFill>
                <a:uFillTx/>
                <a:latin typeface="宋体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宋体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kejian/</a:t>
            </a:r>
            <a:endParaRPr b="0" lang="en-US" sz="1200" spc="-1" strike="noStrike">
              <a:solidFill>
                <a:srgbClr val="eaeaea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00cc"/>
                </a:solidFill>
                <a:uFillTx/>
                <a:latin typeface="宋体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6600cc"/>
                </a:solidFill>
                <a:uFillTx/>
                <a:latin typeface="宋体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http://www.eeppt.com/moban/shangwu/</a:t>
            </a:r>
            <a:endParaRPr b="0" lang="en-US" sz="1200" spc="-1" strike="noStrike">
              <a:solidFill>
                <a:srgbClr val="eaeaea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00cc"/>
                </a:solidFill>
                <a:uFillTx/>
                <a:latin typeface="宋体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6600cc"/>
                </a:solidFill>
                <a:uFillTx/>
                <a:latin typeface="宋体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http://www.eeppt.com/sucai/</a:t>
            </a:r>
            <a:endParaRPr b="0" lang="en-US" sz="1200" spc="-1" strike="noStrike">
              <a:solidFill>
                <a:srgbClr val="eaeaea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00cc"/>
                </a:solidFill>
                <a:uFillTx/>
                <a:latin typeface="宋体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6600cc"/>
                </a:solidFill>
                <a:uFillTx/>
                <a:latin typeface="宋体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http://www.eeppt.com/moban/fengjing/</a:t>
            </a:r>
            <a:endParaRPr b="0" lang="en-US" sz="1200" spc="-1" strike="noStrike">
              <a:solidFill>
                <a:srgbClr val="eaeaea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00cc"/>
                </a:solidFill>
                <a:uFillTx/>
                <a:latin typeface="宋体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6600cc"/>
                </a:solidFill>
                <a:uFillTx/>
                <a:latin typeface="宋体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http://www.eeppt.com/moban/jianjie/</a:t>
            </a:r>
            <a:endParaRPr b="0" lang="en-US" sz="1200" spc="-1" strike="noStrike">
              <a:solidFill>
                <a:srgbClr val="eaeaea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http://www.eeppt.com/moban/jiaoyu/</a:t>
            </a:r>
            <a:endParaRPr b="0" lang="en-US" sz="1200" spc="-1" strike="noStrike">
              <a:solidFill>
                <a:srgbClr val="eaeaea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http://www.eeppt.com/moban/lunwen/</a:t>
            </a:r>
            <a:endParaRPr b="0" lang="en-US" sz="1200" spc="-1" strike="noStrike">
              <a:solidFill>
                <a:srgbClr val="eaeaea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宋体"/>
              </a:rPr>
              <a:t>http://www.eeppt.com/moban/yiliao/</a:t>
            </a:r>
            <a:endParaRPr b="0" lang="en-US" sz="1200" spc="-1" strike="noStrike">
              <a:solidFill>
                <a:srgbClr val="eaeaea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宋体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Book Antiqua"/>
            </a:endParaRPr>
          </a:p>
        </p:txBody>
      </p:sp>
      <p:sp>
        <p:nvSpPr>
          <p:cNvPr id="24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CE0D-E8F8-48DD-A3E7-CA297591871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5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Book Antiqua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Book Antiqua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Book Antiqua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Book Antiqua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Book Antiqua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Book Antiqua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Book Antiqua"/>
              </a:rPr>
              <a:t>www.1ppt.com/hangye/ </a:t>
            </a:r>
            <a:endParaRPr b="0" lang="en-US" sz="100" spc="-1" strike="noStrike">
              <a:solidFill>
                <a:srgbClr val="007a77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Book Antiqua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Book Antiqua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Book Antiqua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Book Antiqua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Book Antiqua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Book Antiqua"/>
              </a:rPr>
              <a:t>www.1ppt.com/sucai/</a:t>
            </a:r>
            <a:endParaRPr b="0" lang="en-US" sz="100" spc="-1" strike="noStrike">
              <a:solidFill>
                <a:srgbClr val="007a77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Book Antiqua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Book Antiqua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Book Antiqua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Book Antiqua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Book Antiqua"/>
              </a:rPr>
              <a:t>www.1ppt.com/tubiao/      </a:t>
            </a:r>
            <a:endParaRPr b="0" lang="en-US" sz="100" spc="-1" strike="noStrike">
              <a:solidFill>
                <a:srgbClr val="007a77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Book Antiqua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Book Antiqua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Book Antiqua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Book Antiqua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Book Antiqua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Book Antiqua"/>
              </a:rPr>
              <a:t>www.1ppt.com/powerpoint/      </a:t>
            </a:r>
            <a:endParaRPr b="0" lang="en-US" sz="100" spc="-1" strike="noStrike">
              <a:solidFill>
                <a:srgbClr val="007a77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Book Antiqua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Book Antiqua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Book Antiqua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Book Antiqua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Book Antiqua"/>
              </a:rPr>
              <a:t>www.1ppt.com/excel/  </a:t>
            </a:r>
            <a:endParaRPr b="0" lang="en-US" sz="100" spc="-1" strike="noStrike">
              <a:solidFill>
                <a:srgbClr val="007a77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Book Antiqua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Book Antiqua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Book Antiqua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Book Antiqua"/>
              </a:rPr>
              <a:t>www.1ppt.com/kejian/ </a:t>
            </a:r>
            <a:endParaRPr b="0" lang="en-US" sz="100" spc="-1" strike="noStrike">
              <a:solidFill>
                <a:srgbClr val="007a77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Book Antiqua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Book Antiqua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Book Antiqua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Book Antiqua"/>
              </a:rPr>
              <a:t>www.1ppt.com/shiti/  </a:t>
            </a:r>
            <a:endParaRPr b="0" lang="en-US" sz="100" spc="-1" strike="noStrike">
              <a:solidFill>
                <a:srgbClr val="007a77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Book Antiqua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Book Antiqua"/>
              </a:rPr>
              <a:t>www.1ppt.com/jiaoan/  </a:t>
            </a:r>
            <a:endParaRPr b="0" lang="en-US" sz="100" spc="-1" strike="noStrike">
              <a:solidFill>
                <a:srgbClr val="007a77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00" spc="-1" strike="noStrike">
              <a:solidFill>
                <a:srgbClr val="007a77"/>
              </a:solidFill>
              <a:latin typeface="Book Antiqua"/>
            </a:endParaRPr>
          </a:p>
        </p:txBody>
      </p:sp>
      <p:pic>
        <p:nvPicPr>
          <p:cNvPr id="223" name="Picture 6" descr="紫藤罗"/>
          <p:cNvPicPr/>
          <p:nvPr/>
        </p:nvPicPr>
        <p:blipFill>
          <a:blip r:embed="rId1"/>
          <a:srcRect l="0" t="0" r="0" b="7094"/>
          <a:stretch/>
        </p:blipFill>
        <p:spPr>
          <a:xfrm>
            <a:off x="-757080" y="0"/>
            <a:ext cx="7705440" cy="686124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7"/>
          <p:cNvSpPr/>
          <p:nvPr/>
        </p:nvSpPr>
        <p:spPr>
          <a:xfrm>
            <a:off x="7435080" y="260280"/>
            <a:ext cx="139932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a77"/>
                </a:solidFill>
                <a:latin typeface="Book Antiqua"/>
              </a:rPr>
              <a:t> </a:t>
            </a:r>
            <a:r>
              <a:rPr b="1" lang="zh-CN" sz="4000" spc="-1" strike="noStrike">
                <a:solidFill>
                  <a:srgbClr val="007a77"/>
                </a:solidFill>
                <a:latin typeface="Book Antiqua"/>
              </a:rPr>
              <a:t>一</a:t>
            </a:r>
            <a:r>
              <a:rPr b="0" lang="zh-CN" sz="4000" spc="-1" strike="noStrike">
                <a:solidFill>
                  <a:srgbClr val="007a77"/>
                </a:solidFill>
                <a:latin typeface="Book Antiqua"/>
              </a:rPr>
              <a:t>   图片欣赏   情景导入</a:t>
            </a:r>
            <a:endParaRPr b="0" lang="en-US" sz="4000" spc="-1" strike="noStrike">
              <a:solidFill>
                <a:srgbClr val="007a77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0066"/>
                </a:solidFill>
                <a:latin typeface="Arial"/>
              </a:rPr>
              <a:t>二、诵读学习</a:t>
            </a:r>
            <a:endParaRPr b="0" lang="en-US" sz="6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3716280"/>
            <a:ext cx="6400800" cy="19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（一）专心听读　理清思路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苍竹滴翠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紫藤萝花"/>
          <p:cNvPicPr/>
          <p:nvPr/>
        </p:nvPicPr>
        <p:blipFill>
          <a:blip r:embed="rId2"/>
          <a:stretch/>
        </p:blipFill>
        <p:spPr>
          <a:xfrm>
            <a:off x="-173160" y="0"/>
            <a:ext cx="589752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7"/>
          <p:cNvSpPr/>
          <p:nvPr/>
        </p:nvSpPr>
        <p:spPr>
          <a:xfrm>
            <a:off x="7824600" y="1125360"/>
            <a:ext cx="100332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90000"/>
                </a:solidFill>
                <a:latin typeface="Book Antiqua"/>
                <a:ea typeface="宋体"/>
              </a:rPr>
              <a:t>配乐朗诵</a:t>
            </a:r>
            <a:r>
              <a:rPr b="0" lang="zh-CN" sz="5400" spc="-1" strike="noStrike">
                <a:solidFill>
                  <a:srgbClr val="007a77"/>
                </a:solidFill>
                <a:latin typeface="Book Antiqua"/>
                <a:ea typeface="宋体"/>
              </a:rPr>
              <a:t>　　</a:t>
            </a:r>
            <a:endParaRPr b="0" lang="en-US" sz="5400" spc="-1" strike="noStrike">
              <a:solidFill>
                <a:srgbClr val="007a77"/>
              </a:solidFill>
              <a:latin typeface="Book Antiqua"/>
            </a:endParaRPr>
          </a:p>
        </p:txBody>
      </p:sp>
      <p:pic>
        <p:nvPicPr>
          <p:cNvPr id="230" name="苍竹滴翠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2" descr="20051027190606512"/>
          <p:cNvPicPr/>
          <p:nvPr/>
        </p:nvPicPr>
        <p:blipFill>
          <a:blip r:embed="rId4"/>
          <a:stretch/>
        </p:blipFill>
        <p:spPr>
          <a:xfrm>
            <a:off x="971640" y="1268280"/>
            <a:ext cx="324144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84923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84923"/>
                            </p:stCondLst>
                            <p:childTnLst>
                              <p:par>
                                <p:cTn id="2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484923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我不由得加快了脚步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为什么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驻足赏花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引发了“我”对十多年前家门外一株紫藤萝花的不幸回忆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这其中包含着“我”怎样的感情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在这浅紫色的光辉和浅紫色的芳香中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我不觉加快了脚步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这又是为什么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赏花 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—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忆花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—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悟花是作者构思本文的思路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请分别找出各部分相应的段落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并说说“我”悟出了什么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539640" y="29376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Book Antiqua"/>
              </a:rPr>
              <a:t>  </a:t>
            </a:r>
            <a:endParaRPr b="0" lang="en-US" sz="3600" spc="-1" strike="noStrike">
              <a:solidFill>
                <a:srgbClr val="007a77"/>
              </a:solidFill>
              <a:latin typeface="Book Antiqu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95280" y="1267920"/>
            <a:ext cx="8145360" cy="52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这样盛的紫藤萝表现在哪些方面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?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说说“我”怎样进行观察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伫立凝望时’’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“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我”产生了怎样的感受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你又是如何理解这种感受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“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我”在梦幻一般轻轻笼罩着的香气中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想到十年前的家门前的藤萝花的不幸命运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你能理解“我”的心情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如何理解“生命的长河是无止境”的这一感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2103480" y="-66600"/>
            <a:ext cx="6284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7a77"/>
              </a:solidFill>
              <a:latin typeface="Book Antiqua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468360" y="476280"/>
            <a:ext cx="843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33"/>
                </a:solidFill>
                <a:latin typeface="Book Antiqua"/>
              </a:rPr>
              <a:t>（二）  细心研读   品味文意</a:t>
            </a:r>
            <a:endParaRPr b="0" lang="en-US" sz="4400" spc="-1" strike="noStrike">
              <a:solidFill>
                <a:srgbClr val="007a77"/>
              </a:solidFill>
              <a:latin typeface="Book Antiqu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299880" y="2133720"/>
            <a:ext cx="8226720" cy="23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美的语言     美的意境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美的情感     美的哲理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187280" y="1052640"/>
            <a:ext cx="640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Book Antiqua"/>
              </a:rPr>
              <a:t> </a:t>
            </a:r>
            <a:r>
              <a:rPr b="1" lang="zh-CN" sz="4000" spc="-1" strike="noStrike">
                <a:solidFill>
                  <a:srgbClr val="990000"/>
                </a:solidFill>
                <a:latin typeface="Book Antiqua"/>
              </a:rPr>
              <a:t>（三）倾心美读  交流感受</a:t>
            </a:r>
            <a:endParaRPr b="0" lang="en-US" sz="4000" spc="-1" strike="noStrike">
              <a:solidFill>
                <a:srgbClr val="007a77"/>
              </a:solidFill>
              <a:latin typeface="Book Antiqu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-360" y="3284640"/>
            <a:ext cx="84582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1100"/>
              </a:spcBef>
              <a:buClr>
                <a:srgbClr val="007a77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结合课文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配下恰一句最                     的词句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并说明理由 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763640" y="69228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a77"/>
                </a:solidFill>
                <a:latin typeface="Book Antiqua"/>
              </a:rPr>
              <a:t>三、深化练习</a:t>
            </a:r>
            <a:endParaRPr b="0" lang="en-US" sz="5400" spc="-1" strike="noStrike">
              <a:solidFill>
                <a:srgbClr val="007a77"/>
              </a:solidFill>
              <a:latin typeface="Book Antiqua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468360" y="220500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7a77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Book Antiqua"/>
                <a:ea typeface="宋体"/>
              </a:rPr>
              <a:t>摘抄优美段落</a:t>
            </a:r>
            <a:endParaRPr b="0" lang="en-US" sz="4400" spc="-1" strike="noStrike">
              <a:solidFill>
                <a:srgbClr val="007a77"/>
              </a:solidFill>
              <a:latin typeface="Book Antiqu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97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生命就像紫藤萝一样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虽无人欣赏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但仍尽情开放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生命就像紫藤萝一样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虽历尽磨难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但仍顽强而快乐的生长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文本框 1"/>
          <p:cNvSpPr/>
          <p:nvPr/>
        </p:nvSpPr>
        <p:spPr>
          <a:xfrm>
            <a:off x="852480" y="5514840"/>
            <a:ext cx="74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Book Antiqua"/>
              </a:rPr>
              <a:t>更多免费</a:t>
            </a:r>
            <a:r>
              <a:rPr b="0" lang="zh-CN" sz="2000" spc="-1" strike="noStrike">
                <a:solidFill>
                  <a:srgbClr val="007a77"/>
                </a:solidFill>
                <a:latin typeface="Book Antiqua"/>
              </a:rPr>
              <a:t>PPT</a:t>
            </a:r>
            <a:r>
              <a:rPr b="0" lang="zh-CN" sz="2000" spc="-1" strike="noStrike">
                <a:solidFill>
                  <a:srgbClr val="007a77"/>
                </a:solidFill>
                <a:latin typeface="Book Antiqua"/>
              </a:rPr>
              <a:t>模板下载：</a:t>
            </a:r>
            <a:r>
              <a:rPr b="0" lang="zh-CN" sz="2000" spc="-1" strike="noStrike">
                <a:solidFill>
                  <a:srgbClr val="007a77"/>
                </a:solidFill>
                <a:latin typeface="Book Antiqua"/>
              </a:rPr>
              <a:t>http://www.eeppt.com</a:t>
            </a:r>
            <a:endParaRPr b="0" lang="en-US" sz="2000" spc="-1" strike="noStrike">
              <a:solidFill>
                <a:srgbClr val="007a77"/>
              </a:solidFill>
              <a:latin typeface="Book Antiqu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6T15:33:03Z</dcterms:modified>
  <cp:revision>1</cp:revision>
  <dc:subject/>
  <dc:title>紫藤萝瀑布</dc:title>
</cp:coreProperties>
</file>