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9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401F-BFCC-4D96-8CA3-0E474A90EF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DD21-4F04-41BD-9A32-264EA861F3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2A5-79D3-4F3B-8247-F3D1BEB3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F1B-0342-412E-B54B-C856F102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231-F45E-48BC-8A7A-554DCE83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B06-63F5-43D8-B3E5-7B5C782D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89EF-54D2-474E-824E-AEF8113E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0933-45EF-4352-A1EA-DB779395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2583-AE0A-4445-8ABC-64AA374F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50B1-13B1-48C9-840C-C6159E0C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61AB-406C-4DF5-A549-475C25CD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09A5-4C2E-4BCD-BCA4-AA542EC0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F278-5C7C-44F1-A69D-FE55975C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DAB-6EC5-4600-8239-4595B263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B924-5B1C-4C27-8AB4-08B5AB36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3D9D-4F0B-4A84-A20F-22E56BF7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1EB9-9794-4B36-8B1F-A5DA9161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9EB2-AFF5-4719-8721-258D23F2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A1B8-4716-4EC3-96BE-1923BD2D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DA5-58E5-4F91-B396-3D67BD19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327-D2E9-488B-AC80-23C0837C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19C-561D-4108-94CD-F51233D2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FB3-1750-4286-BCE1-C76C3AEF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57A-7FB3-4B6A-AAD0-F669EDE6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6CC-D921-43B7-A1FD-4B4C8CB7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B21-3B5B-4D3D-B966-71C57217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3CF1-BBD5-454C-8B49-8C70E2F324B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8E50-F17A-4CE2-AFB5-D992B97874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9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腳踏車拷貝"/>
          <p:cNvPicPr/>
          <p:nvPr/>
        </p:nvPicPr>
        <p:blipFill>
          <a:blip r:embed="rId1"/>
          <a:stretch/>
        </p:blipFill>
        <p:spPr>
          <a:xfrm>
            <a:off x="782640" y="2565360"/>
            <a:ext cx="7439040" cy="3456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3"/>
          <p:cNvSpPr/>
          <p:nvPr/>
        </p:nvSpPr>
        <p:spPr>
          <a:xfrm>
            <a:off x="865080" y="984600"/>
            <a:ext cx="727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自行车上的简单机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2139480" y="6237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TW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981000"/>
            <a:ext cx="8136000" cy="4091040"/>
          </a:xfrm>
          <a:prstGeom prst="rect">
            <a:avLst/>
          </a:prstGeom>
          <a:ln w="9360">
            <a:solidFill>
              <a:srgbClr val="afbf3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826920" y="4046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4000" y="2602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现脚踏车动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数种简单机械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绍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0" y="1197000"/>
            <a:ext cx="914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杠杆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踏车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手利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杠杆来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方向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刹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握柄利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杠杆来传送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0" y="2349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轮轴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踏板、曲柄和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链轮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及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轮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车轮之间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都利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轮轴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达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量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0" y="407664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齿轮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链轮经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链条带动小链轮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齿轮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动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式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0" y="522936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螺旋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利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螺丝钉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斜面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固定各部分。</a:t>
            </a:r>
            <a:r>
              <a:rPr b="0" lang="zh-TW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26" descr="圓輪-2"/>
          <p:cNvPicPr/>
          <p:nvPr/>
        </p:nvPicPr>
        <p:blipFill>
          <a:blip r:embed="rId1"/>
          <a:stretch/>
        </p:blipFill>
        <p:spPr>
          <a:xfrm>
            <a:off x="1547640" y="2349360"/>
            <a:ext cx="5905800" cy="3672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027"/>
          <p:cNvSpPr/>
          <p:nvPr/>
        </p:nvSpPr>
        <p:spPr>
          <a:xfrm>
            <a:off x="468360" y="11106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试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，以橡皮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两个圆轮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链条一样达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动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效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吗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縫紉機2"/>
          <p:cNvPicPr/>
          <p:nvPr/>
        </p:nvPicPr>
        <p:blipFill>
          <a:blip r:embed="rId1"/>
          <a:stretch/>
        </p:blipFill>
        <p:spPr>
          <a:xfrm>
            <a:off x="395280" y="1125360"/>
            <a:ext cx="5040360" cy="4707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580000" y="2700360"/>
            <a:ext cx="325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缝纫机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有相似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造，以</a:t>
            </a:r>
            <a:r>
              <a:rPr b="1" lang="zh-TW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皮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分开的圆轮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达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传动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835280" y="6093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缝纫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機車拷貝"/>
          <p:cNvPicPr/>
          <p:nvPr/>
        </p:nvPicPr>
        <p:blipFill>
          <a:blip r:embed="rId1"/>
          <a:stretch/>
        </p:blipFill>
        <p:spPr>
          <a:xfrm>
            <a:off x="0" y="1268280"/>
            <a:ext cx="6446880" cy="360072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5076720" y="1125360"/>
            <a:ext cx="3816360" cy="1656000"/>
          </a:xfrm>
          <a:prstGeom prst="wedgeRectCallout">
            <a:avLst>
              <a:gd name="adj1" fmla="val -58611"/>
              <a:gd name="adj2" fmla="val 117689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6699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4067280" y="3645000"/>
            <a:ext cx="1150920" cy="7189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50920" y="4869000"/>
            <a:ext cx="8497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传送动</a:t>
            </a:r>
            <a:r>
              <a:rPr b="1" lang="zh-TW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力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输</a:t>
            </a:r>
            <a:r>
              <a:rPr b="1" lang="zh-TW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送物品</a:t>
            </a:r>
            <a:r>
              <a:rPr b="1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常由物品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看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如：需要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机车外壳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0" y="260280"/>
            <a:ext cx="8137440" cy="352908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fcc00">
                  <a:alpha val="7333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我们发现简单机械的作用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187280" y="3716280"/>
            <a:ext cx="2521080" cy="216072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隶书简体"/>
              </a:rPr>
              <a:t>省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5003640" y="3141720"/>
            <a:ext cx="2521080" cy="216036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隶书简体"/>
              </a:rPr>
              <a:t>方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73880" y="76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行车上的简单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403280" y="2276640"/>
            <a:ext cx="34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什么叫斜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32000" y="422100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自行车上有哪些简单机械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403280" y="31114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像搭在汽车车厢上的木板那样的简单机械叫斜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908000" y="498312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杠杆、轮轴、斜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679120" y="1892160"/>
            <a:ext cx="44809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大齿轮带动小齿轮时，转动速度变              ；小齿轮带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大齿轮时，转动速度变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自行车是依靠                                 和人的力量前进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如果大齿轮是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个齿，小齿轮是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个齿，那么大齿轮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一圈，小齿轮转        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4500720" y="3213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773880" y="76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行车上的简单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5940360" y="256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3132000" y="3860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349236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629028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793400" y="278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912120" y="3429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链条和两个齿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575520" y="4737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393560" y="1197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判  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002480" y="1628640"/>
            <a:ext cx="161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自行车只利用了一种简单机械的原理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自行车中不存在滑轮原理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只要使用轮轴都能省力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杠杆的支撑点离物体越近，离用力点越远时越省力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用力点、阻力点只能分别作用在杠杆支点的两侧。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斜面有省力的作用，坡度越大越省力。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自行车前进时脚蹬子上的齿轮肯定比后轮上齿轮转得快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自行车车胎上花纹是为了增加与地面之间的摩擦力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899240" y="2347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494040" y="17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781080" y="189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行车上的简单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62240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82836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807840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710040" y="45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8530920" y="5084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806760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072960" y="1773360"/>
            <a:ext cx="3313800" cy="42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只要在宇宙中给我一个支点，我能用一根长长的棍子把地球撬起来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这话是（           ）说的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牛顿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阿基米德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亚里士多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下列有关支点位置的说法，正确的是（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支点必须在力点、重点之间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支点一定在杠杆的一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支点可以在力点、重点之间也可以不在两个力的作用点之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（            ）是把杠杆、滑轮、轮轴组合起来的机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带鱼线轮的钓竿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0" lang="zh-CN" sz="2000" spc="-1" strike="noStrike" u="sng">
                <a:solidFill>
                  <a:srgbClr val="996600"/>
                </a:solidFill>
                <a:uFillTx/>
                <a:latin typeface="Tahoma"/>
                <a:ea typeface="宋体"/>
                <a:hlinkClick r:id="rId1" action="ppaction://hlinksldjump"/>
              </a:rPr>
              <a:t>手摇钻</a:t>
            </a:r>
            <a:r>
              <a:rPr b="0" lang="zh-CN" sz="2000" spc="-1" strike="noStrike" u="sng">
                <a:solidFill>
                  <a:srgbClr val="996600"/>
                </a:solidFill>
                <a:uFillTx/>
                <a:latin typeface="Tahoma"/>
                <a:ea typeface="宋体"/>
                <a:hlinkClick r:id="rId2" action="ppaction://hlinksldjump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0" lang="zh-CN" sz="2000" spc="-1" strike="noStrike" u="sng">
                <a:solidFill>
                  <a:srgbClr val="996600"/>
                </a:solidFill>
                <a:uFillTx/>
                <a:latin typeface="Tahoma"/>
                <a:ea typeface="宋体"/>
                <a:hlinkClick r:id="rId3" action="ppaction://hlinksldjump"/>
              </a:rPr>
              <a:t>羊眼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自行车中轴上的大链轮的转动通过（    ）把动力传递到后轴小链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皮带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杠杆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链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412600" y="2781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809720" y="23479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379880" y="4221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68712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行车上的简单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052240" y="5156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修正帶-2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179280" y="692280"/>
            <a:ext cx="882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</a:t>
            </a:r>
            <a:r>
              <a:rPr b="1" lang="zh-CN" sz="3200" spc="-1" strike="noStrike">
                <a:solidFill>
                  <a:srgbClr val="3b812f"/>
                </a:solidFill>
                <a:latin typeface="Times New Roman"/>
                <a:ea typeface="楷体_GB2312"/>
              </a:rPr>
              <a:t>透明的修正带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可以看到大小不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轮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子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轮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子的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缘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齐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齿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轮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子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称为齿轮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</a:t>
            </a:r>
            <a:r>
              <a:rPr b="1" lang="zh-TW" sz="3200" spc="-1" strike="noStrike">
                <a:solidFill>
                  <a:srgbClr val="3b812f"/>
                </a:solidFill>
                <a:latin typeface="Times New Roman"/>
                <a:ea typeface="楷体_GB2312"/>
              </a:rPr>
              <a:t>彼此扣住互相</a:t>
            </a:r>
            <a:r>
              <a:rPr b="1" lang="zh-CN" sz="3200" spc="-1" strike="noStrike">
                <a:solidFill>
                  <a:srgbClr val="3b812f"/>
                </a:solidFill>
                <a:latin typeface="Times New Roman"/>
                <a:ea typeface="楷体_GB2312"/>
              </a:rPr>
              <a:t>带动</a:t>
            </a:r>
            <a:r>
              <a:rPr b="1" lang="zh-TW" sz="3200" spc="-1" strike="noStrike">
                <a:solidFill>
                  <a:srgbClr val="3b812f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781080" y="476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行车上的简单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044520" y="1841400"/>
            <a:ext cx="3358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用螺丝刀拧螺丝时应用的是（           ）的工作原理；用螺丝刀撬油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桶的盖子时，应用的是（     ）的工作原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轮轴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杠杆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滑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用力点离支点近，阻力点离支点远的杠杆是（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省力杠杆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费力杠杆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既不省力也不费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下列机械属于轮轴的是（    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羊角锤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门锁手柄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螺丝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既能改变用力方向又能省力的滑轮是（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定滑轮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滑轮组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、动滑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572360" y="1916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423240" y="24192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231240" y="3284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854880" y="42195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407560" y="5156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781080" y="260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行车上的简单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8560" y="83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连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331000" y="1268280"/>
            <a:ext cx="16437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脚蹬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斧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撬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旗杆顶端的轮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盘山公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把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刹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车轮和车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车后架上的弹簧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车铃的按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6084720" y="1700280"/>
            <a:ext cx="1366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杠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轮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滑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斜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3132000" y="1628640"/>
            <a:ext cx="3024360" cy="13669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2627280" y="2203560"/>
            <a:ext cx="3600360" cy="3384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V="1">
            <a:off x="2627280" y="2060640"/>
            <a:ext cx="3529080" cy="503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4067280" y="3139920"/>
            <a:ext cx="2089080" cy="1008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3203640" y="3645000"/>
            <a:ext cx="3024000" cy="19429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V="1">
            <a:off x="2771640" y="3068280"/>
            <a:ext cx="3384720" cy="9349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2700360" y="2060280"/>
            <a:ext cx="3456000" cy="23749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 flipV="1">
            <a:off x="3492360" y="3139560"/>
            <a:ext cx="2664000" cy="187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 flipV="1">
            <a:off x="4356000" y="2131560"/>
            <a:ext cx="1800360" cy="331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 flipV="1">
            <a:off x="3492360" y="3211560"/>
            <a:ext cx="2664000" cy="273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3773880" y="76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自行车上的简单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95480" y="2324160"/>
            <a:ext cx="542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本单元所学的简单机械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简单机械有哪些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586760" y="31417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杠杆、轮轴、滑轮（动滑轮、定滑轮、滑轮组）、斜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870920" y="47242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省力或方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"/>
          <p:cNvSpPr/>
          <p:nvPr/>
        </p:nvSpPr>
        <p:spPr>
          <a:xfrm>
            <a:off x="1547640" y="550224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羊眼钉"/>
          <p:cNvPicPr/>
          <p:nvPr/>
        </p:nvPicPr>
        <p:blipFill>
          <a:blip r:embed="rId1"/>
          <a:stretch/>
        </p:blipFill>
        <p:spPr>
          <a:xfrm>
            <a:off x="1332000" y="189000"/>
            <a:ext cx="6335640" cy="58118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4357800" y="6005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羊眼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尖嘴钳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5877000"/>
            <a:ext cx="75564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1AFE-19A0-45C6-9275-AC44C8DA849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68360" y="792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试看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动大齿轮时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齿轮如何转动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转动的圈数相同吗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齒輪組"/>
          <p:cNvPicPr/>
          <p:nvPr/>
        </p:nvPicPr>
        <p:blipFill>
          <a:blip r:embed="rId1"/>
          <a:stretch/>
        </p:blipFill>
        <p:spPr>
          <a:xfrm>
            <a:off x="1476360" y="2060640"/>
            <a:ext cx="6192720" cy="2303280"/>
          </a:xfrm>
          <a:prstGeom prst="rect">
            <a:avLst/>
          </a:prstGeom>
          <a:ln w="0">
            <a:noFill/>
          </a:ln>
        </p:spPr>
      </p:pic>
      <p:sp>
        <p:nvSpPr>
          <p:cNvPr id="100" name="Arc 5"/>
          <p:cNvSpPr/>
          <p:nvPr/>
        </p:nvSpPr>
        <p:spPr>
          <a:xfrm rot="18698400">
            <a:off x="5076360" y="1484640"/>
            <a:ext cx="1400040" cy="1442880"/>
          </a:xfrm>
          <a:custGeom>
            <a:avLst/>
            <a:gdLst/>
            <a:ahLst/>
            <a:rect l="l" t="t" r="r" b="b"/>
            <a:pathLst>
              <a:path fill="none" w="21395" h="21391">
                <a:moveTo>
                  <a:pt x="2999" y="0"/>
                </a:moveTo>
                <a:cubicBezTo>
                  <a:pt x="12559" y="1341"/>
                  <a:pt x="20069" y="8862"/>
                  <a:pt x="21395" y="18423"/>
                </a:cubicBezTo>
              </a:path>
              <a:path stroke="0" w="21395" h="21391">
                <a:moveTo>
                  <a:pt x="2999" y="0"/>
                </a:moveTo>
                <a:cubicBezTo>
                  <a:pt x="12559" y="1341"/>
                  <a:pt x="20069" y="8862"/>
                  <a:pt x="21395" y="18423"/>
                </a:cubicBezTo>
                <a:lnTo>
                  <a:pt x="0" y="21391"/>
                </a:lnTo>
                <a:lnTo>
                  <a:pt x="2999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6"/>
          <p:cNvSpPr/>
          <p:nvPr/>
        </p:nvSpPr>
        <p:spPr>
          <a:xfrm rot="349800">
            <a:off x="2555640" y="2349000"/>
            <a:ext cx="898560" cy="871560"/>
          </a:xfrm>
          <a:custGeom>
            <a:avLst/>
            <a:gdLst/>
            <a:ahLst/>
            <a:rect l="l" t="t" r="r" b="b"/>
            <a:pathLst>
              <a:path fill="none" w="19830" h="21600">
                <a:moveTo>
                  <a:pt x="0" y="3749"/>
                </a:moveTo>
                <a:cubicBezTo>
                  <a:pt x="3585" y="1306"/>
                  <a:pt x="7823" y="-1"/>
                  <a:pt x="12162" y="0"/>
                </a:cubicBezTo>
                <a:cubicBezTo>
                  <a:pt x="14782" y="0"/>
                  <a:pt x="17380" y="476"/>
                  <a:pt x="19830" y="1406"/>
                </a:cubicBezTo>
              </a:path>
              <a:path stroke="0" w="19830" h="21600">
                <a:moveTo>
                  <a:pt x="0" y="3749"/>
                </a:moveTo>
                <a:cubicBezTo>
                  <a:pt x="3585" y="1306"/>
                  <a:pt x="7823" y="-1"/>
                  <a:pt x="12162" y="0"/>
                </a:cubicBezTo>
                <a:cubicBezTo>
                  <a:pt x="14782" y="0"/>
                  <a:pt x="17380" y="476"/>
                  <a:pt x="19830" y="1406"/>
                </a:cubicBezTo>
                <a:lnTo>
                  <a:pt x="12162" y="21600"/>
                </a:lnTo>
                <a:lnTo>
                  <a:pt x="0" y="374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7"/>
          <p:cNvSpPr/>
          <p:nvPr/>
        </p:nvSpPr>
        <p:spPr>
          <a:xfrm rot="19513200">
            <a:off x="1834920" y="2565000"/>
            <a:ext cx="898560" cy="884160"/>
          </a:xfrm>
          <a:custGeom>
            <a:avLst/>
            <a:gdLst/>
            <a:ahLst/>
            <a:rect l="l" t="t" r="r" b="b"/>
            <a:pathLst>
              <a:path fill="none" w="19830" h="21600">
                <a:moveTo>
                  <a:pt x="0" y="3749"/>
                </a:moveTo>
                <a:cubicBezTo>
                  <a:pt x="3585" y="1306"/>
                  <a:pt x="7823" y="-1"/>
                  <a:pt x="12162" y="0"/>
                </a:cubicBezTo>
                <a:cubicBezTo>
                  <a:pt x="14782" y="0"/>
                  <a:pt x="17380" y="476"/>
                  <a:pt x="19830" y="1406"/>
                </a:cubicBezTo>
              </a:path>
              <a:path stroke="0" w="19830" h="21600">
                <a:moveTo>
                  <a:pt x="0" y="3749"/>
                </a:moveTo>
                <a:cubicBezTo>
                  <a:pt x="3585" y="1306"/>
                  <a:pt x="7823" y="-1"/>
                  <a:pt x="12162" y="0"/>
                </a:cubicBezTo>
                <a:cubicBezTo>
                  <a:pt x="14782" y="0"/>
                  <a:pt x="17380" y="476"/>
                  <a:pt x="19830" y="1406"/>
                </a:cubicBezTo>
                <a:lnTo>
                  <a:pt x="12162" y="21600"/>
                </a:lnTo>
                <a:lnTo>
                  <a:pt x="0" y="374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  <a:headEnd len="lg" type="stealth" w="lg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 flipV="1" rot="10508400">
            <a:off x="1331640" y="2779920"/>
            <a:ext cx="73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de Latin"/>
                <a:ea typeface="DFKai-S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 rot="21456000">
            <a:off x="3492360" y="2276640"/>
            <a:ext cx="73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de Latin"/>
                <a:ea typeface="DFKai-S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0" y="4292640"/>
            <a:ext cx="69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、小齿轮转动</a:t>
            </a:r>
            <a:r>
              <a:rPr b="1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是</a:t>
            </a:r>
            <a:r>
              <a:rPr b="1" lang="zh-TW" sz="2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相反的</a:t>
            </a:r>
            <a:r>
              <a:rPr b="1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0" y="472428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大齿轮往右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动时</a:t>
            </a:r>
            <a:r>
              <a:rPr b="1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齿轮就会往左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动</a:t>
            </a:r>
            <a:r>
              <a:rPr b="1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0" y="5229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齿轮可以</a:t>
            </a:r>
            <a:r>
              <a:rPr b="1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传送动力</a:t>
            </a:r>
            <a:r>
              <a:rPr b="1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TW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改</a:t>
            </a:r>
            <a:r>
              <a:rPr b="1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变</a:t>
            </a:r>
            <a:r>
              <a:rPr b="1" lang="zh-TW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方向</a:t>
            </a:r>
            <a:r>
              <a:rPr b="1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是</a:t>
            </a:r>
            <a:r>
              <a:rPr b="1" lang="zh-TW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速度</a:t>
            </a:r>
            <a:r>
              <a:rPr b="1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汔车排档</a:t>
            </a:r>
            <a:r>
              <a:rPr b="1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脚踏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机车</a:t>
            </a:r>
            <a:r>
              <a:rPr b="1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应用齿轮来改变</a:t>
            </a:r>
            <a:r>
              <a:rPr b="1" lang="zh-TW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速度</a:t>
            </a:r>
            <a:r>
              <a:rPr b="1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95280" y="833760"/>
            <a:ext cx="84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踏车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有大、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齿轮的组合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以链条相连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大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齿轮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动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齿轮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观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察，大、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齿轮转动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吗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腳踏車構造圖"/>
          <p:cNvPicPr/>
          <p:nvPr/>
        </p:nvPicPr>
        <p:blipFill>
          <a:blip r:embed="rId1"/>
          <a:stretch/>
        </p:blipFill>
        <p:spPr>
          <a:xfrm>
            <a:off x="1692360" y="2133720"/>
            <a:ext cx="5545080" cy="3806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866560" y="2467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齿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57920" y="5270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齿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211280" y="549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链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299640" y="5635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踏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5715000" y="3200400"/>
            <a:ext cx="457200" cy="990720"/>
          </a:xfrm>
          <a:prstGeom prst="line">
            <a:avLst/>
          </a:prstGeom>
          <a:ln w="38160">
            <a:solidFill>
              <a:srgbClr val="3b812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4500720" y="4797000"/>
            <a:ext cx="0" cy="685800"/>
          </a:xfrm>
          <a:prstGeom prst="line">
            <a:avLst/>
          </a:prstGeom>
          <a:ln w="38160">
            <a:solidFill>
              <a:srgbClr val="3b812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1835280" y="4436640"/>
            <a:ext cx="609480" cy="838440"/>
          </a:xfrm>
          <a:prstGeom prst="line">
            <a:avLst/>
          </a:prstGeom>
          <a:ln w="38160">
            <a:solidFill>
              <a:srgbClr val="3b812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V="1">
            <a:off x="6659640" y="5157720"/>
            <a:ext cx="0" cy="457200"/>
          </a:xfrm>
          <a:prstGeom prst="line">
            <a:avLst/>
          </a:prstGeom>
          <a:ln w="38160">
            <a:solidFill>
              <a:srgbClr val="3b812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6"/>
          <p:cNvSpPr/>
          <p:nvPr/>
        </p:nvSpPr>
        <p:spPr>
          <a:xfrm>
            <a:off x="1908000" y="2997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50920" y="1079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踏车上的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链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将一个齿轮的转动传给另一个齿轮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使得两个分开的齿轮可以同时转动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齿轮再带动轮子转动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所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踏车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可以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9751拷貝"/>
          <p:cNvPicPr/>
          <p:nvPr/>
        </p:nvPicPr>
        <p:blipFill>
          <a:blip r:embed="rId1"/>
          <a:stretch/>
        </p:blipFill>
        <p:spPr>
          <a:xfrm>
            <a:off x="1041480" y="1916280"/>
            <a:ext cx="70596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882080" y="444960"/>
            <a:ext cx="524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踩动脚踏板后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跟着转动依次是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　　　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　　、　　　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　　　 </a:t>
            </a:r>
            <a:r>
              <a:rPr b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580000" y="4580640"/>
            <a:ext cx="35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小齿轮</a:t>
            </a:r>
            <a:r>
              <a:rPr b="1" lang="zh-TW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齿轮的转动会带动后车轮运转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腳踏車局部圖拷貝"/>
          <p:cNvPicPr/>
          <p:nvPr/>
        </p:nvPicPr>
        <p:blipFill>
          <a:blip r:embed="rId1"/>
          <a:stretch/>
        </p:blipFill>
        <p:spPr>
          <a:xfrm>
            <a:off x="324000" y="1700280"/>
            <a:ext cx="5233680" cy="4321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6980400" y="47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大</a:t>
            </a:r>
            <a:r>
              <a:rPr b="1" lang="zh-CN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齿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76880" y="98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链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620720" y="9810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小</a:t>
            </a:r>
            <a:r>
              <a:rPr b="1" lang="zh-CN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齿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529080" y="97776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后车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6156360" y="210492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脚</a:t>
            </a:r>
            <a:r>
              <a:rPr b="1" lang="zh-TW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踏板：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动大齿轮转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580000" y="3141720"/>
            <a:ext cx="35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链条</a:t>
            </a:r>
            <a:r>
              <a:rPr b="1" lang="zh-TW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齿轮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着链条传给后齿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24000" y="54936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华文行楷"/>
              </a:rPr>
              <a:t>把我们的发现写下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68360" y="1557360"/>
            <a:ext cx="806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Arial"/>
                <a:ea typeface="楷体_GB2312"/>
              </a:rPr>
              <a:t>大齿轮带动小齿轮，转动速度变</a:t>
            </a:r>
            <a:r>
              <a:rPr b="1" lang="zh-CN" sz="3600" spc="-1" strike="noStrike" u="sng">
                <a:solidFill>
                  <a:srgbClr val="006633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1" lang="zh-CN" sz="3600" spc="-1" strike="noStrike">
                <a:solidFill>
                  <a:srgbClr val="006633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楷体_GB2312"/>
                <a:ea typeface="楷体_GB2312"/>
              </a:rPr>
              <a:t>小齿轮带动大齿轮，转动速度变</a:t>
            </a:r>
            <a:r>
              <a:rPr b="1" lang="zh-CN" sz="3600" spc="-1" strike="noStrike" u="sng">
                <a:solidFill>
                  <a:srgbClr val="006633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6633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47640" y="206064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3429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3456000" cy="275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3600360" cy="2720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4211640" y="1557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变速自行车上大齿轮有几个？小齿轮有几个？研究一下变速是怎样发生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腳踏車拷貝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390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430200" y="110700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踏车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利用一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单机械组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而成。想一想，除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链条与齿轮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外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踏车还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到哪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单机械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6:41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7:46Z</dcterms:modified>
  <cp:revision>20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