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A238-7428-4D94-8E31-3C55FD9D9DB4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2A1C-411D-4703-BCC5-EDA3973085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页脚占位符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D169-4D33-4650-A299-AB9E2FDAC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15C-EEB1-45AD-B657-8C7D615E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853-1D45-4688-91CB-0C7AD90D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9DC7-3709-48FB-9022-D89F6084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832D7-86F9-4689-8E19-3448EB48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E62ED-079E-4CE7-96F0-E2E24E76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0204-6251-41B3-93E5-7F1340C5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327D-476B-444B-9C09-90245FAF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88E2-427C-4580-A2FF-56454470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A101-49F4-4F12-86A4-A9BD43C7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BABB-E8D5-4431-9DB2-38E5AFCA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778-4E31-448E-9A44-53D2BB56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F88AA-5E21-43F3-A508-B74B61EF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9DF4-5ABA-4153-9DAD-328C7695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4B5F0-7AF6-416E-A28E-E0D9BF5C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373C-AAA0-436F-B0C2-D18551A1B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F127-461D-45C8-9D46-9FA7CD3F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FDF5-5F25-4F5F-AB32-7C16F62A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BDA-84B4-4280-97D2-B592D5DB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FFC4-FB12-477B-9720-0ADA05CD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95F-E6D2-46FF-89A8-3C2C6FB3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A65A-0774-4AC6-9FBC-E4DC3CDD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6278-4F65-4D57-B507-61DE20A1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7E9-6231-42F8-949F-3DB6935B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5F2E-84DD-454B-B632-8C5B28DCA46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0463-F442-4AAD-A000-81E70C5061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8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AD08-F9C2-404B-BB61-AB9FE49BF68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5832-9831-41A8-83DB-63D45FF03D4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92000" y="2133720"/>
            <a:ext cx="5256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直线上的负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341280" y="318960"/>
            <a:ext cx="68407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一单元：负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9"/>
          <p:cNvSpPr/>
          <p:nvPr/>
        </p:nvSpPr>
        <p:spPr>
          <a:xfrm>
            <a:off x="2110320" y="6165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08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一、复习旧知，引入新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24000" y="1484280"/>
            <a:ext cx="8135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填一填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辆公共汽车经过某站台时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上车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记作（    ）人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下车，记作（    ）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阳光小学今年招收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，记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+3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那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4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表示（ 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升降机上升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记作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+3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；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-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表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97760" y="278136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+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6336000" y="278136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702960" y="4076640"/>
            <a:ext cx="15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毕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2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02080" y="5354640"/>
            <a:ext cx="164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下降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二、创新情境，探究新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rcRect l="0" t="7824" r="0" b="0"/>
          <a:stretch/>
        </p:blipFill>
        <p:spPr>
          <a:xfrm>
            <a:off x="1044720" y="1198440"/>
            <a:ext cx="6840360" cy="2806920"/>
          </a:xfrm>
          <a:prstGeom prst="rect">
            <a:avLst/>
          </a:prstGeom>
          <a:ln w="0">
            <a:noFill/>
          </a:ln>
        </p:spPr>
      </p:pic>
      <p:sp>
        <p:nvSpPr>
          <p:cNvPr id="106" name="Line 4"/>
          <p:cNvSpPr/>
          <p:nvPr/>
        </p:nvSpPr>
        <p:spPr>
          <a:xfrm>
            <a:off x="1258920" y="5086440"/>
            <a:ext cx="662616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4211640" y="4149720"/>
            <a:ext cx="863640" cy="739800"/>
          </a:xfrm>
          <a:prstGeom prst="rect">
            <a:avLst/>
          </a:prstGeom>
          <a:ln w="0">
            <a:noFill/>
          </a:ln>
        </p:spPr>
      </p:pic>
      <p:sp>
        <p:nvSpPr>
          <p:cNvPr id="108" name="Line 6"/>
          <p:cNvSpPr/>
          <p:nvPr/>
        </p:nvSpPr>
        <p:spPr>
          <a:xfrm>
            <a:off x="4643280" y="49417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4482000" y="507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"/>
          <p:cNvSpPr/>
          <p:nvPr/>
        </p:nvSpPr>
        <p:spPr>
          <a:xfrm>
            <a:off x="5219640" y="49417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5796000" y="49417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0"/>
          <p:cNvSpPr/>
          <p:nvPr/>
        </p:nvSpPr>
        <p:spPr>
          <a:xfrm>
            <a:off x="6372360" y="49417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1"/>
          <p:cNvSpPr/>
          <p:nvPr/>
        </p:nvSpPr>
        <p:spPr>
          <a:xfrm>
            <a:off x="6948360" y="49417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058000" y="507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653440" y="507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4"/>
          <p:cNvSpPr/>
          <p:nvPr/>
        </p:nvSpPr>
        <p:spPr>
          <a:xfrm>
            <a:off x="6218640" y="507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6805800" y="5084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2340000" y="49417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2916360" y="49417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3492360" y="49417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4067280" y="494172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3300120" y="507852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2723760" y="508464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148120" y="508464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3924720" y="5084640"/>
            <a:ext cx="3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4"/>
          <p:cNvSpPr/>
          <p:nvPr/>
        </p:nvSpPr>
        <p:spPr>
          <a:xfrm>
            <a:off x="6926400" y="504036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5"/>
          <p:cNvSpPr/>
          <p:nvPr/>
        </p:nvSpPr>
        <p:spPr>
          <a:xfrm>
            <a:off x="5757840" y="505296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6"/>
          <p:cNvSpPr/>
          <p:nvPr/>
        </p:nvSpPr>
        <p:spPr>
          <a:xfrm>
            <a:off x="3452760" y="504684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7"/>
          <p:cNvSpPr/>
          <p:nvPr/>
        </p:nvSpPr>
        <p:spPr>
          <a:xfrm>
            <a:off x="2301840" y="5046840"/>
            <a:ext cx="716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8" descr=""/>
          <p:cNvPicPr/>
          <p:nvPr/>
        </p:nvPicPr>
        <p:blipFill>
          <a:blip r:embed="rId3"/>
          <a:stretch/>
        </p:blipFill>
        <p:spPr>
          <a:xfrm>
            <a:off x="5364000" y="4076640"/>
            <a:ext cx="739800" cy="8222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9" descr=""/>
          <p:cNvPicPr/>
          <p:nvPr/>
        </p:nvPicPr>
        <p:blipFill>
          <a:blip r:embed="rId4"/>
          <a:stretch/>
        </p:blipFill>
        <p:spPr>
          <a:xfrm>
            <a:off x="6516720" y="4076640"/>
            <a:ext cx="684360" cy="882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0" descr=""/>
          <p:cNvPicPr/>
          <p:nvPr/>
        </p:nvPicPr>
        <p:blipFill>
          <a:blip r:embed="rId5"/>
          <a:stretch/>
        </p:blipFill>
        <p:spPr>
          <a:xfrm>
            <a:off x="3205080" y="4073400"/>
            <a:ext cx="574920" cy="85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1" descr=""/>
          <p:cNvPicPr/>
          <p:nvPr/>
        </p:nvPicPr>
        <p:blipFill>
          <a:blip r:embed="rId6"/>
          <a:stretch/>
        </p:blipFill>
        <p:spPr>
          <a:xfrm>
            <a:off x="1835280" y="4149720"/>
            <a:ext cx="788760" cy="792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32"/>
          <p:cNvGrpSpPr/>
          <p:nvPr/>
        </p:nvGrpSpPr>
        <p:grpSpPr>
          <a:xfrm>
            <a:off x="324000" y="5516640"/>
            <a:ext cx="4174560" cy="941400"/>
            <a:chOff x="324000" y="5516640"/>
            <a:chExt cx="4174560" cy="941400"/>
          </a:xfrm>
        </p:grpSpPr>
        <p:pic>
          <p:nvPicPr>
            <p:cNvPr id="135" name="Picture 33" descr=""/>
            <p:cNvPicPr/>
            <p:nvPr/>
          </p:nvPicPr>
          <p:blipFill>
            <a:blip r:embed="rId7"/>
            <a:stretch/>
          </p:blipFill>
          <p:spPr>
            <a:xfrm>
              <a:off x="324000" y="5516640"/>
              <a:ext cx="1036440" cy="9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AutoShape 34"/>
            <p:cNvSpPr/>
            <p:nvPr/>
          </p:nvSpPr>
          <p:spPr>
            <a:xfrm>
              <a:off x="1398240" y="5661000"/>
              <a:ext cx="3100320" cy="503280"/>
            </a:xfrm>
            <a:prstGeom prst="wedgeRoundRectCallout">
              <a:avLst>
                <a:gd name="adj1" fmla="val -51976"/>
                <a:gd name="adj2" fmla="val 61671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在直线上表示出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1.5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和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-1.5</a:t>
              </a: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2" descr=""/>
          <p:cNvPicPr/>
          <p:nvPr/>
        </p:nvPicPr>
        <p:blipFill>
          <a:blip r:embed="rId1"/>
          <a:stretch/>
        </p:blipFill>
        <p:spPr>
          <a:xfrm>
            <a:off x="534960" y="2541600"/>
            <a:ext cx="7664400" cy="1344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深化，拓展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Oval 4"/>
          <p:cNvSpPr/>
          <p:nvPr/>
        </p:nvSpPr>
        <p:spPr>
          <a:xfrm>
            <a:off x="2124000" y="348300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901160" y="350028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5745240" y="347184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58900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8"/>
          <p:cNvSpPr/>
          <p:nvPr/>
        </p:nvSpPr>
        <p:spPr>
          <a:xfrm>
            <a:off x="3573360" y="346536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378960" y="350028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0"/>
          <p:cNvSpPr/>
          <p:nvPr/>
        </p:nvSpPr>
        <p:spPr>
          <a:xfrm>
            <a:off x="6816600" y="3479760"/>
            <a:ext cx="7164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6563520" y="3500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2"/>
          <p:cNvSpPr/>
          <p:nvPr/>
        </p:nvSpPr>
        <p:spPr>
          <a:xfrm>
            <a:off x="4654440" y="3481560"/>
            <a:ext cx="6984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4316040" y="354348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6110280" y="347040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5868360" y="35002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2988360" y="3471840"/>
            <a:ext cx="515880" cy="642960"/>
            <a:chOff x="2988360" y="3471840"/>
            <a:chExt cx="515880" cy="642960"/>
          </a:xfrm>
        </p:grpSpPr>
        <p:sp>
          <p:nvSpPr>
            <p:cNvPr id="153" name="Oval 17"/>
            <p:cNvSpPr/>
            <p:nvPr/>
          </p:nvSpPr>
          <p:spPr>
            <a:xfrm>
              <a:off x="3188880" y="3479400"/>
              <a:ext cx="7128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8"/>
            <p:cNvGrpSpPr/>
            <p:nvPr/>
          </p:nvGrpSpPr>
          <p:grpSpPr>
            <a:xfrm>
              <a:off x="3060720" y="3471840"/>
              <a:ext cx="326160" cy="642960"/>
              <a:chOff x="3060720" y="3471840"/>
              <a:chExt cx="326160" cy="642960"/>
            </a:xfrm>
          </p:grpSpPr>
          <p:sp>
            <p:nvSpPr>
              <p:cNvPr id="155" name="Text Box 19"/>
              <p:cNvSpPr/>
              <p:nvPr/>
            </p:nvSpPr>
            <p:spPr>
              <a:xfrm>
                <a:off x="3064320" y="347184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20"/>
              <p:cNvSpPr/>
              <p:nvPr/>
            </p:nvSpPr>
            <p:spPr>
              <a:xfrm>
                <a:off x="3060720" y="37159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1"/>
              <p:cNvSpPr/>
              <p:nvPr/>
            </p:nvSpPr>
            <p:spPr>
              <a:xfrm>
                <a:off x="3110400" y="3787560"/>
                <a:ext cx="216360" cy="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22"/>
            <p:cNvSpPr/>
            <p:nvPr/>
          </p:nvSpPr>
          <p:spPr>
            <a:xfrm>
              <a:off x="2988360" y="354312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  </a:t>
              </a:r>
              <a:r>
                <a:rPr b="0" lang="en-US" sz="24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23"/>
          <p:cNvGrpSpPr/>
          <p:nvPr/>
        </p:nvGrpSpPr>
        <p:grpSpPr>
          <a:xfrm>
            <a:off x="324000" y="4037040"/>
            <a:ext cx="4176720" cy="1263600"/>
            <a:chOff x="324000" y="4037040"/>
            <a:chExt cx="4176720" cy="1263600"/>
          </a:xfrm>
        </p:grpSpPr>
        <p:pic>
          <p:nvPicPr>
            <p:cNvPr id="160" name="Picture 24" descr=""/>
            <p:cNvPicPr/>
            <p:nvPr/>
          </p:nvPicPr>
          <p:blipFill>
            <a:blip r:embed="rId2"/>
            <a:stretch/>
          </p:blipFill>
          <p:spPr>
            <a:xfrm>
              <a:off x="324000" y="4359600"/>
              <a:ext cx="676080" cy="94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25"/>
            <p:cNvSpPr/>
            <p:nvPr/>
          </p:nvSpPr>
          <p:spPr>
            <a:xfrm>
              <a:off x="1116360" y="4077360"/>
              <a:ext cx="3384360" cy="575280"/>
            </a:xfrm>
            <a:prstGeom prst="wedgeRoundRectCallout">
              <a:avLst>
                <a:gd name="adj1" fmla="val -51976"/>
                <a:gd name="adj2" fmla="val 61671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从起点到    如何运动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26"/>
            <p:cNvGrpSpPr/>
            <p:nvPr/>
          </p:nvGrpSpPr>
          <p:grpSpPr>
            <a:xfrm>
              <a:off x="2442600" y="4037040"/>
              <a:ext cx="515160" cy="654840"/>
              <a:chOff x="2442600" y="4037040"/>
              <a:chExt cx="515160" cy="654840"/>
            </a:xfrm>
          </p:grpSpPr>
          <p:grpSp>
            <p:nvGrpSpPr>
              <p:cNvPr id="163" name="Group 27"/>
              <p:cNvGrpSpPr/>
              <p:nvPr/>
            </p:nvGrpSpPr>
            <p:grpSpPr>
              <a:xfrm>
                <a:off x="2631600" y="4037040"/>
                <a:ext cx="326160" cy="654840"/>
                <a:chOff x="2631600" y="4037040"/>
                <a:chExt cx="326160" cy="654840"/>
              </a:xfrm>
            </p:grpSpPr>
            <p:sp>
              <p:nvSpPr>
                <p:cNvPr id="164" name="Text Box 28"/>
                <p:cNvSpPr/>
                <p:nvPr/>
              </p:nvSpPr>
              <p:spPr>
                <a:xfrm>
                  <a:off x="2635200" y="403704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29"/>
                <p:cNvSpPr/>
                <p:nvPr/>
              </p:nvSpPr>
              <p:spPr>
                <a:xfrm>
                  <a:off x="2631600" y="4293000"/>
                  <a:ext cx="322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30"/>
                <p:cNvSpPr/>
                <p:nvPr/>
              </p:nvSpPr>
              <p:spPr>
                <a:xfrm>
                  <a:off x="2679840" y="4363920"/>
                  <a:ext cx="216000" cy="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31"/>
              <p:cNvSpPr/>
              <p:nvPr/>
            </p:nvSpPr>
            <p:spPr>
              <a:xfrm>
                <a:off x="2442600" y="4118760"/>
                <a:ext cx="27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32"/>
          <p:cNvGrpSpPr/>
          <p:nvPr/>
        </p:nvGrpSpPr>
        <p:grpSpPr>
          <a:xfrm>
            <a:off x="1692360" y="4149720"/>
            <a:ext cx="5904000" cy="2014560"/>
            <a:chOff x="1692360" y="4149720"/>
            <a:chExt cx="5904000" cy="2014560"/>
          </a:xfrm>
        </p:grpSpPr>
        <p:pic>
          <p:nvPicPr>
            <p:cNvPr id="169" name="Picture 33" descr=""/>
            <p:cNvPicPr/>
            <p:nvPr/>
          </p:nvPicPr>
          <p:blipFill>
            <a:blip r:embed="rId3"/>
            <a:stretch/>
          </p:blipFill>
          <p:spPr>
            <a:xfrm>
              <a:off x="6444720" y="4149720"/>
              <a:ext cx="897480" cy="89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圆角矩形标注1 134"/>
            <p:cNvSpPr/>
            <p:nvPr/>
          </p:nvSpPr>
          <p:spPr>
            <a:xfrm flipH="1" flipV="1">
              <a:off x="1761840" y="5301720"/>
              <a:ext cx="5615640" cy="862560"/>
            </a:xfrm>
            <a:prstGeom prst="wedgeRoundRectCallout">
              <a:avLst>
                <a:gd name="adj1" fmla="val -36416"/>
                <a:gd name="adj2" fmla="val 114125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5"/>
            <p:cNvGrpSpPr/>
            <p:nvPr/>
          </p:nvGrpSpPr>
          <p:grpSpPr>
            <a:xfrm>
              <a:off x="1692360" y="5230080"/>
              <a:ext cx="5904000" cy="898200"/>
              <a:chOff x="1692360" y="5230080"/>
              <a:chExt cx="5904000" cy="898200"/>
            </a:xfrm>
          </p:grpSpPr>
          <p:sp>
            <p:nvSpPr>
              <p:cNvPr id="172" name="Text Box 36"/>
              <p:cNvSpPr/>
              <p:nvPr/>
            </p:nvSpPr>
            <p:spPr>
              <a:xfrm>
                <a:off x="1692360" y="5302800"/>
                <a:ext cx="5904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哪个点到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的距离与   到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0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的距离相等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宋体"/>
                  </a:rPr>
                  <a:t>它们之间相距几个单位长度？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37"/>
              <p:cNvGrpSpPr/>
              <p:nvPr/>
            </p:nvGrpSpPr>
            <p:grpSpPr>
              <a:xfrm>
                <a:off x="4602240" y="5230080"/>
                <a:ext cx="511200" cy="642960"/>
                <a:chOff x="4602240" y="5230080"/>
                <a:chExt cx="511200" cy="642960"/>
              </a:xfrm>
            </p:grpSpPr>
            <p:grpSp>
              <p:nvGrpSpPr>
                <p:cNvPr id="174" name="Group 38"/>
                <p:cNvGrpSpPr/>
                <p:nvPr/>
              </p:nvGrpSpPr>
              <p:grpSpPr>
                <a:xfrm>
                  <a:off x="4787280" y="5230080"/>
                  <a:ext cx="326160" cy="642960"/>
                  <a:chOff x="4787280" y="5230080"/>
                  <a:chExt cx="326160" cy="642960"/>
                </a:xfrm>
              </p:grpSpPr>
              <p:sp>
                <p:nvSpPr>
                  <p:cNvPr id="175" name="Text Box 39"/>
                  <p:cNvSpPr/>
                  <p:nvPr/>
                </p:nvSpPr>
                <p:spPr>
                  <a:xfrm>
                    <a:off x="4790880" y="523008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Text Box 40"/>
                  <p:cNvSpPr/>
                  <p:nvPr/>
                </p:nvSpPr>
                <p:spPr>
                  <a:xfrm>
                    <a:off x="4787280" y="5474160"/>
                    <a:ext cx="3225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0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41"/>
                  <p:cNvSpPr/>
                  <p:nvPr/>
                </p:nvSpPr>
                <p:spPr>
                  <a:xfrm>
                    <a:off x="4837680" y="5545800"/>
                    <a:ext cx="215640" cy="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8" name="Text Box 42"/>
                <p:cNvSpPr/>
                <p:nvPr/>
              </p:nvSpPr>
              <p:spPr>
                <a:xfrm>
                  <a:off x="4602240" y="5301720"/>
                  <a:ext cx="27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3"/>
          <p:cNvSpPr/>
          <p:nvPr/>
        </p:nvSpPr>
        <p:spPr>
          <a:xfrm>
            <a:off x="2798280" y="1628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直线上表示下列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深化，拓展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332000" y="4221000"/>
            <a:ext cx="6297480" cy="1395720"/>
            <a:chOff x="1332000" y="4221000"/>
            <a:chExt cx="6297480" cy="1395720"/>
          </a:xfrm>
        </p:grpSpPr>
        <p:pic>
          <p:nvPicPr>
            <p:cNvPr id="183" name="Picture 4" descr=""/>
            <p:cNvPicPr/>
            <p:nvPr/>
          </p:nvPicPr>
          <p:blipFill>
            <a:blip r:embed="rId1"/>
            <a:stretch/>
          </p:blipFill>
          <p:spPr>
            <a:xfrm>
              <a:off x="6732000" y="4725360"/>
              <a:ext cx="897480" cy="89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圆角矩形标注1 134"/>
            <p:cNvSpPr/>
            <p:nvPr/>
          </p:nvSpPr>
          <p:spPr>
            <a:xfrm flipH="1">
              <a:off x="1332000" y="4221000"/>
              <a:ext cx="5400720" cy="792720"/>
            </a:xfrm>
            <a:prstGeom prst="wedgeRoundRectCallout">
              <a:avLst>
                <a:gd name="adj1" fmla="val -53143"/>
                <a:gd name="adj2" fmla="val 40787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6"/>
            <p:cNvSpPr/>
            <p:nvPr/>
          </p:nvSpPr>
          <p:spPr>
            <a:xfrm>
              <a:off x="1478520" y="423972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如果一个人从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-2</a:t>
              </a: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位置出发先向西走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米，再向东走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0" lang="zh-CN" sz="2000" spc="-1" strike="noStrike">
                  <a:solidFill>
                    <a:srgbClr val="000000"/>
                  </a:solidFill>
                  <a:latin typeface="宋体"/>
                </a:rPr>
                <a:t>米，将会到达什么位置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7"/>
          <p:cNvSpPr/>
          <p:nvPr/>
        </p:nvSpPr>
        <p:spPr>
          <a:xfrm>
            <a:off x="2195640" y="5303880"/>
            <a:ext cx="5905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ject 8" descr=""/>
          <p:cNvPicPr/>
          <p:nvPr/>
        </p:nvPicPr>
        <p:blipFill>
          <a:blip r:embed="rId2"/>
          <a:stretch/>
        </p:blipFill>
        <p:spPr>
          <a:xfrm>
            <a:off x="1547640" y="2971800"/>
            <a:ext cx="6548760" cy="961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324000" y="1268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把一个人先向东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 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记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5 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那么这个人又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4 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什么意思？这时他距离出发点有多远？在直线上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"/>
          <p:cNvSpPr/>
          <p:nvPr/>
        </p:nvSpPr>
        <p:spPr>
          <a:xfrm>
            <a:off x="76320" y="5886360"/>
            <a:ext cx="54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468360" y="1268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体育达标测试，一分钟仰卧起坐的成绩统计如下：李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、张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、张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、赵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、王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。如果每分钟做仰卧起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算达标，以达标的个数为标准，记录每个人的成绩。刚好达标的个数记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个，超出的个数用正数表示，不足的个数用负数表示，请把下表填写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60360" y="3429000"/>
          <a:ext cx="6648480" cy="1449360"/>
        </p:xfrm>
        <a:graphic>
          <a:graphicData uri="http://schemas.openxmlformats.org/drawingml/2006/table">
            <a:tbl>
              <a:tblPr/>
              <a:tblGrid>
                <a:gridCol w="1108080"/>
                <a:gridCol w="1108080"/>
                <a:gridCol w="1108080"/>
                <a:gridCol w="1108080"/>
                <a:gridCol w="1108080"/>
                <a:gridCol w="1108080"/>
              </a:tblGrid>
              <a:tr h="50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李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张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张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赵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王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达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Group 26"/>
          <p:cNvGrpSpPr/>
          <p:nvPr/>
        </p:nvGrpSpPr>
        <p:grpSpPr>
          <a:xfrm>
            <a:off x="3780000" y="5084640"/>
            <a:ext cx="4281480" cy="1251000"/>
            <a:chOff x="3780000" y="5084640"/>
            <a:chExt cx="4281480" cy="1251000"/>
          </a:xfrm>
        </p:grpSpPr>
        <p:pic>
          <p:nvPicPr>
            <p:cNvPr id="194" name="Picture 27" descr=""/>
            <p:cNvPicPr/>
            <p:nvPr/>
          </p:nvPicPr>
          <p:blipFill>
            <a:blip r:embed="rId1"/>
            <a:stretch/>
          </p:blipFill>
          <p:spPr>
            <a:xfrm>
              <a:off x="7164000" y="5444640"/>
              <a:ext cx="897480" cy="89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圆角矩形标注1 134"/>
            <p:cNvSpPr/>
            <p:nvPr/>
          </p:nvSpPr>
          <p:spPr>
            <a:xfrm flipH="1">
              <a:off x="3850200" y="5084640"/>
              <a:ext cx="3310200" cy="648360"/>
            </a:xfrm>
            <a:prstGeom prst="wedgeRoundRectCallout">
              <a:avLst>
                <a:gd name="adj1" fmla="val -53143"/>
                <a:gd name="adj2" fmla="val 40787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29"/>
            <p:cNvSpPr/>
            <p:nvPr/>
          </p:nvSpPr>
          <p:spPr>
            <a:xfrm>
              <a:off x="3780000" y="5154840"/>
              <a:ext cx="37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说说你知道了什么信息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标题 1"/>
          <p:cNvSpPr/>
          <p:nvPr/>
        </p:nvSpPr>
        <p:spPr>
          <a:xfrm>
            <a:off x="1258920" y="333360"/>
            <a:ext cx="77058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深化，拓展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2489760" y="4149720"/>
            <a:ext cx="7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+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2"/>
          <p:cNvSpPr/>
          <p:nvPr/>
        </p:nvSpPr>
        <p:spPr>
          <a:xfrm>
            <a:off x="3755520" y="414972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3"/>
          <p:cNvSpPr/>
          <p:nvPr/>
        </p:nvSpPr>
        <p:spPr>
          <a:xfrm>
            <a:off x="4844880" y="41497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5986800" y="414972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5"/>
          <p:cNvSpPr/>
          <p:nvPr/>
        </p:nvSpPr>
        <p:spPr>
          <a:xfrm>
            <a:off x="7011360" y="4149720"/>
            <a:ext cx="6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24000" y="141300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次数学测试，老师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作为标准，将六名同学的成绩记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+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这六名同学的实际平均成绩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4427640" y="2421000"/>
            <a:ext cx="4211640" cy="1103040"/>
            <a:chOff x="4427640" y="2421000"/>
            <a:chExt cx="4211640" cy="1103040"/>
          </a:xfrm>
        </p:grpSpPr>
        <p:pic>
          <p:nvPicPr>
            <p:cNvPr id="206" name="Picture 4" descr=""/>
            <p:cNvPicPr/>
            <p:nvPr/>
          </p:nvPicPr>
          <p:blipFill>
            <a:blip r:embed="rId1"/>
            <a:stretch/>
          </p:blipFill>
          <p:spPr>
            <a:xfrm>
              <a:off x="7741440" y="2634480"/>
              <a:ext cx="897840" cy="8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圆角矩形标注1 134"/>
            <p:cNvSpPr/>
            <p:nvPr/>
          </p:nvSpPr>
          <p:spPr>
            <a:xfrm flipH="1">
              <a:off x="4498560" y="2421000"/>
              <a:ext cx="3310560" cy="647280"/>
            </a:xfrm>
            <a:prstGeom prst="wedgeRoundRectCallout">
              <a:avLst>
                <a:gd name="adj1" fmla="val -53143"/>
                <a:gd name="adj2" fmla="val 40787"/>
                <a:gd name="adj3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6"/>
            <p:cNvSpPr/>
            <p:nvPr/>
          </p:nvSpPr>
          <p:spPr>
            <a:xfrm>
              <a:off x="4427640" y="2491200"/>
              <a:ext cx="374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+4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表示什么意思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7"/>
          <p:cNvSpPr/>
          <p:nvPr/>
        </p:nvSpPr>
        <p:spPr>
          <a:xfrm>
            <a:off x="322200" y="278136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方法一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4+90+75+80+87+76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49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8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24000" y="4437000"/>
            <a:ext cx="57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方法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80+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+10+7-5-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80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=8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分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9"/>
          <p:cNvGrpSpPr/>
          <p:nvPr/>
        </p:nvGrpSpPr>
        <p:grpSpPr>
          <a:xfrm>
            <a:off x="4500360" y="2421000"/>
            <a:ext cx="4140360" cy="1103040"/>
            <a:chOff x="4500360" y="2421000"/>
            <a:chExt cx="4140360" cy="1103040"/>
          </a:xfrm>
        </p:grpSpPr>
        <p:grpSp>
          <p:nvGrpSpPr>
            <p:cNvPr id="212" name="Group 10"/>
            <p:cNvGrpSpPr/>
            <p:nvPr/>
          </p:nvGrpSpPr>
          <p:grpSpPr>
            <a:xfrm>
              <a:off x="4500360" y="2421000"/>
              <a:ext cx="4140360" cy="1103040"/>
              <a:chOff x="4500360" y="2421000"/>
              <a:chExt cx="4140360" cy="1103040"/>
            </a:xfrm>
          </p:grpSpPr>
          <p:pic>
            <p:nvPicPr>
              <p:cNvPr id="213" name="Picture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7742880" y="2634480"/>
                <a:ext cx="897840" cy="88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圆角矩形标注1 134"/>
              <p:cNvSpPr/>
              <p:nvPr/>
            </p:nvSpPr>
            <p:spPr>
              <a:xfrm flipH="1">
                <a:off x="4500000" y="2421000"/>
                <a:ext cx="3310200" cy="647280"/>
              </a:xfrm>
              <a:prstGeom prst="wedgeRoundRectCallout">
                <a:avLst>
                  <a:gd name="adj1" fmla="val -53143"/>
                  <a:gd name="adj2" fmla="val 40787"/>
                  <a:gd name="adj3" fmla="val 16667"/>
                </a:avLst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7160" bIns="47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Text Box 13"/>
            <p:cNvSpPr/>
            <p:nvPr/>
          </p:nvSpPr>
          <p:spPr>
            <a:xfrm>
              <a:off x="4573440" y="2492640"/>
              <a:ext cx="374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你能解决这个问题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14"/>
          <p:cNvSpPr/>
          <p:nvPr/>
        </p:nvSpPr>
        <p:spPr>
          <a:xfrm>
            <a:off x="1684080" y="6021360"/>
            <a:ext cx="35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答：这六名同学的实际平均成绩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7705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三、巩固深化，拓展应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zh-CN" sz="4400" spc="-1" strike="noStrike">
                <a:solidFill>
                  <a:srgbClr val="ffffff"/>
                </a:solidFill>
                <a:latin typeface="Calibri"/>
              </a:rPr>
              <a:t>四、课堂总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3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1207800" cy="100332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4"/>
          <p:cNvSpPr/>
          <p:nvPr/>
        </p:nvSpPr>
        <p:spPr>
          <a:xfrm>
            <a:off x="1908000" y="2492280"/>
            <a:ext cx="3888000" cy="649440"/>
          </a:xfrm>
          <a:prstGeom prst="wedgeRoundRectCallout">
            <a:avLst>
              <a:gd name="adj1" fmla="val 41754"/>
              <a:gd name="adj2" fmla="val 8731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节课你有什么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9E6B-515C-4942-A815-14FF3D5789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17Z</dcterms:modified>
  <cp:revision>7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