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5E91-9B62-4B22-95C6-DF5352767D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8944-6824-4400-B10A-A3CF35B3E4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723-27DE-4668-AF34-99BED5D2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A19-73E6-40E8-A457-BBA75F4A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D47-1ACB-42DE-AC58-A51CC296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C02-3DBC-4F1B-B613-E61C6AB8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367-BA75-472D-8F1B-96361814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EA01-B472-4015-8D6F-75745615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70E5-945E-4C50-8043-0DE96B70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C1B-AF51-43A9-B1F0-967F86ED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348-6A5B-4BDD-9B08-122DFC55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6D65-CF39-4F75-8BE0-8319990C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F32-F146-4587-92A2-C7BC91EC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201A-79D1-4675-9922-ED65BF7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D168-8651-4952-AE9C-67F7DD3F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219320" y="1447920"/>
            <a:ext cx="647676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做学习的主人课件</a:t>
            </a:r>
            <a:r>
              <a:rPr b="1" lang="en-US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免费下载</a:t>
            </a:r>
            <a:endParaRPr b="1" lang="en-US" sz="4000" spc="1" strike="noStrike">
              <a:ln w="9360">
                <a:solidFill>
                  <a:srgbClr val="008000"/>
                </a:solidFill>
                <a:round/>
              </a:ln>
              <a:solidFill>
                <a:srgbClr val="333399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82D4-0E34-44F1-B0DF-931CC5A7559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def9d6e98f5f7d481cb4a1e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24000" y="274680"/>
            <a:ext cx="842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艰苦中学习，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在逆境中成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农村的孩子面对学习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如此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刻苦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，而我们在幸福的生活中又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如何对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学习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5"/>
          <p:cNvSpPr/>
          <p:nvPr/>
        </p:nvSpPr>
        <p:spPr>
          <a:xfrm>
            <a:off x="5257800" y="3733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WordArt 4" descr=""/>
          <p:cNvPicPr/>
          <p:nvPr/>
        </p:nvPicPr>
        <p:blipFill>
          <a:blip r:embed="rId1"/>
          <a:stretch/>
        </p:blipFill>
        <p:spPr>
          <a:xfrm>
            <a:off x="833400" y="228600"/>
            <a:ext cx="69818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38080" y="0"/>
            <a:ext cx="7345440" cy="47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学习主人的学生主要表现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目的明确，有的理想还比较远大，学习积极性、主动性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听课注意力好，自习效率较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余时间也有计划内的实事可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些学生和老师合作很好，但从来不抄袭，学习成绩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对他们来说是一种内心深处的需要，是一种乐趣，是一种享受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8194"/>
          <p:cNvSpPr/>
          <p:nvPr/>
        </p:nvSpPr>
        <p:spPr>
          <a:xfrm>
            <a:off x="1501920" y="3414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971640" y="260280"/>
            <a:ext cx="7632720" cy="37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学习奴隶的学生主要表现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避免父母的指责或老师的批评而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他们缺少或没有学习的积极性、主动性，父母或教师推一推，他们动一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时常为不能集中注意力而苦恼，自习无事做，或明知有事却尽可能拖拉，作业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外时间就更没自控能力，他们喜欢依赖老师，可老师让他们做的事他们又常常拖拉甚至不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他们没有良好的学习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714120" y="2437560"/>
            <a:ext cx="19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这道题不会做，给我抄一下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666880" y="457200"/>
            <a:ext cx="3200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演一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57200" y="1371600"/>
            <a:ext cx="6248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糟糕，书忘记带了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1742400" y="44949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他们学习主动吗？你想对他们说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514600" y="3352680"/>
            <a:ext cx="3124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议一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395520" y="30384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讨论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主动学习有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85800" y="16002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学习问题现在班上存在有以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做事拖拉，不能很快进入学习状态，不会充分利用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上课听讲，易分心，学习时，不能静下心来，浮躁。摸摸这门作业，想着别的事情，效率低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懂不问，积累问题，形成难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会自己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纪律松散，自习课纪律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8194"/>
          <p:cNvSpPr/>
          <p:nvPr/>
        </p:nvSpPr>
        <p:spPr>
          <a:xfrm>
            <a:off x="2155680" y="1371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165320" y="380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谁的星星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784160"/>
            <a:ext cx="883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这些你做到了吗？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做到的，就用☆奖励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作业发下来后，我会先检查一遍，然后改掉错处并想想为什么错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遇到不懂的地方，我会向人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有时，我会把在学校里学到的新知识讲给爸爸妈妈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单元测试后，我会做个小结，看看进步了没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有一个错题本，将错题分类记在本上，防止再次出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我很注意别人好的学习方法，经常和同学交流经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380880" y="1553040"/>
            <a:ext cx="830592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以小组为单位，全组同学扮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啄木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啄出大家在学习中的不主动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组派代表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的问题在全班宣布，请其他组的同学提出纠正问题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记下对自己最有用的方法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762120" y="228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啄木鸟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380880" y="4267080"/>
            <a:ext cx="83822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学习是你自己的事，主动权掌握在你自己手里。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1447920" y="762120"/>
            <a:ext cx="62481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努力在今天，希望在明天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0:32Z</dcterms:modified>
  <cp:revision>1</cp:revision>
  <dc:subject/>
  <dc:title>幻灯片 1</dc:title>
</cp:coreProperties>
</file>