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8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33.png" ContentType="image/png"/>
  <Override PartName="/ppt/media/image5.gif" ContentType="image/gif"/>
  <Override PartName="/ppt/media/image31.wmf" ContentType="image/x-wmf"/>
  <Override PartName="/ppt/media/image11.png" ContentType="image/png"/>
  <Override PartName="/ppt/media/image10.gif" ContentType="image/gif"/>
  <Override PartName="/ppt/media/image6.gif" ContentType="image/gif"/>
  <Override PartName="/ppt/media/chimes.wav" ContentType="audio/x-wav"/>
  <Override PartName="/ppt/media/image32.wmf" ContentType="image/x-wmf"/>
  <Override PartName="/ppt/media/image30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image3.gif" ContentType="image/gif"/>
  <Override PartName="/ppt/media/image14.wmf" ContentType="image/x-wmf"/>
  <Override PartName="/ppt/media/image2.gif" ContentType="image/gif"/>
  <Override PartName="/ppt/media/image29.wmf" ContentType="image/x-wmf"/>
  <Override PartName="/ppt/media/image1.png" ContentType="image/png"/>
  <Override PartName="/ppt/media/image13.wmf" ContentType="image/x-wmf"/>
  <Override PartName="/ppt/media/image17.gif" ContentType="image/gif"/>
  <Override PartName="/ppt/media/camera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C6D-574D-4224-A2A6-80FDF8E0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FCE-AC6D-4F53-8CE3-D7DAD2C13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519-A5AB-45D6-83D0-C2DE6421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28F-3BD1-4B44-A2B7-B870684F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389-CE6F-43B5-903C-1DADC10F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A7F-1AFE-46AF-A484-0A2EBC36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1B0-181E-48F9-801D-203B243A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548-2053-4682-945A-CE45DA0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C25-3C94-490E-BC4A-70264E9B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286-729B-42F9-9B76-35A61619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F62-5AE6-40E8-AEDD-D4EDDD7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35C-C25A-4316-8A72-833D622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6FE-AD22-4999-AD3A-D9BD8CE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5D9-AEDA-4AA0-A12D-58DD6D0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33C-0B91-4CFB-A4BC-30A5ABE07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21.xml"/><Relationship Id="rId3" Type="http://schemas.openxmlformats.org/officeDocument/2006/relationships/image" Target="../media/image17.gi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" Target="slide17.xml"/><Relationship Id="rId8" Type="http://schemas.openxmlformats.org/officeDocument/2006/relationships/hyperlink" Target="http://www.eeppt.com/" TargetMode="Externa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7.xm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" Target="slide6.xml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042920" y="1773360"/>
            <a:ext cx="6624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直线与圆的位置关系课件</a:t>
            </a:r>
            <a:r>
              <a:rPr b="0" lang="en-US" sz="4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载</a:t>
            </a:r>
            <a:endParaRPr b="0" lang="en-US" sz="4000" spc="1" strike="noStrike">
              <a:ln w="12600">
                <a:solidFill>
                  <a:srgbClr val="ff66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xs03gif332"/>
          <p:cNvPicPr/>
          <p:nvPr/>
        </p:nvPicPr>
        <p:blipFill>
          <a:blip r:embed="rId1"/>
          <a:stretch/>
        </p:blipFill>
        <p:spPr>
          <a:xfrm>
            <a:off x="380880" y="2286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8380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c0af2"/>
                </a:solidFill>
                <a:latin typeface="Arial"/>
                <a:ea typeface="隶书"/>
              </a:rPr>
              <a:t>是是非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600200" y="17524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直线与圆最多有两个公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点  。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………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（　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172200" y="21337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xs03gif332"/>
          <p:cNvPicPr/>
          <p:nvPr/>
        </p:nvPicPr>
        <p:blipFill>
          <a:blip r:embed="rId1"/>
          <a:stretch/>
        </p:blipFill>
        <p:spPr>
          <a:xfrm>
            <a:off x="380880" y="2286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8380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c0af2"/>
                </a:solidFill>
                <a:latin typeface="Arial"/>
                <a:ea typeface="隶书"/>
              </a:rPr>
              <a:t>是是非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116440" y="1828800"/>
            <a:ext cx="46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若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是⊙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外两点， 则直线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与⊙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相离。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 … … … …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400800" y="22860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2982600" y="4191120"/>
            <a:ext cx="2768040" cy="681120"/>
            <a:chOff x="2982600" y="4191120"/>
            <a:chExt cx="2768040" cy="681120"/>
          </a:xfrm>
        </p:grpSpPr>
        <p:sp>
          <p:nvSpPr>
            <p:cNvPr id="168" name="Text Box 7"/>
            <p:cNvSpPr/>
            <p:nvPr/>
          </p:nvSpPr>
          <p:spPr>
            <a:xfrm>
              <a:off x="2982600" y="4191120"/>
              <a:ext cx="654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5115600" y="4191120"/>
              <a:ext cx="6350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9"/>
          <p:cNvSpPr/>
          <p:nvPr/>
        </p:nvSpPr>
        <p:spPr>
          <a:xfrm>
            <a:off x="2819520" y="464832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3505320" y="3505320"/>
            <a:ext cx="1682640" cy="1676160"/>
            <a:chOff x="3505320" y="3505320"/>
            <a:chExt cx="1682640" cy="1676160"/>
          </a:xfrm>
        </p:grpSpPr>
        <p:sp>
          <p:nvSpPr>
            <p:cNvPr id="172" name="Oval 11"/>
            <p:cNvSpPr/>
            <p:nvPr/>
          </p:nvSpPr>
          <p:spPr>
            <a:xfrm>
              <a:off x="3505320" y="3505320"/>
              <a:ext cx="1682640" cy="1676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4192920" y="3886200"/>
              <a:ext cx="55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13"/>
          <p:cNvSpPr/>
          <p:nvPr/>
        </p:nvSpPr>
        <p:spPr>
          <a:xfrm>
            <a:off x="3048120" y="533412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971800" y="350532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3050280" y="4876920"/>
            <a:ext cx="2817000" cy="642600"/>
            <a:chOff x="3050280" y="4876920"/>
            <a:chExt cx="2817000" cy="642600"/>
          </a:xfrm>
        </p:grpSpPr>
        <p:sp>
          <p:nvSpPr>
            <p:cNvPr id="177" name="Rectangle 16"/>
            <p:cNvSpPr/>
            <p:nvPr/>
          </p:nvSpPr>
          <p:spPr>
            <a:xfrm>
              <a:off x="3050280" y="4876920"/>
              <a:ext cx="55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5335920" y="4876920"/>
              <a:ext cx="53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3058560" y="3048120"/>
            <a:ext cx="2920320" cy="681120"/>
            <a:chOff x="3058560" y="3048120"/>
            <a:chExt cx="2920320" cy="681120"/>
          </a:xfrm>
        </p:grpSpPr>
        <p:sp>
          <p:nvSpPr>
            <p:cNvPr id="180" name="Rectangle 19"/>
            <p:cNvSpPr/>
            <p:nvPr/>
          </p:nvSpPr>
          <p:spPr>
            <a:xfrm>
              <a:off x="5343840" y="3048120"/>
              <a:ext cx="6350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3058560" y="3048120"/>
              <a:ext cx="654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xs03gif332"/>
          <p:cNvPicPr/>
          <p:nvPr/>
        </p:nvPicPr>
        <p:blipFill>
          <a:blip r:embed="rId1"/>
          <a:stretch/>
        </p:blipFill>
        <p:spPr>
          <a:xfrm>
            <a:off x="380880" y="2286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8380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c0af2"/>
                </a:solidFill>
                <a:latin typeface="Arial"/>
                <a:ea typeface="隶书"/>
              </a:rPr>
              <a:t>是是非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952880" y="259092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2666880" y="3962160"/>
            <a:ext cx="320040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3733920" y="4648320"/>
            <a:ext cx="448920" cy="642600"/>
            <a:chOff x="3733920" y="4648320"/>
            <a:chExt cx="448920" cy="642600"/>
          </a:xfrm>
        </p:grpSpPr>
        <p:sp>
          <p:nvSpPr>
            <p:cNvPr id="187" name="Text Box 7"/>
            <p:cNvSpPr/>
            <p:nvPr/>
          </p:nvSpPr>
          <p:spPr>
            <a:xfrm>
              <a:off x="3887640" y="46483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3733920" y="46483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9"/>
          <p:cNvSpPr/>
          <p:nvPr/>
        </p:nvSpPr>
        <p:spPr>
          <a:xfrm>
            <a:off x="1752480" y="20574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2571f9"/>
                </a:solidFill>
                <a:latin typeface="Arial"/>
              </a:rPr>
              <a:t>、若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2571f9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⊙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内一点，则过点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的直线与⊙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相交。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590920" y="51055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3657600" y="4114800"/>
            <a:ext cx="1457280" cy="1433520"/>
            <a:chOff x="3657600" y="4114800"/>
            <a:chExt cx="1457280" cy="1433520"/>
          </a:xfrm>
        </p:grpSpPr>
        <p:sp>
          <p:nvSpPr>
            <p:cNvPr id="192" name="Oval 12"/>
            <p:cNvSpPr/>
            <p:nvPr/>
          </p:nvSpPr>
          <p:spPr>
            <a:xfrm>
              <a:off x="3657600" y="4114800"/>
              <a:ext cx="1457280" cy="1433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4268880" y="44197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411480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8200"/>
          <p:cNvSpPr/>
          <p:nvPr/>
        </p:nvSpPr>
        <p:spPr>
          <a:xfrm>
            <a:off x="2203560" y="607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0" y="0"/>
            <a:ext cx="2514600" cy="762120"/>
          </a:xfrm>
          <a:prstGeom prst="cloudCallout">
            <a:avLst>
              <a:gd name="adj1" fmla="val -22537"/>
              <a:gd name="adj2" fmla="val 52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0" y="3809880"/>
            <a:ext cx="2514600" cy="762120"/>
          </a:xfrm>
          <a:prstGeom prst="cloudCallout">
            <a:avLst>
              <a:gd name="adj1" fmla="val 4736"/>
              <a:gd name="adj2" fmla="val 10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51460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是否还有其它的方法来判断直线与圆的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2"/>
          <p:cNvSpPr/>
          <p:nvPr/>
        </p:nvSpPr>
        <p:spPr>
          <a:xfrm>
            <a:off x="1135080" y="227160"/>
            <a:ext cx="1905120" cy="19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365760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621972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992160" y="2666880"/>
            <a:ext cx="25909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3354480" y="1905120"/>
            <a:ext cx="2189160" cy="2376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6016680" y="1571760"/>
            <a:ext cx="2320920" cy="284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7118280" y="915840"/>
            <a:ext cx="685800" cy="68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1860840" y="15238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307400" y="10666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734520" y="99072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2015280" y="79200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00956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453924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2352600" y="114300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5104440" y="83808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7346880" y="776160"/>
            <a:ext cx="54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1944360" y="281952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3962520" y="2438280"/>
            <a:ext cx="10062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936480" y="20588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1474200" y="350028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离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&gt;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1474200" y="429732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切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=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1106640" y="5100480"/>
            <a:ext cx="4572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交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&lt;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9"/>
          <p:cNvSpPr/>
          <p:nvPr/>
        </p:nvSpPr>
        <p:spPr>
          <a:xfrm>
            <a:off x="3581280" y="3581280"/>
            <a:ext cx="3384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4878360" y="2362320"/>
            <a:ext cx="182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看一看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7066800" y="2637000"/>
            <a:ext cx="1429920" cy="160668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当直线与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离、相切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交时，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有何关系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2"/>
          <p:cNvSpPr/>
          <p:nvPr/>
        </p:nvSpPr>
        <p:spPr>
          <a:xfrm>
            <a:off x="2125800" y="2438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3"/>
          <p:cNvSpPr/>
          <p:nvPr/>
        </p:nvSpPr>
        <p:spPr>
          <a:xfrm>
            <a:off x="2278080" y="24382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 flipH="1">
            <a:off x="4647960" y="16765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5"/>
          <p:cNvSpPr/>
          <p:nvPr/>
        </p:nvSpPr>
        <p:spPr>
          <a:xfrm>
            <a:off x="7118280" y="137016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6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7270920" y="1370160"/>
            <a:ext cx="0" cy="23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3341520" y="243828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554040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806616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2643120" y="1523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1971720" y="1766880"/>
            <a:ext cx="5634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4443120" y="1523880"/>
            <a:ext cx="39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5365800" y="99072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6331320" y="1219320"/>
            <a:ext cx="458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7773840" y="1233360"/>
            <a:ext cx="439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7"/>
          <p:cNvSpPr/>
          <p:nvPr/>
        </p:nvSpPr>
        <p:spPr>
          <a:xfrm>
            <a:off x="7066800" y="1219320"/>
            <a:ext cx="5540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 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9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0"/>
          <p:cNvSpPr/>
          <p:nvPr/>
        </p:nvSpPr>
        <p:spPr>
          <a:xfrm>
            <a:off x="2128680" y="1194480"/>
            <a:ext cx="144720" cy="9651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1"/>
          <p:cNvSpPr/>
          <p:nvPr/>
        </p:nvSpPr>
        <p:spPr>
          <a:xfrm>
            <a:off x="2125800" y="1143000"/>
            <a:ext cx="0" cy="9907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2"/>
          <p:cNvSpPr/>
          <p:nvPr/>
        </p:nvSpPr>
        <p:spPr>
          <a:xfrm>
            <a:off x="2120400" y="1137600"/>
            <a:ext cx="313920" cy="9252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3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4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4662360" y="934920"/>
            <a:ext cx="657360" cy="6447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6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4660560" y="970200"/>
            <a:ext cx="560880" cy="701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8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9"/>
          <p:cNvSpPr/>
          <p:nvPr/>
        </p:nvSpPr>
        <p:spPr>
          <a:xfrm>
            <a:off x="7118280" y="915840"/>
            <a:ext cx="762120" cy="684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0"/>
          <p:cNvSpPr/>
          <p:nvPr/>
        </p:nvSpPr>
        <p:spPr>
          <a:xfrm>
            <a:off x="7114680" y="909360"/>
            <a:ext cx="312120" cy="9244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1"/>
          <p:cNvSpPr/>
          <p:nvPr/>
        </p:nvSpPr>
        <p:spPr>
          <a:xfrm>
            <a:off x="7120080" y="887760"/>
            <a:ext cx="176040" cy="10695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2"/>
          <p:cNvSpPr/>
          <p:nvPr/>
        </p:nvSpPr>
        <p:spPr>
          <a:xfrm>
            <a:off x="7150320" y="950400"/>
            <a:ext cx="569520" cy="7966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3"/>
          <p:cNvSpPr/>
          <p:nvPr/>
        </p:nvSpPr>
        <p:spPr>
          <a:xfrm>
            <a:off x="711828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4"/>
          <p:cNvSpPr/>
          <p:nvPr/>
        </p:nvSpPr>
        <p:spPr>
          <a:xfrm>
            <a:off x="4633920" y="937440"/>
            <a:ext cx="393480" cy="8431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5"/>
          <p:cNvSpPr/>
          <p:nvPr/>
        </p:nvSpPr>
        <p:spPr>
          <a:xfrm>
            <a:off x="4615920" y="919800"/>
            <a:ext cx="249840" cy="936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1753920" y="22557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7"/>
          <p:cNvSpPr/>
          <p:nvPr/>
        </p:nvSpPr>
        <p:spPr>
          <a:xfrm>
            <a:off x="6734520" y="144792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8"/>
          <p:cNvSpPr/>
          <p:nvPr/>
        </p:nvSpPr>
        <p:spPr>
          <a:xfrm>
            <a:off x="5364000" y="4437000"/>
            <a:ext cx="4876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圆心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到直线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距离，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⊙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半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6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057400" y="76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直线与圆的位置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12400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124000" y="3213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195640" y="42926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124000" y="9810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圆心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到直线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距离，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⊙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半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981080" y="16002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708360" y="2133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直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708360" y="3284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直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635280" y="429264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直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200120" y="285840"/>
            <a:ext cx="214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练   习  （一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11400" y="380880"/>
            <a:ext cx="921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填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79480" y="1066680"/>
            <a:ext cx="76392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5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3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公共点个数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 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 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BD00028_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300800" y="4287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6932520" y="642960"/>
            <a:ext cx="2211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ff0000"/>
                </a:solidFill>
                <a:latin typeface="Times New Roman"/>
              </a:rPr>
              <a:t>动动脑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244760" y="2143080"/>
            <a:ext cx="712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交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016680" y="4643280"/>
            <a:ext cx="12970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060160" y="264312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两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914400" y="220968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14480" y="1523880"/>
            <a:ext cx="763884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6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7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公共点个数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直径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6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 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 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4732200" y="2571840"/>
            <a:ext cx="7621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6151680" y="4572000"/>
            <a:ext cx="99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xs03gif332"/>
          <p:cNvPicPr/>
          <p:nvPr/>
        </p:nvPicPr>
        <p:blipFill>
          <a:blip r:embed="rId1"/>
          <a:stretch/>
        </p:blipFill>
        <p:spPr>
          <a:xfrm>
            <a:off x="380880" y="152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304920" y="457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说说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954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0af2"/>
                </a:solidFill>
                <a:latin typeface="Arial"/>
              </a:rPr>
              <a:t>直线与圆的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219320"/>
          <a:ext cx="8458200" cy="5099040"/>
        </p:xfrm>
        <a:graphic>
          <a:graphicData uri="http://schemas.openxmlformats.org/drawingml/2006/table">
            <a:tbl>
              <a:tblPr/>
              <a:tblGrid>
                <a:gridCol w="2286000"/>
                <a:gridCol w="2046240"/>
                <a:gridCol w="1992240"/>
                <a:gridCol w="2133720"/>
              </a:tblGrid>
              <a:tr h="96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直线与圆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位置关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69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图       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个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直线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圆心到直线距离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与半径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的关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3" name="Picture 42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2143080" cy="1685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3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152800" cy="170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4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2105280" cy="15714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5"/>
          <p:cNvSpPr/>
          <p:nvPr/>
        </p:nvSpPr>
        <p:spPr>
          <a:xfrm>
            <a:off x="33526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32767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32767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5334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53341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53341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1"/>
          <p:cNvSpPr/>
          <p:nvPr/>
        </p:nvSpPr>
        <p:spPr>
          <a:xfrm flipV="1">
            <a:off x="6781680" y="4419360"/>
            <a:ext cx="2133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2"/>
          <p:cNvSpPr/>
          <p:nvPr/>
        </p:nvSpPr>
        <p:spPr>
          <a:xfrm flipV="1">
            <a:off x="6781680" y="49528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32767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lt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4"/>
          <p:cNvSpPr/>
          <p:nvPr/>
        </p:nvSpPr>
        <p:spPr>
          <a:xfrm>
            <a:off x="53341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=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5"/>
          <p:cNvSpPr/>
          <p:nvPr/>
        </p:nvSpPr>
        <p:spPr>
          <a:xfrm>
            <a:off x="73915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gt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6"/>
          <p:cNvSpPr/>
          <p:nvPr/>
        </p:nvSpPr>
        <p:spPr>
          <a:xfrm>
            <a:off x="73915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7">
            <a:hlinkClick r:id="rId5" action="ppaction://hlinksldjump"/>
          </p:cNvPr>
          <p:cNvSpPr/>
          <p:nvPr/>
        </p:nvSpPr>
        <p:spPr>
          <a:xfrm>
            <a:off x="8229600" y="457200"/>
            <a:ext cx="428760" cy="487440"/>
          </a:xfrm>
          <a:custGeom>
            <a:avLst/>
            <a:gdLst>
              <a:gd name="textAreaLeft" fmla="*/ 57240 w 428760"/>
              <a:gd name="textAreaRight" fmla="*/ 371520 w 428760"/>
              <a:gd name="textAreaTop" fmla="*/ 85320 h 487440"/>
              <a:gd name="textAreaBottom" fmla="*/ 35352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096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2514600" y="380880"/>
            <a:ext cx="3124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练习（二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31400" y="1428840"/>
            <a:ext cx="54061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到直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若⊙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至多只有一个公共点，则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≤4     B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  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≥4    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795680" y="3429000"/>
            <a:ext cx="526032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直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上一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到圆心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距离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则直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的位置关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相交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相切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相离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相切或相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7543800" y="1752480"/>
            <a:ext cx="449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7008840" y="421488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NekO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"/>
          <p:cNvPicPr/>
          <p:nvPr/>
        </p:nvPicPr>
        <p:blipFill>
          <a:blip r:embed="rId4"/>
          <a:stretch/>
        </p:blipFill>
        <p:spPr>
          <a:xfrm>
            <a:off x="990720" y="5257800"/>
            <a:ext cx="2514600" cy="1487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"/>
          <p:cNvPicPr/>
          <p:nvPr/>
        </p:nvPicPr>
        <p:blipFill>
          <a:blip r:embed="rId5"/>
          <a:stretch/>
        </p:blipFill>
        <p:spPr>
          <a:xfrm>
            <a:off x="4343400" y="5284800"/>
            <a:ext cx="259092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116000" y="1546200"/>
            <a:ext cx="1981080" cy="1981080"/>
            <a:chOff x="1116000" y="1546200"/>
            <a:chExt cx="1981080" cy="1981080"/>
          </a:xfrm>
        </p:grpSpPr>
        <p:sp>
          <p:nvSpPr>
            <p:cNvPr id="51" name="Oval 3"/>
            <p:cNvSpPr/>
            <p:nvPr/>
          </p:nvSpPr>
          <p:spPr>
            <a:xfrm>
              <a:off x="1116000" y="1546200"/>
              <a:ext cx="1981080" cy="19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2106360" y="2460240"/>
              <a:ext cx="7596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、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和圆的位置关系有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9280" y="36450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大漠孤烟直，长河落日圆” 是唐朝诗人王维的诗句，它描述了黄昏日落时分塞外特有的景象。如果我们把太阳看成一个圆，地平线看成一条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你能根据直线与圆的公共点的个数想象一下，直线和圆的位置关系有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811080" y="1927080"/>
            <a:ext cx="2286000" cy="838080"/>
            <a:chOff x="811080" y="1927080"/>
            <a:chExt cx="2286000" cy="838080"/>
          </a:xfrm>
        </p:grpSpPr>
        <p:sp>
          <p:nvSpPr>
            <p:cNvPr id="57" name="AutoShape 9"/>
            <p:cNvSpPr/>
            <p:nvPr/>
          </p:nvSpPr>
          <p:spPr>
            <a:xfrm>
              <a:off x="1801440" y="1927080"/>
              <a:ext cx="76320" cy="76320"/>
            </a:xfrm>
            <a:prstGeom prst="flowChartConnector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>
              <a:off x="3020760" y="2232000"/>
              <a:ext cx="76320" cy="75960"/>
            </a:xfrm>
            <a:prstGeom prst="flowChartConnector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811080" y="2689200"/>
              <a:ext cx="75960" cy="75960"/>
            </a:xfrm>
            <a:prstGeom prst="flowChartConnector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3203640" y="1341360"/>
            <a:ext cx="5650920" cy="1679040"/>
            <a:chOff x="3203640" y="1341360"/>
            <a:chExt cx="5650920" cy="1679040"/>
          </a:xfrm>
        </p:grpSpPr>
        <p:sp>
          <p:nvSpPr>
            <p:cNvPr id="61" name="Rectangle 13"/>
            <p:cNvSpPr/>
            <p:nvPr/>
          </p:nvSpPr>
          <p:spPr>
            <a:xfrm>
              <a:off x="3203640" y="1341360"/>
              <a:ext cx="5562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&lt;r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点在圆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3655800" y="1950840"/>
              <a:ext cx="51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=r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点在圆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5"/>
            <p:cNvSpPr/>
            <p:nvPr/>
          </p:nvSpPr>
          <p:spPr>
            <a:xfrm>
              <a:off x="3649320" y="2560680"/>
              <a:ext cx="47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&gt;r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点 在圆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6"/>
            <p:cNvSpPr/>
            <p:nvPr/>
          </p:nvSpPr>
          <p:spPr>
            <a:xfrm>
              <a:off x="5108400" y="1569960"/>
              <a:ext cx="304560" cy="76320"/>
            </a:xfrm>
            <a:prstGeom prst="leftRightArrow">
              <a:avLst>
                <a:gd name="adj1" fmla="val 50000"/>
                <a:gd name="adj2" fmla="val 7944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7"/>
            <p:cNvSpPr/>
            <p:nvPr/>
          </p:nvSpPr>
          <p:spPr>
            <a:xfrm>
              <a:off x="5108400" y="2179440"/>
              <a:ext cx="304560" cy="76320"/>
            </a:xfrm>
            <a:prstGeom prst="leftRightArrow">
              <a:avLst>
                <a:gd name="adj1" fmla="val 50000"/>
                <a:gd name="adj2" fmla="val 7944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108400" y="2789280"/>
              <a:ext cx="304560" cy="75960"/>
            </a:xfrm>
            <a:prstGeom prst="leftRightArrow">
              <a:avLst>
                <a:gd name="adj1" fmla="val 50000"/>
                <a:gd name="adj2" fmla="val 798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9"/>
          <p:cNvSpPr/>
          <p:nvPr/>
        </p:nvSpPr>
        <p:spPr>
          <a:xfrm>
            <a:off x="1835280" y="198900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826920" y="2492280"/>
            <a:ext cx="136872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 flipV="1">
            <a:off x="2195640" y="2276280"/>
            <a:ext cx="86364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898560" y="1752480"/>
            <a:ext cx="2685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圆心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到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的距离各是多少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874800" y="609480"/>
            <a:ext cx="1830240" cy="7462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036800" y="304920"/>
            <a:ext cx="1600200" cy="524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410800" y="4376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6246000" y="3309840"/>
            <a:ext cx="395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3581280" y="3295800"/>
            <a:ext cx="3959280" cy="618840"/>
            <a:chOff x="3581280" y="3295800"/>
            <a:chExt cx="3959280" cy="618840"/>
          </a:xfrm>
        </p:grpSpPr>
        <p:sp>
          <p:nvSpPr>
            <p:cNvPr id="324" name="Line 8"/>
            <p:cNvSpPr/>
            <p:nvPr/>
          </p:nvSpPr>
          <p:spPr>
            <a:xfrm>
              <a:off x="3581280" y="338148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"/>
            <p:cNvSpPr/>
            <p:nvPr/>
          </p:nvSpPr>
          <p:spPr>
            <a:xfrm>
              <a:off x="4876560" y="391464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5029200" y="338148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5486400" y="338148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5867280" y="338148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6248160" y="338148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7144920" y="3295800"/>
              <a:ext cx="395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5"/>
          <p:cNvGrpSpPr/>
          <p:nvPr/>
        </p:nvGrpSpPr>
        <p:grpSpPr>
          <a:xfrm>
            <a:off x="6246000" y="2000160"/>
            <a:ext cx="395640" cy="3350520"/>
            <a:chOff x="6246000" y="2000160"/>
            <a:chExt cx="395640" cy="3350520"/>
          </a:xfrm>
        </p:grpSpPr>
        <p:sp>
          <p:nvSpPr>
            <p:cNvPr id="332" name="Line 16"/>
            <p:cNvSpPr/>
            <p:nvPr/>
          </p:nvSpPr>
          <p:spPr>
            <a:xfrm flipV="1">
              <a:off x="6627600" y="2380320"/>
              <a:ext cx="0" cy="297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6552000" y="3751560"/>
              <a:ext cx="75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>
              <a:off x="6552000" y="4056480"/>
              <a:ext cx="75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>
              <a:off x="6552000" y="4741920"/>
              <a:ext cx="75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>
              <a:off x="6552000" y="4437360"/>
              <a:ext cx="75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1"/>
            <p:cNvSpPr/>
            <p:nvPr/>
          </p:nvSpPr>
          <p:spPr>
            <a:xfrm>
              <a:off x="6246000" y="2000160"/>
              <a:ext cx="395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22"/>
          <p:cNvSpPr/>
          <p:nvPr/>
        </p:nvSpPr>
        <p:spPr>
          <a:xfrm>
            <a:off x="2705040" y="304920"/>
            <a:ext cx="534852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已知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直径为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点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坐标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3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4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），则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,⊙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 flipV="1">
            <a:off x="5486400" y="3370320"/>
            <a:ext cx="0" cy="137304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5486400" y="4743360"/>
            <a:ext cx="106524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5715000" y="3370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>
            <a:off x="6402240" y="4513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7"/>
          <p:cNvSpPr/>
          <p:nvPr/>
        </p:nvSpPr>
        <p:spPr>
          <a:xfrm flipH="1">
            <a:off x="5486040" y="3600360"/>
            <a:ext cx="22860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8"/>
          <p:cNvSpPr/>
          <p:nvPr/>
        </p:nvSpPr>
        <p:spPr>
          <a:xfrm flipH="1">
            <a:off x="6401880" y="4513320"/>
            <a:ext cx="22716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9"/>
          <p:cNvSpPr/>
          <p:nvPr/>
        </p:nvSpPr>
        <p:spPr>
          <a:xfrm>
            <a:off x="5355000" y="2684520"/>
            <a:ext cx="378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6726600" y="4362480"/>
            <a:ext cx="378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"/>
          <p:cNvSpPr/>
          <p:nvPr/>
        </p:nvSpPr>
        <p:spPr>
          <a:xfrm>
            <a:off x="5123880" y="382752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5809680" y="466740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3"/>
          <p:cNvSpPr/>
          <p:nvPr/>
        </p:nvSpPr>
        <p:spPr>
          <a:xfrm>
            <a:off x="4327560" y="3676680"/>
            <a:ext cx="2286000" cy="228600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2707560" y="8859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6427080" y="8571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1001880" y="228600"/>
            <a:ext cx="8136360" cy="3785400"/>
            <a:chOff x="1001880" y="228600"/>
            <a:chExt cx="8136360" cy="3785400"/>
          </a:xfrm>
        </p:grpSpPr>
        <p:grpSp>
          <p:nvGrpSpPr>
            <p:cNvPr id="353" name="Group 3"/>
            <p:cNvGrpSpPr/>
            <p:nvPr/>
          </p:nvGrpSpPr>
          <p:grpSpPr>
            <a:xfrm>
              <a:off x="1001880" y="228600"/>
              <a:ext cx="7188840" cy="1387800"/>
              <a:chOff x="1001880" y="228600"/>
              <a:chExt cx="7188840" cy="1387800"/>
            </a:xfrm>
          </p:grpSpPr>
          <p:grpSp>
            <p:nvGrpSpPr>
              <p:cNvPr id="354" name="Group 4"/>
              <p:cNvGrpSpPr/>
              <p:nvPr/>
            </p:nvGrpSpPr>
            <p:grpSpPr>
              <a:xfrm>
                <a:off x="1001880" y="228600"/>
                <a:ext cx="1488600" cy="459720"/>
                <a:chOff x="1001880" y="228600"/>
                <a:chExt cx="1488600" cy="459720"/>
              </a:xfrm>
            </p:grpSpPr>
            <p:sp>
              <p:nvSpPr>
                <p:cNvPr id="355" name="AutoShape 5"/>
                <p:cNvSpPr/>
                <p:nvPr/>
              </p:nvSpPr>
              <p:spPr>
                <a:xfrm>
                  <a:off x="2261880" y="383040"/>
                  <a:ext cx="228600" cy="154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6"/>
                <p:cNvSpPr/>
                <p:nvPr/>
              </p:nvSpPr>
              <p:spPr>
                <a:xfrm>
                  <a:off x="1001880" y="228600"/>
                  <a:ext cx="116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例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、在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7"/>
              <p:cNvSpPr/>
              <p:nvPr/>
            </p:nvSpPr>
            <p:spPr>
              <a:xfrm>
                <a:off x="2741040" y="228600"/>
                <a:ext cx="503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，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=90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=3cm, BC= 4cm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8"/>
              <p:cNvSpPr/>
              <p:nvPr/>
            </p:nvSpPr>
            <p:spPr>
              <a:xfrm>
                <a:off x="3901320" y="768240"/>
                <a:ext cx="4289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圆心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为半径的圆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有怎样的位置关系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"/>
              <p:cNvSpPr/>
              <p:nvPr/>
            </p:nvSpPr>
            <p:spPr>
              <a:xfrm>
                <a:off x="1840320" y="76824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则以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0"/>
              <p:cNvSpPr/>
              <p:nvPr/>
            </p:nvSpPr>
            <p:spPr>
              <a:xfrm>
                <a:off x="1712520" y="1156680"/>
                <a:ext cx="50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=2cm,   (2) r =2.4cm    (3) r =3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11"/>
            <p:cNvGrpSpPr/>
            <p:nvPr/>
          </p:nvGrpSpPr>
          <p:grpSpPr>
            <a:xfrm>
              <a:off x="6070320" y="1359720"/>
              <a:ext cx="3067920" cy="2654280"/>
              <a:chOff x="6070320" y="1359720"/>
              <a:chExt cx="3067920" cy="2654280"/>
            </a:xfrm>
          </p:grpSpPr>
          <p:grpSp>
            <p:nvGrpSpPr>
              <p:cNvPr id="362" name="Group 12"/>
              <p:cNvGrpSpPr/>
              <p:nvPr/>
            </p:nvGrpSpPr>
            <p:grpSpPr>
              <a:xfrm>
                <a:off x="6070320" y="1359720"/>
                <a:ext cx="3067920" cy="2654280"/>
                <a:chOff x="6070320" y="1359720"/>
                <a:chExt cx="3067920" cy="2654280"/>
              </a:xfrm>
            </p:grpSpPr>
            <p:sp>
              <p:nvSpPr>
                <p:cNvPr id="363" name="AutoShape 13"/>
                <p:cNvSpPr/>
                <p:nvPr/>
              </p:nvSpPr>
              <p:spPr>
                <a:xfrm flipV="1" rot="2073000">
                  <a:off x="6558120" y="2251800"/>
                  <a:ext cx="1947960" cy="132624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14"/>
                <p:cNvSpPr/>
                <p:nvPr/>
              </p:nvSpPr>
              <p:spPr>
                <a:xfrm rot="70200">
                  <a:off x="7029720" y="13633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15"/>
                <p:cNvSpPr/>
                <p:nvPr/>
              </p:nvSpPr>
              <p:spPr>
                <a:xfrm rot="70200">
                  <a:off x="6074640" y="2579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Text Box 16"/>
                <p:cNvSpPr/>
                <p:nvPr/>
              </p:nvSpPr>
              <p:spPr>
                <a:xfrm rot="70200">
                  <a:off x="8749800" y="26704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Text Box 17"/>
              <p:cNvSpPr/>
              <p:nvPr/>
            </p:nvSpPr>
            <p:spPr>
              <a:xfrm rot="70200">
                <a:off x="6481800" y="1988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8"/>
              <p:cNvSpPr/>
              <p:nvPr/>
            </p:nvSpPr>
            <p:spPr>
              <a:xfrm rot="70200">
                <a:off x="7777080" y="201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Text Box 19"/>
          <p:cNvSpPr/>
          <p:nvPr/>
        </p:nvSpPr>
        <p:spPr>
          <a:xfrm>
            <a:off x="91440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20"/>
          <p:cNvGrpSpPr/>
          <p:nvPr/>
        </p:nvGrpSpPr>
        <p:grpSpPr>
          <a:xfrm>
            <a:off x="6860160" y="1828800"/>
            <a:ext cx="400320" cy="1450440"/>
            <a:chOff x="6860160" y="1828800"/>
            <a:chExt cx="400320" cy="1450440"/>
          </a:xfrm>
        </p:grpSpPr>
        <p:sp>
          <p:nvSpPr>
            <p:cNvPr id="371" name="Line 21"/>
            <p:cNvSpPr/>
            <p:nvPr/>
          </p:nvSpPr>
          <p:spPr>
            <a:xfrm>
              <a:off x="7086600" y="1828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2"/>
            <p:cNvSpPr/>
            <p:nvPr/>
          </p:nvSpPr>
          <p:spPr>
            <a:xfrm>
              <a:off x="686016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23"/>
          <p:cNvGrpSpPr/>
          <p:nvPr/>
        </p:nvGrpSpPr>
        <p:grpSpPr>
          <a:xfrm>
            <a:off x="1144440" y="3200400"/>
            <a:ext cx="4911840" cy="478080"/>
            <a:chOff x="1144440" y="3200400"/>
            <a:chExt cx="4911840" cy="478080"/>
          </a:xfrm>
        </p:grpSpPr>
        <p:sp>
          <p:nvSpPr>
            <p:cNvPr id="374" name="Text Box 24"/>
            <p:cNvSpPr/>
            <p:nvPr/>
          </p:nvSpPr>
          <p:spPr>
            <a:xfrm>
              <a:off x="1144440" y="321876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1600200" y="3200400"/>
              <a:ext cx="4456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6"/>
          <p:cNvSpPr/>
          <p:nvPr/>
        </p:nvSpPr>
        <p:spPr>
          <a:xfrm>
            <a:off x="1066680" y="380988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故应求什么？怎么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7" descr=""/>
          <p:cNvPicPr/>
          <p:nvPr/>
        </p:nvPicPr>
        <p:blipFill>
          <a:blip r:embed="rId1"/>
          <a:stretch/>
        </p:blipFill>
        <p:spPr>
          <a:xfrm>
            <a:off x="-3868560" y="2286000"/>
            <a:ext cx="72360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8"/>
          <p:cNvSpPr/>
          <p:nvPr/>
        </p:nvSpPr>
        <p:spPr>
          <a:xfrm>
            <a:off x="1143000" y="3276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须比较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到直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距离与半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/>
          <p:cNvSpPr/>
          <p:nvPr/>
        </p:nvSpPr>
        <p:spPr>
          <a:xfrm>
            <a:off x="1066680" y="2438280"/>
            <a:ext cx="44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判断圆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置关系须比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/>
          <p:cNvSpPr/>
          <p:nvPr/>
        </p:nvSpPr>
        <p:spPr>
          <a:xfrm>
            <a:off x="1408320" y="4267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到直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1895400" y="472428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考虑用什么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1859760" y="5257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面积法或射影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3689280" y="17175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什么叫点到直线的距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2572560" y="2001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点到直线的垂线段的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~PP3811.WAV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cover dir="r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979560" y="333360"/>
            <a:ext cx="8162280" cy="3615480"/>
            <a:chOff x="979560" y="333360"/>
            <a:chExt cx="8162280" cy="3615480"/>
          </a:xfrm>
        </p:grpSpPr>
        <p:sp>
          <p:nvSpPr>
            <p:cNvPr id="387" name="Text Box 3"/>
            <p:cNvSpPr/>
            <p:nvPr/>
          </p:nvSpPr>
          <p:spPr>
            <a:xfrm>
              <a:off x="3000960" y="714240"/>
              <a:ext cx="328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圆心，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为半径的圆与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有怎样的位置关系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4"/>
            <p:cNvGrpSpPr/>
            <p:nvPr/>
          </p:nvGrpSpPr>
          <p:grpSpPr>
            <a:xfrm>
              <a:off x="979560" y="333360"/>
              <a:ext cx="8162280" cy="3615480"/>
              <a:chOff x="979560" y="333360"/>
              <a:chExt cx="8162280" cy="3615480"/>
            </a:xfrm>
          </p:grpSpPr>
          <p:sp>
            <p:nvSpPr>
              <p:cNvPr id="389" name="AutoShape 5"/>
              <p:cNvSpPr/>
              <p:nvPr/>
            </p:nvSpPr>
            <p:spPr>
              <a:xfrm>
                <a:off x="2286000" y="401400"/>
                <a:ext cx="228600" cy="1270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6"/>
              <p:cNvGrpSpPr/>
              <p:nvPr/>
            </p:nvGrpSpPr>
            <p:grpSpPr>
              <a:xfrm>
                <a:off x="979560" y="333360"/>
                <a:ext cx="8162280" cy="3615480"/>
                <a:chOff x="979560" y="333360"/>
                <a:chExt cx="8162280" cy="3615480"/>
              </a:xfrm>
            </p:grpSpPr>
            <p:grpSp>
              <p:nvGrpSpPr>
                <p:cNvPr id="391" name="Group 7"/>
                <p:cNvGrpSpPr/>
                <p:nvPr/>
              </p:nvGrpSpPr>
              <p:grpSpPr>
                <a:xfrm>
                  <a:off x="979560" y="333360"/>
                  <a:ext cx="5609880" cy="1130040"/>
                  <a:chOff x="979560" y="333360"/>
                  <a:chExt cx="5609880" cy="1130040"/>
                </a:xfrm>
              </p:grpSpPr>
              <p:sp>
                <p:nvSpPr>
                  <p:cNvPr id="392" name="Text Box 8"/>
                  <p:cNvSpPr/>
                  <p:nvPr/>
                </p:nvSpPr>
                <p:spPr>
                  <a:xfrm>
                    <a:off x="979560" y="333360"/>
                    <a:ext cx="942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例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、在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Text Box 9"/>
                  <p:cNvSpPr/>
                  <p:nvPr/>
                </p:nvSpPr>
                <p:spPr>
                  <a:xfrm>
                    <a:off x="2684520" y="333360"/>
                    <a:ext cx="39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BC</a:t>
                    </a: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中，∠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=90°</a:t>
                    </a: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，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=3cm, BC= 4cm,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Rectangle 10"/>
                  <p:cNvSpPr/>
                  <p:nvPr/>
                </p:nvSpPr>
                <p:spPr>
                  <a:xfrm>
                    <a:off x="1455840" y="714240"/>
                    <a:ext cx="866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则以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为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Rectangle 11"/>
                  <p:cNvSpPr/>
                  <p:nvPr/>
                </p:nvSpPr>
                <p:spPr>
                  <a:xfrm>
                    <a:off x="1371600" y="1095120"/>
                    <a:ext cx="3886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1</a:t>
                    </a: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）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 =2cm,   (2) r =2.4cm    (3)r=3c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2"/>
                <p:cNvGrpSpPr/>
                <p:nvPr/>
              </p:nvGrpSpPr>
              <p:grpSpPr>
                <a:xfrm>
                  <a:off x="6082200" y="1400040"/>
                  <a:ext cx="3059640" cy="2548800"/>
                  <a:chOff x="6082200" y="1400040"/>
                  <a:chExt cx="3059640" cy="2548800"/>
                </a:xfrm>
              </p:grpSpPr>
              <p:grpSp>
                <p:nvGrpSpPr>
                  <p:cNvPr id="397" name="Group 13"/>
                  <p:cNvGrpSpPr/>
                  <p:nvPr/>
                </p:nvGrpSpPr>
                <p:grpSpPr>
                  <a:xfrm>
                    <a:off x="6082200" y="1400040"/>
                    <a:ext cx="3059640" cy="2548800"/>
                    <a:chOff x="6082200" y="1400040"/>
                    <a:chExt cx="3059640" cy="2548800"/>
                  </a:xfrm>
                </p:grpSpPr>
                <p:sp>
                  <p:nvSpPr>
                    <p:cNvPr id="398" name="AutoShape 14"/>
                    <p:cNvSpPr/>
                    <p:nvPr/>
                  </p:nvSpPr>
                  <p:spPr>
                    <a:xfrm flipV="1" rot="2002800">
                      <a:off x="6567480" y="2246400"/>
                      <a:ext cx="1947960" cy="1271520"/>
                    </a:xfrm>
                    <a:prstGeom prst="rtTriangl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Text Box 15"/>
                    <p:cNvSpPr/>
                    <p:nvPr/>
                  </p:nvSpPr>
                  <p:spPr>
                    <a:xfrm>
                      <a:off x="7012080" y="140004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Text Box 16"/>
                    <p:cNvSpPr/>
                    <p:nvPr/>
                  </p:nvSpPr>
                  <p:spPr>
                    <a:xfrm>
                      <a:off x="6082200" y="2584440"/>
                      <a:ext cx="400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Text Box 17"/>
                    <p:cNvSpPr/>
                    <p:nvPr/>
                  </p:nvSpPr>
                  <p:spPr>
                    <a:xfrm>
                      <a:off x="8758440" y="261936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Text Box 18"/>
                  <p:cNvSpPr/>
                  <p:nvPr/>
                </p:nvSpPr>
                <p:spPr>
                  <a:xfrm>
                    <a:off x="6477120" y="20095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Text Box 19"/>
                  <p:cNvSpPr/>
                  <p:nvPr/>
                </p:nvSpPr>
                <p:spPr>
                  <a:xfrm>
                    <a:off x="7772400" y="20095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04" name="Line 20"/>
            <p:cNvSpPr/>
            <p:nvPr/>
          </p:nvSpPr>
          <p:spPr>
            <a:xfrm>
              <a:off x="7086600" y="18572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6860160" y="28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2"/>
          <p:cNvGrpSpPr/>
          <p:nvPr/>
        </p:nvGrpSpPr>
        <p:grpSpPr>
          <a:xfrm>
            <a:off x="1038960" y="2286000"/>
            <a:ext cx="4865040" cy="1015920"/>
            <a:chOff x="1038960" y="2286000"/>
            <a:chExt cx="4865040" cy="1015920"/>
          </a:xfrm>
        </p:grpSpPr>
        <p:sp>
          <p:nvSpPr>
            <p:cNvPr id="407" name="Text Box 23"/>
            <p:cNvSpPr/>
            <p:nvPr/>
          </p:nvSpPr>
          <p:spPr>
            <a:xfrm>
              <a:off x="1038960" y="23043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4"/>
            <p:cNvSpPr/>
            <p:nvPr/>
          </p:nvSpPr>
          <p:spPr>
            <a:xfrm>
              <a:off x="1447920" y="2286000"/>
              <a:ext cx="445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=3cm, BC= 4cm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5"/>
          <p:cNvSpPr/>
          <p:nvPr/>
        </p:nvSpPr>
        <p:spPr>
          <a:xfrm>
            <a:off x="914400" y="1676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 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⊥AB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963720" y="26668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7"/>
          <p:cNvGrpSpPr/>
          <p:nvPr/>
        </p:nvGrpSpPr>
        <p:grpSpPr>
          <a:xfrm>
            <a:off x="1038600" y="2819520"/>
            <a:ext cx="4803120" cy="990000"/>
            <a:chOff x="1038600" y="2819520"/>
            <a:chExt cx="4803120" cy="990000"/>
          </a:xfrm>
        </p:grpSpPr>
        <p:pic>
          <p:nvPicPr>
            <p:cNvPr id="412" name="Object 28" descr=""/>
            <p:cNvPicPr/>
            <p:nvPr/>
          </p:nvPicPr>
          <p:blipFill>
            <a:blip r:embed="rId1"/>
            <a:stretch/>
          </p:blipFill>
          <p:spPr>
            <a:xfrm>
              <a:off x="4267440" y="2819520"/>
              <a:ext cx="353880" cy="91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3" name="Group 29"/>
            <p:cNvGrpSpPr/>
            <p:nvPr/>
          </p:nvGrpSpPr>
          <p:grpSpPr>
            <a:xfrm>
              <a:off x="1038600" y="2895480"/>
              <a:ext cx="4803120" cy="914040"/>
              <a:chOff x="1038600" y="2895480"/>
              <a:chExt cx="4803120" cy="914040"/>
            </a:xfrm>
          </p:grpSpPr>
          <p:pic>
            <p:nvPicPr>
              <p:cNvPr id="414" name="Object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960" y="2895480"/>
                <a:ext cx="353880" cy="914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5" name="Group 31"/>
              <p:cNvGrpSpPr/>
              <p:nvPr/>
            </p:nvGrpSpPr>
            <p:grpSpPr>
              <a:xfrm>
                <a:off x="1038600" y="2971440"/>
                <a:ext cx="4803120" cy="613440"/>
                <a:chOff x="1038600" y="2971440"/>
                <a:chExt cx="4803120" cy="613440"/>
              </a:xfrm>
            </p:grpSpPr>
            <p:grpSp>
              <p:nvGrpSpPr>
                <p:cNvPr id="416" name="Group 32"/>
                <p:cNvGrpSpPr/>
                <p:nvPr/>
              </p:nvGrpSpPr>
              <p:grpSpPr>
                <a:xfrm>
                  <a:off x="1038600" y="2971440"/>
                  <a:ext cx="1628640" cy="612720"/>
                  <a:chOff x="1038600" y="2971440"/>
                  <a:chExt cx="1628640" cy="612720"/>
                </a:xfrm>
              </p:grpSpPr>
              <p:sp>
                <p:nvSpPr>
                  <p:cNvPr id="417" name="Rectangle 33"/>
                  <p:cNvSpPr/>
                  <p:nvPr/>
                </p:nvSpPr>
                <p:spPr>
                  <a:xfrm>
                    <a:off x="1038600" y="2971440"/>
                    <a:ext cx="618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∵</a:t>
                    </a: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34"/>
                  <p:cNvSpPr/>
                  <p:nvPr/>
                </p:nvSpPr>
                <p:spPr>
                  <a:xfrm>
                    <a:off x="1752840" y="3277080"/>
                    <a:ext cx="914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BC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utoShape 35"/>
                  <p:cNvSpPr/>
                  <p:nvPr/>
                </p:nvSpPr>
                <p:spPr>
                  <a:xfrm>
                    <a:off x="1600200" y="3353400"/>
                    <a:ext cx="228600" cy="75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36"/>
                <p:cNvSpPr/>
                <p:nvPr/>
              </p:nvSpPr>
              <p:spPr>
                <a:xfrm>
                  <a:off x="2211120" y="312516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37"/>
                <p:cNvSpPr/>
                <p:nvPr/>
              </p:nvSpPr>
              <p:spPr>
                <a:xfrm>
                  <a:off x="2803680" y="3090240"/>
                  <a:ext cx="184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C×BC=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38"/>
                <p:cNvSpPr/>
                <p:nvPr/>
              </p:nvSpPr>
              <p:spPr>
                <a:xfrm>
                  <a:off x="4626360" y="301392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×C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3" name="Rectangle 39"/>
          <p:cNvSpPr/>
          <p:nvPr/>
        </p:nvSpPr>
        <p:spPr>
          <a:xfrm>
            <a:off x="1249200" y="36576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×4 = 5×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40"/>
          <p:cNvGrpSpPr/>
          <p:nvPr/>
        </p:nvGrpSpPr>
        <p:grpSpPr>
          <a:xfrm>
            <a:off x="1143000" y="4038480"/>
            <a:ext cx="1780920" cy="762120"/>
            <a:chOff x="1143000" y="4038480"/>
            <a:chExt cx="1780920" cy="762120"/>
          </a:xfrm>
        </p:grpSpPr>
        <p:sp>
          <p:nvSpPr>
            <p:cNvPr id="425" name="Rectangle 41"/>
            <p:cNvSpPr/>
            <p:nvPr/>
          </p:nvSpPr>
          <p:spPr>
            <a:xfrm>
              <a:off x="11430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755000" y="4156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Object 43" descr=""/>
            <p:cNvPicPr/>
            <p:nvPr/>
          </p:nvPicPr>
          <p:blipFill>
            <a:blip r:embed="rId3"/>
            <a:stretch/>
          </p:blipFill>
          <p:spPr>
            <a:xfrm>
              <a:off x="2530440" y="4038480"/>
              <a:ext cx="3934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44"/>
          <p:cNvGrpSpPr/>
          <p:nvPr/>
        </p:nvGrpSpPr>
        <p:grpSpPr>
          <a:xfrm>
            <a:off x="4065480" y="4114800"/>
            <a:ext cx="1333440" cy="494640"/>
            <a:chOff x="4065480" y="4114800"/>
            <a:chExt cx="1333440" cy="494640"/>
          </a:xfrm>
        </p:grpSpPr>
        <p:sp>
          <p:nvSpPr>
            <p:cNvPr id="429" name="Text Box 45"/>
            <p:cNvSpPr/>
            <p:nvPr/>
          </p:nvSpPr>
          <p:spPr>
            <a:xfrm>
              <a:off x="4588920" y="41497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6"/>
            <p:cNvSpPr/>
            <p:nvPr/>
          </p:nvSpPr>
          <p:spPr>
            <a:xfrm>
              <a:off x="4065480" y="4114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7"/>
          <p:cNvGrpSpPr/>
          <p:nvPr/>
        </p:nvGrpSpPr>
        <p:grpSpPr>
          <a:xfrm>
            <a:off x="1509840" y="4724280"/>
            <a:ext cx="5328720" cy="462960"/>
            <a:chOff x="1509840" y="4724280"/>
            <a:chExt cx="5328720" cy="462960"/>
          </a:xfrm>
        </p:grpSpPr>
        <p:sp>
          <p:nvSpPr>
            <p:cNvPr id="432" name="Rectangle 48"/>
            <p:cNvSpPr/>
            <p:nvPr/>
          </p:nvSpPr>
          <p:spPr>
            <a:xfrm>
              <a:off x="1509840" y="4727520"/>
              <a:ext cx="32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 =2cm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d &gt; 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49"/>
            <p:cNvGrpSpPr/>
            <p:nvPr/>
          </p:nvGrpSpPr>
          <p:grpSpPr>
            <a:xfrm>
              <a:off x="4800960" y="4724280"/>
              <a:ext cx="2037600" cy="462960"/>
              <a:chOff x="4800960" y="4724280"/>
              <a:chExt cx="2037600" cy="462960"/>
            </a:xfrm>
          </p:grpSpPr>
          <p:sp>
            <p:nvSpPr>
              <p:cNvPr id="434" name="Rectangle 50"/>
              <p:cNvSpPr/>
              <p:nvPr/>
            </p:nvSpPr>
            <p:spPr>
              <a:xfrm>
                <a:off x="4800960" y="4724280"/>
                <a:ext cx="48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51"/>
              <p:cNvSpPr/>
              <p:nvPr/>
            </p:nvSpPr>
            <p:spPr>
              <a:xfrm>
                <a:off x="5357880" y="4727520"/>
                <a:ext cx="14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圆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相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52"/>
          <p:cNvGrpSpPr/>
          <p:nvPr/>
        </p:nvGrpSpPr>
        <p:grpSpPr>
          <a:xfrm>
            <a:off x="1281960" y="5638680"/>
            <a:ext cx="5404320" cy="536040"/>
            <a:chOff x="1281960" y="5638680"/>
            <a:chExt cx="5404320" cy="536040"/>
          </a:xfrm>
        </p:grpSpPr>
        <p:sp>
          <p:nvSpPr>
            <p:cNvPr id="437" name="Rectangle 53"/>
            <p:cNvSpPr/>
            <p:nvPr/>
          </p:nvSpPr>
          <p:spPr>
            <a:xfrm>
              <a:off x="1281960" y="5638680"/>
              <a:ext cx="34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 =3 cm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d &lt;  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4"/>
            <p:cNvSpPr/>
            <p:nvPr/>
          </p:nvSpPr>
          <p:spPr>
            <a:xfrm>
              <a:off x="4648320" y="571500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55"/>
            <p:cNvSpPr/>
            <p:nvPr/>
          </p:nvSpPr>
          <p:spPr>
            <a:xfrm>
              <a:off x="5205600" y="571500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相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56"/>
          <p:cNvGrpSpPr/>
          <p:nvPr/>
        </p:nvGrpSpPr>
        <p:grpSpPr>
          <a:xfrm>
            <a:off x="1281960" y="5181480"/>
            <a:ext cx="5404320" cy="459720"/>
            <a:chOff x="1281960" y="5181480"/>
            <a:chExt cx="5404320" cy="459720"/>
          </a:xfrm>
        </p:grpSpPr>
        <p:sp>
          <p:nvSpPr>
            <p:cNvPr id="441" name="Rectangle 57"/>
            <p:cNvSpPr/>
            <p:nvPr/>
          </p:nvSpPr>
          <p:spPr>
            <a:xfrm>
              <a:off x="1281960" y="5181480"/>
              <a:ext cx="35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 =2.4cm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d = 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58"/>
            <p:cNvSpPr/>
            <p:nvPr/>
          </p:nvSpPr>
          <p:spPr>
            <a:xfrm>
              <a:off x="4648320" y="518148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59"/>
            <p:cNvSpPr/>
            <p:nvPr/>
          </p:nvSpPr>
          <p:spPr>
            <a:xfrm>
              <a:off x="5205600" y="51814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相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~PP2842.WAV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608040" y="304920"/>
            <a:ext cx="1220760" cy="115416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608040" y="838080"/>
            <a:ext cx="1446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2569320" y="762120"/>
            <a:ext cx="467172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=90°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=3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C=4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为圆心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为半径作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217520" y="1714680"/>
            <a:ext cx="4013280" cy="75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200" spc="-1" strike="noStrike">
                <a:solidFill>
                  <a:srgbClr val="0066ff"/>
                </a:solidFill>
                <a:latin typeface="Times New Roman"/>
              </a:rPr>
              <a:t>当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0" lang="zh-CN" sz="2200" spc="-1" strike="noStrike">
                <a:solidFill>
                  <a:srgbClr val="0066ff"/>
                </a:solidFill>
                <a:latin typeface="Times New Roman"/>
              </a:rPr>
              <a:t>满足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________________</a:t>
            </a:r>
            <a:r>
              <a:rPr b="0" lang="zh-CN" sz="2200" spc="-1" strike="noStrike">
                <a:solidFill>
                  <a:srgbClr val="0066ff"/>
                </a:solidFill>
                <a:latin typeface="Times New Roman"/>
              </a:rPr>
              <a:t>时，⊙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AB</a:t>
            </a:r>
            <a:r>
              <a:rPr b="0" lang="zh-CN" sz="2200" spc="-1" strike="noStrike">
                <a:solidFill>
                  <a:srgbClr val="0066ff"/>
                </a:solidFill>
                <a:latin typeface="Times New Roman"/>
              </a:rPr>
              <a:t>相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1217520" y="2857680"/>
            <a:ext cx="3514680" cy="75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满足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____________ 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时，⊙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与直线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相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1217520" y="4500720"/>
            <a:ext cx="2637000" cy="10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当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满足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____________</a:t>
            </a: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⊙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与直线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AB</a:t>
            </a:r>
            <a:r>
              <a:rPr b="1" lang="zh-CN" sz="2200" spc="-1" strike="noStrike">
                <a:solidFill>
                  <a:srgbClr val="009900"/>
                </a:solidFill>
                <a:latin typeface="Times New Roman"/>
              </a:rPr>
              <a:t>相交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6129360" y="2630520"/>
            <a:ext cx="1447920" cy="24368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728680" y="2344680"/>
            <a:ext cx="4125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5667120" y="468648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7577280" y="4686480"/>
            <a:ext cx="4791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6129360" y="4686480"/>
            <a:ext cx="3049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6434280" y="4686480"/>
            <a:ext cx="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"/>
          <p:cNvSpPr/>
          <p:nvPr/>
        </p:nvSpPr>
        <p:spPr>
          <a:xfrm flipV="1">
            <a:off x="6129360" y="4381200"/>
            <a:ext cx="990720" cy="685800"/>
          </a:xfrm>
          <a:prstGeom prst="line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7096680" y="4078440"/>
            <a:ext cx="395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6"/>
          <p:cNvSpPr/>
          <p:nvPr/>
        </p:nvSpPr>
        <p:spPr>
          <a:xfrm>
            <a:off x="6967440" y="4533840"/>
            <a:ext cx="152640" cy="2286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7"/>
          <p:cNvSpPr/>
          <p:nvPr/>
        </p:nvSpPr>
        <p:spPr>
          <a:xfrm flipV="1">
            <a:off x="7120080" y="4609800"/>
            <a:ext cx="152280" cy="152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5667840" y="377352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9"/>
          <p:cNvSpPr/>
          <p:nvPr/>
        </p:nvSpPr>
        <p:spPr>
          <a:xfrm>
            <a:off x="6964200" y="323856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 flipH="1">
            <a:off x="6895440" y="2214720"/>
            <a:ext cx="1717560" cy="761760"/>
          </a:xfrm>
          <a:prstGeom prst="wedgeEllipseCallout">
            <a:avLst>
              <a:gd name="adj1" fmla="val 57458"/>
              <a:gd name="adj2" fmla="val 2679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2.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1"/>
          <p:cNvSpPr/>
          <p:nvPr/>
        </p:nvSpPr>
        <p:spPr>
          <a:xfrm>
            <a:off x="6734880" y="499104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2"/>
          <p:cNvSpPr/>
          <p:nvPr/>
        </p:nvSpPr>
        <p:spPr>
          <a:xfrm>
            <a:off x="5367240" y="4229280"/>
            <a:ext cx="1524240" cy="152388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3"/>
          <p:cNvSpPr/>
          <p:nvPr/>
        </p:nvSpPr>
        <p:spPr>
          <a:xfrm>
            <a:off x="4910040" y="3773520"/>
            <a:ext cx="2362320" cy="24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4"/>
          <p:cNvSpPr/>
          <p:nvPr/>
        </p:nvSpPr>
        <p:spPr>
          <a:xfrm>
            <a:off x="4529160" y="3468600"/>
            <a:ext cx="3048120" cy="312264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2298600" y="1643040"/>
            <a:ext cx="2971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0cm&lt;r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＜</a:t>
            </a: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2.4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2700360" y="2786040"/>
            <a:ext cx="1288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r=2.4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17520" y="4714920"/>
            <a:ext cx="20559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2.4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xs03gif332"/>
          <p:cNvPicPr/>
          <p:nvPr/>
        </p:nvPicPr>
        <p:blipFill>
          <a:blip r:embed="rId1"/>
          <a:stretch/>
        </p:blipFill>
        <p:spPr>
          <a:xfrm>
            <a:off x="380880" y="152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"/>
          <p:cNvSpPr/>
          <p:nvPr/>
        </p:nvSpPr>
        <p:spPr>
          <a:xfrm>
            <a:off x="609480" y="990720"/>
            <a:ext cx="74678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如图：已知∠ 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AOB=30°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为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OB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上一点，且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OM=5cm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，以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为圆心，以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为半径的圆与直线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OA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有怎样的位置关系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4c0af2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4c0af2"/>
                </a:solidFill>
                <a:latin typeface="Arial"/>
              </a:rPr>
              <a:t>r=2cm;     (2)r=4cm;   (3)r=2.5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2571840" cy="2038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2581560" cy="20383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4"/>
          <a:stretch/>
        </p:blipFill>
        <p:spPr>
          <a:xfrm>
            <a:off x="5410080" y="2971800"/>
            <a:ext cx="2581560" cy="2286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"/>
          <p:cNvPicPr/>
          <p:nvPr/>
        </p:nvPicPr>
        <p:blipFill>
          <a:blip r:embed="rId5"/>
          <a:stretch/>
        </p:blipFill>
        <p:spPr>
          <a:xfrm>
            <a:off x="5410080" y="2971800"/>
            <a:ext cx="2581560" cy="2286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8" descr=""/>
          <p:cNvPicPr/>
          <p:nvPr/>
        </p:nvPicPr>
        <p:blipFill>
          <a:blip r:embed="rId6"/>
          <a:stretch/>
        </p:blipFill>
        <p:spPr>
          <a:xfrm>
            <a:off x="5410080" y="2971800"/>
            <a:ext cx="2581560" cy="256212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9"/>
          <p:cNvSpPr/>
          <p:nvPr/>
        </p:nvSpPr>
        <p:spPr>
          <a:xfrm>
            <a:off x="533520" y="2819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：过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⊥O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990720" y="3124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△OM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B=30°,OM=5cm.  ∴MN=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914400" y="3733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571f9"/>
                </a:solidFill>
                <a:latin typeface="Arial"/>
              </a:rPr>
              <a:t>即圆心</a:t>
            </a:r>
            <a:r>
              <a:rPr b="1" lang="en-US" sz="2000" spc="-1" strike="noStrike">
                <a:solidFill>
                  <a:srgbClr val="2571f9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2571f9"/>
                </a:solidFill>
                <a:latin typeface="Arial"/>
              </a:rPr>
              <a:t>到直线</a:t>
            </a:r>
            <a:r>
              <a:rPr b="1" lang="en-US" sz="2000" spc="-1" strike="noStrike">
                <a:solidFill>
                  <a:srgbClr val="2571f9"/>
                </a:solidFill>
                <a:latin typeface="Arial"/>
              </a:rPr>
              <a:t>OA</a:t>
            </a:r>
            <a:r>
              <a:rPr b="1" lang="zh-CN" sz="2000" spc="-1" strike="noStrike">
                <a:solidFill>
                  <a:srgbClr val="2571f9"/>
                </a:solidFill>
                <a:latin typeface="Arial"/>
              </a:rPr>
              <a:t>的距离</a:t>
            </a:r>
            <a:r>
              <a:rPr b="1" lang="en-US" sz="2000" spc="-1" strike="noStrike">
                <a:solidFill>
                  <a:srgbClr val="2571f9"/>
                </a:solidFill>
                <a:latin typeface="Arial"/>
              </a:rPr>
              <a:t>d=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685800" y="41148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）当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r=2c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时，      ∵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&gt; r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          ∴⊙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相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685800" y="4800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）当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r=4c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时，       ∵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&lt; r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          ∴⊙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相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685800" y="548640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）当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r=2.5c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时，    ∵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 = r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          ∴⊙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OA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相切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>
            <a:off x="3808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0af2"/>
                </a:solidFill>
                <a:latin typeface="隶书"/>
                <a:ea typeface="隶书"/>
              </a:rPr>
              <a:t>大家动手</a:t>
            </a:r>
            <a:r>
              <a:rPr b="1" lang="en-US" sz="3200" spc="-1" strike="noStrike">
                <a:solidFill>
                  <a:srgbClr val="4c0af2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4c0af2"/>
                </a:solidFill>
                <a:latin typeface="隶书"/>
                <a:ea typeface="隶书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7086600" y="2057400"/>
            <a:ext cx="1828800" cy="533520"/>
          </a:xfrm>
          <a:prstGeom prst="wedgeEllipseCallout">
            <a:avLst>
              <a:gd name="adj1" fmla="val -70921"/>
              <a:gd name="adj2" fmla="val 374402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5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7">
            <a:hlinkClick r:id="rId7" action="ppaction://hlinksldjump"/>
          </p:cNvPr>
          <p:cNvSpPr/>
          <p:nvPr/>
        </p:nvSpPr>
        <p:spPr>
          <a:xfrm>
            <a:off x="7848720" y="457200"/>
            <a:ext cx="428400" cy="487440"/>
          </a:xfrm>
          <a:custGeom>
            <a:avLst/>
            <a:gdLst>
              <a:gd name="textAreaLeft" fmla="*/ 57240 w 428400"/>
              <a:gd name="textAreaRight" fmla="*/ 371160 w 428400"/>
              <a:gd name="textAreaTop" fmla="*/ 85320 h 487440"/>
              <a:gd name="textAreaBottom" fmla="*/ 35352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8200"/>
          <p:cNvSpPr/>
          <p:nvPr/>
        </p:nvSpPr>
        <p:spPr>
          <a:xfrm>
            <a:off x="1585800" y="61880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4327560" y="428760"/>
            <a:ext cx="41893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=90°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=3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C=4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为圆心，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为半径作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583200" y="112680"/>
            <a:ext cx="896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996600"/>
                </a:solidFill>
                <a:latin typeface="Times New Roman"/>
              </a:rPr>
              <a:t>想一想</a:t>
            </a:r>
            <a:r>
              <a:rPr b="1" lang="en-US" sz="33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03040" y="622440"/>
            <a:ext cx="34228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当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满足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_______    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时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,⊙C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zh-CN" sz="2200" spc="-1" strike="noStrike">
                <a:solidFill>
                  <a:srgbClr val="ff3399"/>
                </a:solidFill>
                <a:latin typeface="Times New Roman"/>
              </a:rPr>
              <a:t>线段</a:t>
            </a:r>
            <a:r>
              <a:rPr b="1" lang="en-US" sz="2200" spc="-1" strike="noStrike">
                <a:solidFill>
                  <a:srgbClr val="ff3399"/>
                </a:solidFill>
                <a:latin typeface="Times New Roman"/>
              </a:rPr>
              <a:t>AB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只有一个公共点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03040" y="571680"/>
            <a:ext cx="3732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r=2.4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3890880" y="1876320"/>
            <a:ext cx="1449360" cy="24386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490200" y="1590840"/>
            <a:ext cx="4125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430440" y="393372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5340240" y="3933720"/>
            <a:ext cx="4780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0"/>
          <p:cNvSpPr/>
          <p:nvPr/>
        </p:nvSpPr>
        <p:spPr>
          <a:xfrm>
            <a:off x="3890880" y="3933720"/>
            <a:ext cx="30636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"/>
          <p:cNvSpPr/>
          <p:nvPr/>
        </p:nvSpPr>
        <p:spPr>
          <a:xfrm>
            <a:off x="4197240" y="3933720"/>
            <a:ext cx="0" cy="381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2"/>
          <p:cNvSpPr/>
          <p:nvPr/>
        </p:nvSpPr>
        <p:spPr>
          <a:xfrm flipV="1">
            <a:off x="3890880" y="3628800"/>
            <a:ext cx="1068480" cy="685800"/>
          </a:xfrm>
          <a:prstGeom prst="line">
            <a:avLst/>
          </a:prstGeom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5033880" y="3324240"/>
            <a:ext cx="395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4730760" y="3780000"/>
            <a:ext cx="150840" cy="23004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V="1">
            <a:off x="4881600" y="3857400"/>
            <a:ext cx="154080" cy="152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3431160" y="301932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4727520" y="248616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4497840" y="4238640"/>
            <a:ext cx="3513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be0e3"/>
                </a:solidFill>
                <a:latin typeface="Times New Roman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9"/>
          <p:cNvSpPr/>
          <p:nvPr/>
        </p:nvSpPr>
        <p:spPr>
          <a:xfrm>
            <a:off x="6615000" y="2214720"/>
            <a:ext cx="2027520" cy="1214280"/>
          </a:xfrm>
          <a:prstGeom prst="wedgeEllipseCallout">
            <a:avLst>
              <a:gd name="adj1" fmla="val -150625"/>
              <a:gd name="adj2" fmla="val 89949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2.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2521080" y="3019320"/>
            <a:ext cx="2514600" cy="243864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1"/>
          <p:cNvSpPr/>
          <p:nvPr/>
        </p:nvSpPr>
        <p:spPr>
          <a:xfrm>
            <a:off x="2292480" y="2790720"/>
            <a:ext cx="3047760" cy="297180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2"/>
          <p:cNvSpPr/>
          <p:nvPr/>
        </p:nvSpPr>
        <p:spPr>
          <a:xfrm>
            <a:off x="1833480" y="2257560"/>
            <a:ext cx="3963960" cy="3962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3"/>
          <p:cNvSpPr/>
          <p:nvPr/>
        </p:nvSpPr>
        <p:spPr>
          <a:xfrm>
            <a:off x="1454040" y="1876320"/>
            <a:ext cx="4648320" cy="4648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1149480" y="1571760"/>
            <a:ext cx="5256000" cy="525780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0" y="914400"/>
            <a:ext cx="266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3cm&lt;r≤4cm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xs03gif332"/>
          <p:cNvPicPr/>
          <p:nvPr/>
        </p:nvPicPr>
        <p:blipFill>
          <a:blip r:embed="rId1"/>
          <a:stretch/>
        </p:blipFill>
        <p:spPr>
          <a:xfrm>
            <a:off x="380880" y="2286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533520" y="990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如图：菱形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ABCD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的边长为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5cm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，∠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B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当以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为圆心的圆与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BC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相切时，半径是</a:t>
            </a:r>
            <a:r>
              <a:rPr b="0" lang="zh-CN" sz="2800" spc="-1" strike="noStrike" u="sng">
                <a:solidFill>
                  <a:srgbClr val="4c0af2"/>
                </a:solidFill>
                <a:uFillTx/>
                <a:latin typeface="Arial"/>
              </a:rPr>
              <a:t>                   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此时⊙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4c0af2"/>
                </a:solidFill>
                <a:latin typeface="Arial"/>
              </a:rPr>
              <a:t>CD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的位置关系是</a:t>
            </a:r>
            <a:r>
              <a:rPr b="0" lang="zh-CN" sz="2800" spc="-1" strike="noStrike" u="sng">
                <a:solidFill>
                  <a:srgbClr val="4c0af2"/>
                </a:solidFill>
                <a:uFillTx/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4c0af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219320" y="19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2" action="ppaction://hlinksldjump"/>
          </p:cNvPr>
          <p:cNvSpPr/>
          <p:nvPr/>
        </p:nvSpPr>
        <p:spPr>
          <a:xfrm>
            <a:off x="8153280" y="380880"/>
            <a:ext cx="428760" cy="487440"/>
          </a:xfrm>
          <a:custGeom>
            <a:avLst/>
            <a:gdLst>
              <a:gd name="textAreaLeft" fmla="*/ 57240 w 428760"/>
              <a:gd name="textAreaRight" fmla="*/ 371520 w 428760"/>
              <a:gd name="textAreaTop" fmla="*/ 85320 h 487440"/>
              <a:gd name="textAreaBottom" fmla="*/ 35352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38862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8"/>
          <p:cNvGrpSpPr/>
          <p:nvPr/>
        </p:nvGrpSpPr>
        <p:grpSpPr>
          <a:xfrm>
            <a:off x="609480" y="1600200"/>
            <a:ext cx="8763120" cy="4437000"/>
            <a:chOff x="609480" y="1600200"/>
            <a:chExt cx="8763120" cy="4437000"/>
          </a:xfrm>
        </p:grpSpPr>
        <p:sp>
          <p:nvSpPr>
            <p:cNvPr id="524" name="Text Box 9"/>
            <p:cNvSpPr/>
            <p:nvPr/>
          </p:nvSpPr>
          <p:spPr>
            <a:xfrm>
              <a:off x="609480" y="1600200"/>
              <a:ext cx="876312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、识别直线与圆的位置关系的方法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一种是根据定义进行识别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只有一个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两个公共点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另一种是根据圆心到直线的距离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与圆半径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数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比较来进行识别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g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=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l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10"/>
            <p:cNvGrpSpPr/>
            <p:nvPr/>
          </p:nvGrpSpPr>
          <p:grpSpPr>
            <a:xfrm>
              <a:off x="1560600" y="2408400"/>
              <a:ext cx="3960720" cy="3209760"/>
              <a:chOff x="1560600" y="2408400"/>
              <a:chExt cx="3960720" cy="3209760"/>
            </a:xfrm>
          </p:grpSpPr>
          <p:pic>
            <p:nvPicPr>
              <p:cNvPr id="526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8960" y="2408400"/>
                <a:ext cx="576000" cy="40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44960" y="2840040"/>
                <a:ext cx="57636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3320" y="3271680"/>
                <a:ext cx="57456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0600" y="4352760"/>
                <a:ext cx="57600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60600" y="4784760"/>
                <a:ext cx="57456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560600" y="5216400"/>
                <a:ext cx="576000" cy="40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2" name="Text Box 17"/>
          <p:cNvSpPr/>
          <p:nvPr/>
        </p:nvSpPr>
        <p:spPr>
          <a:xfrm>
            <a:off x="2795760" y="68580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直线与圆的位置关系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种：相离、相切和相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18"/>
          <p:cNvSpPr txBox="1"/>
          <p:nvPr/>
        </p:nvSpPr>
        <p:spPr>
          <a:xfrm>
            <a:off x="5435640" y="4437000"/>
            <a:ext cx="324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梳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E41D-3EE4-41F4-81F7-B9B5DC1DEE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2"/>
          <p:cNvSpPr/>
          <p:nvPr/>
        </p:nvSpPr>
        <p:spPr>
          <a:xfrm>
            <a:off x="3244680" y="1500120"/>
            <a:ext cx="2502000" cy="2643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149480" y="1000080"/>
            <a:ext cx="2705040" cy="1214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6084720" y="571680"/>
            <a:ext cx="1081080" cy="285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"/>
          <p:cNvSpPr/>
          <p:nvPr/>
        </p:nvSpPr>
        <p:spPr>
          <a:xfrm>
            <a:off x="3244680" y="2071800"/>
            <a:ext cx="2502000" cy="2643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149480" y="1000080"/>
            <a:ext cx="2705040" cy="1214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6084720" y="571680"/>
            <a:ext cx="1081080" cy="285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3244680" y="2928960"/>
            <a:ext cx="2502000" cy="2643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149480" y="1000080"/>
            <a:ext cx="2705040" cy="1214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6084720" y="571680"/>
            <a:ext cx="1081080" cy="285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83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0280" y="647280"/>
            <a:ext cx="611496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直线与</a:t>
            </a:r>
            <a:r>
              <a:rPr b="0" lang="zh-CN" sz="4800" spc="-1" strike="noStrike">
                <a:solidFill>
                  <a:srgbClr val="009999"/>
                </a:solidFill>
                <a:latin typeface="华文行楷"/>
                <a:ea typeface="华文行楷"/>
              </a:rPr>
              <a:t>圆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位置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一个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圆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把直尺边缘看成一条直线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黑体"/>
              </a:rPr>
              <a:t>.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固定圆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黑体"/>
              </a:rPr>
              <a:t>平移直尺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182520" y="141120"/>
            <a:ext cx="3581280" cy="685800"/>
            <a:chOff x="182520" y="141120"/>
            <a:chExt cx="3581280" cy="685800"/>
          </a:xfrm>
        </p:grpSpPr>
        <p:grpSp>
          <p:nvGrpSpPr>
            <p:cNvPr id="88" name="Group 8"/>
            <p:cNvGrpSpPr/>
            <p:nvPr/>
          </p:nvGrpSpPr>
          <p:grpSpPr>
            <a:xfrm>
              <a:off x="182520" y="188640"/>
              <a:ext cx="2361960" cy="510120"/>
              <a:chOff x="182520" y="188640"/>
              <a:chExt cx="2361960" cy="510120"/>
            </a:xfrm>
          </p:grpSpPr>
          <p:sp>
            <p:nvSpPr>
              <p:cNvPr id="89" name="Rectangle 9"/>
              <p:cNvSpPr/>
              <p:nvPr/>
            </p:nvSpPr>
            <p:spPr>
              <a:xfrm>
                <a:off x="182520" y="188640"/>
                <a:ext cx="2361960" cy="5101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议一议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1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0"/>
              <p:cNvSpPr/>
              <p:nvPr/>
            </p:nvSpPr>
            <p:spPr>
              <a:xfrm>
                <a:off x="2064240" y="205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11" descr="678"/>
            <p:cNvPicPr/>
            <p:nvPr/>
          </p:nvPicPr>
          <p:blipFill>
            <a:blip r:embed="rId2"/>
            <a:stretch/>
          </p:blipFill>
          <p:spPr>
            <a:xfrm>
              <a:off x="2544480" y="1411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82520" y="2934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13" descr="右开门箭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左开门箭头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5">
            <a:hlinkClick r:id="rId6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52280" y="5105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和圆有哪几种位置关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3524400" y="2533680"/>
            <a:ext cx="1962000" cy="1962000"/>
            <a:chOff x="3524400" y="2533680"/>
            <a:chExt cx="1962000" cy="1962000"/>
          </a:xfrm>
        </p:grpSpPr>
        <p:sp>
          <p:nvSpPr>
            <p:cNvPr id="98" name="Oval 18"/>
            <p:cNvSpPr/>
            <p:nvPr/>
          </p:nvSpPr>
          <p:spPr>
            <a:xfrm>
              <a:off x="3524400" y="253368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9"/>
            <p:cNvSpPr/>
            <p:nvPr/>
          </p:nvSpPr>
          <p:spPr>
            <a:xfrm>
              <a:off x="4389480" y="3275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501480" y="2514600"/>
            <a:ext cx="1962360" cy="1962000"/>
            <a:chOff x="501480" y="2514600"/>
            <a:chExt cx="1962360" cy="1962000"/>
          </a:xfrm>
        </p:grpSpPr>
        <p:sp>
          <p:nvSpPr>
            <p:cNvPr id="101" name="Oval 21"/>
            <p:cNvSpPr/>
            <p:nvPr/>
          </p:nvSpPr>
          <p:spPr>
            <a:xfrm>
              <a:off x="501480" y="251460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2"/>
            <p:cNvSpPr/>
            <p:nvPr/>
          </p:nvSpPr>
          <p:spPr>
            <a:xfrm>
              <a:off x="1366560" y="32562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23"/>
          <p:cNvSpPr/>
          <p:nvPr/>
        </p:nvSpPr>
        <p:spPr>
          <a:xfrm>
            <a:off x="5105520" y="5105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三种位置关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10666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5228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和圆有惟一公共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直线和圆相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条直线叫做圆的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切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惟一的公共点叫做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切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6"/>
          <p:cNvGrpSpPr/>
          <p:nvPr/>
        </p:nvGrpSpPr>
        <p:grpSpPr>
          <a:xfrm>
            <a:off x="6496200" y="2514600"/>
            <a:ext cx="1962000" cy="1962000"/>
            <a:chOff x="6496200" y="2514600"/>
            <a:chExt cx="1962000" cy="1962000"/>
          </a:xfrm>
        </p:grpSpPr>
        <p:sp>
          <p:nvSpPr>
            <p:cNvPr id="107" name="Oval 27"/>
            <p:cNvSpPr/>
            <p:nvPr/>
          </p:nvSpPr>
          <p:spPr>
            <a:xfrm>
              <a:off x="6496200" y="25146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8"/>
            <p:cNvSpPr/>
            <p:nvPr/>
          </p:nvSpPr>
          <p:spPr>
            <a:xfrm>
              <a:off x="7361280" y="32562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29"/>
          <p:cNvSpPr/>
          <p:nvPr/>
        </p:nvSpPr>
        <p:spPr>
          <a:xfrm>
            <a:off x="304920" y="4038480"/>
            <a:ext cx="27432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3181320" y="4545000"/>
            <a:ext cx="27432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6186600" y="4807080"/>
            <a:ext cx="27432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396252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相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7086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相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576360" y="836640"/>
            <a:ext cx="6933600" cy="1676160"/>
            <a:chOff x="576360" y="836640"/>
            <a:chExt cx="6933600" cy="1676160"/>
          </a:xfrm>
        </p:grpSpPr>
        <p:grpSp>
          <p:nvGrpSpPr>
            <p:cNvPr id="115" name="Group 3"/>
            <p:cNvGrpSpPr/>
            <p:nvPr/>
          </p:nvGrpSpPr>
          <p:grpSpPr>
            <a:xfrm>
              <a:off x="576360" y="836640"/>
              <a:ext cx="6933600" cy="1676160"/>
              <a:chOff x="576360" y="836640"/>
              <a:chExt cx="6933600" cy="167616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3319200" y="1217520"/>
                <a:ext cx="1599840" cy="990360"/>
                <a:chOff x="3319200" y="1217520"/>
                <a:chExt cx="1599840" cy="990360"/>
              </a:xfrm>
            </p:grpSpPr>
            <p:sp>
              <p:nvSpPr>
                <p:cNvPr id="117" name="Oval 5"/>
                <p:cNvSpPr/>
                <p:nvPr/>
              </p:nvSpPr>
              <p:spPr>
                <a:xfrm>
                  <a:off x="3623760" y="1217520"/>
                  <a:ext cx="990000" cy="990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"/>
                <p:cNvSpPr/>
                <p:nvPr/>
              </p:nvSpPr>
              <p:spPr>
                <a:xfrm>
                  <a:off x="3319200" y="2207880"/>
                  <a:ext cx="159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7"/>
                <p:cNvSpPr/>
                <p:nvPr/>
              </p:nvSpPr>
              <p:spPr>
                <a:xfrm flipH="1">
                  <a:off x="4105440" y="2161800"/>
                  <a:ext cx="45720" cy="4608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8"/>
              <p:cNvGrpSpPr/>
              <p:nvPr/>
            </p:nvGrpSpPr>
            <p:grpSpPr>
              <a:xfrm>
                <a:off x="576360" y="836640"/>
                <a:ext cx="1599840" cy="1371600"/>
                <a:chOff x="576360" y="836640"/>
                <a:chExt cx="1599840" cy="1371600"/>
              </a:xfrm>
            </p:grpSpPr>
            <p:sp>
              <p:nvSpPr>
                <p:cNvPr id="121" name="Oval 9"/>
                <p:cNvSpPr/>
                <p:nvPr/>
              </p:nvSpPr>
              <p:spPr>
                <a:xfrm>
                  <a:off x="804600" y="836640"/>
                  <a:ext cx="990360" cy="990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0"/>
                <p:cNvSpPr/>
                <p:nvPr/>
              </p:nvSpPr>
              <p:spPr>
                <a:xfrm>
                  <a:off x="576360" y="2208240"/>
                  <a:ext cx="159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1"/>
              <p:cNvGrpSpPr/>
              <p:nvPr/>
            </p:nvGrpSpPr>
            <p:grpSpPr>
              <a:xfrm>
                <a:off x="5910120" y="1522440"/>
                <a:ext cx="1599840" cy="990360"/>
                <a:chOff x="5910120" y="1522440"/>
                <a:chExt cx="1599840" cy="990360"/>
              </a:xfrm>
            </p:grpSpPr>
            <p:sp>
              <p:nvSpPr>
                <p:cNvPr id="124" name="Oval 12"/>
                <p:cNvSpPr/>
                <p:nvPr/>
              </p:nvSpPr>
              <p:spPr>
                <a:xfrm>
                  <a:off x="6138360" y="1522440"/>
                  <a:ext cx="990000" cy="990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"/>
                <p:cNvSpPr/>
                <p:nvPr/>
              </p:nvSpPr>
              <p:spPr>
                <a:xfrm>
                  <a:off x="5910120" y="2207880"/>
                  <a:ext cx="159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AutoShape 14"/>
            <p:cNvSpPr/>
            <p:nvPr/>
          </p:nvSpPr>
          <p:spPr>
            <a:xfrm flipH="1">
              <a:off x="7078320" y="2157480"/>
              <a:ext cx="50400" cy="50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5"/>
            <p:cNvSpPr/>
            <p:nvPr/>
          </p:nvSpPr>
          <p:spPr>
            <a:xfrm flipH="1">
              <a:off x="6138720" y="2157480"/>
              <a:ext cx="50400" cy="50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直线与圆相离、相切、相交的定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7240" y="3263760"/>
            <a:ext cx="88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和圆的位置关系是用直线和圆的公共点的个数来定义的，即直线与圆没有公共点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公共点、有两个公共点时分别叫做直线和圆相离、相切、相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895320" y="250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229440" y="2577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3638520" y="250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67120" y="1739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切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942440" y="1941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切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7524720" y="204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割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5924520" y="1816200"/>
            <a:ext cx="1676160" cy="337320"/>
            <a:chOff x="5924520" y="1816200"/>
            <a:chExt cx="1676160" cy="337320"/>
          </a:xfrm>
        </p:grpSpPr>
        <p:sp>
          <p:nvSpPr>
            <p:cNvPr id="137" name="Text Box 26"/>
            <p:cNvSpPr/>
            <p:nvPr/>
          </p:nvSpPr>
          <p:spPr>
            <a:xfrm>
              <a:off x="6914880" y="1816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交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5924520" y="1816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交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838080" y="1371600"/>
            <a:ext cx="2629080" cy="2629080"/>
            <a:chOff x="838080" y="1371600"/>
            <a:chExt cx="2629080" cy="2629080"/>
          </a:xfrm>
        </p:grpSpPr>
        <p:pic>
          <p:nvPicPr>
            <p:cNvPr id="140" name="Picture 3" descr="436"/>
            <p:cNvPicPr/>
            <p:nvPr/>
          </p:nvPicPr>
          <p:blipFill>
            <a:blip r:embed="rId1"/>
            <a:stretch/>
          </p:blipFill>
          <p:spPr>
            <a:xfrm>
              <a:off x="838080" y="1371600"/>
              <a:ext cx="2629080" cy="26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4"/>
            <p:cNvSpPr/>
            <p:nvPr/>
          </p:nvSpPr>
          <p:spPr>
            <a:xfrm>
              <a:off x="1219320" y="1371600"/>
              <a:ext cx="1752480" cy="91440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3673440" y="2057400"/>
            <a:ext cx="4068000" cy="1095480"/>
            <a:chOff x="3673440" y="2057400"/>
            <a:chExt cx="4068000" cy="1095480"/>
          </a:xfrm>
        </p:grpSpPr>
        <p:sp>
          <p:nvSpPr>
            <p:cNvPr id="143" name="WordArt 6"/>
            <p:cNvSpPr txBox="1"/>
            <p:nvPr/>
          </p:nvSpPr>
          <p:spPr>
            <a:xfrm>
              <a:off x="3673440" y="2057400"/>
              <a:ext cx="914400" cy="525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思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634640" y="2571480"/>
              <a:ext cx="31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直线与圆有第四种关系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578840" y="32004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即直线与圆是否有第三个交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x36"/>
          <p:cNvPicPr/>
          <p:nvPr/>
        </p:nvPicPr>
        <p:blipFill>
          <a:blip r:embed="rId2"/>
          <a:stretch/>
        </p:blipFill>
        <p:spPr>
          <a:xfrm>
            <a:off x="0" y="449568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47" name="~PP1529.WAV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qm1x"/>
          <p:cNvPicPr/>
          <p:nvPr/>
        </p:nvPicPr>
        <p:blipFill>
          <a:blip r:embed="rId4"/>
          <a:stretch/>
        </p:blipFill>
        <p:spPr>
          <a:xfrm>
            <a:off x="1676520" y="1447920"/>
            <a:ext cx="76176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57600" y="3886200"/>
            <a:ext cx="1805040" cy="1706400"/>
            <a:chOff x="3657600" y="3886200"/>
            <a:chExt cx="1805040" cy="1706400"/>
          </a:xfrm>
        </p:grpSpPr>
        <p:sp>
          <p:nvSpPr>
            <p:cNvPr id="150" name="Oval 3"/>
            <p:cNvSpPr/>
            <p:nvPr/>
          </p:nvSpPr>
          <p:spPr>
            <a:xfrm>
              <a:off x="3657600" y="3886200"/>
              <a:ext cx="1805040" cy="170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"/>
            <p:cNvSpPr/>
            <p:nvPr/>
          </p:nvSpPr>
          <p:spPr>
            <a:xfrm>
              <a:off x="4408920" y="4259160"/>
              <a:ext cx="55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5" descr="xs03gif332"/>
          <p:cNvPicPr/>
          <p:nvPr/>
        </p:nvPicPr>
        <p:blipFill>
          <a:blip r:embed="rId1"/>
          <a:stretch/>
        </p:blipFill>
        <p:spPr>
          <a:xfrm>
            <a:off x="380880" y="2286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838080" y="609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c0af2"/>
                </a:solidFill>
                <a:latin typeface="Arial"/>
                <a:ea typeface="隶书"/>
              </a:rPr>
              <a:t>是是非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4120" y="205740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3056040" y="4978440"/>
            <a:ext cx="300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313600" y="454032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4800600" y="4343400"/>
            <a:ext cx="9144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600200" y="1447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71f9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2571f9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2571f9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⊙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上的一点，则过点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的直线与⊙</a:t>
            </a:r>
            <a:r>
              <a:rPr b="1" lang="en-US" sz="2800" spc="-1" strike="noStrike">
                <a:solidFill>
                  <a:srgbClr val="2571f9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2571f9"/>
                </a:solidFill>
                <a:latin typeface="Times New Roman"/>
              </a:rPr>
              <a:t>相切</a:t>
            </a:r>
            <a:r>
              <a:rPr b="1" lang="zh-CN" sz="3000" spc="-1" strike="noStrike">
                <a:solidFill>
                  <a:srgbClr val="0066ff"/>
                </a:solidFill>
                <a:latin typeface="Times New Roman"/>
              </a:rPr>
              <a:t>。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… … … …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2:51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3:2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