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7004-4E69-426C-AB34-523958AC32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A7F4-5901-4684-918B-F6B3E881F0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748-104F-48DF-9C73-8F1BAED9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6A0-1841-45A4-AFC5-897320E9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AA7-89E6-4932-8A2C-0EF226AB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BF4-D440-4C38-A838-6F6F7856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411-7AE4-4CE8-9496-0A5F4256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492-B4CA-4874-8A21-3F80D8A2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8F3-867B-421F-BE26-2B895BBA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A62-A218-4DE7-AD2E-8BD02BD8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A41-06E3-49FC-A776-326F170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21D-6C48-43E5-B4FF-35467D1B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4BF-D279-4452-B125-C5BE6E23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FAE-1AD4-4A63-AC64-0316B149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E31-CEA3-4FA0-AEDF-26DED014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ordArt 6" descr=""/>
          <p:cNvPicPr/>
          <p:nvPr/>
        </p:nvPicPr>
        <p:blipFill>
          <a:blip r:embed="rId2"/>
          <a:stretch/>
        </p:blipFill>
        <p:spPr>
          <a:xfrm>
            <a:off x="1366920" y="1687680"/>
            <a:ext cx="6392880" cy="152064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229572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087640" y="115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说说池塘里有哪些水生生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00000" y="1341360"/>
            <a:ext cx="7632720" cy="3547800"/>
          </a:xfrm>
          <a:prstGeom prst="rect">
            <a:avLst/>
          </a:prstGeom>
          <a:blipFill rotWithShape="0">
            <a:blip r:embed="rId2">
              <a:alphaModFix amt="7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水生植物需要哪些生存条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池塘里的植物为动物提供了哪些帮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动物为植物生长做了哪些贡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们还可以在池塘里找到哪些非生物？他们对生物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00000" y="1557360"/>
            <a:ext cx="7632720" cy="1191240"/>
          </a:xfrm>
          <a:prstGeom prst="rect">
            <a:avLst/>
          </a:prstGeom>
          <a:blipFill rotWithShape="0">
            <a:blip r:embed="rId3">
              <a:alphaModFix amt="7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像池塘里的这些生物和非生物这样，互相作用、互相依存，形成一个密不可分的整体，我们可以把它们看成一个生态群落。一片树林、一块草地、一个湖泊、一个海洋等都可以看成是一个生态群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71640" y="333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怎样设计这个生态瓶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19280" y="1413000"/>
            <a:ext cx="8100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组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你们准备让哪些生物来生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什么样的生物可以在这个有限的空间里生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如果要有动物，那它们的食物来源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除了加生物外，还需要其他一些东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生物放入的顺序需要考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71640" y="333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制作生态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做生态瓶"/>
          <p:cNvPicPr/>
          <p:nvPr/>
        </p:nvPicPr>
        <p:blipFill>
          <a:blip r:embed="rId1"/>
          <a:stretch/>
        </p:blipFill>
        <p:spPr>
          <a:xfrm>
            <a:off x="108000" y="1125360"/>
            <a:ext cx="88930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2556000" y="2924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5280" y="33336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每天注意观察生态瓶里发生的变化，把自己的发现记录在记录表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生态瓶记录表"/>
          <p:cNvPicPr/>
          <p:nvPr/>
        </p:nvPicPr>
        <p:blipFill>
          <a:blip r:embed="rId1"/>
          <a:stretch/>
        </p:blipFill>
        <p:spPr>
          <a:xfrm rot="298800">
            <a:off x="250920" y="1413000"/>
            <a:ext cx="86040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091220172330789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4383360" y="851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做一个生态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69280" y="2349360"/>
            <a:ext cx="52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生物和非生物                         、                       ，形成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可分的整体，我们可以把它们看成一个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生物与非生物之间的关系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060720" y="3068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5506920" y="3068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6156360" y="3789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5586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互相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0066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互相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689160" y="33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5076720" y="4508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900840" y="5084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互相作用、互相依存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214200" y="5877000"/>
            <a:ext cx="67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0091220172330789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383360" y="851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做一个生态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59400" y="20606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判    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39720" y="2557440"/>
            <a:ext cx="653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做生态瓶前，我们一定要先了解这些生物的生活需要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群蚂蚁生活在一起，互相依赖、互相影响，形成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个蚂蚁群落。                                                 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非生物在生态系统里不起任何作用。                  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生态瓶中的动物、植物越多越好。                           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466480" y="3773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521200" y="2693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8466480" y="4292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8466480" y="486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ecd5bffdf174dc0fd037f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4167720" y="11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做一个生态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71960" y="126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965320" y="1663560"/>
            <a:ext cx="3775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我们用来制作生态瓶的瓶子是要透明的，这是因为（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让里面的植物见光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便于观察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既让植物见光又便于观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在生态瓶中放置动物和植物，应（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先放动物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先放植物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一起放动物和植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生态瓶中植物的作用是（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美化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提供氧气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固定沙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设计并制作的小生态瓶要长期维持稳定，应该注意的是（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开放、透明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生物种类和数量配比合理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置于较弱的散射光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池塘里的生物和非生物，它们是（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互相作用、互相依存的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相互没有影响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生物会影响非生物，非生物不会影响生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810480" y="1746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792320" y="26352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822120" y="36194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351200" y="4508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901040" y="5419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742C-4572-4E80-9F57-4BB832111B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7:04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21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