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04FC-DE07-4F83-9533-364520A59BE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B58D-F909-4C36-92BA-C08ECA5040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86BD-FDA6-4629-8B56-21D025EDE5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822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91960"/>
            <a:ext cx="822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9196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44900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44900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9196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9196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9196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9196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822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822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91960"/>
            <a:ext cx="822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9196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44900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44900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9196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9196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91960"/>
            <a:ext cx="264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9196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9000"/>
            <a:ext cx="40158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8229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自尊是人人都需要的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1812600" y="6890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课   珍惜无价的自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欣赏自己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05228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也许你想成为太阳，可你却只是一颗星辰；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也许你想成为大树，可你却只是一株小草；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也许你想成为大河，可你却只是一泓山溪；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做不了太阳，就做星辰，在自己的星座发热发光；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做不了大树，就做小草，以自己的绿色装点希望；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做不了伟大，就做实在的自我，平凡而不自卑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关键的是必须做最好的自己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alibri"/>
              </a:rPr>
              <a:t>不必总是欣赏别人，也欣赏一下自己吧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轻音乐纯音乐 希望之风.mp3" descr=""/>
          <p:cNvPicPr/>
          <p:nvPr/>
        </p:nvPicPr>
        <p:blipFill>
          <a:blip r:embed="rId1"/>
          <a:stretch/>
        </p:blipFill>
        <p:spPr>
          <a:xfrm>
            <a:off x="8424720" y="5877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34657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探究五：自尊误区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阅读课本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8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页的三幅图，回答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、你认为他们的言行反映了什么心理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、这对他们的生活会产生什么影响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24000" y="3373560"/>
            <a:ext cx="2700360" cy="2347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3132000" y="3259080"/>
            <a:ext cx="5254920" cy="245124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8194"/>
          <p:cNvSpPr/>
          <p:nvPr/>
        </p:nvSpPr>
        <p:spPr>
          <a:xfrm>
            <a:off x="801720" y="2924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五、虚荣与自尊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00" y="1449000"/>
            <a:ext cx="85327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什么是虚荣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虚荣心是一种追求表面上的荣耀、光彩的心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虚荣心重的表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虚荣心重的人，常常将名利作为支配自己行动的内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动力，总是在乎他人对自己的评价，一旦他人有一点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否定自己的意思，自己便认为失去了所谓的自尊而受不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虚荣心的危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会影响我们的学习、生活、工作，有时甚至会使我们酿成大错，为了满足虚荣心而走上违法犯罪道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何克服虚荣心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）全面地评价自己，清楚自己真正需要的是什么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）客观地评价他人的议论，大胆暴露自己的优缺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）全身心投入学习，把所有精力放到学习中来，淡化他人的评价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课堂小结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一、什么是自尊：含义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二、自尊的表现：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4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外在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6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内在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7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内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三、为什么要自尊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6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5 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四、当我们不如别人时如何赢得自尊：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五、虚荣与自尊：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、什么是虚荣心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、虚荣心重的表现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、虚荣心的危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D924-3E60-40FC-8D84-29B87372C8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什么是自尊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63640" y="1665000"/>
            <a:ext cx="68040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尊即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</a:rPr>
              <a:t>自我尊重</a:t>
            </a:r>
            <a:r>
              <a:rPr b="1" lang="zh-CN" sz="2800" spc="-1" strike="noStrike">
                <a:solidFill>
                  <a:srgbClr val="c0504d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既不向别人卑躬屈膝</a:t>
            </a:r>
            <a:r>
              <a:rPr b="1" lang="zh-CN" sz="2800" spc="-1" strike="noStrike">
                <a:solidFill>
                  <a:srgbClr val="c0504d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自己对自己的尊重</a:t>
            </a:r>
            <a:r>
              <a:rPr b="1" lang="zh-CN" sz="2800" spc="-1" strike="noStrike">
                <a:solidFill>
                  <a:srgbClr val="c0504d"/>
                </a:solidFill>
                <a:latin typeface="宋体"/>
              </a:rPr>
              <a:t>）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不允许别人歧视、侮辱</a:t>
            </a:r>
            <a:r>
              <a:rPr b="1" lang="zh-CN" sz="2800" spc="-1" strike="noStrike">
                <a:solidFill>
                  <a:srgbClr val="c0504d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他人对自己的尊重</a:t>
            </a:r>
            <a:r>
              <a:rPr b="1" lang="zh-CN" sz="2800" spc="-1" strike="noStrike">
                <a:solidFill>
                  <a:srgbClr val="c0504d"/>
                </a:solidFill>
                <a:latin typeface="宋体"/>
              </a:rPr>
              <a:t>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是一种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</a:rPr>
              <a:t>健康良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心理状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探究活动一：自尊初体验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24000" y="98064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如果老师让我在大会上发言，我会在衣着上穿得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在公共场所，我会约束自己的不良习惯，是因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当我知道我的不良行为会给同学、集体带来不良影响，我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当我考试作弊被老师发现时，我会觉得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当我发现自己存在缺点时，我会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完善句子，结合课本思考自尊有哪些表现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自尊的表现：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87280" y="87264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容貌上的修饰、举止的文雅以及行为的后果，塑造自己更好的形象，赢得别人对自己的肯定。（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4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外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做人不能没有自尊。真正有自尊心的人，必定是知道羞耻的人。知耻，是自尊的重要表现。唯有知耻，才有自尊。一个知耻的人会对自己不恰当、不合适的行为感到惭愧和难为情，并勇于承认错误、改过自新。（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6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内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人有缺点并不可怕，关键是能够正确对待自己的缺点，将缺点转换为优点，也是自尊的表现。（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7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内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8194"/>
          <p:cNvSpPr/>
          <p:nvPr/>
        </p:nvSpPr>
        <p:spPr>
          <a:xfrm>
            <a:off x="1584360" y="1816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青少年自尊自信心理发展的特点"/>
          <p:cNvPicPr/>
          <p:nvPr/>
        </p:nvPicPr>
        <p:blipFill>
          <a:blip r:embed="rId1"/>
          <a:stretch/>
        </p:blipFill>
        <p:spPr>
          <a:xfrm>
            <a:off x="395280" y="3681360"/>
            <a:ext cx="3240000" cy="298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探究活动二：感受自尊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342800"/>
            <a:ext cx="84978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阅读课本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P5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：假如你有下列经历，谈谈你有什么感受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从你自己的实际经历中，谈谈你最难忘的被人尊重的经历是什么？并描述当时的感受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176720" y="3681360"/>
            <a:ext cx="453564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：为什么要自尊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三、为什么要自尊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、首先要体验到自己是有价值的，为人所需要的，并且这种价值常常得到他人的认可与欣赏；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、如果别人不仅能欣赏我们的长处，而且不耻笑我们的弱点与缺陷，这种被尊重的感觉更能使我们体验到快乐与感动；无论是自己对自己价值的肯定，还是他人对我们价值的肯定，即自尊与被人尊重，都是快乐的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探究活动三：悦纳自己、重塑自尊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118224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不漂亮，但我很喜欢自己，因为我很聪明，我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····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的学习成绩不太好，但我已找到原因，我会奋起直追，我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····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父母很平凡，但他们很爱我，很关心我，让我体验到家的温暖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····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师批评我，是有原因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····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家都不愿和我在一起，都不喜欢我，先反思一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····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47640" y="4834080"/>
            <a:ext cx="792000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思考：当我们不如别人时如何赢得自尊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四、当我们不如别人时如何赢得自尊？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4490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在生活中，人人都可能有不如别人的地方，如长得不漂亮，个子不够高，甚至有生理缺陷。只要不气馁，不灰心，不放弃，自己相信自己，自己尊重自己，我们就可以通过进一步的努力，找到自己自己的人生价值，赢得别人的尊敬，感受自尊的快乐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4967280" y="388296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2840" y="104760"/>
            <a:ext cx="4638600" cy="10731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7" descr=""/>
          <p:cNvPicPr/>
          <p:nvPr/>
        </p:nvPicPr>
        <p:blipFill>
          <a:blip r:embed="rId2"/>
          <a:stretch/>
        </p:blipFill>
        <p:spPr>
          <a:xfrm>
            <a:off x="2805120" y="476280"/>
            <a:ext cx="4876920" cy="4876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0" descr=""/>
          <p:cNvPicPr/>
          <p:nvPr/>
        </p:nvPicPr>
        <p:blipFill>
          <a:blip r:embed="rId3"/>
          <a:stretch/>
        </p:blipFill>
        <p:spPr>
          <a:xfrm>
            <a:off x="1943280" y="3141720"/>
            <a:ext cx="1723680" cy="17222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1" descr=""/>
          <p:cNvPicPr/>
          <p:nvPr/>
        </p:nvPicPr>
        <p:blipFill>
          <a:blip r:embed="rId4"/>
          <a:stretch/>
        </p:blipFill>
        <p:spPr>
          <a:xfrm>
            <a:off x="0" y="2914560"/>
            <a:ext cx="9144000" cy="328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5"/>
          <a:stretch/>
        </p:blipFill>
        <p:spPr>
          <a:xfrm>
            <a:off x="5904000" y="2023920"/>
            <a:ext cx="3240000" cy="1308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6"/>
          <a:stretch/>
        </p:blipFill>
        <p:spPr>
          <a:xfrm>
            <a:off x="816120" y="1173240"/>
            <a:ext cx="230796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1:04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07:31Z</dcterms:modified>
  <cp:revision>6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