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409-6230-4F59-9F56-72A085F24D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35F-F23F-4B3C-B173-405F3734A402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067840" y="1960560"/>
            <a:ext cx="25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-64440" y="63104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数学游戏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19" name="Picture 8" descr="34"/>
          <p:cNvPicPr/>
          <p:nvPr/>
        </p:nvPicPr>
        <p:blipFill>
          <a:blip r:embed="rId1"/>
          <a:stretch/>
        </p:blipFill>
        <p:spPr>
          <a:xfrm>
            <a:off x="536400" y="2233440"/>
            <a:ext cx="8064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7384-117A-465D-8B54-F3299B1E50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8"/>
          <p:cNvSpPr/>
          <p:nvPr/>
        </p:nvSpPr>
        <p:spPr>
          <a:xfrm>
            <a:off x="1619280" y="31082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92040" y="161928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看算式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9"/>
          <p:cNvSpPr/>
          <p:nvPr/>
        </p:nvSpPr>
        <p:spPr>
          <a:xfrm rot="1986600">
            <a:off x="4115520" y="2933280"/>
            <a:ext cx="1152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20"/>
          <p:cNvSpPr/>
          <p:nvPr/>
        </p:nvSpPr>
        <p:spPr>
          <a:xfrm rot="18444600">
            <a:off x="2700720" y="3143880"/>
            <a:ext cx="107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21"/>
          <p:cNvSpPr/>
          <p:nvPr/>
        </p:nvSpPr>
        <p:spPr>
          <a:xfrm rot="637200">
            <a:off x="1906200" y="4165200"/>
            <a:ext cx="11779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22"/>
          <p:cNvSpPr/>
          <p:nvPr/>
        </p:nvSpPr>
        <p:spPr>
          <a:xfrm rot="19696200">
            <a:off x="6890040" y="3720600"/>
            <a:ext cx="1067040" cy="5814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23"/>
          <p:cNvSpPr/>
          <p:nvPr/>
        </p:nvSpPr>
        <p:spPr>
          <a:xfrm rot="21550800">
            <a:off x="1184400" y="5013000"/>
            <a:ext cx="1220760" cy="5814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24"/>
          <p:cNvSpPr/>
          <p:nvPr/>
        </p:nvSpPr>
        <p:spPr>
          <a:xfrm rot="3050400">
            <a:off x="5627520" y="5322600"/>
            <a:ext cx="1197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25"/>
          <p:cNvSpPr/>
          <p:nvPr/>
        </p:nvSpPr>
        <p:spPr>
          <a:xfrm rot="20514600">
            <a:off x="1187280" y="3000240"/>
            <a:ext cx="12290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5867280" y="256536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27"/>
          <p:cNvSpPr/>
          <p:nvPr/>
        </p:nvSpPr>
        <p:spPr>
          <a:xfrm rot="1369800">
            <a:off x="3931560" y="5682960"/>
            <a:ext cx="1087560" cy="5814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29"/>
          <p:cNvSpPr/>
          <p:nvPr/>
        </p:nvSpPr>
        <p:spPr>
          <a:xfrm rot="20235000">
            <a:off x="3409920" y="3957120"/>
            <a:ext cx="13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7020000" y="508968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31"/>
          <p:cNvSpPr/>
          <p:nvPr/>
        </p:nvSpPr>
        <p:spPr>
          <a:xfrm rot="21550800">
            <a:off x="5305320" y="3863520"/>
            <a:ext cx="1211400" cy="5814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32"/>
          <p:cNvSpPr/>
          <p:nvPr/>
        </p:nvSpPr>
        <p:spPr>
          <a:xfrm rot="20514600">
            <a:off x="2190600" y="5703480"/>
            <a:ext cx="12258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33"/>
          <p:cNvSpPr/>
          <p:nvPr/>
        </p:nvSpPr>
        <p:spPr>
          <a:xfrm rot="19410000">
            <a:off x="4067640" y="468864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67"/>
          <p:cNvSpPr/>
          <p:nvPr/>
        </p:nvSpPr>
        <p:spPr>
          <a:xfrm>
            <a:off x="1620720" y="2511360"/>
            <a:ext cx="61200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92040" y="1619280"/>
            <a:ext cx="475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说口诀算得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57"/>
          <p:cNvSpPr/>
          <p:nvPr/>
        </p:nvSpPr>
        <p:spPr>
          <a:xfrm>
            <a:off x="3564000" y="254628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58"/>
          <p:cNvSpPr/>
          <p:nvPr/>
        </p:nvSpPr>
        <p:spPr>
          <a:xfrm>
            <a:off x="3562200" y="3125880"/>
            <a:ext cx="77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60"/>
          <p:cNvSpPr/>
          <p:nvPr/>
        </p:nvSpPr>
        <p:spPr>
          <a:xfrm>
            <a:off x="3562200" y="3733920"/>
            <a:ext cx="77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Box 61"/>
          <p:cNvSpPr/>
          <p:nvPr/>
        </p:nvSpPr>
        <p:spPr>
          <a:xfrm>
            <a:off x="2538360" y="55087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Box 64"/>
          <p:cNvSpPr/>
          <p:nvPr/>
        </p:nvSpPr>
        <p:spPr>
          <a:xfrm>
            <a:off x="6321600" y="254808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Box 65"/>
          <p:cNvSpPr/>
          <p:nvPr/>
        </p:nvSpPr>
        <p:spPr>
          <a:xfrm>
            <a:off x="6319800" y="31273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Box 66"/>
          <p:cNvSpPr/>
          <p:nvPr/>
        </p:nvSpPr>
        <p:spPr>
          <a:xfrm>
            <a:off x="2543040" y="490860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Box 67"/>
          <p:cNvSpPr/>
          <p:nvPr/>
        </p:nvSpPr>
        <p:spPr>
          <a:xfrm>
            <a:off x="6319800" y="373068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Box 68"/>
          <p:cNvSpPr/>
          <p:nvPr/>
        </p:nvSpPr>
        <p:spPr>
          <a:xfrm>
            <a:off x="6319800" y="434016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69"/>
          <p:cNvSpPr/>
          <p:nvPr/>
        </p:nvSpPr>
        <p:spPr>
          <a:xfrm>
            <a:off x="3562200" y="43387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770040" y="993600"/>
            <a:ext cx="64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6" descr=""/>
          <p:cNvPicPr/>
          <p:nvPr/>
        </p:nvPicPr>
        <p:blipFill>
          <a:blip r:embed="rId1"/>
          <a:stretch/>
        </p:blipFill>
        <p:spPr>
          <a:xfrm>
            <a:off x="2873520" y="2973240"/>
            <a:ext cx="3138480" cy="36244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50"/>
          <p:cNvGrpSpPr/>
          <p:nvPr/>
        </p:nvGrpSpPr>
        <p:grpSpPr>
          <a:xfrm>
            <a:off x="4265640" y="3041640"/>
            <a:ext cx="1701720" cy="3367800"/>
            <a:chOff x="4265640" y="3041640"/>
            <a:chExt cx="1701720" cy="3367800"/>
          </a:xfrm>
        </p:grpSpPr>
        <p:sp>
          <p:nvSpPr>
            <p:cNvPr id="121" name="Text Box 8"/>
            <p:cNvSpPr/>
            <p:nvPr/>
          </p:nvSpPr>
          <p:spPr>
            <a:xfrm>
              <a:off x="4265640" y="4165560"/>
              <a:ext cx="1008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十八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4265640" y="3041640"/>
              <a:ext cx="12398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得六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4265640" y="3598920"/>
              <a:ext cx="10587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十二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4265640" y="4738680"/>
              <a:ext cx="1701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二十四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5" name="Text Box 24"/>
            <p:cNvSpPr/>
            <p:nvPr/>
          </p:nvSpPr>
          <p:spPr>
            <a:xfrm>
              <a:off x="4265640" y="5283360"/>
              <a:ext cx="1184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三十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" name="Text Box 25"/>
            <p:cNvSpPr/>
            <p:nvPr/>
          </p:nvSpPr>
          <p:spPr>
            <a:xfrm>
              <a:off x="4265640" y="5840280"/>
              <a:ext cx="15447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三十六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7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深化方法，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8" name="Group 47"/>
          <p:cNvGrpSpPr/>
          <p:nvPr/>
        </p:nvGrpSpPr>
        <p:grpSpPr>
          <a:xfrm>
            <a:off x="324000" y="1644480"/>
            <a:ext cx="3887640" cy="1279800"/>
            <a:chOff x="324000" y="1644480"/>
            <a:chExt cx="3887640" cy="1279800"/>
          </a:xfrm>
        </p:grpSpPr>
        <p:pic>
          <p:nvPicPr>
            <p:cNvPr id="129" name="Picture 25" descr="女天使副本"/>
            <p:cNvPicPr/>
            <p:nvPr/>
          </p:nvPicPr>
          <p:blipFill>
            <a:blip r:embed="rId2"/>
            <a:stretch/>
          </p:blipFill>
          <p:spPr>
            <a:xfrm>
              <a:off x="324000" y="16444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1979640" y="1860480"/>
              <a:ext cx="2232000" cy="891000"/>
            </a:xfrm>
            <a:prstGeom prst="wedgeRoundRectCallout">
              <a:avLst>
                <a:gd name="adj1" fmla="val -58736"/>
                <a:gd name="adj2" fmla="val 17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诀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1" name="Group 48"/>
          <p:cNvGrpSpPr/>
          <p:nvPr/>
        </p:nvGrpSpPr>
        <p:grpSpPr>
          <a:xfrm>
            <a:off x="4930920" y="1844640"/>
            <a:ext cx="3902040" cy="1414440"/>
            <a:chOff x="4930920" y="1844640"/>
            <a:chExt cx="3902040" cy="1414440"/>
          </a:xfrm>
        </p:grpSpPr>
        <p:pic>
          <p:nvPicPr>
            <p:cNvPr id="132" name="Picture 26" descr="男天使"/>
            <p:cNvPicPr/>
            <p:nvPr/>
          </p:nvPicPr>
          <p:blipFill>
            <a:blip r:embed="rId3"/>
            <a:stretch/>
          </p:blipFill>
          <p:spPr>
            <a:xfrm>
              <a:off x="7308720" y="184464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9"/>
            <p:cNvSpPr/>
            <p:nvPr/>
          </p:nvSpPr>
          <p:spPr>
            <a:xfrm>
              <a:off x="4930920" y="1855800"/>
              <a:ext cx="2305080" cy="496440"/>
            </a:xfrm>
            <a:prstGeom prst="wedgeRoundRectCallout">
              <a:avLst>
                <a:gd name="adj1" fmla="val 59430"/>
                <a:gd name="adj2" fmla="val 23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底对不对呢？请你验证验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352440" y="299880"/>
            <a:ext cx="83628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2"/>
          <p:cNvSpPr/>
          <p:nvPr/>
        </p:nvSpPr>
        <p:spPr>
          <a:xfrm>
            <a:off x="495360" y="5635800"/>
            <a:ext cx="1280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六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1793880" y="5635800"/>
            <a:ext cx="1281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六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3089160" y="5635800"/>
            <a:ext cx="1281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六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4384800" y="5635800"/>
            <a:ext cx="1280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六二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5680080" y="5635800"/>
            <a:ext cx="13748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六三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7085160" y="5635800"/>
            <a:ext cx="1374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六三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46"/>
          <p:cNvGrpSpPr/>
          <p:nvPr/>
        </p:nvGrpSpPr>
        <p:grpSpPr>
          <a:xfrm>
            <a:off x="828720" y="1679400"/>
            <a:ext cx="3959280" cy="1381680"/>
            <a:chOff x="828720" y="1679400"/>
            <a:chExt cx="3959280" cy="1381680"/>
          </a:xfrm>
        </p:grpSpPr>
        <p:pic>
          <p:nvPicPr>
            <p:cNvPr id="142" name="Picture 28" descr="女天使副本"/>
            <p:cNvPicPr/>
            <p:nvPr/>
          </p:nvPicPr>
          <p:blipFill>
            <a:blip r:embed="rId1"/>
            <a:stretch/>
          </p:blipFill>
          <p:spPr>
            <a:xfrm>
              <a:off x="828720" y="167940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29"/>
            <p:cNvSpPr/>
            <p:nvPr/>
          </p:nvSpPr>
          <p:spPr>
            <a:xfrm>
              <a:off x="2484720" y="2170080"/>
              <a:ext cx="2303280" cy="891000"/>
            </a:xfrm>
            <a:prstGeom prst="wedgeRoundRectCallout">
              <a:avLst>
                <a:gd name="adj1" fmla="val -60671"/>
                <a:gd name="adj2" fmla="val 52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都学过哪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法口诀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4" name="Rectangle 17"/>
          <p:cNvSpPr/>
          <p:nvPr/>
        </p:nvSpPr>
        <p:spPr>
          <a:xfrm>
            <a:off x="495360" y="3295800"/>
            <a:ext cx="12808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一得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495360" y="3763800"/>
            <a:ext cx="12808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二得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495360" y="4232160"/>
            <a:ext cx="12808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三得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495360" y="4699080"/>
            <a:ext cx="1280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四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495360" y="5167440"/>
            <a:ext cx="12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五得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1793880" y="3763800"/>
            <a:ext cx="12812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二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1793880" y="4232160"/>
            <a:ext cx="12812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三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1793880" y="4699080"/>
            <a:ext cx="1281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四得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1793880" y="5167440"/>
            <a:ext cx="1281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五一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89160" y="4232160"/>
            <a:ext cx="12812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三得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3089160" y="4699080"/>
            <a:ext cx="1281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四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3089160" y="5167440"/>
            <a:ext cx="1281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五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4384800" y="4699080"/>
            <a:ext cx="1280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四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4384800" y="5167440"/>
            <a:ext cx="12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五二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5680080" y="5167440"/>
            <a:ext cx="13748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五二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深化方法，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392040" y="1619280"/>
            <a:ext cx="763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用一句口诀写出两个乘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14984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149840" y="46432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377208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3772080" y="46450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34068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6340680" y="46450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8" name="Group 26"/>
          <p:cNvGrpSpPr/>
          <p:nvPr/>
        </p:nvGrpSpPr>
        <p:grpSpPr>
          <a:xfrm>
            <a:off x="816120" y="2781360"/>
            <a:ext cx="7459560" cy="2460600"/>
            <a:chOff x="816120" y="2781360"/>
            <a:chExt cx="7459560" cy="2460600"/>
          </a:xfrm>
        </p:grpSpPr>
        <p:sp>
          <p:nvSpPr>
            <p:cNvPr id="169" name="TextBox 4"/>
            <p:cNvSpPr/>
            <p:nvPr/>
          </p:nvSpPr>
          <p:spPr>
            <a:xfrm>
              <a:off x="1022400" y="2781360"/>
              <a:ext cx="1843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三六十八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TextBox 4"/>
            <p:cNvSpPr/>
            <p:nvPr/>
          </p:nvSpPr>
          <p:spPr>
            <a:xfrm>
              <a:off x="3625920" y="2781360"/>
              <a:ext cx="1842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五六三十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Box 4"/>
            <p:cNvSpPr/>
            <p:nvPr/>
          </p:nvSpPr>
          <p:spPr>
            <a:xfrm>
              <a:off x="6013440" y="2781360"/>
              <a:ext cx="2251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四六二十四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81612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81612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344016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344016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604368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604368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346400" y="161928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3419640" y="4659480"/>
            <a:ext cx="218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1" name="Picture 7" descr="33"/>
          <p:cNvPicPr/>
          <p:nvPr/>
        </p:nvPicPr>
        <p:blipFill>
          <a:blip r:embed="rId1"/>
          <a:stretch/>
        </p:blipFill>
        <p:spPr>
          <a:xfrm>
            <a:off x="755640" y="2637000"/>
            <a:ext cx="75614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9" descr=""/>
          <p:cNvPicPr/>
          <p:nvPr/>
        </p:nvPicPr>
        <p:blipFill>
          <a:blip r:embed="rId1"/>
          <a:stretch/>
        </p:blipFill>
        <p:spPr>
          <a:xfrm>
            <a:off x="2387520" y="2276640"/>
            <a:ext cx="4356360" cy="4336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1003320" y="16192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填表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070080" y="410364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070080" y="473868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070080" y="535140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070080" y="594360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5766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5766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3546360" y="5351400"/>
            <a:ext cx="803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3457440" y="5943600"/>
            <a:ext cx="98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35766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191120" y="410364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4191120" y="473868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16088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407196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191120" y="354492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92104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79268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79268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476244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467352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479268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79268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54054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4054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375160" y="5351400"/>
            <a:ext cx="803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5286240" y="5943600"/>
            <a:ext cx="98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4054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40540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59976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9976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596736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87844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9976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599760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16Z</dcterms:modified>
  <cp:revision>4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