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数学广角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8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2"/>
          <a:stretch/>
        </p:blipFill>
        <p:spPr>
          <a:xfrm>
            <a:off x="682560" y="95256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826920" y="1768320"/>
            <a:ext cx="4111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问题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-138240" y="63403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方法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31640" y="47962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“可以怎样付钱”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92040" y="149868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变化思考，迁移应用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30200" y="43549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31640" y="523764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打算怎样付钱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31640" y="5695920"/>
            <a:ext cx="80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看看大家想出的付钱方法，以后再遇到这样的问题我们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可以怎样去想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346560" y="6066360"/>
            <a:ext cx="49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教师注意方法的渗透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554120" y="2205000"/>
            <a:ext cx="540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个拼音本，可以怎样付钱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5" name="Picture 15" descr="未标题-16"/>
          <p:cNvPicPr/>
          <p:nvPr/>
        </p:nvPicPr>
        <p:blipFill>
          <a:blip r:embed="rId1"/>
          <a:stretch/>
        </p:blipFill>
        <p:spPr>
          <a:xfrm>
            <a:off x="1644480" y="2637000"/>
            <a:ext cx="58928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9679-CD18-46D0-B28E-AA69E6AFC6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，回顾方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57360" y="1730520"/>
            <a:ext cx="81453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组成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两位数，一共能组成几个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03440" y="39834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03440" y="45075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一共能组成几个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66680" y="5592600"/>
            <a:ext cx="71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98600" y="469152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“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”是什么意思？“求和”指的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518220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数有几种可能”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01480" y="4123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审读题意，交流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求和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得数有几种可能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7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求和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得数有几种可能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椭圆 13"/>
          <p:cNvSpPr/>
          <p:nvPr/>
        </p:nvSpPr>
        <p:spPr>
          <a:xfrm>
            <a:off x="5951520" y="2535120"/>
            <a:ext cx="13590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椭圆 14"/>
          <p:cNvSpPr/>
          <p:nvPr/>
        </p:nvSpPr>
        <p:spPr>
          <a:xfrm>
            <a:off x="7318440" y="2521080"/>
            <a:ext cx="787320" cy="576000"/>
          </a:xfrm>
          <a:prstGeom prst="ellips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椭圆 15"/>
          <p:cNvSpPr/>
          <p:nvPr/>
        </p:nvSpPr>
        <p:spPr>
          <a:xfrm>
            <a:off x="434880" y="3100320"/>
            <a:ext cx="2836800" cy="652680"/>
          </a:xfrm>
          <a:prstGeom prst="ellips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46994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完整地说一说这道题是什么意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审读题意，交流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尝试探究，初步体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469800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得数有几种可能？请你写一写、画一画，自己试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260360" y="51915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教师巡视，选取典型案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求和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得数有几种可能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过程交流，渗透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00040" y="55425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得数有几种可能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00040" y="45709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是怎么想的？和小伙伴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389240" y="502488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教师巡视倾听，选取典型案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求和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得数有几种可能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回顾过程，体会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4569120"/>
            <a:ext cx="83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解决这个问题，大家可以怎样想呢？我们一起来回顾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刚才同学们的好办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求和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得数有几种可能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16"/>
          <p:cNvSpPr/>
          <p:nvPr/>
        </p:nvSpPr>
        <p:spPr>
          <a:xfrm>
            <a:off x="1000080" y="3743280"/>
            <a:ext cx="7286760" cy="1214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圆角矩形 13"/>
          <p:cNvSpPr/>
          <p:nvPr/>
        </p:nvSpPr>
        <p:spPr>
          <a:xfrm>
            <a:off x="981000" y="2421000"/>
            <a:ext cx="728676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五）对比分析，提升认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08000" y="52758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观察我们研究过的两道题，你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171440" y="2519280"/>
            <a:ext cx="69440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个组成两位数，一共能组成几个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66760" y="3852720"/>
            <a:ext cx="70484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个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任意选取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个求和，得数有几种可能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8000" y="5732640"/>
            <a:ext cx="874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都是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三个数中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怎么一个能组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却只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种可能啊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爆炸形 1 17"/>
          <p:cNvSpPr/>
          <p:nvPr/>
        </p:nvSpPr>
        <p:spPr>
          <a:xfrm>
            <a:off x="5859360" y="2805120"/>
            <a:ext cx="1285920" cy="928800"/>
          </a:xfrm>
          <a:prstGeom prst="irregularSeal1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爆炸形 1 18"/>
          <p:cNvSpPr/>
          <p:nvPr/>
        </p:nvSpPr>
        <p:spPr>
          <a:xfrm>
            <a:off x="4762440" y="4148280"/>
            <a:ext cx="1285920" cy="928440"/>
          </a:xfrm>
          <a:prstGeom prst="irregularSeal1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7"/>
          <p:cNvSpPr/>
          <p:nvPr/>
        </p:nvSpPr>
        <p:spPr>
          <a:xfrm>
            <a:off x="4932360" y="31431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5" name="Picture 17" descr="98-1"/>
          <p:cNvPicPr/>
          <p:nvPr/>
        </p:nvPicPr>
        <p:blipFill>
          <a:blip r:embed="rId1"/>
          <a:stretch/>
        </p:blipFill>
        <p:spPr>
          <a:xfrm>
            <a:off x="4510080" y="1989000"/>
            <a:ext cx="4037040" cy="2722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方法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4940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每两个人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次手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一共握几次手？请你画一画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一写，自己试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11280" y="617256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一共握几次手？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基本应用，巩固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450756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495440" y="57283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教师巡视，指导帮助学生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60360" y="2370240"/>
            <a:ext cx="4140360" cy="1414440"/>
            <a:chOff x="360360" y="2370240"/>
            <a:chExt cx="4140360" cy="1414440"/>
          </a:xfrm>
        </p:grpSpPr>
        <p:pic>
          <p:nvPicPr>
            <p:cNvPr id="134" name="Picture 13" descr="男天使副本"/>
            <p:cNvPicPr/>
            <p:nvPr/>
          </p:nvPicPr>
          <p:blipFill>
            <a:blip r:embed="rId2"/>
            <a:stretch/>
          </p:blipFill>
          <p:spPr>
            <a:xfrm>
              <a:off x="360360" y="23702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4"/>
            <p:cNvSpPr/>
            <p:nvPr/>
          </p:nvSpPr>
          <p:spPr>
            <a:xfrm>
              <a:off x="1908000" y="3017880"/>
              <a:ext cx="2592720" cy="496440"/>
            </a:xfrm>
            <a:prstGeom prst="wedgeRoundRectCallout">
              <a:avLst>
                <a:gd name="adj1" fmla="val -62726"/>
                <a:gd name="adj2" fmla="val 55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每两个人握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次手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人一共握几次手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31Z</dcterms:modified>
  <cp:revision>4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