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5.jpeg" ContentType="image/jpeg"/>
  <Override PartName="/ppt/media/type.wav" ContentType="audio/x-wav"/>
  <Override PartName="/ppt/media/laser.wav" ContentType="audio/x-wav"/>
  <Override PartName="/ppt/media/image4.jpeg" ContentType="image/jpeg"/>
  <Override PartName="/ppt/media/image2.png" ContentType="image/png"/>
  <Override PartName="/ppt/media/image6.jpeg" ContentType="image/jpeg"/>
  <Override PartName="/ppt/media/image10.png" ContentType="image/png"/>
  <Override PartName="/ppt/media/chimes.wav" ContentType="audio/x-wav"/>
  <Override PartName="/ppt/media/image16.jpeg" ContentType="image/jpeg"/>
  <Override PartName="/ppt/media/image3.jpeg" ContentType="image/jpeg"/>
  <Override PartName="/ppt/media/image21.png" ContentType="image/png"/>
  <Override PartName="/ppt/media/image1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2.jpeg" ContentType="image/jpeg"/>
  <Override PartName="/ppt/media/explode.wav" ContentType="audio/x-wav"/>
  <Override PartName="/ppt/media/image11.png" ContentType="image/png"/>
  <Override PartName="/ppt/media/image19.jpeg" ContentType="image/jpeg"/>
  <Override PartName="/ppt/media/image1.jpeg" ContentType="image/jpeg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A4A1-46AF-4523-90C2-105B55AF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A869-C1EF-4314-A9AB-A9ECA79C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8BE5-F055-43A9-BEB1-E8E953E2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5B0D-ED11-4483-A01F-BF33EBFF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05D7-87E7-458C-9869-D52DEDF9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FA39-4DF9-4F4E-BB6D-6A084AE6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A9F9-238D-40A2-B41E-82F71444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9F48-5B33-44A5-8D15-17C71DDC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3CB7-4D11-4926-BACF-18923B5A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B7CA-56DA-49B2-9528-35AD22B6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43D1-DE12-413F-8E6D-FA3D2BC6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AA3C-2CB9-49EA-9AB7-EF2C9DD1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F814-220C-4157-B942-BF3BA266A8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jmuseumnet.org/museum/lubo/images/luxun1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ember.netease.com/~niehui/images/zgzp17_2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kmt.org.tw/Content/images/42_4778_129_1.JPG" TargetMode="External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images.google.com/imgres?imgurl=community.cbe21.com/file/chinese/photo/20021019/2451/lx.jpg&amp;imgrefurl=http://community.cbe21.com/home_page/teacherpage3.php%3Fcolumn_code%3Dsongzhiyong&amp;h=288&amp;w=208&amp;prev=/images%3Fq%3D%25E9%25B2%2581%25E8%25BF%2585%26start%3D20%26svnum%3D10%26hl%3Dzh-CN%26lr%3D%26ie%3DUTF-8%26inlang%3Dzh-CN%26sa%3DN" TargetMode="External"/><Relationship Id="rId3" Type="http://schemas.openxmlformats.org/officeDocument/2006/relationships/image" Target="../media/image1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guoxue.com/LU-XUN/lunxun_1.gif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wanami.co.jp/hensyu/art/kikan/img-japan/uesugi2.jpg" TargetMode="External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17" descr=""/>
          <p:cNvPicPr/>
          <p:nvPr/>
        </p:nvPicPr>
        <p:blipFill>
          <a:blip r:embed="rId2"/>
          <a:stretch/>
        </p:blipFill>
        <p:spPr>
          <a:xfrm>
            <a:off x="919080" y="1471680"/>
            <a:ext cx="7448760" cy="1931760"/>
          </a:xfrm>
          <a:prstGeom prst="rect">
            <a:avLst/>
          </a:prstGeom>
          <a:ln w="0">
            <a:noFill/>
          </a:ln>
        </p:spPr>
      </p:pic>
      <p:sp>
        <p:nvSpPr>
          <p:cNvPr id="42" name="WordArt 21"/>
          <p:cNvSpPr txBox="1"/>
          <p:nvPr/>
        </p:nvSpPr>
        <p:spPr>
          <a:xfrm>
            <a:off x="7020000" y="4816440"/>
            <a:ext cx="120492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b0f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鲁迅</a:t>
            </a:r>
            <a:endParaRPr b="1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00b0f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2150640" y="4957920"/>
            <a:ext cx="485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未命名11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"/>
          <p:cNvSpPr/>
          <p:nvPr/>
        </p:nvSpPr>
        <p:spPr>
          <a:xfrm>
            <a:off x="838080" y="539640"/>
            <a:ext cx="769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结果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我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深受感动，从而不由得对长妈妈产生了新的敬意。在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我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渴慕得到绘图的《山海经》，远房叔祖找不到，别人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不肯真实地回答我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自己去买又没有机会的时候，长妈妈却</a:t>
            </a:r>
            <a:r>
              <a:rPr b="1" lang="zh-CN" sz="2400" spc="-1" strike="noStrike">
                <a:solidFill>
                  <a:srgbClr val="ff66cc"/>
                </a:solidFill>
                <a:latin typeface="宋体"/>
              </a:rPr>
              <a:t>神奇般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地买到了。这是多么令人惊喜的消息啊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66cc"/>
                </a:solidFill>
                <a:latin typeface="宋体"/>
              </a:rPr>
              <a:t>她根本不识字，她连书名都说不准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但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别人不肯做，或不能做的事情，她却能够做成功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我们可以想象幼小的鲁迅此时那种激动而又敬佩的心情，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新的敬意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自然而然地在心底萌生。文中用一个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66cc"/>
                </a:solidFill>
                <a:latin typeface="宋体"/>
              </a:rPr>
              <a:t>霹雳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的比喻和词语</a:t>
            </a:r>
            <a:r>
              <a:rPr b="1" lang="zh-CN" sz="2400" spc="-1" strike="noStrike">
                <a:solidFill>
                  <a:srgbClr val="ff66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66cc"/>
                </a:solidFill>
                <a:latin typeface="宋体"/>
              </a:rPr>
              <a:t>震惊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写出了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我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十分震惊的心理，也表现了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我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对长妈妈产生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66cc"/>
                </a:solidFill>
                <a:latin typeface="宋体"/>
              </a:rPr>
              <a:t>新的敬意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的原因。作者得到绘图〈山海经〉的</a:t>
            </a:r>
            <a:r>
              <a:rPr b="1" lang="zh-CN" sz="2400" spc="-1" strike="noStrike">
                <a:solidFill>
                  <a:srgbClr val="ff66cc"/>
                </a:solidFill>
                <a:latin typeface="宋体"/>
              </a:rPr>
              <a:t>欣喜之态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宛然可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609480" y="4984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这就是鲁迅笔下的长妈妈，她虽然多事饶舌，有些令人厌烦的规矩，但她真诚、善良、淳朴、关心孩子，尽自己的可能帮助孩子，这样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个人，怎能不让鲁迅深深地怀念呢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luxun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4267080" y="6858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提问：文中哪些地方抒写了作者这种怀念之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感情地朗读出来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343400" y="2739960"/>
            <a:ext cx="449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确：最后两个自然段，直接抒发了对长妈妈的深切怀念之情。文章最后一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仁厚黑暗的地母啊，愿在你的怀里永安她的魂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!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正是作者深沉怀念的真实写照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你说说：长妈妈是个什么样的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zgzp17_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"/>
          <p:cNvSpPr/>
          <p:nvPr/>
        </p:nvSpPr>
        <p:spPr>
          <a:xfrm>
            <a:off x="3886200" y="4572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作者从多个层面、多个角度刻画了长妈妈的形象，下面请同学们认真分析归纳，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字以内的一句话，提炼出长妈妈的人物形象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267080" y="3581280"/>
            <a:ext cx="4572000" cy="947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  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长妈妈是一个饶舌、多事、有许多繁文缛节，但又爽朗、热情、乐于帮助别人，有着淳朴、宽厚、善良、仁慈的美德的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032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685800" y="8380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文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—1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自然段都在写“不大佩服”“讨厌”“憎恶”阿长，结尾却说“仁厚黑暗的地母啊，愿在你怀里永安她的魂灵！”这是一种什么样的写法，表达了作者什么样的思想感情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838080" y="3048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  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明确：文章没有入笔就写长妈妈这好那好，却用了近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/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的篇幅来写长妈妈的“缺点”和“错误”：饶舌、多事、睡相不好、有许多繁文缛节、愚昧无知。而在后文又用她给我买《三海经》的事，表现出她爽朗、热情、乐于帮助别人的性情。这就是采用先抑后扬的手法。作者以此凸现出长妈妈淳朴、宽厚、善良、仁慈的美德，表达自己的深切思念。这样文章更加真切生动，人物形象更为丰满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0" descr="42_4778_129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"/>
          <p:cNvSpPr/>
          <p:nvPr/>
        </p:nvSpPr>
        <p:spPr>
          <a:xfrm>
            <a:off x="304920" y="5335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cc"/>
                </a:solidFill>
                <a:latin typeface="Times New Roman"/>
                <a:ea typeface="隶书"/>
              </a:rPr>
              <a:t>重点与难点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09480" y="191916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本文的记叙线索是什么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33520" y="3335400"/>
            <a:ext cx="8229600" cy="520560"/>
          </a:xfrm>
          <a:prstGeom prst="rect">
            <a:avLst/>
          </a:pr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散文的“神不散”说的是：主题集中。写散文时要放得开，但是要受到中心思想的制约，所以还得收得拢。在阅读散文时，要注意抓住文章的线索，理清全篇的层次结构和理解全篇思想内容。本文是以作者的思想变化为线索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1" descr="radek4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609480" y="5335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作者欲扬先抑，写知道阿长谋害了“我”的隐鼠时，感情上是“憎恶”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85800" y="56991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文章最后以“仁厚黑暗的地母啊，愿在你怀里永安她的魂灵”结束，表达了作者对阿长的深切怀念之情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1371600" y="160020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对于阿长的平常举动，“我实在不大佩服她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1676520" y="36417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对于阿长所懂得的许多规矩，‘哦”也是‘不耐烦的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762120" y="2575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尽管在阿长给“我”讲长毛的故事时，“我”也曾“发生过空前的敬意”，但那后来也“逐渐淡漠”了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685800" y="44798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是因为阿长给“我”买《山海经》，才真正“使我发生新的敬意了”，甚至连“谋害隐鼠的怨恨，从此完全消灭了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4038480" y="9907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4038480" y="20574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4038480" y="32004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4038480" y="4038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4038480" y="52578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9" descr="exptext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"/>
          <p:cNvSpPr/>
          <p:nvPr/>
        </p:nvSpPr>
        <p:spPr>
          <a:xfrm>
            <a:off x="457200" y="457200"/>
            <a:ext cx="8229600" cy="581400"/>
          </a:xfrm>
          <a:prstGeom prst="rect">
            <a:avLst/>
          </a:pr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简析过渡与照应在本文结构中所起的作用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2952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过渡和照应是记叙文结构的重要组成部分。过渡，是连接段落、层次之间的纽带。一般来说，内容上的转折、叙述中的总分、行文中的起讫都要安排过渡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457200" y="32767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文章中有过渡性语句，如文中“但是她懂得许多规矩”，“然而我有一时也对她发生过空前的敬意”，“但当我哀悼隐鼠，给它复仇的时候，一面又在渴慕着绘图的《山海经》了”等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80880" y="4952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也有过渡性段落“这种敬意……我惧惮她什么呢！”这些过渡使文章能够很自然地由一件事写到另一件事，行文紧凑，结构严谨，浑然一体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未命名6"/>
          <p:cNvPicPr/>
          <p:nvPr/>
        </p:nvPicPr>
        <p:blipFill>
          <a:blip r:embed="rId1"/>
          <a:stretch/>
        </p:blipFill>
        <p:spPr>
          <a:xfrm>
            <a:off x="0" y="0"/>
            <a:ext cx="9144000" cy="70390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"/>
          <p:cNvSpPr/>
          <p:nvPr/>
        </p:nvSpPr>
        <p:spPr>
          <a:xfrm>
            <a:off x="685800" y="30492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cc"/>
                </a:solidFill>
                <a:latin typeface="Times New Roman"/>
                <a:ea typeface="隶书"/>
              </a:rPr>
              <a:t>照应：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124080" y="41148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通过照应强调了阿长的不被人重视，地位低下。文中照应的例子很多。照应不是重复，而是对前文内容的补充，前后映衬，加深读者的印象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762120" y="1676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指文章有些内容前后呼应，前面讲了，后面也有着落。如文中在开头写道“也终于不知道她姓什么”，后文是这样照应的，“我终于不知道她的姓名，她的经历；仅知道有一个过继的儿子，她大约是青年守寡的孤孀”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lx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733920"/>
            <a:ext cx="2265480" cy="3124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9"/>
          <p:cNvSpPr/>
          <p:nvPr/>
        </p:nvSpPr>
        <p:spPr>
          <a:xfrm>
            <a:off x="4140360" y="18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更多资料课件下载请浏览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2" descr="未命名6"/>
          <p:cNvPicPr/>
          <p:nvPr/>
        </p:nvPicPr>
        <p:blipFill>
          <a:blip r:embed="rId1"/>
          <a:stretch/>
        </p:blipFill>
        <p:spPr>
          <a:xfrm>
            <a:off x="0" y="0"/>
            <a:ext cx="9144000" cy="70390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914400" y="62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Group 7"/>
          <p:cNvGrpSpPr/>
          <p:nvPr/>
        </p:nvGrpSpPr>
        <p:grpSpPr>
          <a:xfrm>
            <a:off x="1916280" y="628560"/>
            <a:ext cx="7138800" cy="360"/>
            <a:chOff x="1916280" y="628560"/>
            <a:chExt cx="7138800" cy="360"/>
          </a:xfrm>
        </p:grpSpPr>
        <p:sp>
          <p:nvSpPr>
            <p:cNvPr id="128" name="Rectangle 6"/>
            <p:cNvSpPr/>
            <p:nvPr/>
          </p:nvSpPr>
          <p:spPr>
            <a:xfrm>
              <a:off x="1916280" y="628560"/>
              <a:ext cx="71388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5"/>
            <p:cNvSpPr/>
            <p:nvPr/>
          </p:nvSpPr>
          <p:spPr>
            <a:xfrm>
              <a:off x="1916280" y="628560"/>
              <a:ext cx="71388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Text Box 8"/>
          <p:cNvSpPr/>
          <p:nvPr/>
        </p:nvSpPr>
        <p:spPr>
          <a:xfrm>
            <a:off x="304920" y="4572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总结全文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1" descr="lunxun_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3"/>
          <p:cNvSpPr/>
          <p:nvPr/>
        </p:nvSpPr>
        <p:spPr>
          <a:xfrm>
            <a:off x="304920" y="14860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从整体说来，本文诙谐而富有情趣，但又不失深沉庄重。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切切察察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神态，睡相的描写，吃福橘日于的紧张心情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长毛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故事等，读后令人捧腹开怀，忍俊不禁。可是，当长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妈妈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我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买回《山海经》后，作者的感情变得深沉庄重，深切怀念之情流露于字里行间，这种色彩的变化，使得作者对长妈妈的感情表达得更加真实感人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dsdfs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2"/>
          <p:cNvSpPr/>
          <p:nvPr/>
        </p:nvSpPr>
        <p:spPr>
          <a:xfrm>
            <a:off x="762120" y="60948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识记与理解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90720" y="2038320"/>
            <a:ext cx="784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．给下列加横线的字注音。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阿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长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             ）                 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疮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疤（           ）</a:t>
            </a:r>
            <a:br>
              <a:rPr sz="3200"/>
            </a:b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诘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问（             ）                 惧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惮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           ）</a:t>
            </a:r>
            <a:br>
              <a:rPr sz="3200"/>
            </a:b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震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惊（             ）                 粗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拙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           ）</a:t>
            </a:r>
            <a:br>
              <a:rPr sz="3200"/>
            </a:b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憎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恶（             ）                 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絮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说（           ）</a:t>
            </a:r>
            <a:br>
              <a:rPr sz="3200"/>
            </a:b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惶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急（             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438280" y="563868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7086600" y="4038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6858000" y="2514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uā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2438280" y="2514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á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2514600" y="3962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ē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2438280" y="44956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uá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7086600" y="3519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hu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2514600" y="35053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hè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7162920" y="2986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à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2666880" y="30621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i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NewsMedia_1243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152280" y="254160"/>
            <a:ext cx="5257800" cy="2654280"/>
          </a:xfrm>
          <a:prstGeom prst="rect">
            <a:avLst/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鲁迅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88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日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日〕，中国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文学家、思想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和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革命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。原名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周树人，字豫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浙江绍兴人。出身于破落封建家庭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0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去日本留学，原在仙台医学院学医， 后从事文艺工作，企图用以改变国民精神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月，首次用“鲁迅”的笔名，发表中国现代文学史上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第一篇白话小说《狂人日记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奠定了新文学运动的 基石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间，陆续创作出版了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小说集《呐喊》、《彷徨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论文集《坟》、 散文诗集《野草》、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散文集《朝花夕拾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杂文集《热风》、《华盖集》等专集。其中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月发表的中篇小说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《阿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Q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正传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是中国现代文学 史上的不朽杰作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dsdfs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"/>
          <p:cNvSpPr/>
          <p:nvPr/>
        </p:nvSpPr>
        <p:spPr>
          <a:xfrm>
            <a:off x="7621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．选词填空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685800" y="1447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这种敬意，虽然也逐渐（冷淡、淡薄、冷漠）起来，但完全（消失、消灭、消亡），大概是在知道她谋害了我的隐鼠之后。那时就极严重地（询问、审问、诘问 ），而且当面叫她阿长。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09480" y="3581280"/>
            <a:ext cx="792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这（就、也、又）使我发生新的敬意了，别人不肯做，或不能做的事，她（却、也、还）能够做成功。她确有伟大的神力。谋害隐鼠的怨恨，从此（基本、完全、全部）消灭了。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56386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cc"/>
                </a:solidFill>
                <a:uFillTx/>
                <a:latin typeface="Times New Roman"/>
              </a:rPr>
              <a:t>淡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90512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cc"/>
                </a:solidFill>
                <a:uFillTx/>
                <a:latin typeface="Times New Roman"/>
              </a:rPr>
              <a:t>消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32004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cc"/>
                </a:solidFill>
                <a:uFillTx/>
                <a:latin typeface="Times New Roman"/>
              </a:rPr>
              <a:t>又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396252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cc"/>
                </a:solidFill>
                <a:uFillTx/>
                <a:latin typeface="Times New Roman"/>
              </a:rPr>
              <a:t>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7086600" y="4343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cc"/>
                </a:solidFill>
                <a:uFillTx/>
                <a:latin typeface="Times New Roman"/>
              </a:rPr>
              <a:t>完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7086600" y="2133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cc"/>
                </a:solidFill>
                <a:uFillTx/>
                <a:latin typeface="Times New Roman"/>
              </a:rPr>
              <a:t>诘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文本框 1"/>
          <p:cNvSpPr/>
          <p:nvPr/>
        </p:nvSpPr>
        <p:spPr>
          <a:xfrm>
            <a:off x="685800" y="5802480"/>
            <a:ext cx="67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9" descr="dsdfs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"/>
          <p:cNvSpPr/>
          <p:nvPr/>
        </p:nvSpPr>
        <p:spPr>
          <a:xfrm>
            <a:off x="380880" y="4572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．刻画人物形象，常用的有肖像描写、语言描写、动作描写、心理描写。指出下列各旬运用了什么描写方法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85800" y="2133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她生得黄胖而矮。（                       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09480" y="26668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最讨厌的是常喜欢切切察察，向人们低声絮说些什么事，还竖起第二个手指，在空中上下摇动，或者点着对手或自己的鼻尖。（                      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5800" y="3917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她穿着新的蓝布衫回来了，一见面，就将一包书递给我，高兴地说道：“哥儿，有画儿的‘二哼经’，我给你买来了！”（                        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419720" y="2133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</a:rPr>
              <a:t>肖像描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276720" y="3429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</a:rPr>
              <a:t>动作描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057400" y="4648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</a:rPr>
              <a:t>语言描写、外貌描写、动作描写、神态描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0" descr="dsdfs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"/>
          <p:cNvSpPr/>
          <p:nvPr/>
        </p:nvSpPr>
        <p:spPr>
          <a:xfrm>
            <a:off x="609480" y="457200"/>
            <a:ext cx="79250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．判断正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）《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朝花夕拾》是一本散文集，《从百草园到三味书屋》也出自这本集子。（           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33520" y="2362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文中的“我”表示的是采用第一人称叙述，并非真的是指少年鲁迅。（             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33520" y="35812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鲁迅，原名周树人，是我国伟大的文学家、思想家和革命家。著作有杂文、小说、散文、诗歌等，收在《鲁迅全集》里。（            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533520" y="51228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从题目〈阿长与山海经》可知，课文详写的是阿长买《山海经》送“我”这一件事，其余的都是略写。（             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191120" y="1447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</a:rPr>
              <a:t>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7620120" y="5486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</a:rPr>
              <a:t>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3048120" y="2743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</a:rPr>
              <a:t>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3623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</a:rPr>
              <a:t>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2829-9EC0-4EB5-8FA8-541E434740F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luxun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3"/>
          <p:cNvSpPr txBox="1"/>
          <p:nvPr/>
        </p:nvSpPr>
        <p:spPr>
          <a:xfrm>
            <a:off x="3048120" y="3276720"/>
            <a:ext cx="2438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长妈妈</a:t>
            </a:r>
            <a:endParaRPr b="1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62120" y="5029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她讲的美女蛇的故事真是神秘莫测，给百草园蒙上一层神秘的面纱。那么，长妈妈是一个什么样的人呢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我们—起来看课文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533520" y="2057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在鲁迅先生的散文《从百草园到三味书屋》里，鲁迅除写了自己的老师寿镜吾先生之外，还写到了—个人，这个人是谁呢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?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8"/>
          <p:cNvSpPr txBox="1"/>
          <p:nvPr/>
        </p:nvSpPr>
        <p:spPr>
          <a:xfrm>
            <a:off x="533520" y="533520"/>
            <a:ext cx="27432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复习旧知识</a:t>
            </a:r>
            <a:endParaRPr b="1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7" descr="03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533520" y="304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文章主要描</a:t>
            </a:r>
            <a:r>
              <a:rPr b="1" lang="zh-CN" sz="2400" spc="-1" strike="noStrike">
                <a:solidFill>
                  <a:srgbClr val="99ff33"/>
                </a:solidFill>
                <a:latin typeface="Times New Roman"/>
              </a:rPr>
              <a:t>写的对象是长妈妈，作者几乎是按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生活的原样</a:t>
            </a:r>
            <a:r>
              <a:rPr b="1" lang="zh-CN" sz="2400" spc="-1" strike="noStrike">
                <a:solidFill>
                  <a:srgbClr val="99ff33"/>
                </a:solidFill>
                <a:latin typeface="Times New Roman"/>
              </a:rPr>
              <a:t>，真实而亲切地再现了自己童年时期与长妈妈相处的情景。请同学们在自读课文的基础上，找出描写长妈妈的事件或细节，并说说这些事件或细节体现了长妈妈什么样的性情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457200" y="2057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１．长妈妈是一个没有名字的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80880" y="25909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２．长妈妈睡觉时总是“在床中间摆成一个‘大’字，挤得我没有余地翻身”（长妈妈睡相不好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57200" y="34290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３．长妈妈“常喜欢切切察察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57200" y="3962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４．长妈妈“逼”着我吃福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0880" y="45720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５．长妈妈给我讲长毛的故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80880" y="5105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６．长妈妈给我买来《山海经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952880" y="20574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长妈妈地位低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4724280" y="2971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长妈妈是一个粗人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4495680" y="34290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长妈喜欢饶舌多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4114800" y="39625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长妈妈有着太多的繁文缛节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4572000" y="4572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长妈妈是无知而又淳朴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4648320" y="50608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长妈妈是一个真诚，善良，关心孩子，尽可能帮助孩子的好人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bg_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"/>
          <p:cNvSpPr/>
          <p:nvPr/>
        </p:nvSpPr>
        <p:spPr>
          <a:xfrm>
            <a:off x="533520" y="45720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思考：课文对哪些内容详写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哪些内容写得比较简单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为什么这样安排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？   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33520" y="1981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明确：略写了阿长的称呼的来历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切切察察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毛病、摆成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大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字的睡相，文中详写了三件事。阿长让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我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过元旦时吃福橘的做法，令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我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感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古怪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；讲阿长的故事时说到她的作用，令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我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惊异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她还有这样伟大的神力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；阿长买《山海经》，更使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我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相信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她确有伟大的神力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3520" y="426708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阿长以其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深不可测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的 神秘影响了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我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，激发了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我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强烈的好奇心。同样，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我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 渴望读《山海经》也是因为书的内容不同一般，有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人面的兽，九头的蛇，三脚的鸟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……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其神秘怪异的内容激发了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我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强烈的好奇心。阿长、《山海经》以及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我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印象深刻的三件事都是统一在表现儿童对未知、神秘事物有着强烈的好奇心这一中心之内的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bg_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"/>
          <p:cNvSpPr/>
          <p:nvPr/>
        </p:nvSpPr>
        <p:spPr>
          <a:xfrm>
            <a:off x="533520" y="19890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．文中略写的部分可否删去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WordArt 3"/>
          <p:cNvSpPr txBox="1"/>
          <p:nvPr/>
        </p:nvSpPr>
        <p:spPr>
          <a:xfrm>
            <a:off x="685800" y="609480"/>
            <a:ext cx="1676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思考：</a:t>
            </a:r>
            <a:endParaRPr b="1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914400" y="32004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明确：记叙文的详略安排，是根据中心来确定的。</a:t>
            </a:r>
            <a:br>
              <a:rPr sz="2400"/>
            </a:b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略写往往是记叙文中的烘托部分，没有略写，文章内容就会呆板，头绪就会不清，情节就会不连贯。如果说详写是红花，略写就是不可 少的绿叶。如文中略写的“我”不大佩服阿长的三件事就起到了丰富文章内容，更全面完整地刻画阿长这个人物形象，增强文章的真实性的作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uesugi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"/>
          <p:cNvSpPr/>
          <p:nvPr/>
        </p:nvSpPr>
        <p:spPr>
          <a:xfrm>
            <a:off x="762120" y="838080"/>
            <a:ext cx="8076960" cy="70344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．文章开头写阿长名字由来的目的是什么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990720" y="2633760"/>
            <a:ext cx="7467480" cy="52056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阿长之所以有这个名字，只是因为她的前任叫这个名字，而大家又叫惯了，并非是她真的叫这个名字。久而久之，她的真名倒无人记得了。作者这样写，形象地刻画出阿长是一个不被人重视、地位低下的劳动人民形象。此外，以写名字的由来开头，还能起到使读者对阿长有个总的印象，从而很自然地引人下文的作用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bg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"/>
          <p:cNvSpPr/>
          <p:nvPr/>
        </p:nvSpPr>
        <p:spPr>
          <a:xfrm>
            <a:off x="457200" y="5335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04920" y="3049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ff"/>
                </a:solidFill>
                <a:latin typeface="Times New Roman"/>
              </a:rPr>
              <a:t>分析两个事例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457200" y="106668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．元旦除夕吃福橘，说是吃了它，一年到头，顺顺溜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文中描写了长妈妈塞给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我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福橘的往事，是怎样描写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她的这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举动寄托了她怎样的愿望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457200" y="28954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明确：文中写她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立刻伸出臂膊，一把将我按住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”“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惶急地石着我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她又有所要求似的，摇着我的肩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。焦急的神态跃然纸上。而当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我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说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阿妈，恭喜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……”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之后，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她于是十分欢喜似的，笑将起来，同时将一点冰冷的东西，塞在我的嘴里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欣喜之态溢于言表。作者虽然认为这是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元旦辟头的磨难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’’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但正是这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磨难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中，寄托着长妈妈怎样善良真诚的愿望啊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她希望自己和孩子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一年到头，顺顺流流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这其中更重要的是孩子，因为并不是些自己吃福橘，而是由她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塞在我的嘴里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bg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"/>
          <p:cNvSpPr/>
          <p:nvPr/>
        </p:nvSpPr>
        <p:spPr>
          <a:xfrm>
            <a:off x="762120" y="53352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读第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18—28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自然段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这里，作者详细叙述了长妈妈为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我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买《山海经》的经过。请一位同学来复述买书的起因、经过、结果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838080" y="2790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事情的起因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我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曾在远房的叔祖那里看到过，后来一直渴慕着绘图的仙海经》。叫远房叔祖那儿已无处可寻，买吧，又没有好机会。因此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我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对《山海经》一直念念不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838080" y="4800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经过：阿长向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我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问《山海经》的事，她告假回家以后的四五天，她将《山海经》给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我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买来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5T15:46:31Z</dcterms:created>
  <dc:creator>第一PPT模板网-WWW.1PPT.COM</dc:creator>
  <dc:description/>
  <cp:keywords>第一PPT模板网-WWW.1PPT.COM</cp:keywords>
  <dc:language>en-US</dc:language>
  <cp:lastModifiedBy>xinxing</cp:lastModifiedBy>
  <dcterms:modified xsi:type="dcterms:W3CDTF">2017-04-16T16:11:54Z</dcterms:modified>
  <cp:revision>12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