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chimes.wav" ContentType="audio/x-wav"/>
  <Override PartName="/ppt/media/image7.wmf" ContentType="image/x-wmf"/>
  <Override PartName="/ppt/media/image12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F5A3-8DB0-4F98-99FB-18143A524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0B87-1C7E-4DE5-A87F-B59A4ECA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DAA0-8E4B-4282-8ECB-44EBE611F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BB2B-45D0-40A6-856F-8975CE63E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F36D-B7A3-4BF2-BBF8-961E25C4F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7A164-BC6B-4BE7-9977-B6F6B84A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5966-35C8-4E66-8C7E-9414171C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B030-E810-42AC-B2B8-9E31F046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C94B-D267-409A-BA18-42F15E08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6AF6-0A9A-4400-9186-56FFECB5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19F7-469F-4DAE-A995-58DD5C95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4BBF-98FC-4E84-9F17-46656878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7DF5-BE81-476E-8758-B3B738E5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C53E-5A18-4A10-9CC2-BF3B06DA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06F8-1C4F-442E-8FA1-2FB9F900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DA9D-8C24-48F1-8C65-2156A8579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4911-5016-49D5-92EA-1DED0ACCE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E118-DE4C-468D-9FD2-15677035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9A81-23C5-4DDE-BA7F-6CE8BF40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84BD-DD26-4B13-859C-47E50F64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8207-A7C2-4551-B523-B799D766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F77A-C572-4D06-A1DC-59842827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35CC-CF97-4447-971C-10D95577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FDC8-3C15-4538-A904-2C7ECCAF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a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4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EECD-8A79-44CB-8143-8B18341FEFB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27"/>
          <p:cNvSpPr/>
          <p:nvPr/>
        </p:nvSpPr>
        <p:spPr>
          <a:xfrm rot="18427200">
            <a:off x="7864560" y="25200"/>
            <a:ext cx="1164960" cy="20955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2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42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22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3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5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6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33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34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35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36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7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137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128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49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5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56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46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50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51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126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32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45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47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48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52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5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5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57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136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2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5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141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132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30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131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31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38"/>
                <p:cNvSpPr/>
                <p:nvPr/>
              </p:nvSpPr>
              <p:spPr>
                <a:xfrm rot="18427200">
                  <a:off x="801252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39"/>
                <p:cNvSpPr/>
                <p:nvPr/>
              </p:nvSpPr>
              <p:spPr>
                <a:xfrm rot="18427200">
                  <a:off x="7710840" y="286560"/>
                  <a:ext cx="8024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0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1"/>
                <p:cNvSpPr/>
                <p:nvPr/>
              </p:nvSpPr>
              <p:spPr>
                <a:xfrm rot="18427200">
                  <a:off x="840780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2"/>
                <p:cNvSpPr/>
                <p:nvPr/>
              </p:nvSpPr>
              <p:spPr>
                <a:xfrm rot="18427200">
                  <a:off x="833796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43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44"/>
                <p:cNvSpPr/>
                <p:nvPr/>
              </p:nvSpPr>
              <p:spPr>
                <a:xfrm rot="18427200">
                  <a:off x="7853760" y="223200"/>
                  <a:ext cx="28440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140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a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50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60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28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9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0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57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31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32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33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34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35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59"/>
          <p:cNvGrpSpPr/>
          <p:nvPr/>
        </p:nvGrpSpPr>
        <p:grpSpPr>
          <a:xfrm>
            <a:off x="7797240" y="4317840"/>
            <a:ext cx="981000" cy="1160280"/>
            <a:chOff x="7797240" y="4317840"/>
            <a:chExt cx="981000" cy="1160280"/>
          </a:xfrm>
        </p:grpSpPr>
        <p:sp>
          <p:nvSpPr>
            <p:cNvPr id="99" name="Freeform 37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38"/>
            <p:cNvSpPr/>
            <p:nvPr/>
          </p:nvSpPr>
          <p:spPr>
            <a:xfrm rot="7320000">
              <a:off x="7766280" y="4637880"/>
              <a:ext cx="995400" cy="4600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39"/>
            <p:cNvSpPr/>
            <p:nvPr/>
          </p:nvSpPr>
          <p:spPr>
            <a:xfrm rot="7320000">
              <a:off x="7934760" y="462168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58"/>
            <p:cNvGrpSpPr/>
            <p:nvPr/>
          </p:nvGrpSpPr>
          <p:grpSpPr>
            <a:xfrm>
              <a:off x="7797240" y="4317840"/>
              <a:ext cx="981000" cy="1160280"/>
              <a:chOff x="7797240" y="4317840"/>
              <a:chExt cx="981000" cy="1160280"/>
            </a:xfrm>
          </p:grpSpPr>
          <p:sp>
            <p:nvSpPr>
              <p:cNvPr id="103" name="Freeform 40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41"/>
              <p:cNvSpPr/>
              <p:nvPr/>
            </p:nvSpPr>
            <p:spPr>
              <a:xfrm rot="7320000">
                <a:off x="7758360" y="4650480"/>
                <a:ext cx="1058760" cy="49500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42"/>
              <p:cNvSpPr/>
              <p:nvPr/>
            </p:nvSpPr>
            <p:spPr>
              <a:xfrm rot="7320000">
                <a:off x="8036280" y="4757400"/>
                <a:ext cx="749520" cy="279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43"/>
              <p:cNvSpPr/>
              <p:nvPr/>
            </p:nvSpPr>
            <p:spPr>
              <a:xfrm rot="7320000">
                <a:off x="8513640" y="4559760"/>
                <a:ext cx="10008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44"/>
              <p:cNvSpPr/>
              <p:nvPr/>
            </p:nvSpPr>
            <p:spPr>
              <a:xfrm rot="7320000">
                <a:off x="8152920" y="4759200"/>
                <a:ext cx="306360" cy="1656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45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4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1D30-F854-487B-8E15-1C54CD2638D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a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7"/>
          <p:cNvSpPr txBox="1"/>
          <p:nvPr/>
        </p:nvSpPr>
        <p:spPr>
          <a:xfrm>
            <a:off x="684360" y="2305080"/>
            <a:ext cx="7920000" cy="198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8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隶书"/>
              </a:rPr>
              <a:t>百分数与小数的互换</a:t>
            </a:r>
            <a:endParaRPr b="1" lang="en-US" sz="4400" spc="1" strike="noStrike">
              <a:ln w="18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  <p:sp>
        <p:nvSpPr>
          <p:cNvPr id="152" name="矩形 6"/>
          <p:cNvSpPr/>
          <p:nvPr/>
        </p:nvSpPr>
        <p:spPr>
          <a:xfrm>
            <a:off x="2462760" y="6093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a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0" descr="练习(13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15" name="Group 4"/>
          <p:cNvGrpSpPr/>
          <p:nvPr/>
        </p:nvGrpSpPr>
        <p:grpSpPr>
          <a:xfrm>
            <a:off x="3132000" y="3933360"/>
            <a:ext cx="1512720" cy="1873080"/>
            <a:chOff x="3132000" y="3933360"/>
            <a:chExt cx="1512720" cy="1873080"/>
          </a:xfrm>
        </p:grpSpPr>
        <p:grpSp>
          <p:nvGrpSpPr>
            <p:cNvPr id="316" name="Group 5"/>
            <p:cNvGrpSpPr/>
            <p:nvPr/>
          </p:nvGrpSpPr>
          <p:grpSpPr>
            <a:xfrm>
              <a:off x="3132000" y="3933360"/>
              <a:ext cx="1296720" cy="1873080"/>
              <a:chOff x="3132000" y="3933360"/>
              <a:chExt cx="1296720" cy="1873080"/>
            </a:xfrm>
          </p:grpSpPr>
          <p:sp>
            <p:nvSpPr>
              <p:cNvPr id="317" name="AutoShape 6"/>
              <p:cNvSpPr/>
              <p:nvPr/>
            </p:nvSpPr>
            <p:spPr>
              <a:xfrm rot="16200000">
                <a:off x="2664000" y="4401000"/>
                <a:ext cx="1873080" cy="937440"/>
              </a:xfrm>
              <a:prstGeom prst="triangle">
                <a:avLst>
                  <a:gd name="adj" fmla="val 50000"/>
                </a:avLst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AutoShape 7"/>
              <p:cNvSpPr/>
              <p:nvPr/>
            </p:nvSpPr>
            <p:spPr>
              <a:xfrm rot="16200000">
                <a:off x="3924360" y="4722840"/>
                <a:ext cx="647640" cy="360720"/>
              </a:xfrm>
              <a:prstGeom prst="triangle">
                <a:avLst>
                  <a:gd name="adj" fmla="val 50000"/>
                </a:avLst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Oval 8"/>
              <p:cNvSpPr/>
              <p:nvPr/>
            </p:nvSpPr>
            <p:spPr>
              <a:xfrm>
                <a:off x="3203280" y="479736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Text Box 9"/>
            <p:cNvSpPr/>
            <p:nvPr/>
          </p:nvSpPr>
          <p:spPr>
            <a:xfrm>
              <a:off x="3276360" y="4582800"/>
              <a:ext cx="13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7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10"/>
          <p:cNvGrpSpPr/>
          <p:nvPr/>
        </p:nvGrpSpPr>
        <p:grpSpPr>
          <a:xfrm>
            <a:off x="4788000" y="2781000"/>
            <a:ext cx="1439280" cy="1873080"/>
            <a:chOff x="4788000" y="2781000"/>
            <a:chExt cx="1439280" cy="1873080"/>
          </a:xfrm>
        </p:grpSpPr>
        <p:grpSp>
          <p:nvGrpSpPr>
            <p:cNvPr id="322" name="Group 11"/>
            <p:cNvGrpSpPr/>
            <p:nvPr/>
          </p:nvGrpSpPr>
          <p:grpSpPr>
            <a:xfrm>
              <a:off x="4788000" y="2781000"/>
              <a:ext cx="1296360" cy="1873080"/>
              <a:chOff x="4788000" y="2781000"/>
              <a:chExt cx="1296360" cy="1873080"/>
            </a:xfrm>
          </p:grpSpPr>
          <p:sp>
            <p:nvSpPr>
              <p:cNvPr id="323" name="AutoShape 12"/>
              <p:cNvSpPr/>
              <p:nvPr/>
            </p:nvSpPr>
            <p:spPr>
              <a:xfrm rot="16200000">
                <a:off x="4320000" y="3249000"/>
                <a:ext cx="1873080" cy="937080"/>
              </a:xfrm>
              <a:prstGeom prst="triangle">
                <a:avLst>
                  <a:gd name="adj" fmla="val 50000"/>
                </a:avLst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AutoShape 13"/>
              <p:cNvSpPr/>
              <p:nvPr/>
            </p:nvSpPr>
            <p:spPr>
              <a:xfrm rot="16200000">
                <a:off x="5580000" y="3570480"/>
                <a:ext cx="647640" cy="360720"/>
              </a:xfrm>
              <a:prstGeom prst="triangle">
                <a:avLst>
                  <a:gd name="adj" fmla="val 50000"/>
                </a:avLst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Oval 14"/>
              <p:cNvSpPr/>
              <p:nvPr/>
            </p:nvSpPr>
            <p:spPr>
              <a:xfrm>
                <a:off x="4859280" y="364500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" name="Text Box 15"/>
            <p:cNvSpPr/>
            <p:nvPr/>
          </p:nvSpPr>
          <p:spPr>
            <a:xfrm>
              <a:off x="4860720" y="343044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24%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16"/>
          <p:cNvGrpSpPr/>
          <p:nvPr/>
        </p:nvGrpSpPr>
        <p:grpSpPr>
          <a:xfrm>
            <a:off x="6948360" y="4220640"/>
            <a:ext cx="1654200" cy="1873080"/>
            <a:chOff x="6948360" y="4220640"/>
            <a:chExt cx="1654200" cy="1873080"/>
          </a:xfrm>
        </p:grpSpPr>
        <p:grpSp>
          <p:nvGrpSpPr>
            <p:cNvPr id="328" name="Group 17"/>
            <p:cNvGrpSpPr/>
            <p:nvPr/>
          </p:nvGrpSpPr>
          <p:grpSpPr>
            <a:xfrm>
              <a:off x="6948360" y="4220640"/>
              <a:ext cx="1296720" cy="1873080"/>
              <a:chOff x="6948360" y="4220640"/>
              <a:chExt cx="1296720" cy="1873080"/>
            </a:xfrm>
          </p:grpSpPr>
          <p:sp>
            <p:nvSpPr>
              <p:cNvPr id="329" name="AutoShape 18"/>
              <p:cNvSpPr/>
              <p:nvPr/>
            </p:nvSpPr>
            <p:spPr>
              <a:xfrm rot="16200000">
                <a:off x="6480360" y="4688280"/>
                <a:ext cx="1873080" cy="937440"/>
              </a:xfrm>
              <a:prstGeom prst="triangle">
                <a:avLst>
                  <a:gd name="adj" fmla="val 50000"/>
                </a:avLst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AutoShape 19"/>
              <p:cNvSpPr/>
              <p:nvPr/>
            </p:nvSpPr>
            <p:spPr>
              <a:xfrm rot="16200000">
                <a:off x="7740720" y="5010120"/>
                <a:ext cx="647640" cy="360720"/>
              </a:xfrm>
              <a:prstGeom prst="triangle">
                <a:avLst>
                  <a:gd name="adj" fmla="val 50000"/>
                </a:avLst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Oval 20"/>
              <p:cNvSpPr/>
              <p:nvPr/>
            </p:nvSpPr>
            <p:spPr>
              <a:xfrm>
                <a:off x="7019640" y="508464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Text Box 21"/>
            <p:cNvSpPr/>
            <p:nvPr/>
          </p:nvSpPr>
          <p:spPr>
            <a:xfrm>
              <a:off x="7091280" y="487044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.4%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22"/>
          <p:cNvGrpSpPr/>
          <p:nvPr/>
        </p:nvGrpSpPr>
        <p:grpSpPr>
          <a:xfrm>
            <a:off x="6372360" y="1125000"/>
            <a:ext cx="1800000" cy="1873080"/>
            <a:chOff x="6372360" y="1125000"/>
            <a:chExt cx="1800000" cy="1873080"/>
          </a:xfrm>
        </p:grpSpPr>
        <p:grpSp>
          <p:nvGrpSpPr>
            <p:cNvPr id="334" name="Group 23"/>
            <p:cNvGrpSpPr/>
            <p:nvPr/>
          </p:nvGrpSpPr>
          <p:grpSpPr>
            <a:xfrm>
              <a:off x="6372360" y="1125000"/>
              <a:ext cx="1296360" cy="1873080"/>
              <a:chOff x="6372360" y="1125000"/>
              <a:chExt cx="1296360" cy="1873080"/>
            </a:xfrm>
          </p:grpSpPr>
          <p:sp>
            <p:nvSpPr>
              <p:cNvPr id="335" name="AutoShape 24"/>
              <p:cNvSpPr/>
              <p:nvPr/>
            </p:nvSpPr>
            <p:spPr>
              <a:xfrm rot="16200000">
                <a:off x="5904360" y="1593000"/>
                <a:ext cx="1873080" cy="937080"/>
              </a:xfrm>
              <a:prstGeom prst="triangle">
                <a:avLst>
                  <a:gd name="adj" fmla="val 50000"/>
                </a:avLst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AutoShape 25"/>
              <p:cNvSpPr/>
              <p:nvPr/>
            </p:nvSpPr>
            <p:spPr>
              <a:xfrm rot="16200000">
                <a:off x="7164360" y="1914480"/>
                <a:ext cx="647640" cy="360720"/>
              </a:xfrm>
              <a:prstGeom prst="triangle">
                <a:avLst>
                  <a:gd name="adj" fmla="val 50000"/>
                </a:avLst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Oval 26"/>
              <p:cNvSpPr/>
              <p:nvPr/>
            </p:nvSpPr>
            <p:spPr>
              <a:xfrm>
                <a:off x="6443640" y="198900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Text Box 27"/>
            <p:cNvSpPr/>
            <p:nvPr/>
          </p:nvSpPr>
          <p:spPr>
            <a:xfrm>
              <a:off x="6515280" y="1846080"/>
              <a:ext cx="165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.2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28"/>
          <p:cNvGrpSpPr/>
          <p:nvPr/>
        </p:nvGrpSpPr>
        <p:grpSpPr>
          <a:xfrm>
            <a:off x="579240" y="2785320"/>
            <a:ext cx="2129040" cy="1904760"/>
            <a:chOff x="579240" y="2785320"/>
            <a:chExt cx="2129040" cy="1904760"/>
          </a:xfrm>
        </p:grpSpPr>
        <p:grpSp>
          <p:nvGrpSpPr>
            <p:cNvPr id="340" name="Group 29"/>
            <p:cNvGrpSpPr/>
            <p:nvPr/>
          </p:nvGrpSpPr>
          <p:grpSpPr>
            <a:xfrm>
              <a:off x="579240" y="2785320"/>
              <a:ext cx="1340640" cy="1904760"/>
              <a:chOff x="579240" y="2785320"/>
              <a:chExt cx="1340640" cy="1904760"/>
            </a:xfrm>
          </p:grpSpPr>
          <p:sp>
            <p:nvSpPr>
              <p:cNvPr id="341" name="AutoShape 30"/>
              <p:cNvSpPr/>
              <p:nvPr/>
            </p:nvSpPr>
            <p:spPr>
              <a:xfrm rot="16079400">
                <a:off x="143280" y="3268800"/>
                <a:ext cx="1873080" cy="937080"/>
              </a:xfrm>
              <a:prstGeom prst="triangle">
                <a:avLst>
                  <a:gd name="adj" fmla="val 50000"/>
                </a:avLst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AutoShape 31"/>
              <p:cNvSpPr/>
              <p:nvPr/>
            </p:nvSpPr>
            <p:spPr>
              <a:xfrm rot="16079400">
                <a:off x="1404360" y="3567960"/>
                <a:ext cx="647640" cy="360720"/>
              </a:xfrm>
              <a:prstGeom prst="triangle">
                <a:avLst>
                  <a:gd name="adj" fmla="val 50000"/>
                </a:avLst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Oval 32"/>
              <p:cNvSpPr/>
              <p:nvPr/>
            </p:nvSpPr>
            <p:spPr>
              <a:xfrm rot="21480000">
                <a:off x="681840" y="367776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" name="Text Box 33"/>
            <p:cNvSpPr/>
            <p:nvPr/>
          </p:nvSpPr>
          <p:spPr>
            <a:xfrm rot="21480000">
              <a:off x="826920" y="3497760"/>
              <a:ext cx="187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34"/>
          <p:cNvGrpSpPr/>
          <p:nvPr/>
        </p:nvGrpSpPr>
        <p:grpSpPr>
          <a:xfrm>
            <a:off x="2484360" y="1341000"/>
            <a:ext cx="1368360" cy="1873080"/>
            <a:chOff x="2484360" y="1341000"/>
            <a:chExt cx="1368360" cy="1873080"/>
          </a:xfrm>
        </p:grpSpPr>
        <p:grpSp>
          <p:nvGrpSpPr>
            <p:cNvPr id="346" name="Group 35"/>
            <p:cNvGrpSpPr/>
            <p:nvPr/>
          </p:nvGrpSpPr>
          <p:grpSpPr>
            <a:xfrm>
              <a:off x="2484360" y="1341000"/>
              <a:ext cx="1296720" cy="1873080"/>
              <a:chOff x="2484360" y="1341000"/>
              <a:chExt cx="1296720" cy="1873080"/>
            </a:xfrm>
          </p:grpSpPr>
          <p:sp>
            <p:nvSpPr>
              <p:cNvPr id="347" name="AutoShape 36"/>
              <p:cNvSpPr/>
              <p:nvPr/>
            </p:nvSpPr>
            <p:spPr>
              <a:xfrm rot="16200000">
                <a:off x="2016360" y="1808640"/>
                <a:ext cx="1873080" cy="937440"/>
              </a:xfrm>
              <a:prstGeom prst="triangle">
                <a:avLst>
                  <a:gd name="adj" fmla="val 50000"/>
                </a:avLst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AutoShape 37"/>
              <p:cNvSpPr/>
              <p:nvPr/>
            </p:nvSpPr>
            <p:spPr>
              <a:xfrm rot="16200000">
                <a:off x="3276720" y="2130480"/>
                <a:ext cx="647640" cy="360720"/>
              </a:xfrm>
              <a:prstGeom prst="triangle">
                <a:avLst>
                  <a:gd name="adj" fmla="val 50000"/>
                </a:avLst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Oval 38"/>
              <p:cNvSpPr/>
              <p:nvPr/>
            </p:nvSpPr>
            <p:spPr>
              <a:xfrm>
                <a:off x="2555640" y="220500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Text Box 39"/>
            <p:cNvSpPr/>
            <p:nvPr/>
          </p:nvSpPr>
          <p:spPr>
            <a:xfrm>
              <a:off x="2557440" y="20368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.12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41"/>
          <p:cNvSpPr/>
          <p:nvPr/>
        </p:nvSpPr>
        <p:spPr>
          <a:xfrm>
            <a:off x="900000" y="692280"/>
            <a:ext cx="446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2"/>
          <p:cNvSpPr/>
          <p:nvPr/>
        </p:nvSpPr>
        <p:spPr>
          <a:xfrm>
            <a:off x="539640" y="18900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从大到小排列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  <p:sndAc>
      <p:stSnd>
        <p:snd r:embed="rId2" name="chimes.wav"/>
      </p:stSnd>
    </p:sndAc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326 0.12971 C 0.04722 0.04948 -0.02865 -0.03098 -0.05903 -0.06312 E">
                                      <p:cBhvr>
                                        <p:cTn id="301" dur="20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23 0.18136 C -0.06007 0.17673 -0.07466 0.16239 -0.0915 0.15776 C -0.09896 0.15129 -0.10868 0.14735 -0.11736 0.14527 C -0.12535 0.13833 -0.13264 0.13278 -0.14202 0.12954 C -0.16094 0.11474 -0.17639 0.10502 -0.19271 0.0842 C -0.19532 0.07703 -0.19775 0.07102 -0.20209 0.06547 C -0.20625 0.05344 -0.20348 0.06107 -0.21146 0.04349 C -0.21302 0.04002 -0.21337 0.03586 -0.21493 0.03239 C -0.21702 0.02799 -0.22205 0.0199 -0.22205 0.02013 C -0.22396 0.01249 -0.22691 0.00532 -0.22917 -0.00208 C -0.23091 -0.01503 -0.23646 -0.03446 -0.24445 -0.04279 C -0.2467 -0.04534 -0.25 -0.04557 -0.25261 -0.04742 C -0.26129 -0.05389 -0.26858 -0.05968 -0.27848 -0.06315 C -0.28837 -0.06268 -0.29809 -0.06245 -0.30799 -0.06153 C -0.31216 -0.06107 -0.31511 -0.05736 -0.31858 -0.05528 C -0.32448 -0.05181 -0.33229 -0.05066 -0.33854 -0.05066 E">
                                      <p:cBhvr>
                                        <p:cTn id="305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423 -0.04187 C -0.10833 -0.04672 -0.10729 -0.05528 -0.10121 -0.0606 C -0.09583 -0.0724 -0.08298 -0.0842 -0.07413 -0.09206 C -0.06892 -0.1027 -0.06128 -0.10548 -0.05416 -0.11242 C -0.04948 -0.11705 -0.04583 -0.12237 -0.0401 -0.12491 C -0.0309 -0.14249 -0.04357 -0.11728 -0.03645 -0.1344 C -0.03507 -0.13763 -0.03177 -0.14365 -0.03177 -0.14342 C -0.02899 -0.15637 -0.02795 -0.16771 -0.02708 -0.18135 C -0.02691 -0.18297 -0.02795 -0.20957 -0.02239 -0.2142 C -0.0184 -0.21744 -0.01163 -0.2186 -0.00711 -0.22045 C -0.00277 -0.21952 0.00591 -0.21744 0.00591 -0.21721 E">
                                      <p:cBhvr>
                                        <p:cTn id="309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34 0.04186 C -0.14705 0.0488 -0.15121 0.05459 -0.15642 0.05921 C -0.16146 0.06939 -0.16649 0.0805 -0.17396 0.08744 C -0.17708 0.09345 -0.18663 0.10224 -0.19166 0.10455 C -0.19409 0.10779 -0.19687 0.11034 -0.19878 0.11404 C -0.20034 0.11704 -0.20347 0.12329 -0.20347 0.12352 C -0.20451 0.12954 -0.20659 0.13324 -0.20816 0.13902 C -0.20764 0.1455 -0.20868 0.1529 -0.20573 0.15799 C -0.20364 0.16146 -0.20191 0.16585 -0.19878 0.16724 C -0.19635 0.1684 -0.19166 0.17048 -0.19166 0.17071 C -0.18958 0.18343 -0.19045 0.17557 -0.19045 0.19384 E">
                                      <p:cBhvr>
                                        <p:cTn id="313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702 -0.01063 C -0.06545 -0.00485 -0.06493 -1.90751000000034E-006 -0.06233 0.00509 C -0.05521 0.04648 -0.02917 0.05827 -0.00469 0.07861 C -0.00209 0.0807 -0.00018 0.08439 0.00243 0.08648 C 0.00538 0.08856 0.00885 0.08902 0.0118 0.0911 C 0.01788 0.09526 0.02344 0.10104 0.02951 0.1052 C 0.05 0.11908 0.07396 0.12879 0.09653 0.13503 C 0.11267 0.14567 0.13003 0.15145 0.14705 0.15861 C 0.16996 0.16833 0.19271 0.18127 0.21649 0.18544 C 0.22361 0.18798 0.22916 0.19029 0.23646 0.19168 C 0.25607 0.19122 0.27569 0.19098 0.29531 0.19006 C 0.3026 0.1896 0.31198 0.18197 0.31892 0.17919 C 0.33125 0.17411 0.34097 0.17249 0.35416 0.1711 C 0.36128 0.16879 0.36771 0.16763 0.37413 0.16347 C 0.37535 0.16231 0.37621 0.1607 0.3776 0.16 C 0.38021 0.15861 0.38594 0.157 0.38594 0.15723 C 0.39305 0.15769 0.40017 0.15676 0.40712 0.15861 C 0.4085 0.15908 0.4085 0.16185 0.40937 0.16347 C 0.41041 0.16509 0.41302 0.16786 0.41302 0.16833 E">
                                      <p:cBhvr>
                                        <p:cTn id="317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14 0.02798 C -0.0467 0.02174 -0.04792 0.01896 -0.05243 0.0155 C -0.05417 0.0118 -0.05591 0.00763 -0.05816 0.0044 C -0.06042 0.00116 -0.06372 -0.00092 -0.06528 -0.00485 C -0.06893 -0.01433 -0.0724 -0.0245 -0.07466 -0.03468 C -0.07431 -0.04924 -0.07431 -0.06404 -0.07361 -0.07861 C -0.07327 -0.08647 -0.06597 -0.09225 -0.06302 -0.09734 C -0.05938 -0.10358 -0.05521 -0.10705 -0.05122 -0.11306 C -0.04549 -0.12161 -0.04479 -0.12832 -0.03577 -0.13179 C -0.03177 -0.13711 -0.025 -0.13826 -0.02136 -0.14427 C -0.0191 -0.14797 -0.02084 -0.15422 -0.0191 -0.15838 C -0.01719 -0.16277 -0.00955 -0.16485 -0.00608 -0.16624 C 0.00243 -0.17503 0.01267 -0.18404 0.02343 -0.18659 C 0.04479 -0.20624 0.08281 -0.21965 0.08281 -0.26219 E">
                                      <p:cBhvr>
                                        <p:cTn id="321" dur="2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a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4"/>
          <p:cNvSpPr/>
          <p:nvPr/>
        </p:nvSpPr>
        <p:spPr>
          <a:xfrm>
            <a:off x="0" y="227664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小数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7093080" y="2349360"/>
            <a:ext cx="25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百分数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6"/>
          <p:cNvGrpSpPr/>
          <p:nvPr/>
        </p:nvGrpSpPr>
        <p:grpSpPr>
          <a:xfrm>
            <a:off x="1547640" y="2565000"/>
            <a:ext cx="5112720" cy="143280"/>
            <a:chOff x="1547640" y="2565000"/>
            <a:chExt cx="5112720" cy="143280"/>
          </a:xfrm>
        </p:grpSpPr>
        <p:sp>
          <p:nvSpPr>
            <p:cNvPr id="356" name="Line 7"/>
            <p:cNvSpPr/>
            <p:nvPr/>
          </p:nvSpPr>
          <p:spPr>
            <a:xfrm>
              <a:off x="1547640" y="2708280"/>
              <a:ext cx="51116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8"/>
            <p:cNvSpPr/>
            <p:nvPr/>
          </p:nvSpPr>
          <p:spPr>
            <a:xfrm flipH="1" flipV="1">
              <a:off x="6345360" y="2565000"/>
              <a:ext cx="31500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9"/>
          <p:cNvGrpSpPr/>
          <p:nvPr/>
        </p:nvGrpSpPr>
        <p:grpSpPr>
          <a:xfrm>
            <a:off x="1547640" y="2852640"/>
            <a:ext cx="5111640" cy="144720"/>
            <a:chOff x="1547640" y="2852640"/>
            <a:chExt cx="5111640" cy="144720"/>
          </a:xfrm>
        </p:grpSpPr>
        <p:sp>
          <p:nvSpPr>
            <p:cNvPr id="359" name="Line 10"/>
            <p:cNvSpPr/>
            <p:nvPr/>
          </p:nvSpPr>
          <p:spPr>
            <a:xfrm>
              <a:off x="1547640" y="2852640"/>
              <a:ext cx="51116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1"/>
            <p:cNvSpPr/>
            <p:nvPr/>
          </p:nvSpPr>
          <p:spPr>
            <a:xfrm>
              <a:off x="1547640" y="2852640"/>
              <a:ext cx="357480" cy="144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Text Box 12"/>
          <p:cNvSpPr/>
          <p:nvPr/>
        </p:nvSpPr>
        <p:spPr>
          <a:xfrm>
            <a:off x="1332000" y="184464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数点向右移动两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加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3"/>
          <p:cNvSpPr/>
          <p:nvPr/>
        </p:nvSpPr>
        <p:spPr>
          <a:xfrm>
            <a:off x="1258920" y="299736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去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% 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数点向左移动两位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  <p:sndAc>
      <p:stSnd>
        <p:snd r:embed="rId1" name="chimes.wav"/>
      </p:stSnd>
    </p:sndAc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34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-1)"/>
                                      </p:to>
                                    </p:set>
                                    <p:set>
                                      <p:cBhvr>
                                        <p:cTn id="335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-1)"/>
                                      </p:to>
                                    </p:set>
                                    <p:set>
                                      <p:cBhvr>
                                        <p:cTn id="336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47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-1)"/>
                                      </p:to>
                                    </p:set>
                                    <p:set>
                                      <p:cBhvr>
                                        <p:cTn id="348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-1)"/>
                                      </p:to>
                                    </p:set>
                                    <p:set>
                                      <p:cBhvr>
                                        <p:cTn id="349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a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4"/>
          <p:cNvSpPr/>
          <p:nvPr/>
        </p:nvSpPr>
        <p:spPr>
          <a:xfrm>
            <a:off x="611280" y="40464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比较大小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0" y="141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0.52        52%               1.2        12.3%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0" y="2781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54%         0.25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0.25%     0.02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7"/>
          <p:cNvSpPr/>
          <p:nvPr/>
        </p:nvSpPr>
        <p:spPr>
          <a:xfrm>
            <a:off x="1187280" y="141300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8"/>
          <p:cNvSpPr/>
          <p:nvPr/>
        </p:nvSpPr>
        <p:spPr>
          <a:xfrm>
            <a:off x="6300720" y="141300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＞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9"/>
          <p:cNvSpPr/>
          <p:nvPr/>
        </p:nvSpPr>
        <p:spPr>
          <a:xfrm>
            <a:off x="6804000" y="278136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＜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0"/>
          <p:cNvSpPr/>
          <p:nvPr/>
        </p:nvSpPr>
        <p:spPr>
          <a:xfrm>
            <a:off x="1763640" y="278136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＞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15"/>
          <p:cNvSpPr/>
          <p:nvPr/>
        </p:nvSpPr>
        <p:spPr>
          <a:xfrm>
            <a:off x="1258920" y="1484280"/>
            <a:ext cx="560520" cy="504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19"/>
          <p:cNvSpPr/>
          <p:nvPr/>
        </p:nvSpPr>
        <p:spPr>
          <a:xfrm>
            <a:off x="6877080" y="2852640"/>
            <a:ext cx="560520" cy="505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20"/>
          <p:cNvSpPr/>
          <p:nvPr/>
        </p:nvSpPr>
        <p:spPr>
          <a:xfrm>
            <a:off x="1763640" y="2852640"/>
            <a:ext cx="560520" cy="505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21"/>
          <p:cNvSpPr/>
          <p:nvPr/>
        </p:nvSpPr>
        <p:spPr>
          <a:xfrm>
            <a:off x="6300720" y="1484280"/>
            <a:ext cx="560520" cy="504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1"/>
          <p:cNvSpPr/>
          <p:nvPr/>
        </p:nvSpPr>
        <p:spPr>
          <a:xfrm>
            <a:off x="1692360" y="6318360"/>
            <a:ext cx="686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  <p:sndAc>
      <p:stSnd>
        <p:snd r:embed="rId1" name="chimes.wav"/>
      </p:stSnd>
    </p:sndAc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77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7" dur="770" fill="hold"/>
                                        <p:tgtEl>
                                          <p:spTgt spid="3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9" dur="77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1" dur="77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77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8" dur="770" fill="hold"/>
                                        <p:tgtEl>
                                          <p:spTgt spid="3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0" dur="77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2" dur="77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77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9" dur="770" fill="hold"/>
                                        <p:tgtEl>
                                          <p:spTgt spid="3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1" dur="77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3" dur="77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77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0" dur="770" fill="hold"/>
                                        <p:tgtEl>
                                          <p:spTgt spid="3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2" dur="77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4" dur="77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a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4"/>
          <p:cNvSpPr/>
          <p:nvPr/>
        </p:nvSpPr>
        <p:spPr>
          <a:xfrm>
            <a:off x="0" y="692280"/>
            <a:ext cx="2484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1230840" y="228600"/>
            <a:ext cx="386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把相等的数用线连起来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395280" y="1916280"/>
            <a:ext cx="2952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7"/>
          <p:cNvSpPr/>
          <p:nvPr/>
        </p:nvSpPr>
        <p:spPr>
          <a:xfrm>
            <a:off x="1979640" y="1052640"/>
            <a:ext cx="18003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2%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.41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6%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7.6%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5076720" y="1052640"/>
            <a:ext cx="194472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30%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.176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.7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06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1.5%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9"/>
          <p:cNvSpPr/>
          <p:nvPr/>
        </p:nvSpPr>
        <p:spPr>
          <a:xfrm>
            <a:off x="2987640" y="1413000"/>
            <a:ext cx="2160720" cy="1511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0"/>
          <p:cNvSpPr/>
          <p:nvPr/>
        </p:nvSpPr>
        <p:spPr>
          <a:xfrm>
            <a:off x="2916360" y="2205000"/>
            <a:ext cx="2160360" cy="1655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1"/>
          <p:cNvSpPr/>
          <p:nvPr/>
        </p:nvSpPr>
        <p:spPr>
          <a:xfrm>
            <a:off x="3276720" y="3068640"/>
            <a:ext cx="1942920" cy="2305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2"/>
          <p:cNvSpPr/>
          <p:nvPr/>
        </p:nvSpPr>
        <p:spPr>
          <a:xfrm>
            <a:off x="3276720" y="3933720"/>
            <a:ext cx="1800000" cy="719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7"/>
          <p:cNvSpPr/>
          <p:nvPr/>
        </p:nvSpPr>
        <p:spPr>
          <a:xfrm flipV="1">
            <a:off x="2843280" y="1628280"/>
            <a:ext cx="2449440" cy="3095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8"/>
          <p:cNvSpPr/>
          <p:nvPr/>
        </p:nvSpPr>
        <p:spPr>
          <a:xfrm flipV="1">
            <a:off x="3348000" y="2420640"/>
            <a:ext cx="1800360" cy="3095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  <p:sndAc>
      <p:stSnd>
        <p:snd r:embed="rId1" name="chimes.wav"/>
      </p:stSnd>
    </p:sndAc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a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4"/>
          <p:cNvSpPr/>
          <p:nvPr/>
        </p:nvSpPr>
        <p:spPr>
          <a:xfrm>
            <a:off x="0" y="189000"/>
            <a:ext cx="89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判断，对的打“√”，错的打“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×”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87480" y="1152360"/>
            <a:ext cx="7580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755640" y="1341360"/>
            <a:ext cx="745164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041= 1041%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%= 0.02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0%= 1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0%= 0.3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.8%= 0.08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5420520" y="3068640"/>
            <a:ext cx="48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5420520" y="2205000"/>
            <a:ext cx="48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9"/>
          <p:cNvSpPr/>
          <p:nvPr/>
        </p:nvSpPr>
        <p:spPr>
          <a:xfrm>
            <a:off x="5410800" y="393372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0"/>
          <p:cNvSpPr/>
          <p:nvPr/>
        </p:nvSpPr>
        <p:spPr>
          <a:xfrm>
            <a:off x="5410800" y="126828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1"/>
          <p:cNvSpPr/>
          <p:nvPr/>
        </p:nvSpPr>
        <p:spPr>
          <a:xfrm>
            <a:off x="5410800" y="475452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  <p:sndAc>
      <p:stSnd>
        <p:snd r:embed="rId1" name="chimes.wav"/>
      </p:stSnd>
    </p:sndAc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a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WordArt 7"/>
          <p:cNvSpPr txBox="1"/>
          <p:nvPr/>
        </p:nvSpPr>
        <p:spPr>
          <a:xfrm>
            <a:off x="2411280" y="2276640"/>
            <a:ext cx="424836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703d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楷体_GB2312"/>
              </a:rPr>
              <a:t>欢迎指教</a:t>
            </a:r>
            <a:endParaRPr b="1" lang="en-US" sz="6000" spc="1" strike="noStrike">
              <a:ln w="19080">
                <a:solidFill>
                  <a:srgbClr val="ccffcc"/>
                </a:solidFill>
                <a:miter/>
              </a:ln>
              <a:solidFill>
                <a:srgbClr val="703d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med">
    <p:wheel/>
    <p:sndAc>
      <p:stSnd>
        <p:snd r:embed="rId1" name="chimes.wav"/>
      </p:stSnd>
    </p:sndAc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a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omic Sans MS"/>
              </a:rPr>
              <a:t> </a:t>
            </a:r>
            <a:r>
              <a:rPr b="0" lang="zh-CN" sz="1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omic Sans MS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8BE8-C81A-45B5-B57F-A436D56BBA0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  <p:sndAc>
      <p:stSnd>
        <p:snd r:embed="rId18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a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0" y="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Arial"/>
              </a:rPr>
              <a:t>热身运动</a:t>
            </a:r>
            <a:r>
              <a:rPr b="1" lang="en-US" sz="4800" spc="-1" strike="noStrike">
                <a:solidFill>
                  <a:srgbClr val="6600ff"/>
                </a:solidFill>
                <a:latin typeface="Arial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你能把下面的小数化成分数吗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13"/>
          <p:cNvGrpSpPr/>
          <p:nvPr/>
        </p:nvGrpSpPr>
        <p:grpSpPr>
          <a:xfrm>
            <a:off x="1549440" y="2421000"/>
            <a:ext cx="2232000" cy="1224000"/>
            <a:chOff x="1549440" y="2421000"/>
            <a:chExt cx="2232000" cy="1224000"/>
          </a:xfrm>
        </p:grpSpPr>
        <p:sp>
          <p:nvSpPr>
            <p:cNvPr id="155" name="Text Box 5"/>
            <p:cNvSpPr/>
            <p:nvPr/>
          </p:nvSpPr>
          <p:spPr>
            <a:xfrm>
              <a:off x="1549440" y="2565720"/>
              <a:ext cx="223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Comic Sans MS"/>
                </a:rPr>
                <a:t>＝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Object 10" descr=""/>
            <p:cNvPicPr/>
            <p:nvPr/>
          </p:nvPicPr>
          <p:blipFill>
            <a:blip r:embed="rId1"/>
            <a:stretch/>
          </p:blipFill>
          <p:spPr>
            <a:xfrm>
              <a:off x="2270160" y="2421000"/>
              <a:ext cx="671760" cy="12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Group 17"/>
          <p:cNvGrpSpPr/>
          <p:nvPr/>
        </p:nvGrpSpPr>
        <p:grpSpPr>
          <a:xfrm>
            <a:off x="6156360" y="2421000"/>
            <a:ext cx="2232000" cy="1224000"/>
            <a:chOff x="6156360" y="2421000"/>
            <a:chExt cx="2232000" cy="1224000"/>
          </a:xfrm>
        </p:grpSpPr>
        <p:pic>
          <p:nvPicPr>
            <p:cNvPr id="158" name="Object 9" descr=""/>
            <p:cNvPicPr/>
            <p:nvPr/>
          </p:nvPicPr>
          <p:blipFill>
            <a:blip r:embed="rId2"/>
            <a:stretch/>
          </p:blipFill>
          <p:spPr>
            <a:xfrm>
              <a:off x="6903720" y="2421000"/>
              <a:ext cx="9079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12"/>
            <p:cNvSpPr/>
            <p:nvPr/>
          </p:nvSpPr>
          <p:spPr>
            <a:xfrm>
              <a:off x="6156360" y="2637000"/>
              <a:ext cx="223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Comic Sans MS"/>
                </a:rPr>
                <a:t>＝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8"/>
          <p:cNvGrpSpPr/>
          <p:nvPr/>
        </p:nvGrpSpPr>
        <p:grpSpPr>
          <a:xfrm>
            <a:off x="2124000" y="3933720"/>
            <a:ext cx="2232000" cy="1223640"/>
            <a:chOff x="2124000" y="3933720"/>
            <a:chExt cx="2232000" cy="1223640"/>
          </a:xfrm>
        </p:grpSpPr>
        <p:pic>
          <p:nvPicPr>
            <p:cNvPr id="161" name="Object 7" descr=""/>
            <p:cNvPicPr/>
            <p:nvPr/>
          </p:nvPicPr>
          <p:blipFill>
            <a:blip r:embed="rId3"/>
            <a:stretch/>
          </p:blipFill>
          <p:spPr>
            <a:xfrm>
              <a:off x="2778120" y="3933720"/>
              <a:ext cx="114624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15"/>
            <p:cNvSpPr/>
            <p:nvPr/>
          </p:nvSpPr>
          <p:spPr>
            <a:xfrm>
              <a:off x="2124000" y="4149360"/>
              <a:ext cx="223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Comic Sans MS"/>
                </a:rPr>
                <a:t>＝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4"/>
          <p:cNvGrpSpPr/>
          <p:nvPr/>
        </p:nvGrpSpPr>
        <p:grpSpPr>
          <a:xfrm>
            <a:off x="6084720" y="4005360"/>
            <a:ext cx="1872000" cy="1224000"/>
            <a:chOff x="6084720" y="4005360"/>
            <a:chExt cx="1872000" cy="1224000"/>
          </a:xfrm>
        </p:grpSpPr>
        <p:pic>
          <p:nvPicPr>
            <p:cNvPr id="164" name="Object 8" descr=""/>
            <p:cNvPicPr/>
            <p:nvPr/>
          </p:nvPicPr>
          <p:blipFill>
            <a:blip r:embed="rId4"/>
            <a:stretch/>
          </p:blipFill>
          <p:spPr>
            <a:xfrm>
              <a:off x="6810480" y="4005360"/>
              <a:ext cx="114624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6"/>
            <p:cNvSpPr/>
            <p:nvPr/>
          </p:nvSpPr>
          <p:spPr>
            <a:xfrm>
              <a:off x="6084720" y="4221000"/>
              <a:ext cx="1511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Comic Sans MS"/>
                </a:rPr>
                <a:t>＝ 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Rectangle 22"/>
          <p:cNvSpPr/>
          <p:nvPr/>
        </p:nvSpPr>
        <p:spPr>
          <a:xfrm>
            <a:off x="621360" y="4221000"/>
            <a:ext cx="547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.731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         1.99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3"/>
          <p:cNvSpPr/>
          <p:nvPr/>
        </p:nvSpPr>
        <p:spPr>
          <a:xfrm>
            <a:off x="781560" y="2637000"/>
            <a:ext cx="515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.1                    0.2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a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1694160" y="476280"/>
            <a:ext cx="530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你能把下面的分数化成小数吗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Object 7" descr=""/>
          <p:cNvPicPr/>
          <p:nvPr/>
        </p:nvPicPr>
        <p:blipFill>
          <a:blip r:embed="rId1"/>
          <a:stretch/>
        </p:blipFill>
        <p:spPr>
          <a:xfrm>
            <a:off x="898560" y="1628640"/>
            <a:ext cx="611280" cy="1368720"/>
          </a:xfrm>
          <a:prstGeom prst="rect">
            <a:avLst/>
          </a:prstGeom>
          <a:ln w="0">
            <a:noFill/>
          </a:ln>
        </p:spPr>
      </p:pic>
      <p:pic>
        <p:nvPicPr>
          <p:cNvPr id="170" name="Object 8" descr=""/>
          <p:cNvPicPr/>
          <p:nvPr/>
        </p:nvPicPr>
        <p:blipFill>
          <a:blip r:embed="rId2"/>
          <a:stretch/>
        </p:blipFill>
        <p:spPr>
          <a:xfrm>
            <a:off x="5146560" y="1628640"/>
            <a:ext cx="866880" cy="1295640"/>
          </a:xfrm>
          <a:prstGeom prst="rect">
            <a:avLst/>
          </a:prstGeom>
          <a:ln w="0">
            <a:noFill/>
          </a:ln>
        </p:spPr>
      </p:pic>
      <p:pic>
        <p:nvPicPr>
          <p:cNvPr id="171" name="Object 9" descr=""/>
          <p:cNvPicPr/>
          <p:nvPr/>
        </p:nvPicPr>
        <p:blipFill>
          <a:blip r:embed="rId3"/>
          <a:stretch/>
        </p:blipFill>
        <p:spPr>
          <a:xfrm>
            <a:off x="5145120" y="3429000"/>
            <a:ext cx="879480" cy="1295280"/>
          </a:xfrm>
          <a:prstGeom prst="rect">
            <a:avLst/>
          </a:prstGeom>
          <a:ln w="0">
            <a:noFill/>
          </a:ln>
        </p:spPr>
      </p:pic>
      <p:pic>
        <p:nvPicPr>
          <p:cNvPr id="172" name="Object 10" descr=""/>
          <p:cNvPicPr/>
          <p:nvPr/>
        </p:nvPicPr>
        <p:blipFill>
          <a:blip r:embed="rId4"/>
          <a:stretch/>
        </p:blipFill>
        <p:spPr>
          <a:xfrm>
            <a:off x="755640" y="3500280"/>
            <a:ext cx="1092240" cy="1224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17"/>
          <p:cNvGrpSpPr/>
          <p:nvPr/>
        </p:nvGrpSpPr>
        <p:grpSpPr>
          <a:xfrm>
            <a:off x="1672560" y="1917720"/>
            <a:ext cx="2105280" cy="835560"/>
            <a:chOff x="1672560" y="1917720"/>
            <a:chExt cx="2105280" cy="835560"/>
          </a:xfrm>
        </p:grpSpPr>
        <p:sp>
          <p:nvSpPr>
            <p:cNvPr id="174" name="Rectangle 15"/>
            <p:cNvSpPr/>
            <p:nvPr/>
          </p:nvSpPr>
          <p:spPr>
            <a:xfrm>
              <a:off x="1672560" y="191772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Comic Sans MS"/>
                </a:rPr>
                <a:t>＝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16"/>
            <p:cNvSpPr/>
            <p:nvPr/>
          </p:nvSpPr>
          <p:spPr>
            <a:xfrm>
              <a:off x="2266560" y="1989000"/>
              <a:ext cx="1511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19"/>
          <p:cNvGrpSpPr/>
          <p:nvPr/>
        </p:nvGrpSpPr>
        <p:grpSpPr>
          <a:xfrm>
            <a:off x="6278040" y="1916280"/>
            <a:ext cx="3118320" cy="837000"/>
            <a:chOff x="6278040" y="1916280"/>
            <a:chExt cx="3118320" cy="837000"/>
          </a:xfrm>
        </p:grpSpPr>
        <p:sp>
          <p:nvSpPr>
            <p:cNvPr id="177" name="Rectangle 13"/>
            <p:cNvSpPr/>
            <p:nvPr/>
          </p:nvSpPr>
          <p:spPr>
            <a:xfrm>
              <a:off x="6278040" y="191628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Comic Sans MS"/>
                </a:rPr>
                <a:t>＝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8"/>
            <p:cNvSpPr/>
            <p:nvPr/>
          </p:nvSpPr>
          <p:spPr>
            <a:xfrm>
              <a:off x="6804000" y="1989000"/>
              <a:ext cx="259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0.51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24"/>
          <p:cNvGrpSpPr/>
          <p:nvPr/>
        </p:nvGrpSpPr>
        <p:grpSpPr>
          <a:xfrm>
            <a:off x="1835280" y="3716280"/>
            <a:ext cx="2808000" cy="867600"/>
            <a:chOff x="1835280" y="3716280"/>
            <a:chExt cx="2808000" cy="867600"/>
          </a:xfrm>
        </p:grpSpPr>
        <p:sp>
          <p:nvSpPr>
            <p:cNvPr id="180" name="Rectangle 12"/>
            <p:cNvSpPr/>
            <p:nvPr/>
          </p:nvSpPr>
          <p:spPr>
            <a:xfrm>
              <a:off x="1835280" y="3716280"/>
              <a:ext cx="796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Comic Sans MS"/>
                </a:rPr>
                <a:t>＝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20"/>
            <p:cNvSpPr/>
            <p:nvPr/>
          </p:nvSpPr>
          <p:spPr>
            <a:xfrm>
              <a:off x="2484360" y="3819600"/>
              <a:ext cx="2158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0.374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25"/>
          <p:cNvGrpSpPr/>
          <p:nvPr/>
        </p:nvGrpSpPr>
        <p:grpSpPr>
          <a:xfrm>
            <a:off x="6136920" y="3645000"/>
            <a:ext cx="2251440" cy="825120"/>
            <a:chOff x="6136920" y="3645000"/>
            <a:chExt cx="2251440" cy="825120"/>
          </a:xfrm>
        </p:grpSpPr>
        <p:sp>
          <p:nvSpPr>
            <p:cNvPr id="183" name="Rectangle 14"/>
            <p:cNvSpPr/>
            <p:nvPr/>
          </p:nvSpPr>
          <p:spPr>
            <a:xfrm>
              <a:off x="6136920" y="364500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Comic Sans MS"/>
                </a:rPr>
                <a:t>＝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22"/>
            <p:cNvSpPr/>
            <p:nvPr/>
          </p:nvSpPr>
          <p:spPr>
            <a:xfrm>
              <a:off x="6732720" y="3675240"/>
              <a:ext cx="1655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新宋体"/>
                </a:rPr>
                <a:t>1.3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heel/>
    <p:sndAc>
      <p:stSnd>
        <p:snd r:embed="rId5" name="chimes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a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108000" y="260280"/>
            <a:ext cx="90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把下面的分数化为百分数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Object 5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927360" cy="1422360"/>
          </a:xfrm>
          <a:prstGeom prst="rect">
            <a:avLst/>
          </a:prstGeom>
          <a:ln w="0">
            <a:noFill/>
          </a:ln>
        </p:spPr>
      </p:pic>
      <p:pic>
        <p:nvPicPr>
          <p:cNvPr id="187" name="Object 6" descr=""/>
          <p:cNvPicPr/>
          <p:nvPr/>
        </p:nvPicPr>
        <p:blipFill>
          <a:blip r:embed="rId2"/>
          <a:stretch/>
        </p:blipFill>
        <p:spPr>
          <a:xfrm>
            <a:off x="4859280" y="3500280"/>
            <a:ext cx="1003320" cy="1422720"/>
          </a:xfrm>
          <a:prstGeom prst="rect">
            <a:avLst/>
          </a:prstGeom>
          <a:ln w="0">
            <a:noFill/>
          </a:ln>
        </p:spPr>
      </p:pic>
      <p:pic>
        <p:nvPicPr>
          <p:cNvPr id="188" name="Object 7" descr=""/>
          <p:cNvPicPr/>
          <p:nvPr/>
        </p:nvPicPr>
        <p:blipFill>
          <a:blip r:embed="rId3"/>
          <a:stretch/>
        </p:blipFill>
        <p:spPr>
          <a:xfrm>
            <a:off x="4859280" y="1268280"/>
            <a:ext cx="927000" cy="1422360"/>
          </a:xfrm>
          <a:prstGeom prst="rect">
            <a:avLst/>
          </a:prstGeom>
          <a:ln w="0">
            <a:noFill/>
          </a:ln>
        </p:spPr>
      </p:pic>
      <p:pic>
        <p:nvPicPr>
          <p:cNvPr id="189" name="Object 8" descr=""/>
          <p:cNvPicPr/>
          <p:nvPr/>
        </p:nvPicPr>
        <p:blipFill>
          <a:blip r:embed="rId4"/>
          <a:stretch/>
        </p:blipFill>
        <p:spPr>
          <a:xfrm>
            <a:off x="826920" y="3500280"/>
            <a:ext cx="927360" cy="1422720"/>
          </a:xfrm>
          <a:prstGeom prst="rect">
            <a:avLst/>
          </a:prstGeom>
          <a:ln w="0">
            <a:noFill/>
          </a:ln>
        </p:spPr>
      </p:pic>
      <p:grpSp>
        <p:nvGrpSpPr>
          <p:cNvPr id="190" name="Group 25"/>
          <p:cNvGrpSpPr/>
          <p:nvPr/>
        </p:nvGrpSpPr>
        <p:grpSpPr>
          <a:xfrm>
            <a:off x="1962000" y="1628640"/>
            <a:ext cx="2105280" cy="866160"/>
            <a:chOff x="1962000" y="1628640"/>
            <a:chExt cx="2105280" cy="866160"/>
          </a:xfrm>
        </p:grpSpPr>
        <p:sp>
          <p:nvSpPr>
            <p:cNvPr id="191" name="Rectangle 10"/>
            <p:cNvSpPr/>
            <p:nvPr/>
          </p:nvSpPr>
          <p:spPr>
            <a:xfrm>
              <a:off x="1962000" y="162864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Comic Sans MS"/>
                </a:rPr>
                <a:t>＝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1"/>
            <p:cNvSpPr/>
            <p:nvPr/>
          </p:nvSpPr>
          <p:spPr>
            <a:xfrm>
              <a:off x="2556000" y="1730520"/>
              <a:ext cx="1511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7%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27"/>
          <p:cNvGrpSpPr/>
          <p:nvPr/>
        </p:nvGrpSpPr>
        <p:grpSpPr>
          <a:xfrm>
            <a:off x="6136920" y="1525680"/>
            <a:ext cx="2107080" cy="826200"/>
            <a:chOff x="6136920" y="1525680"/>
            <a:chExt cx="2107080" cy="826200"/>
          </a:xfrm>
        </p:grpSpPr>
        <p:sp>
          <p:nvSpPr>
            <p:cNvPr id="194" name="Rectangle 13"/>
            <p:cNvSpPr/>
            <p:nvPr/>
          </p:nvSpPr>
          <p:spPr>
            <a:xfrm>
              <a:off x="6136920" y="152568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Comic Sans MS"/>
                </a:rPr>
                <a:t>＝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4"/>
            <p:cNvSpPr/>
            <p:nvPr/>
          </p:nvSpPr>
          <p:spPr>
            <a:xfrm>
              <a:off x="6732720" y="1587600"/>
              <a:ext cx="1511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35%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26"/>
          <p:cNvGrpSpPr/>
          <p:nvPr/>
        </p:nvGrpSpPr>
        <p:grpSpPr>
          <a:xfrm>
            <a:off x="1960200" y="3789360"/>
            <a:ext cx="2180160" cy="825120"/>
            <a:chOff x="1960200" y="3789360"/>
            <a:chExt cx="2180160" cy="825120"/>
          </a:xfrm>
        </p:grpSpPr>
        <p:sp>
          <p:nvSpPr>
            <p:cNvPr id="197" name="Rectangle 16"/>
            <p:cNvSpPr/>
            <p:nvPr/>
          </p:nvSpPr>
          <p:spPr>
            <a:xfrm>
              <a:off x="1960200" y="378936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Comic Sans MS"/>
                </a:rPr>
                <a:t>＝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7"/>
            <p:cNvSpPr/>
            <p:nvPr/>
          </p:nvSpPr>
          <p:spPr>
            <a:xfrm>
              <a:off x="2432160" y="3819600"/>
              <a:ext cx="1708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1.8%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28"/>
          <p:cNvGrpSpPr/>
          <p:nvPr/>
        </p:nvGrpSpPr>
        <p:grpSpPr>
          <a:xfrm>
            <a:off x="6065640" y="3716280"/>
            <a:ext cx="2426040" cy="825120"/>
            <a:chOff x="6065640" y="3716280"/>
            <a:chExt cx="2426040" cy="825120"/>
          </a:xfrm>
        </p:grpSpPr>
        <p:sp>
          <p:nvSpPr>
            <p:cNvPr id="200" name="Rectangle 19"/>
            <p:cNvSpPr/>
            <p:nvPr/>
          </p:nvSpPr>
          <p:spPr>
            <a:xfrm>
              <a:off x="6065640" y="371628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Comic Sans MS"/>
                </a:rPr>
                <a:t>＝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20"/>
            <p:cNvSpPr/>
            <p:nvPr/>
          </p:nvSpPr>
          <p:spPr>
            <a:xfrm>
              <a:off x="6588000" y="3746520"/>
              <a:ext cx="1903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287%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heel/>
    <p:sndAc>
      <p:stSnd>
        <p:snd r:embed="rId5" name="chimes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a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48"/>
          <p:cNvSpPr/>
          <p:nvPr/>
        </p:nvSpPr>
        <p:spPr>
          <a:xfrm>
            <a:off x="803160" y="35956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3" descr="练习(13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4" name="Group 4"/>
          <p:cNvGrpSpPr/>
          <p:nvPr/>
        </p:nvGrpSpPr>
        <p:grpSpPr>
          <a:xfrm>
            <a:off x="2668680" y="4156560"/>
            <a:ext cx="2319120" cy="2537280"/>
            <a:chOff x="2668680" y="4156560"/>
            <a:chExt cx="2319120" cy="2537280"/>
          </a:xfrm>
        </p:grpSpPr>
        <p:grpSp>
          <p:nvGrpSpPr>
            <p:cNvPr id="205" name="Group 5"/>
            <p:cNvGrpSpPr/>
            <p:nvPr/>
          </p:nvGrpSpPr>
          <p:grpSpPr>
            <a:xfrm>
              <a:off x="2668680" y="4156560"/>
              <a:ext cx="2040840" cy="2537280"/>
              <a:chOff x="2668680" y="4156560"/>
              <a:chExt cx="2040840" cy="2537280"/>
            </a:xfrm>
          </p:grpSpPr>
          <p:sp>
            <p:nvSpPr>
              <p:cNvPr id="206" name="AutoShape 6"/>
              <p:cNvSpPr/>
              <p:nvPr/>
            </p:nvSpPr>
            <p:spPr>
              <a:xfrm rot="17036400">
                <a:off x="2400120" y="4800240"/>
                <a:ext cx="2304360" cy="1249200"/>
              </a:xfrm>
              <a:prstGeom prst="triangle">
                <a:avLst>
                  <a:gd name="adj" fmla="val 50000"/>
                </a:avLst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AutoShape 7"/>
              <p:cNvSpPr/>
              <p:nvPr/>
            </p:nvSpPr>
            <p:spPr>
              <a:xfrm rot="17036400">
                <a:off x="3981600" y="5432400"/>
                <a:ext cx="796680" cy="480600"/>
              </a:xfrm>
              <a:prstGeom prst="triangle">
                <a:avLst>
                  <a:gd name="adj" fmla="val 50000"/>
                </a:avLst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8"/>
              <p:cNvSpPr/>
              <p:nvPr/>
            </p:nvSpPr>
            <p:spPr>
              <a:xfrm rot="836400">
                <a:off x="3047760" y="5220720"/>
                <a:ext cx="97200" cy="89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Text Box 9"/>
            <p:cNvSpPr/>
            <p:nvPr/>
          </p:nvSpPr>
          <p:spPr>
            <a:xfrm rot="836400">
              <a:off x="3120840" y="5189040"/>
              <a:ext cx="182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7%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10"/>
          <p:cNvGrpSpPr/>
          <p:nvPr/>
        </p:nvGrpSpPr>
        <p:grpSpPr>
          <a:xfrm>
            <a:off x="5076720" y="2349360"/>
            <a:ext cx="1870920" cy="2376000"/>
            <a:chOff x="5076720" y="2349360"/>
            <a:chExt cx="1870920" cy="2376000"/>
          </a:xfrm>
        </p:grpSpPr>
        <p:grpSp>
          <p:nvGrpSpPr>
            <p:cNvPr id="211" name="Group 11"/>
            <p:cNvGrpSpPr/>
            <p:nvPr/>
          </p:nvGrpSpPr>
          <p:grpSpPr>
            <a:xfrm>
              <a:off x="5076720" y="2349360"/>
              <a:ext cx="1685160" cy="2376000"/>
              <a:chOff x="5076720" y="2349360"/>
              <a:chExt cx="1685160" cy="2376000"/>
            </a:xfrm>
          </p:grpSpPr>
          <p:sp>
            <p:nvSpPr>
              <p:cNvPr id="212" name="AutoShape 12"/>
              <p:cNvSpPr/>
              <p:nvPr/>
            </p:nvSpPr>
            <p:spPr>
              <a:xfrm rot="16200000">
                <a:off x="4497840" y="2928240"/>
                <a:ext cx="2376000" cy="1218240"/>
              </a:xfrm>
              <a:prstGeom prst="triangle">
                <a:avLst>
                  <a:gd name="adj" fmla="val 50000"/>
                </a:avLst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AutoShape 13"/>
              <p:cNvSpPr/>
              <p:nvPr/>
            </p:nvSpPr>
            <p:spPr>
              <a:xfrm rot="16200000">
                <a:off x="6116760" y="3345480"/>
                <a:ext cx="821520" cy="468720"/>
              </a:xfrm>
              <a:prstGeom prst="triangle">
                <a:avLst>
                  <a:gd name="adj" fmla="val 50000"/>
                </a:avLst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Oval 14"/>
              <p:cNvSpPr/>
              <p:nvPr/>
            </p:nvSpPr>
            <p:spPr>
              <a:xfrm>
                <a:off x="5169240" y="3444840"/>
                <a:ext cx="95040" cy="92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Text Box 15"/>
            <p:cNvSpPr/>
            <p:nvPr/>
          </p:nvSpPr>
          <p:spPr>
            <a:xfrm>
              <a:off x="5171400" y="3172680"/>
              <a:ext cx="177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24%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16"/>
          <p:cNvGrpSpPr/>
          <p:nvPr/>
        </p:nvGrpSpPr>
        <p:grpSpPr>
          <a:xfrm>
            <a:off x="6310080" y="3963240"/>
            <a:ext cx="2575440" cy="2560680"/>
            <a:chOff x="6310080" y="3963240"/>
            <a:chExt cx="2575440" cy="2560680"/>
          </a:xfrm>
        </p:grpSpPr>
        <p:grpSp>
          <p:nvGrpSpPr>
            <p:cNvPr id="217" name="Group 17"/>
            <p:cNvGrpSpPr/>
            <p:nvPr/>
          </p:nvGrpSpPr>
          <p:grpSpPr>
            <a:xfrm>
              <a:off x="6310080" y="3963240"/>
              <a:ext cx="2214000" cy="2560680"/>
              <a:chOff x="6310080" y="3963240"/>
              <a:chExt cx="2214000" cy="2560680"/>
            </a:xfrm>
          </p:grpSpPr>
          <p:sp>
            <p:nvSpPr>
              <p:cNvPr id="218" name="AutoShape 18"/>
              <p:cNvSpPr/>
              <p:nvPr/>
            </p:nvSpPr>
            <p:spPr>
              <a:xfrm rot="14824200">
                <a:off x="6206400" y="4611600"/>
                <a:ext cx="2245680" cy="1263600"/>
              </a:xfrm>
              <a:prstGeom prst="triangle">
                <a:avLst>
                  <a:gd name="adj" fmla="val 50000"/>
                </a:avLst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AutoShape 19"/>
              <p:cNvSpPr/>
              <p:nvPr/>
            </p:nvSpPr>
            <p:spPr>
              <a:xfrm rot="14824200">
                <a:off x="7760520" y="4696920"/>
                <a:ext cx="776520" cy="486360"/>
              </a:xfrm>
              <a:prstGeom prst="triangle">
                <a:avLst>
                  <a:gd name="adj" fmla="val 50000"/>
                </a:avLst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20"/>
              <p:cNvSpPr/>
              <p:nvPr/>
            </p:nvSpPr>
            <p:spPr>
              <a:xfrm rot="20224200">
                <a:off x="6814800" y="5349240"/>
                <a:ext cx="98640" cy="87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Text Box 21"/>
            <p:cNvSpPr/>
            <p:nvPr/>
          </p:nvSpPr>
          <p:spPr>
            <a:xfrm rot="20224200">
              <a:off x="6813000" y="4674960"/>
              <a:ext cx="2039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.4%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22"/>
          <p:cNvGrpSpPr/>
          <p:nvPr/>
        </p:nvGrpSpPr>
        <p:grpSpPr>
          <a:xfrm>
            <a:off x="6890760" y="1518120"/>
            <a:ext cx="2540160" cy="2689560"/>
            <a:chOff x="6890760" y="1518120"/>
            <a:chExt cx="2540160" cy="2689560"/>
          </a:xfrm>
        </p:grpSpPr>
        <p:grpSp>
          <p:nvGrpSpPr>
            <p:cNvPr id="223" name="Group 23"/>
            <p:cNvGrpSpPr/>
            <p:nvPr/>
          </p:nvGrpSpPr>
          <p:grpSpPr>
            <a:xfrm>
              <a:off x="6890760" y="1518120"/>
              <a:ext cx="1922760" cy="2689560"/>
              <a:chOff x="6890760" y="1518120"/>
              <a:chExt cx="1922760" cy="2689560"/>
            </a:xfrm>
          </p:grpSpPr>
          <p:sp>
            <p:nvSpPr>
              <p:cNvPr id="224" name="AutoShape 24"/>
              <p:cNvSpPr/>
              <p:nvPr/>
            </p:nvSpPr>
            <p:spPr>
              <a:xfrm rot="16804200">
                <a:off x="6442200" y="2262600"/>
                <a:ext cx="2518560" cy="1199880"/>
              </a:xfrm>
              <a:prstGeom prst="triangle">
                <a:avLst>
                  <a:gd name="adj" fmla="val 50000"/>
                </a:avLst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AutoShape 25"/>
              <p:cNvSpPr/>
              <p:nvPr/>
            </p:nvSpPr>
            <p:spPr>
              <a:xfrm rot="16804200">
                <a:off x="8074440" y="2820600"/>
                <a:ext cx="870840" cy="461880"/>
              </a:xfrm>
              <a:prstGeom prst="triangle">
                <a:avLst>
                  <a:gd name="adj" fmla="val 50000"/>
                </a:avLst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26"/>
              <p:cNvSpPr/>
              <p:nvPr/>
            </p:nvSpPr>
            <p:spPr>
              <a:xfrm rot="604200">
                <a:off x="7208280" y="2684880"/>
                <a:ext cx="93600" cy="9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Text Box 27"/>
            <p:cNvSpPr/>
            <p:nvPr/>
          </p:nvSpPr>
          <p:spPr>
            <a:xfrm rot="604200">
              <a:off x="7274520" y="2685240"/>
              <a:ext cx="212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.25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28"/>
          <p:cNvGrpSpPr/>
          <p:nvPr/>
        </p:nvGrpSpPr>
        <p:grpSpPr>
          <a:xfrm>
            <a:off x="384120" y="2520720"/>
            <a:ext cx="2559960" cy="2503080"/>
            <a:chOff x="384120" y="2520720"/>
            <a:chExt cx="2559960" cy="2503080"/>
          </a:xfrm>
        </p:grpSpPr>
        <p:grpSp>
          <p:nvGrpSpPr>
            <p:cNvPr id="229" name="Group 29"/>
            <p:cNvGrpSpPr/>
            <p:nvPr/>
          </p:nvGrpSpPr>
          <p:grpSpPr>
            <a:xfrm>
              <a:off x="384120" y="2520720"/>
              <a:ext cx="1698120" cy="2503080"/>
              <a:chOff x="384120" y="2520720"/>
              <a:chExt cx="1698120" cy="2503080"/>
            </a:xfrm>
          </p:grpSpPr>
          <p:sp>
            <p:nvSpPr>
              <p:cNvPr id="230" name="AutoShape 30"/>
              <p:cNvSpPr/>
              <p:nvPr/>
            </p:nvSpPr>
            <p:spPr>
              <a:xfrm rot="15714000">
                <a:off x="-106200" y="3236400"/>
                <a:ext cx="2376000" cy="1071000"/>
              </a:xfrm>
              <a:prstGeom prst="triangle">
                <a:avLst>
                  <a:gd name="adj" fmla="val 50000"/>
                </a:avLst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AutoShape 31"/>
              <p:cNvSpPr/>
              <p:nvPr/>
            </p:nvSpPr>
            <p:spPr>
              <a:xfrm rot="15714000">
                <a:off x="1409400" y="3503880"/>
                <a:ext cx="821520" cy="412200"/>
              </a:xfrm>
              <a:prstGeom prst="triangle">
                <a:avLst>
                  <a:gd name="adj" fmla="val 50000"/>
                </a:avLst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32"/>
              <p:cNvSpPr/>
              <p:nvPr/>
            </p:nvSpPr>
            <p:spPr>
              <a:xfrm rot="21114000">
                <a:off x="624600" y="3737880"/>
                <a:ext cx="83520" cy="92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Text Box 33"/>
            <p:cNvSpPr/>
            <p:nvPr/>
          </p:nvSpPr>
          <p:spPr>
            <a:xfrm rot="21114000">
              <a:off x="773280" y="3379680"/>
              <a:ext cx="214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34"/>
          <p:cNvGrpSpPr/>
          <p:nvPr/>
        </p:nvGrpSpPr>
        <p:grpSpPr>
          <a:xfrm>
            <a:off x="2556000" y="2060640"/>
            <a:ext cx="1799640" cy="2231280"/>
            <a:chOff x="2556000" y="2060640"/>
            <a:chExt cx="1799640" cy="2231280"/>
          </a:xfrm>
        </p:grpSpPr>
        <p:grpSp>
          <p:nvGrpSpPr>
            <p:cNvPr id="235" name="Group 35"/>
            <p:cNvGrpSpPr/>
            <p:nvPr/>
          </p:nvGrpSpPr>
          <p:grpSpPr>
            <a:xfrm>
              <a:off x="2556000" y="2060640"/>
              <a:ext cx="1705680" cy="2231280"/>
              <a:chOff x="2556000" y="2060640"/>
              <a:chExt cx="1705680" cy="2231280"/>
            </a:xfrm>
          </p:grpSpPr>
          <p:sp>
            <p:nvSpPr>
              <p:cNvPr id="236" name="AutoShape 36"/>
              <p:cNvSpPr/>
              <p:nvPr/>
            </p:nvSpPr>
            <p:spPr>
              <a:xfrm rot="16200000">
                <a:off x="2056680" y="2559600"/>
                <a:ext cx="2231280" cy="1233000"/>
              </a:xfrm>
              <a:prstGeom prst="triangle">
                <a:avLst>
                  <a:gd name="adj" fmla="val 50000"/>
                </a:avLst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AutoShape 37"/>
              <p:cNvSpPr/>
              <p:nvPr/>
            </p:nvSpPr>
            <p:spPr>
              <a:xfrm rot="16200000">
                <a:off x="3638520" y="2978280"/>
                <a:ext cx="771480" cy="474480"/>
              </a:xfrm>
              <a:prstGeom prst="triangle">
                <a:avLst>
                  <a:gd name="adj" fmla="val 50000"/>
                </a:avLst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Oval 38"/>
              <p:cNvSpPr/>
              <p:nvPr/>
            </p:nvSpPr>
            <p:spPr>
              <a:xfrm>
                <a:off x="2649600" y="3089520"/>
                <a:ext cx="96120" cy="86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Text Box 39"/>
            <p:cNvSpPr/>
            <p:nvPr/>
          </p:nvSpPr>
          <p:spPr>
            <a:xfrm>
              <a:off x="2652120" y="2889000"/>
              <a:ext cx="170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.123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40"/>
          <p:cNvSpPr/>
          <p:nvPr/>
        </p:nvSpPr>
        <p:spPr>
          <a:xfrm>
            <a:off x="1042920" y="484200"/>
            <a:ext cx="83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谁能帮我们按从大到小的顺序排列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1"/>
          <p:cNvSpPr/>
          <p:nvPr/>
        </p:nvSpPr>
        <p:spPr>
          <a:xfrm>
            <a:off x="1332000" y="4762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小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2"/>
          <p:cNvSpPr/>
          <p:nvPr/>
        </p:nvSpPr>
        <p:spPr>
          <a:xfrm>
            <a:off x="5003640" y="476280"/>
            <a:ext cx="25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百分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46"/>
          <p:cNvSpPr/>
          <p:nvPr/>
        </p:nvSpPr>
        <p:spPr>
          <a:xfrm>
            <a:off x="539640" y="260280"/>
            <a:ext cx="8604360" cy="1224000"/>
          </a:xfrm>
          <a:prstGeom prst="cloudCallout">
            <a:avLst>
              <a:gd name="adj1" fmla="val 23263"/>
              <a:gd name="adj2" fmla="val 143773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8"/>
          <p:cNvSpPr/>
          <p:nvPr/>
        </p:nvSpPr>
        <p:spPr>
          <a:xfrm>
            <a:off x="4427640" y="5734080"/>
            <a:ext cx="3600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Text Box 49" descr=""/>
          <p:cNvPicPr/>
          <p:nvPr/>
        </p:nvPicPr>
        <p:blipFill>
          <a:blip r:embed="rId2"/>
          <a:stretch/>
        </p:blipFill>
        <p:spPr>
          <a:xfrm>
            <a:off x="1006560" y="6053040"/>
            <a:ext cx="7522920" cy="114300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50"/>
          <p:cNvSpPr/>
          <p:nvPr/>
        </p:nvSpPr>
        <p:spPr>
          <a:xfrm>
            <a:off x="0" y="0"/>
            <a:ext cx="22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情景导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  <p:sndAc>
      <p:stSnd>
        <p:snd r:embed="rId3" name="chimes.wav"/>
      </p:stSnd>
    </p:sndAc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58 0.05156 C -0.00677 0.00948 -0.03212 -0.03237 -0.0434 -0.05063 E">
                                      <p:cBhvr>
                                        <p:cTn id="122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861 0.07861 C -0.10295 0.08601 -0.10503 0.09364 -0.10729 0.1022 C -0.10868 0.10636 -0.11094 0.10751 -0.11319 0.11075 C -0.11736 0.11676 -0.11962 0.12462 -0.12326 0.13087 C -0.12691 0.13711 -0.12899 0.15052 -0.13177 0.15815 C -0.13524 0.1674 -0.13802 0.17526 -0.1434 0.18358 C -0.14601 0.18751 -0.15052 0.19537 -0.15052 0.19561 C -0.15243 0.20208 -0.15417 0.20509 -0.1592 0.20879 C -0.16805 0.22936 -0.18437 0.2363 -0.20087 0.24624 E">
                                      <p:cBhvr>
                                        <p:cTn id="124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243 -0.09942 C -0.10643 -0.09664 -0.1099 -0.09526 -0.11528 -0.0941 C -0.12171 -0.09063 -0.12917 -0.08624 -0.13629 -0.08323 C -0.14566 -0.0793 -0.13629 -0.08578 -0.14584 -0.08023 C -0.1573 -0.07352 -0.14914 -0.07584 -0.15868 -0.07375 C -0.16216 -0.07214 -0.1665 -0.07121 -0.16997 -0.06959 C -0.17344 -0.06797 -0.17622 -0.06566 -0.17969 -0.06404 C -0.18941 -0.05387 -0.20313 -0.04832 -0.21806 -0.04254 C -0.22552 -0.03977 -0.23108 -0.03468 -0.23907 -0.03306 C -0.24063 -0.03237 -0.24202 -0.03121 -0.24375 -0.03075 C -0.24532 -0.03029 -0.24723 -0.03029 -0.24861 -0.02959 C -0.25157 -0.02844 -0.25382 -0.02659 -0.25677 -0.02543 C -0.26372 -0.02243 -0.27448 -0.02127 -0.2823 -0.02011 C -0.29011 -0.01757 -0.29983 -0.01526 -0.30799 -0.01364 C -0.31216 -0.01271 -0.31667 -0.01225 -0.32084 -0.01156 C -0.32292 -0.0111 -0.32726 -0.0104 -0.32726 -0.01017 C -0.33629 -0.00624 -0.34896 -0.00416 -0.35955 -0.003 C -0.37205 0.0007 -0.38438 0.0044 -0.39792 0.00555 C -0.41216 0.00971 -0.42657 0.01226 -0.44132 0.01549 C -0.46059 0.01942 -0.47969 0.02451 -0.49914 0.02821 C -0.51493 0.03538 -0.53403 0.03723 -0.55209 0.04116 C -0.56598 0.0474 -0.58177 0.05203 -0.59861 0.05203 E">
                                      <p:cBhvr>
                                        <p:cTn id="126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44509E-006 C -0.00243 -0.00509 -0.00573 -0.00948 -0.00798 -0.0148 C -0.01128 -0.02243 -0.01042 -0.03029 -0.01441 -0.03792 C -0.01858 -0.05503 -0.0151 -0.07769 -0.0191 -0.09295 C -0.02014 -0.09711 -0.02864 -0.09711 -0.02864 -0.09688 C -0.03611 -0.08717 -0.03628 -0.07537 -0.04132 -0.06335 C -0.04219 -0.06104 -0.04358 -0.05919 -0.04444 -0.05688 C -0.04514 -0.0548 -0.04601 -0.05063 -0.04601 -0.0504 E">
                                      <p:cBhvr>
                                        <p:cTn id="130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3 -0.02081 C 0.13003 -0.0215 0.19427 0.00648 0.24861 -0.0252 C 0.26215 -0.03306 0.24201 -0.02635 0.26128 -0.03144 C 0.26909 -0.03653 0.2842 -0.04231 0.28837 -0.05248 E">
                                      <p:cBhvr>
                                        <p:cTn id="132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43 -0.09341 C 0.0177 -0.09087 0.0118 -0.08902 0.00607 -0.08694 C -0.00139 -0.08763 -0.00868 -0.0881 -0.01615 -0.08925 C -0.01893 -0.08971 -0.02188 -0.08948 -0.02414 -0.09133 C -0.03455 -0.10012 -0.03855 -0.11469 -0.04167 -0.12925 C -0.04115 -0.15469 -0.04271 -0.18012 -0.03993 -0.20532 C -0.03941 -0.21018 -0.03212 -0.21596 -0.03212 -0.21573 E">
                                      <p:cBhvr>
                                        <p:cTn id="134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a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4"/>
          <p:cNvSpPr/>
          <p:nvPr/>
        </p:nvSpPr>
        <p:spPr>
          <a:xfrm>
            <a:off x="755640" y="40464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小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6012000" y="404640"/>
            <a:ext cx="25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百分数</a:t>
            </a:r>
            <a:r>
              <a:rPr b="1" lang="zh-CN" sz="4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6"/>
          <p:cNvGrpSpPr/>
          <p:nvPr/>
        </p:nvGrpSpPr>
        <p:grpSpPr>
          <a:xfrm>
            <a:off x="2050920" y="764640"/>
            <a:ext cx="4106160" cy="143280"/>
            <a:chOff x="2050920" y="764640"/>
            <a:chExt cx="4106160" cy="143280"/>
          </a:xfrm>
        </p:grpSpPr>
        <p:sp>
          <p:nvSpPr>
            <p:cNvPr id="250" name="Line 7"/>
            <p:cNvSpPr/>
            <p:nvPr/>
          </p:nvSpPr>
          <p:spPr>
            <a:xfrm>
              <a:off x="2050920" y="907920"/>
              <a:ext cx="41054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8"/>
            <p:cNvSpPr/>
            <p:nvPr/>
          </p:nvSpPr>
          <p:spPr>
            <a:xfrm flipH="1" flipV="1">
              <a:off x="5904000" y="764640"/>
              <a:ext cx="25308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Text Box 9"/>
          <p:cNvSpPr/>
          <p:nvPr/>
        </p:nvSpPr>
        <p:spPr>
          <a:xfrm>
            <a:off x="2124000" y="333360"/>
            <a:ext cx="62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数点向右移动两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加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1837080" y="1557360"/>
            <a:ext cx="126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3"/>
          <p:cNvSpPr/>
          <p:nvPr/>
        </p:nvSpPr>
        <p:spPr>
          <a:xfrm>
            <a:off x="1765800" y="3755880"/>
            <a:ext cx="157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0.12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5"/>
          <p:cNvSpPr/>
          <p:nvPr/>
        </p:nvSpPr>
        <p:spPr>
          <a:xfrm>
            <a:off x="1765440" y="253512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29"/>
          <p:cNvGrpSpPr/>
          <p:nvPr/>
        </p:nvGrpSpPr>
        <p:grpSpPr>
          <a:xfrm>
            <a:off x="3689280" y="1413000"/>
            <a:ext cx="2827440" cy="835560"/>
            <a:chOff x="3689280" y="1413000"/>
            <a:chExt cx="2827440" cy="835560"/>
          </a:xfrm>
        </p:grpSpPr>
        <p:sp>
          <p:nvSpPr>
            <p:cNvPr id="257" name="Rectangle 17"/>
            <p:cNvSpPr/>
            <p:nvPr/>
          </p:nvSpPr>
          <p:spPr>
            <a:xfrm>
              <a:off x="3689280" y="141300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Comic Sans MS"/>
                </a:rPr>
                <a:t>＝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0"/>
            <p:cNvSpPr/>
            <p:nvPr/>
          </p:nvSpPr>
          <p:spPr>
            <a:xfrm>
              <a:off x="4788000" y="1484280"/>
              <a:ext cx="172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26"/>
          <p:cNvGrpSpPr/>
          <p:nvPr/>
        </p:nvGrpSpPr>
        <p:grpSpPr>
          <a:xfrm>
            <a:off x="3760560" y="3645000"/>
            <a:ext cx="2972160" cy="835920"/>
            <a:chOff x="3760560" y="3645000"/>
            <a:chExt cx="2972160" cy="835920"/>
          </a:xfrm>
        </p:grpSpPr>
        <p:sp>
          <p:nvSpPr>
            <p:cNvPr id="260" name="Rectangle 18"/>
            <p:cNvSpPr/>
            <p:nvPr/>
          </p:nvSpPr>
          <p:spPr>
            <a:xfrm>
              <a:off x="3760560" y="364500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Comic Sans MS"/>
                </a:rPr>
                <a:t>＝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21"/>
            <p:cNvSpPr/>
            <p:nvPr/>
          </p:nvSpPr>
          <p:spPr>
            <a:xfrm>
              <a:off x="4859280" y="3716640"/>
              <a:ext cx="1873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12.3%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25"/>
          <p:cNvGrpSpPr/>
          <p:nvPr/>
        </p:nvGrpSpPr>
        <p:grpSpPr>
          <a:xfrm>
            <a:off x="3758760" y="2565360"/>
            <a:ext cx="3405600" cy="825120"/>
            <a:chOff x="3758760" y="2565360"/>
            <a:chExt cx="3405600" cy="825120"/>
          </a:xfrm>
        </p:grpSpPr>
        <p:sp>
          <p:nvSpPr>
            <p:cNvPr id="263" name="Rectangle 19"/>
            <p:cNvSpPr/>
            <p:nvPr/>
          </p:nvSpPr>
          <p:spPr>
            <a:xfrm>
              <a:off x="3758760" y="256536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Comic Sans MS"/>
                </a:rPr>
                <a:t>＝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22"/>
            <p:cNvSpPr/>
            <p:nvPr/>
          </p:nvSpPr>
          <p:spPr>
            <a:xfrm>
              <a:off x="4859280" y="2565360"/>
              <a:ext cx="230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140%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AutoShape 28"/>
          <p:cNvSpPr/>
          <p:nvPr/>
        </p:nvSpPr>
        <p:spPr>
          <a:xfrm>
            <a:off x="4284720" y="5229360"/>
            <a:ext cx="4859280" cy="936360"/>
          </a:xfrm>
          <a:prstGeom prst="cloudCallout">
            <a:avLst>
              <a:gd name="adj1" fmla="val -42388"/>
              <a:gd name="adj2" fmla="val -98476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你发现了什么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  <p:sndAc>
      <p:stSnd>
        <p:snd r:embed="rId1" name="chimes.wav"/>
      </p:stSnd>
    </p:sndAc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a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4"/>
          <p:cNvSpPr/>
          <p:nvPr/>
        </p:nvSpPr>
        <p:spPr>
          <a:xfrm>
            <a:off x="34920" y="115920"/>
            <a:ext cx="9433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Arial"/>
              </a:rPr>
              <a:t>解决问题</a:t>
            </a:r>
            <a:r>
              <a:rPr b="1" lang="en-US" sz="4400" spc="-1" strike="noStrike">
                <a:solidFill>
                  <a:srgbClr val="6600ff"/>
                </a:solidFill>
                <a:latin typeface="Arial"/>
              </a:rPr>
              <a:t>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你能把下面的小数化成百分数吗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1143000" y="2428920"/>
            <a:ext cx="66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0.38                  1.0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18"/>
          <p:cNvGrpSpPr/>
          <p:nvPr/>
        </p:nvGrpSpPr>
        <p:grpSpPr>
          <a:xfrm>
            <a:off x="2466720" y="2276640"/>
            <a:ext cx="2105280" cy="1739880"/>
            <a:chOff x="2466720" y="2276640"/>
            <a:chExt cx="2105280" cy="1739880"/>
          </a:xfrm>
        </p:grpSpPr>
        <p:sp>
          <p:nvSpPr>
            <p:cNvPr id="269" name="Rectangle 7"/>
            <p:cNvSpPr/>
            <p:nvPr/>
          </p:nvSpPr>
          <p:spPr>
            <a:xfrm>
              <a:off x="2466720" y="234828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Comic Sans MS"/>
                </a:rPr>
                <a:t>＝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8"/>
            <p:cNvSpPr/>
            <p:nvPr/>
          </p:nvSpPr>
          <p:spPr>
            <a:xfrm>
              <a:off x="3060720" y="2276640"/>
              <a:ext cx="15112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宋体"/>
                </a:rPr>
                <a:t>38%</a:t>
              </a: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19"/>
          <p:cNvGrpSpPr/>
          <p:nvPr/>
        </p:nvGrpSpPr>
        <p:grpSpPr>
          <a:xfrm>
            <a:off x="6281280" y="4076640"/>
            <a:ext cx="2430720" cy="1739880"/>
            <a:chOff x="6281280" y="4076640"/>
            <a:chExt cx="2430720" cy="1739880"/>
          </a:xfrm>
        </p:grpSpPr>
        <p:sp>
          <p:nvSpPr>
            <p:cNvPr id="272" name="Rectangle 20"/>
            <p:cNvSpPr/>
            <p:nvPr/>
          </p:nvSpPr>
          <p:spPr>
            <a:xfrm>
              <a:off x="6281280" y="414828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Comic Sans MS"/>
                </a:rPr>
                <a:t>＝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21"/>
            <p:cNvSpPr/>
            <p:nvPr/>
          </p:nvSpPr>
          <p:spPr>
            <a:xfrm>
              <a:off x="6980400" y="4076640"/>
              <a:ext cx="1731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宋体"/>
                </a:rPr>
                <a:t>300%</a:t>
              </a: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22"/>
          <p:cNvGrpSpPr/>
          <p:nvPr/>
        </p:nvGrpSpPr>
        <p:grpSpPr>
          <a:xfrm>
            <a:off x="2680560" y="4076640"/>
            <a:ext cx="2322720" cy="1739880"/>
            <a:chOff x="2680560" y="4076640"/>
            <a:chExt cx="2322720" cy="1739880"/>
          </a:xfrm>
        </p:grpSpPr>
        <p:sp>
          <p:nvSpPr>
            <p:cNvPr id="275" name="Rectangle 23"/>
            <p:cNvSpPr/>
            <p:nvPr/>
          </p:nvSpPr>
          <p:spPr>
            <a:xfrm>
              <a:off x="2680560" y="414828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Comic Sans MS"/>
                </a:rPr>
                <a:t>＝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24"/>
            <p:cNvSpPr/>
            <p:nvPr/>
          </p:nvSpPr>
          <p:spPr>
            <a:xfrm>
              <a:off x="3345120" y="4076640"/>
              <a:ext cx="16581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宋体"/>
                </a:rPr>
                <a:t>5.5%</a:t>
              </a: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25"/>
          <p:cNvGrpSpPr/>
          <p:nvPr/>
        </p:nvGrpSpPr>
        <p:grpSpPr>
          <a:xfrm>
            <a:off x="6425640" y="2276640"/>
            <a:ext cx="2430720" cy="1739880"/>
            <a:chOff x="6425640" y="2276640"/>
            <a:chExt cx="2430720" cy="1739880"/>
          </a:xfrm>
        </p:grpSpPr>
        <p:sp>
          <p:nvSpPr>
            <p:cNvPr id="278" name="Rectangle 26"/>
            <p:cNvSpPr/>
            <p:nvPr/>
          </p:nvSpPr>
          <p:spPr>
            <a:xfrm>
              <a:off x="6425640" y="234828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Comic Sans MS"/>
                </a:rPr>
                <a:t>＝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27"/>
            <p:cNvSpPr/>
            <p:nvPr/>
          </p:nvSpPr>
          <p:spPr>
            <a:xfrm>
              <a:off x="7124760" y="2276640"/>
              <a:ext cx="1731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宋体"/>
                </a:rPr>
                <a:t>105%</a:t>
              </a: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Rectangle 29"/>
          <p:cNvSpPr/>
          <p:nvPr/>
        </p:nvSpPr>
        <p:spPr>
          <a:xfrm>
            <a:off x="1119600" y="4221000"/>
            <a:ext cx="515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0.055                     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  <p:sndAc>
      <p:stSnd>
        <p:snd r:embed="rId1" name="chimes.wav"/>
      </p:stSnd>
    </p:sndAc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a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4"/>
          <p:cNvSpPr/>
          <p:nvPr/>
        </p:nvSpPr>
        <p:spPr>
          <a:xfrm>
            <a:off x="6661080" y="40464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小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826920" y="404640"/>
            <a:ext cx="251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百分数</a:t>
            </a:r>
            <a:r>
              <a:rPr b="1" lang="zh-CN" sz="4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2625840" y="764640"/>
            <a:ext cx="4106160" cy="143280"/>
            <a:chOff x="2625840" y="764640"/>
            <a:chExt cx="4106160" cy="143280"/>
          </a:xfrm>
        </p:grpSpPr>
        <p:sp>
          <p:nvSpPr>
            <p:cNvPr id="284" name="Line 7"/>
            <p:cNvSpPr/>
            <p:nvPr/>
          </p:nvSpPr>
          <p:spPr>
            <a:xfrm>
              <a:off x="2625840" y="907920"/>
              <a:ext cx="41054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8"/>
            <p:cNvSpPr/>
            <p:nvPr/>
          </p:nvSpPr>
          <p:spPr>
            <a:xfrm flipH="1" flipV="1">
              <a:off x="6478920" y="764640"/>
              <a:ext cx="25308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Rectangle 9"/>
          <p:cNvSpPr/>
          <p:nvPr/>
        </p:nvSpPr>
        <p:spPr>
          <a:xfrm>
            <a:off x="2405520" y="1658880"/>
            <a:ext cx="129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7%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2126160" y="2811600"/>
            <a:ext cx="16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24%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2269080" y="3890880"/>
            <a:ext cx="145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0.4%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9"/>
          <p:cNvGrpSpPr/>
          <p:nvPr/>
        </p:nvGrpSpPr>
        <p:grpSpPr>
          <a:xfrm>
            <a:off x="4043160" y="1628640"/>
            <a:ext cx="2760840" cy="835920"/>
            <a:chOff x="4043160" y="1628640"/>
            <a:chExt cx="2760840" cy="835920"/>
          </a:xfrm>
        </p:grpSpPr>
        <p:sp>
          <p:nvSpPr>
            <p:cNvPr id="290" name="Rectangle 15"/>
            <p:cNvSpPr/>
            <p:nvPr/>
          </p:nvSpPr>
          <p:spPr>
            <a:xfrm>
              <a:off x="4043160" y="162864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Comic Sans MS"/>
                </a:rPr>
                <a:t>＝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16"/>
            <p:cNvSpPr/>
            <p:nvPr/>
          </p:nvSpPr>
          <p:spPr>
            <a:xfrm>
              <a:off x="5003640" y="1700280"/>
              <a:ext cx="180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0.27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20"/>
          <p:cNvGrpSpPr/>
          <p:nvPr/>
        </p:nvGrpSpPr>
        <p:grpSpPr>
          <a:xfrm>
            <a:off x="4049640" y="2708280"/>
            <a:ext cx="2611440" cy="825120"/>
            <a:chOff x="4049640" y="2708280"/>
            <a:chExt cx="2611440" cy="825120"/>
          </a:xfrm>
        </p:grpSpPr>
        <p:sp>
          <p:nvSpPr>
            <p:cNvPr id="293" name="Rectangle 14"/>
            <p:cNvSpPr/>
            <p:nvPr/>
          </p:nvSpPr>
          <p:spPr>
            <a:xfrm>
              <a:off x="4049640" y="270828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Comic Sans MS"/>
                </a:rPr>
                <a:t>＝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17"/>
            <p:cNvSpPr/>
            <p:nvPr/>
          </p:nvSpPr>
          <p:spPr>
            <a:xfrm>
              <a:off x="5003640" y="2708280"/>
              <a:ext cx="1657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1.24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21"/>
          <p:cNvGrpSpPr/>
          <p:nvPr/>
        </p:nvGrpSpPr>
        <p:grpSpPr>
          <a:xfrm>
            <a:off x="4049640" y="3860640"/>
            <a:ext cx="2754360" cy="837360"/>
            <a:chOff x="4049640" y="3860640"/>
            <a:chExt cx="2754360" cy="837360"/>
          </a:xfrm>
        </p:grpSpPr>
        <p:sp>
          <p:nvSpPr>
            <p:cNvPr id="296" name="Rectangle 13"/>
            <p:cNvSpPr/>
            <p:nvPr/>
          </p:nvSpPr>
          <p:spPr>
            <a:xfrm>
              <a:off x="4049640" y="386064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Comic Sans MS"/>
                </a:rPr>
                <a:t>＝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8"/>
            <p:cNvSpPr/>
            <p:nvPr/>
          </p:nvSpPr>
          <p:spPr>
            <a:xfrm>
              <a:off x="5003640" y="3933720"/>
              <a:ext cx="180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0.004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AutoShape 22"/>
          <p:cNvSpPr/>
          <p:nvPr/>
        </p:nvSpPr>
        <p:spPr>
          <a:xfrm>
            <a:off x="4067280" y="5084640"/>
            <a:ext cx="4859280" cy="936720"/>
          </a:xfrm>
          <a:prstGeom prst="cloudCallout">
            <a:avLst>
              <a:gd name="adj1" fmla="val -37912"/>
              <a:gd name="adj2" fmla="val -83050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你发现了什么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4"/>
          <p:cNvSpPr/>
          <p:nvPr/>
        </p:nvSpPr>
        <p:spPr>
          <a:xfrm>
            <a:off x="3233880" y="333360"/>
            <a:ext cx="27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去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 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数点向左移动两位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  <p:sndAc>
      <p:stSnd>
        <p:snd r:embed="rId1" name="chimes.wav"/>
      </p:stSnd>
    </p:sndAc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a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4"/>
          <p:cNvSpPr/>
          <p:nvPr/>
        </p:nvSpPr>
        <p:spPr>
          <a:xfrm>
            <a:off x="539640" y="260280"/>
            <a:ext cx="81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Arial"/>
              </a:rPr>
              <a:t>解决问题</a:t>
            </a:r>
            <a:r>
              <a:rPr b="1" lang="en-US" sz="4400" spc="-1" strike="noStrike">
                <a:solidFill>
                  <a:srgbClr val="6600ff"/>
                </a:solidFill>
                <a:latin typeface="Arial"/>
              </a:rPr>
              <a:t>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把下面各个百分数化成小数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1116000" y="2205000"/>
            <a:ext cx="698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5%                 80%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5%               135%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11"/>
          <p:cNvGrpSpPr/>
          <p:nvPr/>
        </p:nvGrpSpPr>
        <p:grpSpPr>
          <a:xfrm>
            <a:off x="2382840" y="2133720"/>
            <a:ext cx="1755360" cy="792720"/>
            <a:chOff x="2382840" y="2133720"/>
            <a:chExt cx="1755360" cy="792720"/>
          </a:xfrm>
        </p:grpSpPr>
        <p:sp>
          <p:nvSpPr>
            <p:cNvPr id="303" name="Rectangle 9"/>
            <p:cNvSpPr/>
            <p:nvPr/>
          </p:nvSpPr>
          <p:spPr>
            <a:xfrm>
              <a:off x="2382840" y="213372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Arial"/>
                </a:rPr>
                <a:t>＝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2869200" y="2162160"/>
              <a:ext cx="1269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0.15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13"/>
          <p:cNvGrpSpPr/>
          <p:nvPr/>
        </p:nvGrpSpPr>
        <p:grpSpPr>
          <a:xfrm>
            <a:off x="2598480" y="3530520"/>
            <a:ext cx="2117880" cy="807120"/>
            <a:chOff x="2598480" y="3530520"/>
            <a:chExt cx="2117880" cy="807120"/>
          </a:xfrm>
        </p:grpSpPr>
        <p:sp>
          <p:nvSpPr>
            <p:cNvPr id="306" name="Rectangle 7"/>
            <p:cNvSpPr/>
            <p:nvPr/>
          </p:nvSpPr>
          <p:spPr>
            <a:xfrm>
              <a:off x="2598480" y="353052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Arial"/>
                </a:rPr>
                <a:t>＝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2"/>
            <p:cNvSpPr/>
            <p:nvPr/>
          </p:nvSpPr>
          <p:spPr>
            <a:xfrm>
              <a:off x="3060720" y="3573360"/>
              <a:ext cx="1655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0.035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17"/>
          <p:cNvGrpSpPr/>
          <p:nvPr/>
        </p:nvGrpSpPr>
        <p:grpSpPr>
          <a:xfrm>
            <a:off x="6318000" y="2162160"/>
            <a:ext cx="3078360" cy="764280"/>
            <a:chOff x="6318000" y="2162160"/>
            <a:chExt cx="3078360" cy="764280"/>
          </a:xfrm>
        </p:grpSpPr>
        <p:sp>
          <p:nvSpPr>
            <p:cNvPr id="309" name="Rectangle 8"/>
            <p:cNvSpPr/>
            <p:nvPr/>
          </p:nvSpPr>
          <p:spPr>
            <a:xfrm>
              <a:off x="6318000" y="216216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Arial"/>
                </a:rPr>
                <a:t>＝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4"/>
            <p:cNvSpPr/>
            <p:nvPr/>
          </p:nvSpPr>
          <p:spPr>
            <a:xfrm>
              <a:off x="6877080" y="2162160"/>
              <a:ext cx="2519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0.8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16"/>
          <p:cNvGrpSpPr/>
          <p:nvPr/>
        </p:nvGrpSpPr>
        <p:grpSpPr>
          <a:xfrm>
            <a:off x="6319800" y="3459240"/>
            <a:ext cx="2212560" cy="805320"/>
            <a:chOff x="6319800" y="3459240"/>
            <a:chExt cx="2212560" cy="805320"/>
          </a:xfrm>
        </p:grpSpPr>
        <p:sp>
          <p:nvSpPr>
            <p:cNvPr id="312" name="Rectangle 6"/>
            <p:cNvSpPr/>
            <p:nvPr/>
          </p:nvSpPr>
          <p:spPr>
            <a:xfrm>
              <a:off x="6319800" y="345924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Arial"/>
                </a:rPr>
                <a:t>＝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15"/>
            <p:cNvSpPr/>
            <p:nvPr/>
          </p:nvSpPr>
          <p:spPr>
            <a:xfrm>
              <a:off x="6949800" y="3500280"/>
              <a:ext cx="1582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1.35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heel/>
    <p:sndAc>
      <p:stSnd>
        <p:snd r:embed="rId1" name="chimes.wav"/>
      </p:stSnd>
    </p:sndAc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02:05:0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2:22Z</dcterms:modified>
  <cp:revision>2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4</vt:r8>
  </property>
</Properties>
</file>