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voltage.wav" ContentType="audio/x-wav"/>
  <Override PartName="/ppt/media/image8.jpeg" ContentType="image/jpeg"/>
  <Override PartName="/ppt/media/image5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3D4-A6EE-439E-8928-CF6665CC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3EE-F715-4811-AFD9-E94BBDDC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0CC-0D89-4B49-BB82-79B714E2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7B9-C83C-45AA-88A0-0039DCFD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BE3A-ED22-45A2-9D89-18E531BB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8205-44B5-496E-95F7-09669B88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E00E-BF99-49EF-90A6-DCAFF8C4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888-4301-4D99-A9CC-7DBC34A0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2272-1C64-425D-A1D8-D98FACE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3A2F-0FE8-4738-BC69-20DF181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2D7D-1A14-4E66-B64F-A843D42E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FFB-5547-455E-BEF8-D1D2BE36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4428-6DDD-465C-8E96-A0586F7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559F-75F0-45F5-AAA7-D345DD2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16A-02D8-48F8-9848-76235C9A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264-C986-4BBF-8910-3C95E89B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8DC6-3601-47B8-8DF9-CD7E366C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D08-9CF7-4EF1-8458-517858AC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210-B4FE-48AB-9715-AE7693D9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713-E6A9-42BA-A41B-5849CC23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7B6-582D-4913-8545-AE71D818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A49-1DDF-401B-B43A-1902C0A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5D2-94EF-40C2-866B-03174F53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FCC-8A7E-4B8F-9848-EC92ED3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083F-2DF6-48A0-8D00-DC50EBBFD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A1E-937D-47CD-B48B-AB042B3FA30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Picture 4" descr="200512301016249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826920" y="134136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比例的意义和基本性质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1102320" y="5516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4" descr="2005123010135539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84360" y="242100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第一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探究比例的意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032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84360" y="35002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第二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探究比例的基本性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4360" y="46530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第三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书质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教师小结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WordArt 15"/>
          <p:cNvSpPr txBox="1"/>
          <p:nvPr/>
        </p:nvSpPr>
        <p:spPr>
          <a:xfrm>
            <a:off x="250920" y="549360"/>
            <a:ext cx="487656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探究交流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19280" y="2205000"/>
            <a:ext cx="6985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               </a:t>
            </a: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探究比例的意义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16000" y="1341360"/>
            <a:ext cx="73454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一辆汽车第一次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小时行使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千米，第二次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小时行使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千米。列表如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1979640" y="3284640"/>
            <a:ext cx="5905440" cy="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979640" y="3860640"/>
            <a:ext cx="5905440" cy="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26836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979640" y="4437000"/>
            <a:ext cx="5905440" cy="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3780000" y="3357720"/>
            <a:ext cx="458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3995640" y="3284640"/>
            <a:ext cx="0" cy="108108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5940360" y="3284640"/>
            <a:ext cx="0" cy="108108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2268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时间（时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195640" y="3860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路程（千米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442764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4427640" y="39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6516720" y="3429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443640" y="393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3132000" y="479736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80  :  2  =  200  :  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24000" y="1341360"/>
            <a:ext cx="8497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: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谁能说说什么叫比例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2: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你对比例的意义是怎样理解的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692280"/>
            <a:ext cx="54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</a:rPr>
              <a:t>及时巩固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6360" y="1989000"/>
            <a:ext cx="8567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1: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判断下面每组中的两个比能不能组成比例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把能组成比例的写出来</a:t>
            </a:r>
            <a:r>
              <a:rPr b="0" lang="en-US" sz="2800" spc="-1" strike="noStrike">
                <a:solidFill>
                  <a:srgbClr val="00101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10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(1)  6:  10  </a:t>
            </a: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和  </a:t>
            </a: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9 : 15               (2)       20 : 5 </a:t>
            </a: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和 </a:t>
            </a: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1 :  4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(3)  1 / 2:  1 / 3</a:t>
            </a: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6 : 4              (4)     0.6 : 0.2</a:t>
            </a: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1010"/>
                </a:solidFill>
                <a:latin typeface="Arial"/>
              </a:rPr>
              <a:t>3 / 4: 1 / 4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4360" y="4292640"/>
            <a:ext cx="73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2: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写出比值是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的两个比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并组成比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写出比值是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1/4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的两个比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并组成比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11280" y="1700280"/>
            <a:ext cx="89294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探究比例的基本性质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979640" y="620640"/>
            <a:ext cx="75610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r>
              <a:rPr b="1" lang="en-US" sz="4400" spc="-1" strike="noStrike">
                <a:solidFill>
                  <a:srgbClr val="001010"/>
                </a:solidFill>
                <a:latin typeface="Arial"/>
              </a:rPr>
              <a:t>80  :  2  =  200  :  5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(1):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交换两个外项的位置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(2):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交换两个内项的位置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(3):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交换其中一个外项和一个内项的位置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(4):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把两个外项和两个内项分别交换位置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-64080" y="981000"/>
            <a:ext cx="1826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你能发现什么吗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716360" y="1268280"/>
            <a:ext cx="0" cy="43200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4859280" y="1700280"/>
            <a:ext cx="1657440" cy="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6588000" y="1268280"/>
            <a:ext cx="0" cy="43200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3564000" y="1268280"/>
            <a:ext cx="0" cy="100836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3635280" y="2276640"/>
            <a:ext cx="4249800" cy="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7812000" y="1268280"/>
            <a:ext cx="0" cy="93672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435640" y="134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内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435640" y="1989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外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1332000" y="620640"/>
            <a:ext cx="309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补项游戏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11280" y="2349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规则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请每位同学都想好一个比例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告诉老师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979640" y="328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中的三项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老师能很快说出另外一项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4005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探讨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835280" y="4149720"/>
            <a:ext cx="58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为什么老师能很快说出缺少的项呢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你能发现其中的奥秘吗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4" name="Picture 4" descr="images[1]"/>
          <p:cNvPicPr/>
          <p:nvPr/>
        </p:nvPicPr>
        <p:blipFill>
          <a:blip r:embed="rId1"/>
          <a:stretch/>
        </p:blipFill>
        <p:spPr>
          <a:xfrm>
            <a:off x="106200" y="63360"/>
            <a:ext cx="9037800" cy="6794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258920" y="2708280"/>
            <a:ext cx="78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: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下面哪组中的两个比可以组成比例？把组成的比例写出来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　　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6∶1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9∶15         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0∶5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∶4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　　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 和                             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0.6∶0.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和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58920" y="4005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3: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应用比例的基本性质，判断下面哪一组中的两个比可以组成比例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　　 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6∶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8∶5            0.2∶2.5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4∶503: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187280" y="1052640"/>
            <a:ext cx="67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: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填空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　　在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6∶5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30∶25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这个比例中，外项是（ ）和（ ），内项是（ ）和（ ）．根据比例的基本性质可以写成（ ）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 ）＝（ ）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 ）．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0" y="33336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基本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9" name="Picture 10" descr="10220_200806260710382aiDA[1]"/>
          <p:cNvPicPr/>
          <p:nvPr/>
        </p:nvPicPr>
        <p:blipFill>
          <a:blip r:embed="rId2"/>
          <a:stretch/>
        </p:blipFill>
        <p:spPr>
          <a:xfrm>
            <a:off x="0" y="-531720"/>
            <a:ext cx="10369440" cy="7777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5435640" y="-24300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66"/>
                </a:solidFill>
                <a:latin typeface="Arial"/>
              </a:rPr>
              <a:t>『</a:t>
            </a:r>
            <a:r>
              <a:rPr b="1" lang="zh-CN" sz="8800" spc="-1" strike="noStrike">
                <a:solidFill>
                  <a:srgbClr val="cc0066"/>
                </a:solidFill>
                <a:latin typeface="Arial"/>
              </a:rPr>
              <a:t>综合练习</a:t>
            </a:r>
            <a:r>
              <a:rPr b="1" lang="en-US" sz="8800" spc="-1" strike="noStrike">
                <a:solidFill>
                  <a:srgbClr val="cc0066"/>
                </a:solidFill>
                <a:latin typeface="Arial"/>
              </a:rPr>
              <a:t>』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187280" y="2852640"/>
            <a:ext cx="676944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下面的四个数可以组成比例吗？把组成的比例写出来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（能组几个就组几个）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、  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、  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250920" y="907920"/>
            <a:ext cx="5545080" cy="1944720"/>
          </a:xfrm>
          <a:custGeom>
            <a:avLst/>
            <a:gdLst>
              <a:gd name="textAreaLeft" fmla="*/ 0 w 5545080"/>
              <a:gd name="textAreaRight" fmla="*/ 5545440 w 5545080"/>
              <a:gd name="textAreaTop" fmla="*/ 505800 h 1944720"/>
              <a:gd name="textAreaBottom" fmla="*/ 14389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479520" y="3130560"/>
            <a:ext cx="333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479520" y="3887640"/>
            <a:ext cx="390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0920" y="1125360"/>
            <a:ext cx="856908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Arial"/>
              </a:rPr>
              <a:t>敢挑战吗</a:t>
            </a:r>
            <a:r>
              <a:rPr b="1" lang="en-US" sz="8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根据   </a:t>
            </a: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a  ×  b     =    c × d    ,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你能组成几个不同的比例来</a:t>
            </a: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?  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以小组为单位进行交流</a:t>
            </a: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看哪个小组组成的比例最多</a:t>
            </a: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54160" y="1052640"/>
            <a:ext cx="10033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教   学   目   标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187280" y="1052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知识技能目标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.]:</a:t>
            </a:r>
            <a:r>
              <a:rPr b="0" lang="en-US" sz="1800" spc="-1" strike="noStrike">
                <a:solidFill>
                  <a:srgbClr val="00101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使学生了解和掌握比例的意义和基本性质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认识比例各部分名称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知道比和比例的区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187280" y="2492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教学思考与解决问题目标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]: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充分发挥多媒体教学的优势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启发学生的创造性思维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培养他们探索和解决问题的能力</a:t>
            </a:r>
            <a:r>
              <a:rPr b="1" lang="en-US" sz="18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4292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情感和态度目标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]: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激发学生的学习兴趣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引导学生自主参与知识探究全过程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培养学生初步的观察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分析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比较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判断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概括的能力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发展学生的思维</a:t>
            </a:r>
            <a:r>
              <a:rPr b="1" lang="en-US" sz="24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8" name="Picture 4" descr="10220_200806260712095qXLN[1]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-4615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提   高   练   习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0" name="Picture 7" descr="10220_200806260710383Jkn1[1]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900000" y="141300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Arial"/>
              </a:rPr>
              <a:t>小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00000" y="350028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Arial"/>
              </a:rPr>
              <a:t>结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484360" y="69228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这 节 课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 学 会 了 哪 些 知 识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09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0" y="260280"/>
            <a:ext cx="3708360" cy="1513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333360"/>
            <a:ext cx="92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板书设计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411280" y="213372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比例的意义和基本性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39640" y="321300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=4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5=4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771640" y="3573360"/>
            <a:ext cx="71640" cy="792360"/>
          </a:xfrm>
          <a:custGeom>
            <a:avLst/>
            <a:gdLst>
              <a:gd name="textAreaLeft" fmla="*/ 0 w 71640"/>
              <a:gd name="textAreaRight" fmla="*/ 2592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2843280" y="3933720"/>
            <a:ext cx="360360" cy="0"/>
          </a:xfrm>
          <a:prstGeom prst="line">
            <a:avLst/>
          </a:prstGeom>
          <a:ln w="93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203640" y="36450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80:2 =200: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5724360" y="3933720"/>
            <a:ext cx="360360" cy="0"/>
          </a:xfrm>
          <a:prstGeom prst="line">
            <a:avLst/>
          </a:prstGeom>
          <a:ln w="93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6227640" y="3573360"/>
            <a:ext cx="287640" cy="792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6588000" y="3357720"/>
            <a:ext cx="21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80×5=4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200×2=4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84360" y="472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示两个比相等的式子，叫做比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462560" y="4724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比例里，两个外项的积等于两个内项的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3059280" y="26370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13200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4140360" y="2852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4932360" y="292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-----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493236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5076720" y="3141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2843280" y="285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-----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5" name="Picture 2" descr="200512301016249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835280" y="213372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谢谢指导</a:t>
            </a:r>
            <a:r>
              <a:rPr b="1" i="1" lang="en-US" sz="9600" spc="-1" strike="noStrike">
                <a:solidFill>
                  <a:srgbClr val="ff3300"/>
                </a:solidFill>
                <a:latin typeface="Arial"/>
                <a:ea typeface="黑体"/>
              </a:rPr>
              <a:t>!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6971-B000-42DB-9433-F2A4368130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112536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教学重点</a:t>
            </a:r>
            <a:r>
              <a:rPr b="0" lang="en-US" sz="6000" spc="-1" strike="noStrike">
                <a:solidFill>
                  <a:srgbClr val="cc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68360" y="3357720"/>
            <a:ext cx="84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教学难点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492360" y="1989000"/>
            <a:ext cx="565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使学生理解比例的意义和基本性质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并学会用两种方法判断 两个比 能否组成比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492360" y="4292640"/>
            <a:ext cx="565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熟练灵活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的运用所学知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准确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判断两个比能否组成比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922320" y="5880240"/>
            <a:ext cx="61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068960" y="1484280"/>
            <a:ext cx="15210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cc"/>
                </a:solidFill>
                <a:latin typeface="Arial"/>
              </a:rPr>
              <a:t>分   析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835280" y="692280"/>
            <a:ext cx="532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学生已经掌握了比的知识</a:t>
            </a: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初步形成了一定 的观察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﹑</a:t>
            </a:r>
            <a:r>
              <a:rPr b="1" lang="en-US" sz="1800" spc="-1" strike="noStrike">
                <a:solidFill>
                  <a:srgbClr val="00101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探索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﹑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归纳能力</a:t>
            </a: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, 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善于观察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,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主动交流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愉快合作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1010"/>
                </a:solidFill>
                <a:latin typeface="Arial"/>
              </a:rPr>
              <a:t>是我班学生最大特点</a:t>
            </a:r>
            <a:r>
              <a:rPr b="1" lang="en-US" sz="48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1700280"/>
            <a:ext cx="1521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cc"/>
                </a:solidFill>
                <a:latin typeface="Arial"/>
              </a:rPr>
              <a:t>学   情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280" y="260280"/>
            <a:ext cx="820872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说教法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我采用”自主探究”的教学模式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贯彻自主性原则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重视学生学习和探索过程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注重学生的情感体验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组织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指导并参与学生的探究活动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允许学生对所学知识有不同的理解和体验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提高学生的科学文化素质和技能素质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4360" y="3573360"/>
            <a:ext cx="820872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说学法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遵循”教师为主导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学生为主体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训练为主线”的指导思想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主要让学生在”计算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观察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比较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概括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应用”的学习过程中掌握知识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11280" y="476280"/>
            <a:ext cx="33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教学程序</a:t>
            </a: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979640" y="2133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第一环节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:     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激活促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79640" y="2924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第二环节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:     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探究交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979640" y="3716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第三环节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:     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巩固深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979640" y="4581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第四环节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:     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全课总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1"/>
          <p:cNvSpPr/>
          <p:nvPr/>
        </p:nvSpPr>
        <p:spPr>
          <a:xfrm>
            <a:off x="4645080" y="15494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Picture 11" descr="images[1]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4360" y="270828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1010"/>
                </a:solidFill>
                <a:latin typeface="Arial"/>
              </a:rPr>
              <a:t>知识准备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24360" y="249228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→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64000" y="2852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1010"/>
                </a:solidFill>
                <a:latin typeface="Arial"/>
              </a:rPr>
              <a:t>导入新课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12720" y="400536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→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08000" y="4292640"/>
            <a:ext cx="72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1010"/>
                </a:solidFill>
                <a:latin typeface="Arial"/>
              </a:rPr>
              <a:t>板书课题</a:t>
            </a:r>
            <a:r>
              <a:rPr b="1" lang="en-US" sz="6000" spc="-1" strike="noStrike">
                <a:solidFill>
                  <a:srgbClr val="001010"/>
                </a:solidFill>
                <a:latin typeface="Arial"/>
              </a:rPr>
              <a:t>,  </a:t>
            </a:r>
            <a:r>
              <a:rPr b="1" lang="zh-CN" sz="6000" spc="-1" strike="noStrike">
                <a:solidFill>
                  <a:srgbClr val="001010"/>
                </a:solidFill>
                <a:latin typeface="Arial"/>
              </a:rPr>
              <a:t>交待任务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50920" y="1341360"/>
            <a:ext cx="51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激活促学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0" y="765000"/>
            <a:ext cx="3059280" cy="9352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0" y="692280"/>
            <a:ext cx="298764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250920" y="692280"/>
            <a:ext cx="295272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324000" y="836640"/>
            <a:ext cx="2592360" cy="863640"/>
          </a:xfrm>
          <a:prstGeom prst="cloudCallout">
            <a:avLst>
              <a:gd name="adj1" fmla="val -33893"/>
              <a:gd name="adj2" fmla="val 48527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250920" y="404640"/>
            <a:ext cx="2592360" cy="1224000"/>
          </a:xfrm>
          <a:prstGeom prst="wedgeEllipseCallout">
            <a:avLst>
              <a:gd name="adj1" fmla="val -33648"/>
              <a:gd name="adj2" fmla="val 5349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4" name="Picture 4" descr="2005123010135539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50920" y="765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复习检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50920" y="1989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1: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什么叫做比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怎样求比的比值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50920" y="299736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2: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说出下列各比的比值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并指出哪两个比的比值相等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1.2  : 3.6  =          15  :   5 =             2.4  :2/5 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2    :  6  =           2 / 3:  2 / 9 =       42   : 7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476360" y="1773360"/>
            <a:ext cx="597708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010"/>
                </a:solidFill>
                <a:latin typeface="Arial"/>
              </a:rPr>
              <a:t>1.2  :  3.6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1010"/>
                </a:solidFill>
                <a:latin typeface="Arial"/>
              </a:rPr>
              <a:t>2  :  6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476360" y="314172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010"/>
                </a:solidFill>
                <a:latin typeface="Arial"/>
              </a:rPr>
              <a:t>15   :  5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1010"/>
                </a:solidFill>
                <a:latin typeface="Arial"/>
              </a:rPr>
              <a:t>2/3   : 2/9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547640" y="4724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547640" y="4437000"/>
            <a:ext cx="59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010"/>
                </a:solidFill>
                <a:latin typeface="Arial"/>
              </a:rPr>
              <a:t>2.4  :  2/5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1010"/>
                </a:solidFill>
                <a:latin typeface="Arial"/>
              </a:rPr>
              <a:t>42  :  7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0:43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0:21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