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laser.wav" ContentType="audio/x-wav"/>
  <Override PartName="/ppt/media/image11.jpeg" ContentType="image/jpeg"/>
  <Override PartName="/ppt/media/image9.jpeg" ContentType="image/jpeg"/>
  <Override PartName="/ppt/media/image2.png" ContentType="image/png"/>
  <Override PartName="/ppt/media/image4.wmf" ContentType="image/x-wmf"/>
  <Override PartName="/ppt/media/image3.png" ContentType="image/png"/>
  <Override PartName="/ppt/media/clap.wav" ContentType="audio/x-wav"/>
  <Override PartName="/ppt/media/projctor.wav" ContentType="audio/x-wav"/>
  <Override PartName="/ppt/media/image5.jpeg" ContentType="image/jpeg"/>
  <Override PartName="/ppt/media/type.wav" ContentType="audio/x-wav"/>
  <Override PartName="/ppt/media/carbrake.wav" ContentType="audio/x-wav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F69-D511-4D37-86EA-B967E370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6F3-A820-4F29-A4C4-1FE4D002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3AA-9257-4A89-BE4D-3C337EC1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8AE-847A-47A0-A1AC-2B542CB7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EFB-E932-46BF-8C30-298AD95F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9C4-1ACD-41CF-9B5D-CD00ACD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CE5-AEFB-4F6E-8A59-53F74A8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6AB-8F1E-46B6-92BB-9EE41D00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8C0-7722-4FE4-B466-1E10AFFD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96A-A445-4874-9990-43A9F83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068-D1A2-4768-9E80-C921F972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A61-104E-4889-A1FA-631715B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0FC0-D71C-4B2B-A41D-FF1F9F8D2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ap.wav"/><Relationship Id="rId3" Type="http://schemas.openxmlformats.org/officeDocument/2006/relationships/audio" Target="../media/typ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applause.wav"/><Relationship Id="rId8" Type="http://schemas.openxmlformats.org/officeDocument/2006/relationships/audio" Target="../media/type.wav"/><Relationship Id="rId9" Type="http://schemas.openxmlformats.org/officeDocument/2006/relationships/audio" Target="../media/applaus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38895900&amp;tn=baiduimagedetail&amp;word=&#27801;&#28448;&amp;in=85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5" descr=""/>
          <p:cNvPicPr/>
          <p:nvPr/>
        </p:nvPicPr>
        <p:blipFill>
          <a:blip r:embed="rId2"/>
          <a:stretch/>
        </p:blipFill>
        <p:spPr>
          <a:xfrm>
            <a:off x="1908000" y="907920"/>
            <a:ext cx="6212160" cy="264816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2390040" y="5229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0"/>
          <p:cNvSpPr/>
          <p:nvPr/>
        </p:nvSpPr>
        <p:spPr>
          <a:xfrm>
            <a:off x="5554800" y="4762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大戈壁的白杨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282120" y="476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白杨树的特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爸爸表白的心愿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PE02716_"/>
          <p:cNvPicPr/>
          <p:nvPr/>
        </p:nvPicPr>
        <p:blipFill>
          <a:blip r:embed="rId2"/>
          <a:stretch/>
        </p:blipFill>
        <p:spPr>
          <a:xfrm>
            <a:off x="4643280" y="3429000"/>
            <a:ext cx="1820880" cy="1717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6804000" y="58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教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滑雪道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03280" y="1258920"/>
            <a:ext cx="6769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ff0000"/>
                </a:solidFill>
                <a:latin typeface="Times New Roman"/>
              </a:rPr>
              <a:t>读读认认</a:t>
            </a:r>
            <a:r>
              <a:rPr b="0" i="1" lang="en-US" sz="7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大戈壁          清晰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介绍              新疆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131840" y="589284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Text Box 4"/>
          <p:cNvSpPr/>
          <p:nvPr/>
        </p:nvSpPr>
        <p:spPr>
          <a:xfrm>
            <a:off x="304920" y="228600"/>
            <a:ext cx="84135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白杨树从来就这么直。哪儿需要它，它就在哪儿很快地生根发芽，长出粗壮的枝干。不管遇到风沙还是雨雪，不管遇到干旱还是洪水，它总是那么直，那么坚强，不软弱，也不动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8153280" y="12952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533520" y="190512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572000" y="190512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4952880" y="19051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1763640" y="242100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1"/>
          <p:cNvSpPr/>
          <p:nvPr/>
        </p:nvSpPr>
        <p:spPr>
          <a:xfrm>
            <a:off x="2195640" y="242100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5257800" y="838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533520" y="13716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565280" y="2819520"/>
            <a:ext cx="59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换词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需要白杨，白杨就在（             ）很快地生根发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893880" y="324180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大戈壁                                            大戈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1565280" y="37544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需要白杨，白杨就在（             ）很快地生根发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45840" y="369900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山  岗                                               山   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565280" y="428796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需要白杨，白杨就在（             ）很快地生根发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566640" y="4232160"/>
            <a:ext cx="53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沙   漠                                               沙   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50920" y="333360"/>
            <a:ext cx="84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cc00"/>
                </a:solidFill>
                <a:latin typeface="Times New Roman"/>
              </a:rPr>
              <a:t>看图想象</a:t>
            </a: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1" i="1" lang="zh-CN" sz="4000" spc="-1" strike="noStrike">
                <a:solidFill>
                  <a:srgbClr val="00cc00"/>
                </a:solidFill>
                <a:latin typeface="Times New Roman"/>
              </a:rPr>
              <a:t>说说茫茫的大戈壁是怎样的</a:t>
            </a: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u=2071715649,449068456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8380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爸爸只是向孩子们介绍白杨吗？不是的，他也在表白着自己的心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>
            <a:off x="4572000" y="1600200"/>
            <a:ext cx="91440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620120" y="1600200"/>
            <a:ext cx="45720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6320" y="356544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0" y="29401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换词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6320" y="437832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76320" y="519120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76320" y="60040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需要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就在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76320" y="21178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这儿需要它们，它们就在这儿生根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52280" y="373392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6ffff"/>
                </a:solidFill>
                <a:latin typeface="Times New Roman"/>
              </a:rPr>
              <a:t>大戈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6248520" y="3733920"/>
            <a:ext cx="121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大戈壁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2590920" y="373392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白杨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4267080" y="373392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白杨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380880" y="452592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新疆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64771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新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2514600" y="452592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66ffff"/>
                </a:solidFill>
                <a:latin typeface="Times New Roman"/>
              </a:rPr>
              <a:t>爸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4267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4572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64771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41911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建设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243828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建设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572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647712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边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66688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343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d02-006a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0" y="39625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那是因为他看见火车前进的方向的右面，在一棵高大的白杨树身边，几棵小树正迎着风沙成长起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809880" y="5334120"/>
            <a:ext cx="434340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1523880" y="6095880"/>
            <a:ext cx="2362320" cy="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4" descr="smallpic"/>
          <p:cNvPicPr/>
          <p:nvPr/>
        </p:nvPicPr>
        <p:blipFill>
          <a:blip r:embed="rId2"/>
          <a:stretch/>
        </p:blipFill>
        <p:spPr>
          <a:xfrm>
            <a:off x="-5292720" y="0"/>
            <a:ext cx="14436720" cy="7162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09" name="Rectangle 15"/>
          <p:cNvSpPr/>
          <p:nvPr/>
        </p:nvSpPr>
        <p:spPr>
          <a:xfrm>
            <a:off x="-2225520" y="2990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我想说说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漠变成绿洲的大戈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冰雪湖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1476360" y="692280"/>
            <a:ext cx="66247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imes New Roman"/>
              </a:rPr>
              <a:t>我想说说</a:t>
            </a:r>
            <a:r>
              <a:rPr b="0" i="1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为了使沙漠变成绿洲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我们应该怎样做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BAAE-F31C-4CE8-A9DD-F33448ED31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0:42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04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